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031-E3A6-4E83-A8EC-4E83C10A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45C-0443-4B50-9D9C-B4EE4935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428-0909-47C5-801C-3E8C1DA7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609-5E21-48ED-AF08-D2A78621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5D6-A9AA-47D8-8A2E-0CAB169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E55-6801-48D0-874A-8B46F9E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90A-FCA7-4B31-A906-9E5857A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C43-5D2A-48C1-BD32-E811705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08A-E7C0-4CDD-B08E-07B16FD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64E-F7EF-4FA3-9F28-2B3280C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E8F-948B-4051-9DAC-71E31C6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872-5453-4117-96DE-2022678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9573-FBA6-4BF0-A1DC-2A310F8D12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shido</a:t>
            </a:r>
            <a:br>
              <a:rPr sz="4000"/>
            </a:br>
            <a:r>
              <a:rPr b="1" lang="ja-JP" sz="5400" spc="-1" strike="noStrike">
                <a:solidFill>
                  <a:srgbClr val="000000"/>
                </a:solidFill>
                <a:latin typeface="AR行楷書体H"/>
                <a:ea typeface="AR行楷書体H"/>
              </a:rPr>
              <a:t>武士道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. Inaz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Nito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143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578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143080"/>
            <a:ext cx="335772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86680" y="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BUSHIDO  </a:t>
            </a:r>
            <a:r>
              <a:rPr b="1" lang="cs-CZ" sz="2800" spc="-1" strike="noStrike">
                <a:solidFill>
                  <a:srgbClr val="000000"/>
                </a:solidFill>
                <a:latin typeface="Franklin Gothic Demi"/>
              </a:rPr>
              <a:t>The Soul of Jap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n Exposition of Japanese Thought b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INAZO NIT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LEEDS &amp; BIDDLE CO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iladelphia, 190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ušido. Duše Japons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osef Pelcl, Praha, 1904, přeložil Karel 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ttp://busido.szm.sk/InazoNitobe_Busid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bushido-large"/>
          <p:cNvPicPr/>
          <p:nvPr/>
        </p:nvPicPr>
        <p:blipFill>
          <a:blip r:embed="rId1"/>
          <a:stretch/>
        </p:blipFill>
        <p:spPr>
          <a:xfrm>
            <a:off x="6877080" y="3645000"/>
            <a:ext cx="2266920" cy="321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26603219"/>
          <p:cNvPicPr/>
          <p:nvPr/>
        </p:nvPicPr>
        <p:blipFill>
          <a:blip r:embed="rId2"/>
          <a:stretch/>
        </p:blipFill>
        <p:spPr>
          <a:xfrm>
            <a:off x="2627280" y="3573360"/>
            <a:ext cx="205092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060316_bushido"/>
          <p:cNvPicPr/>
          <p:nvPr/>
        </p:nvPicPr>
        <p:blipFill>
          <a:blip r:embed="rId3"/>
          <a:stretch/>
        </p:blipFill>
        <p:spPr>
          <a:xfrm>
            <a:off x="4716360" y="3645000"/>
            <a:ext cx="206856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even-virtues-of-bushido-calligraphy-semicursive"/>
          <p:cNvPicPr/>
          <p:nvPr/>
        </p:nvPicPr>
        <p:blipFill>
          <a:blip r:embed="rId4"/>
          <a:stretch/>
        </p:blipFill>
        <p:spPr>
          <a:xfrm>
            <a:off x="0" y="3666960"/>
            <a:ext cx="23814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3:21:34Z</dcterms:created>
  <dc:creator>Owner</dc:creator>
  <dc:description/>
  <dc:language>en-US</dc:language>
  <cp:lastModifiedBy>Your User Name</cp:lastModifiedBy>
  <dcterms:modified xsi:type="dcterms:W3CDTF">2010-02-18T08:50:28Z</dcterms:modified>
  <cp:revision>30</cp:revision>
  <dc:subject/>
  <dc:title>武士道</dc:title>
</cp:coreProperties>
</file>