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3B5D-03A6-4CFF-98B4-E1C26046E6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875A-4E2D-432D-B7FB-42D12608F74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ám seš poznám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66E-4C68-4EEB-BBF8-8181C407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8E7-4592-44F4-92BF-E2DB8A80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607-7876-4E5B-B30E-11BE70FD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3F4-C782-462B-8EFE-4E049AD9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B7752-1604-45E6-97B2-A8E2CB6F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15919-34CE-4E5C-8A6B-CD86E98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29A3-1198-4C47-9D65-6DC2FD8B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F630C-3EDF-4F72-8BBB-6EAD088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F6C3-EEC1-4647-B7BC-6DFF9F42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7B4D4-B92F-4BB5-B913-61A1EB7D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4A8D0-652C-4202-9972-D12FC1A4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255-D91C-4F2D-9FA2-DD45D51E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DE275-85DD-48F8-8508-EC9E2F0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CD104-E6F3-4C04-895A-1CDDC23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763DA-723D-4081-93AB-5D555FFD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E0D94-AC7D-409D-9B15-103F1FB8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4A7DE-CA45-4E46-9F06-EEC29987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861-012E-434F-BD5D-5B7D37A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4DE-E61F-4200-AF17-99782058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646-97F5-4972-81E8-0A5C3CB9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81B-DA48-477A-B775-542EAC9A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B36-30DA-4DB8-8EE7-1F3855D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ACD-B6D2-4EC1-A9AC-627336C2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DAF-7409-4F5E-9643-099CA9D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668A-F82C-4B03-8C95-FC768558F06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F6B-FD92-48C9-BF9E-77194996B92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87640" y="691920"/>
            <a:ext cx="374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rátké chladné zbraně a jejich užití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3250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tanto"/>
          <p:cNvPicPr/>
          <p:nvPr/>
        </p:nvPicPr>
        <p:blipFill>
          <a:blip r:embed="rId1"/>
          <a:stretch/>
        </p:blipFill>
        <p:spPr>
          <a:xfrm>
            <a:off x="0" y="0"/>
            <a:ext cx="496728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Vycházková hůl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dutá se skrytým ostří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6" descr="vycházkovka"/>
          <p:cNvPicPr/>
          <p:nvPr/>
        </p:nvPicPr>
        <p:blipFill>
          <a:blip r:embed="rId1"/>
          <a:stretch/>
        </p:blipFill>
        <p:spPr>
          <a:xfrm>
            <a:off x="3348000" y="249228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Házecí nůž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posuvným těžiště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6" descr="házecí"/>
          <p:cNvPicPr/>
          <p:nvPr/>
        </p:nvPicPr>
        <p:blipFill>
          <a:blip r:embed="rId1"/>
          <a:stretch/>
        </p:blipFill>
        <p:spPr>
          <a:xfrm>
            <a:off x="2700360" y="2421000"/>
            <a:ext cx="3610080" cy="3101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odák AK 47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historií prověřený multifunkční nástroj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Rectangle 2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672000" cy="376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Cold </a:t>
            </a: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Steel</a:t>
            </a: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 War Head</a:t>
            </a:r>
            <a:br>
              <a:rPr sz="36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bojový nůž o celkové délce 36 cm. Vyroben z uhlíkové oceli 1055</a:t>
            </a:r>
            <a:br>
              <a:rPr sz="4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9" descr="80pwh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Armádní útočný nůž Mikov</a:t>
            </a:r>
            <a:br>
              <a:rPr sz="40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Používán některými útvary PČR a Armády ČR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5" descr="mikov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German Military Dagger </a:t>
            </a:r>
            <a:br>
              <a:rPr sz="44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replika nože hitlerjugen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6" descr="replik HJ zprzněná"/>
          <p:cNvPicPr/>
          <p:nvPr/>
        </p:nvPicPr>
        <p:blipFill>
          <a:blip r:embed="rId1"/>
          <a:stretch/>
        </p:blipFill>
        <p:spPr>
          <a:xfrm>
            <a:off x="2919240" y="2200320"/>
            <a:ext cx="330372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Wood Kukri</a:t>
            </a:r>
            <a:br>
              <a:rPr sz="4400"/>
            </a:br>
            <a:r>
              <a:rPr b="1" lang="cs-CZ" sz="2400" spc="-1" strike="noStrike">
                <a:solidFill>
                  <a:srgbClr val="e3e3ff"/>
                </a:solidFill>
                <a:latin typeface="Arial"/>
              </a:rPr>
              <a:t>replika nože obávaných Gurků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6" descr="khukri"/>
          <p:cNvPicPr/>
          <p:nvPr/>
        </p:nvPicPr>
        <p:blipFill>
          <a:blip r:embed="rId1"/>
          <a:stretch/>
        </p:blipFill>
        <p:spPr>
          <a:xfrm>
            <a:off x="1908000" y="1903320"/>
            <a:ext cx="4680000" cy="451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3e3ff"/>
                </a:solidFill>
                <a:latin typeface="Arial"/>
              </a:rPr>
              <a:t>Chris Reeve Knives Mk IV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z jednoho kusu A2 nástrojové oceli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6" descr="jedsen kus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Schrade X-Timer Extreme Camp Knife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pro přežit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přežití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Nůž pro extrémní podmínky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elý z jednoho kusu, uvnitř rukojeti prostor s nástavci na šroubován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6" descr="SCHF2SM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Útočná dýka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trojúhelníkovou čepelí pro snadnější „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průchod“</a:t>
            </a: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 materiále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6" descr="trojuhel čepel"/>
          <p:cNvPicPr/>
          <p:nvPr/>
        </p:nvPicPr>
        <p:blipFill>
          <a:blip r:embed="rId1"/>
          <a:stretch/>
        </p:blipFill>
        <p:spPr>
          <a:xfrm>
            <a:off x="3203640" y="1773360"/>
            <a:ext cx="302400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9:31:40Z</dcterms:created>
  <dc:creator>Cu016200</dc:creator>
  <dc:description/>
  <dc:language>en-US</dc:language>
  <cp:lastModifiedBy>Cu016200</cp:lastModifiedBy>
  <dcterms:modified xsi:type="dcterms:W3CDTF">2010-03-23T12:32:53Z</dcterms:modified>
  <cp:revision>19</cp:revision>
  <dc:subject/>
  <dc:title>Krátké chladné zbraně</dc:title>
</cp:coreProperties>
</file>