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6FE-F565-45F2-B4FA-2C04EC36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462-8350-4B3E-9571-413D62C3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9C3-87E4-412F-928A-AF270B1A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402-91AE-42A3-BE87-9C0D3284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74AC-1D1D-4B8F-B23A-6284F46F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1D94D-E287-4B9B-B48A-E6D1661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0CC8A-ED10-4875-BD23-4AB320C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5BFC2-5D1C-476C-9D26-C0FE3303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3681-7994-4FC4-81EA-D02330FB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C9A67-7BAE-4F66-AB36-67901F3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BFF2B-77E5-457C-861B-AA6CFFF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BB9-0D8B-464F-A4AD-F7A97104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980A4-0A51-490D-96B3-C06ECE1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05009-F00F-4CBA-8CE4-884085F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FAEB1-FE57-4482-AE98-5A8A82A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74C20-F7A1-4FE7-8C15-F5C463F7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F2EA3-E5FF-45FE-80FE-24FDDF7F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3E38-CE52-4329-AB22-685D8255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D41B-4A7B-43F8-BE8E-E17DC93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6EF3-5C31-4B0F-A49D-986122DB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56F2-7440-4454-AFF6-F7A5B90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4D71-624E-4D34-A302-30DC606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E1C-1AA4-4E16-A32A-A45E4270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EFDD-3E1D-4EB9-ADE3-AFB95CC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4A76-05A8-425A-A9ED-D782230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B671-DF11-43B0-A39A-B1F3D84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B0F2-FA76-457F-8D92-899C0A0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8D2B-55F1-4551-8BC2-2BCFBF5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B00D-02CA-47DD-9659-63C6C3D6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24FD-6465-45FA-8694-751D9290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045F1-1649-4E1F-9AF7-167AA86D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ECCA1-6302-49B6-BFEA-6EE440D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195CC-0334-4ABD-8A0B-2FDC5120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5BB-99C9-4436-9EAC-9CD114D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C92E4-5EE6-4229-BE58-D23659D2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8C0BF-0C04-40C6-8C0E-34BB1A1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F5C44-4DAE-43B4-B4CB-5DA74AC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CEE80-AC76-4B21-A078-CDE20FCC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626E0-CFE9-49AC-931F-6DA474A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C925A-AC46-478D-A7D9-E51E282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9AECF-5B5F-4059-8DFF-8FD91D77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826AA-71F7-40A6-B8B5-44009B80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FDBD8-1E0C-49BE-9B0D-86A4CB35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FC6D3-CB31-4CA8-B9C9-0ABE7A2D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5C7-8180-4DD7-B225-C682D96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ACB40-FC70-45C1-8078-F121186B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E4C93-67E5-406F-9602-32DC71CE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7CDB8-3717-486B-BB61-52DC000D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2A3B8-1F13-4C26-BE6D-26F3204F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53084-5D75-401D-882D-95D5A9D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95D9D-B8D5-4F54-AF9A-3EA7C54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20582-28A2-4655-B5F8-8BE7655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1E001-F483-488A-9417-ACCA741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B5290-92D8-4A4B-856D-EF5B726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6AB59-113D-4B61-9523-F792B626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BCF-D71E-46B4-8114-28765D46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9CB7E-9C56-4BF9-A067-678D7A42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581CB-67B8-4611-AE66-ACD73648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3286F-35A3-405F-8ABF-7662711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41784-4A90-443D-AC5F-B313984E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9C529-3E0C-4320-BDAB-CBFB501D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F5031-9D80-467F-BA9B-07ECD209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593EF-7025-4481-B379-B5D2445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61BE4-AA0C-4479-91E2-18736BC0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D08D2-1EFC-4E21-93F8-364E41E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595F1-8F57-451A-B83E-449C7B86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98A-63D4-4F4F-9535-E2D90FA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9BE75-CDC4-4519-9097-81500A9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D6B90-E4EA-4DA5-8D5C-41DF0943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68951-88B7-413E-86BC-31B76A0A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DA4-C115-4464-BD5E-6FEFE63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BA4-E45A-4ECE-A908-D691072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5330-C774-40DD-9B0A-2955D8504ABE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8853-0E64-4632-A862-D15828167DA5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B93E-F680-459E-B9B8-B0454245F847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950-EC8B-4863-8F6D-FC3AF87F4669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18C0-76CD-46FD-9704-E72577B852FB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9D60-807C-4242-AD3C-86600AE8A0CF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8400" y="4500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onstantia"/>
              </a:rPr>
              <a:t>Bc. Krajcigr Radek, Bc. Mařan Lib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Nadpis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Podnadpis 2"/>
          <p:cNvSpPr/>
          <p:nvPr/>
        </p:nvSpPr>
        <p:spPr>
          <a:xfrm>
            <a:off x="500040" y="29289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fefac9"/>
                </a:solidFill>
                <a:uFillTx/>
                <a:latin typeface="Constantia"/>
              </a:rPr>
              <a:t>Technické prostředky v sebeobraně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Obrázek 4" descr="277thumb.jpg"/>
          <p:cNvPicPr/>
          <p:nvPr/>
        </p:nvPicPr>
        <p:blipFill>
          <a:blip r:embed="rId2"/>
          <a:stretch/>
        </p:blipFill>
        <p:spPr>
          <a:xfrm>
            <a:off x="7000920" y="3857760"/>
            <a:ext cx="15555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historické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zbraně jednoranové a dvouranové zkonstruované na principech doutnákových, kolečkových, křesadlových nebo perkusních zámkových systémů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palné zbraně určené pro střelbu náboji typu flobert s energií střely na ústí hlavně do 7,5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plynové zbraně na vzduchovou kartuš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plynové zbraně, u nichž kinetická energie střely na ústí hlavně dosahuje nejvíce 16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expanzní zbraně a expanzní přístr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mechanické zbraně, u nichž je napínací síla větší než 150 N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znehodnocené zbraně, na kterých byly provedeny takové nevratné úpravy, které znemožňují jejich použití ke střelb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i) zbraně, na kterých byly řezem provedeny takové úpravy, které odkrývají alespoň částečně vnitřní konstrukci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j) neaktivní střelivo a munice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k) zbraně neuvedené v kategoriích A až C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00000"/>
                </a:solidFill>
                <a:uFillTx/>
                <a:latin typeface="Constantia"/>
              </a:rPr>
              <a:t>Nabývat do vlastnictví, s výjimkou dědění, a držet nebo nosit zbraň nebo střelivo může pouze ten, kdo je držitelem zbrojního průkazu nebo zbrojní licence, pokud tento zákon nestanoví jinak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0" name="Obrázek 4" descr="309tipthumb.jpg"/>
          <p:cNvPicPr/>
          <p:nvPr/>
        </p:nvPicPr>
        <p:blipFill>
          <a:blip r:embed="rId1"/>
          <a:stretch/>
        </p:blipFill>
        <p:spPr>
          <a:xfrm>
            <a:off x="5715000" y="3857760"/>
            <a:ext cx="23050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je zakázáno nabývat do vlastnictví, držet nebo nosit, pokud není dále stanoveno jinak. Zákaz podle věty první se nevztahuje na vývoz nebo dovoz uskutečňovaný podle zvláštního právního předpis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3" name="Obrázek 3" descr="ump45.jpg"/>
          <p:cNvPicPr/>
          <p:nvPr/>
        </p:nvPicPr>
        <p:blipFill>
          <a:blip r:embed="rId2"/>
          <a:stretch/>
        </p:blipFill>
        <p:spPr>
          <a:xfrm>
            <a:off x="2428920" y="35719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5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lze nabývat do vlastnictví a držet nebo nosit jen na základě povolení, pokud tento zákon nestanoví ji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Nadpis 2" descr=""/>
          <p:cNvPicPr/>
          <p:nvPr/>
        </p:nvPicPr>
        <p:blipFill>
          <a:blip r:embed="rId2"/>
          <a:stretch/>
        </p:blipFill>
        <p:spPr>
          <a:xfrm>
            <a:off x="122400" y="2352600"/>
            <a:ext cx="8472240" cy="1231920"/>
          </a:xfrm>
          <a:prstGeom prst="rect">
            <a:avLst/>
          </a:prstGeom>
          <a:ln w="0">
            <a:noFill/>
          </a:ln>
        </p:spPr>
      </p:pic>
      <p:sp>
        <p:nvSpPr>
          <p:cNvPr id="287" name="Obdélník 5"/>
          <p:cNvSpPr/>
          <p:nvPr/>
        </p:nvSpPr>
        <p:spPr>
          <a:xfrm>
            <a:off x="500040" y="3714840"/>
            <a:ext cx="785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uze držitel zbrojního průkazu příslušné skupiny nebo zbrojní licence příslušné skupiny, který je povinen nabytí vlastnictví této zbraně ohlásit příslušnému útvaru policie. Tuto zbraň může držitel zbrojního průkazu nosit pouze v rozsahu oprávnění stanovených pro jednotlivé skupiny zbrojních průkazů až po její registra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nstantia"/>
              </a:rPr>
              <a:t>Zbrojní průkaz je veřejná listina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, která fyzickou osobu opravňuje k nabývání vlastnictví a držení zbraně nebo střeliva do těchto zbraní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A - ke sběratels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B - ke sportovní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C - k lovec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D - k výkonu zaměstnání nebo povolání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E - k ochraně života, zdraví nebo majetk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F – k provádění pyrotechnického průzkum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89" name="Nadpis 2" descr=""/>
          <p:cNvPicPr/>
          <p:nvPr/>
        </p:nvPicPr>
        <p:blipFill>
          <a:blip r:embed="rId1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  <p:pic>
        <p:nvPicPr>
          <p:cNvPr id="290" name="Obrázek 3" descr="SVD_Dragunov.jpg"/>
          <p:cNvPicPr/>
          <p:nvPr/>
        </p:nvPicPr>
        <p:blipFill>
          <a:blip r:embed="rId2"/>
          <a:stretch/>
        </p:blipFill>
        <p:spPr>
          <a:xfrm>
            <a:off x="6357960" y="264312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Zbrojní průkaz vydává příslušný útvar policie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 na základě žádost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Jde-li o žádost o vydání zbrojního průkazu skupiny C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je žadatel povinen také předložit platný lovecký líste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Příslušný útvar policie vydá zbrojní průkaz fyzické osobě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která splňuje určité podmínk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onstantia"/>
              </a:rPr>
              <a:t>Věková hranice pro vydání zbrojního průkaz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Zdravotní způsobilost pro vydání zbrojního průkaz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Odborná způsobilost žadatele o zbrojní průkaz skupiny A až 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928440"/>
            <a:ext cx="81154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Rozšíření skupin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Zánik platnosti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dnětí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právnění držitelů zbrojních průkazů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Povinnosti držitele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třelná zbraň   Palná zbraň   Plynová zbraň   Mechanick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Expanzní zbraň   Expanzní přístroj   Kulová zbraň   Brok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Kombinovaná zbraň   Krátká zbraň   Dlouhá zbraň   Samočinn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amonabíjecí zbraň   Opakovací zbraň   Jednoran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Víceranová zbraň   Vojenská zbraň   Sportov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Lovecká zbraň   Paintbalová zbraň   Signál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Historická zbraň   Hlavní části střelné zbraně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Znehodnocená zbraň   Řez zbraně   Odpalovací zařízení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95" name="Obrázek 3" descr="is.jpg"/>
          <p:cNvPicPr/>
          <p:nvPr/>
        </p:nvPicPr>
        <p:blipFill>
          <a:blip r:embed="rId2"/>
          <a:stretch/>
        </p:blipFill>
        <p:spPr>
          <a:xfrm>
            <a:off x="4143240" y="285840"/>
            <a:ext cx="16257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ostup při koupi střelních zbraní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ní normy upravující postup při koupi střelné zbraně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a a povinnosti držitele střelné zbraně“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Obrázek 3" descr="10005.jpg"/>
          <p:cNvPicPr/>
          <p:nvPr/>
        </p:nvPicPr>
        <p:blipFill>
          <a:blip r:embed="rId1"/>
          <a:stretch/>
        </p:blipFill>
        <p:spPr>
          <a:xfrm>
            <a:off x="1785960" y="3543480"/>
            <a:ext cx="542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upravuje zákon </a:t>
            </a:r>
            <a:r>
              <a:rPr b="0" lang="cs-CZ" sz="2600" spc="-1" strike="noStrike">
                <a:solidFill>
                  <a:srgbClr val="c00000"/>
                </a:solidFill>
                <a:latin typeface="Constantia"/>
              </a:rPr>
              <a:t>č. 119/2002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b. ve znění pozdějších změn a doplnění. Jedná se o Zákon o střelných zbraních a střeliv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Nařízení Vlády ČR 338/2002 Sb. O technických požadavcích pro zabezpečení přechovávaných zbraní nebo střeliva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právní řád - Zákon č. 500/2004 S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Nadpis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3" descr="043spim.jpg"/>
          <p:cNvPicPr/>
          <p:nvPr/>
        </p:nvPicPr>
        <p:blipFill>
          <a:blip r:embed="rId2"/>
          <a:stretch/>
        </p:blipFill>
        <p:spPr>
          <a:xfrm>
            <a:off x="6643800" y="4491000"/>
            <a:ext cx="15652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upravuje kategorie střelných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nabývání vlastnictví, držení, nošení a používání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áva a povinnosti držitelů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vývoz, dovoz nebo tranzit zbraní nebo systémů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sankce a výkon státní správy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ovozování střelnic a provozování a provádění pyrotechnického průzkumu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Nadpis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pic>
        <p:nvPicPr>
          <p:cNvPr id="263" name="Obrázek 3" descr="is.jpg"/>
          <p:cNvPicPr/>
          <p:nvPr/>
        </p:nvPicPr>
        <p:blipFill>
          <a:blip r:embed="rId2"/>
          <a:stretch/>
        </p:blipFill>
        <p:spPr>
          <a:xfrm>
            <a:off x="6100920" y="5143680"/>
            <a:ext cx="152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a) zakázané zbraně, zakázané střelivo nebo zakázané doplňky zbraní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b) zbraně podléhající povolení - kategori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c) zbraně podléhající ohlášení - kategorie C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d) ostatní zbraně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e) střelivo do zbraní kategorií A až D, které není zakázan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Nadpis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041tipm.jpg"/>
          <p:cNvPicPr/>
          <p:nvPr/>
        </p:nvPicPr>
        <p:blipFill>
          <a:blip r:embed="rId2"/>
          <a:stretch/>
        </p:blipFill>
        <p:spPr>
          <a:xfrm>
            <a:off x="5802480" y="4643280"/>
            <a:ext cx="1396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ffffff"/>
                </a:solidFill>
                <a:uFillTx/>
                <a:latin typeface="Constantia"/>
              </a:rPr>
              <a:t>a) zbraně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1. vojenské, včetně odpalovacích zařízení, s výjimkou pušek, pistolí a revolverů, ověřených pro civilní použití, pokud podléhají ověřování podle zvláštního právního předpisu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2. samočinné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3. vyrobené nebo upravené tak, že lze utajit jejich účel, nebo u kterých byly původní charakter a podoba změněny tak, aby se jejich použitím mohly způsobit těžší následky, anebo zbraně maskované jako jiné předměty 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4. palné nevyrobené z kovů, pokud nejsou identifikovatelné jako zbraně při kontrolách osob a zavazadel pomocí detekčních a rentgenových přístrojů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5. plynové nebo expanzní, nejde-li o dovolené výrobní provedení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6. střelná nástrahová zařízení a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7. s pevně vestavěnými tlumiči hluku výstřelu nebo s pevně vestavěnými laserovými zaměřovači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Zástupný symbol pro obsah 5" descr="m3.jpg"/>
          <p:cNvPicPr/>
          <p:nvPr/>
        </p:nvPicPr>
        <p:blipFill>
          <a:blip r:embed="rId1"/>
          <a:stretch/>
        </p:blipFill>
        <p:spPr>
          <a:xfrm>
            <a:off x="4929120" y="4714920"/>
            <a:ext cx="2857680" cy="15159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44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Obdélník 3"/>
          <p:cNvSpPr/>
          <p:nvPr/>
        </p:nvSpPr>
        <p:spPr>
          <a:xfrm>
            <a:off x="714240" y="144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b) střeliv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se střelou průbojnou, výbušnou nebo zápalno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pro krátké kulové zbraně se střelou šokovou nebo střelou určenou ke zvýšení ranivého účink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které neodpovídá dovolenému výrobnímu provede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4. munic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c) doplňky zbraní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tlumiče hluku výstřel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zaměřovače zbraní konstruované na principu noktovizorů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laserové zaměřovače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krátké opakovací nebo samonabíjecí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krátké jednoranové nebo víceranové zbraně pro střelivo se středovým zápale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jednoranové nebo víceranové zbraně pro střelivo s okrajovým zápalem, jejichž celková délka je menší než 28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dlouhé samonabíjecí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dlouhé samonabíjecí zbraně, jejichž zásobník nebo nábojová schránka a nábojová komora nemohou dohromady pojmout více než 3 náboje a u nichž je podávací ústrojí odnímatelné, anebo u nichž není zaručeno, že nemohou být přeměněny běžně dostupnými nástroji na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dlouhé opakovací nebo samonabíjecí zbraně s hladkým vývrtem hlavně, jejichž délka hlavně je menší nebo je rovná 60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samonabíjecí zbraně, pokud mají vzhled samočinných zbra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signální zbraně pro použití signálních nábojů ráže větší než 16 mm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a) jednoranové nebo víceranové zbraně pro střelivo s okrajovým zápalem, jejichž celková délka se rovná nebo je větší než 280 mm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b) jednoranové nebo víceranové, opakovací nebo samonabíjecí dlouhé zbraně neuvedené v § 5 písm. d) až f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c) plynové zbraně, u nichž kinetická energie střely na ústí hlavně je vyšší než 16 J, s výjimkou paintbalových zbraní, 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d) více než dvouranové nebo opakovací zbraně zkonstruované na principu perkusních zámkových systémů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9:35:08Z</dcterms:created>
  <dc:creator>Radek Krajcigr</dc:creator>
  <dc:description/>
  <dc:language>en-US</dc:language>
  <cp:lastModifiedBy>Radek Krajcigr</cp:lastModifiedBy>
  <dcterms:modified xsi:type="dcterms:W3CDTF">2010-05-10T20:28:13Z</dcterms:modified>
  <cp:revision>6</cp:revision>
  <dc:subject/>
  <dc:title>MASARYKOVA UNIVERZITA BRNO FAKULTA SPORTOVNÍCH STUDIÍ</dc:title>
</cp:coreProperties>
</file>