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9.png" ContentType="image/png"/>
  <Override PartName="/ppt/media/image5.png" ContentType="image/png"/>
  <Override PartName="/ppt/media/image10.jpeg" ContentType="image/jpeg"/>
  <Override PartName="/ppt/media/image6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19.jpeg" ContentType="image/jpeg"/>
  <Override PartName="/ppt/media/image20.png" ContentType="image/png"/>
  <Override PartName="/ppt/media/image28.jpeg" ContentType="image/jpeg"/>
  <Override PartName="/ppt/media/image29.png" ContentType="image/png"/>
  <Override PartName="/ppt/media/image21.jpeg" ContentType="image/jpeg"/>
  <Override PartName="/ppt/media/image22.png" ContentType="image/png"/>
  <Override PartName="/ppt/media/image11.jpeg" ContentType="image/jpeg"/>
  <Override PartName="/ppt/media/image2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DFFC-9B6E-4746-95FF-C70A0658B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E152-AF02-4E4E-A2FE-29F7C424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10C540-8EB5-4A74-9AF2-4AAA61F3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CE701-A2E2-432D-9459-7DCBCDBE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C69247-7381-45CF-BB45-18EEB0E5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832BA-8991-45E0-A292-8DBD46BF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94B5E6-ECD8-4B39-8109-9D0C35C1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74FA8-EA62-4B43-9DBE-25A1CDCB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A012A2-579F-49E6-A591-5030AC96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1B2F29-4E35-4FDE-B76B-5931702D7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C7F8F-0890-47D0-A1B0-C5F24D346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A801-1967-47F7-B6FD-94D320728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FED1-B12B-42C6-AD2F-F5550F966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7877-39E5-47F3-A909-64A0BB68D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407F-6212-497C-B334-40A2A090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752C-8B36-4EE8-B308-071DFD11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E241-6C85-4493-8E1A-17FDC72C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1461-B08F-48C4-A39D-41C70D3D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C7B9-65B5-47ED-8951-EE9FCF36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BB14-DDD2-4F39-9F9F-22BADF0A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ACD0-8B10-4B56-95A4-DE75755A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97CA-E4BB-41EA-AB29-CFD7FEFB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27E1-0B81-48C2-A77F-B6BFCB20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92CD-A76E-430B-A5DC-240D7B8C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91BA-5025-4212-9878-F2B66F159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1DD1-BD11-4584-AD4C-4EA2E03A4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55FD2-8E95-4227-BA76-CBD284DEA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5AE2D-1104-42C3-857A-E1FAFD31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EC00D-E6FA-4691-BE93-2A631372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6BD37-304B-4356-97B1-5206EC18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8999A-1FC6-403D-AB32-A9E30CAA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086D-97DA-4A0A-873F-2278628A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A3542-B342-4BFD-9630-1F56775D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EC317-0977-442B-BD04-64F8B129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6BE4E-28A9-48D4-A022-8889606C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3F9E2-8483-47CB-9844-0423BE42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D2558-894C-4529-9F84-FC7250FA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BB3B1-5891-43A6-996C-CED6E3287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854E4-3AFE-40CE-A254-86A37F64A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84D51-FF19-43E5-9DF9-1BF2727C8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CC96D-B27B-4DD6-864D-FD61DEB9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3347B-FDA6-44C3-944B-31172C3F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7AE1-3D2A-4346-8683-7DD80975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F17FD-6252-4600-9EE8-09C6DD70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99FBE-B833-4430-B4B7-C9252481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BC71A-8689-4792-B53B-55C4CB75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4C2D3-CAC2-4EDF-939F-DBD052B3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957F4-B006-4FA3-92CB-2772BD8B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1EAD9-76CD-4FCA-8D2C-364EDBB6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FAA41-356D-4645-9168-673FADBF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92801-8D77-430B-BC22-26B2DA7FE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3CBB4-0EE0-4637-AB8E-6D09CBC68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0D71D-F6E6-4D12-9E9A-B92F36585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012F-1099-427F-A5AD-36BAECAA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C8C55-084E-4BF4-ABEB-1AAD2B61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248D1-0B83-4648-A4A8-EB5E223A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CE9CD-569B-4929-A869-703C4A7F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E31A5-AB03-4A5F-95C2-73F8AB76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32B0C-8A5A-4094-AF37-6D79C713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701C6-FB4B-4849-8D47-89F09A7B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DE848-FF9E-45D4-AE21-3E36C6A4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661B6-14A3-47A0-8037-A826FC44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C8D7D-6C2C-4D15-8EA5-49028E7A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CFAC5-459C-4429-B14C-4A7E50D4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3F1F-828A-48EE-892F-B47687F9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B93FE-CD07-4CC3-9DCA-707D44DE5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1CD4C-EB83-4178-B12C-5132F6CDD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5F1D5-460F-4A6F-AD2C-5D348DB7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E2230-1403-4BB8-BCAB-C095BA43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D2C7F-A712-4BBB-B7F7-6A4D9FDE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2E7D6-73E7-4C0C-BA25-77EBC17C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E8E5D-8D76-4306-B58C-FAA38148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8DF9D-1E20-405C-8411-122F700B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E1D08-6AC5-442C-B796-9BD7F489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9F0DC-4502-4D66-BF11-88379333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F2AA-24BF-4B5A-BCCD-F224A151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5B794-C8DF-4ECF-89F0-82C502A1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E8D16-8068-499D-AB8E-000167122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641AF-F295-4341-880D-06CE308D9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93D81-9CFB-43E9-9BEB-60B840CA7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2B70A-88A1-403F-93E2-EBD4B8D7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0E676-E063-45AD-942D-CBDCDFE0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1DD89-CE8B-4B92-B3AD-EA52FA95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EF955-3024-43C6-8240-53E2D1A1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7361C-98A8-4A7B-92A3-E86B88E2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01244-2E18-4056-8739-9E3A8794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A876-2B4F-44BB-84B2-4CF7B8FC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02389-B17B-42DF-83D5-BA0F8463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EBE19-020F-45A1-8FF1-E6C10E83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EFD01-E203-4A7E-B3D4-AD69011D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0464A-E3E0-46E8-A32A-C05B60D70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FA084-F69E-4837-A9A5-772A5C767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17609-F476-47D3-AC45-6578ED8AD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84601-BDCD-48E2-A6FC-81A7E208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C0679-39B0-443B-8761-41A51328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1F806-59E3-4D6B-9EFC-361CF77B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4A24C-2417-44BF-8F4E-14FB5591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6C75-9FD0-4E2B-BDFC-D25168C9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40AA9-174D-4F9B-9A59-0BD7B115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146C7-F519-4460-80A1-CCBF9B2E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5B1D7-3EF9-44E8-8D34-81068D0A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986C0-39FA-41F0-9BFD-0BDD0CE8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05771-85BF-41F0-8CC9-BE1965DE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7BDB1-810C-4248-A7C2-2276DA44A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C4110-C098-490B-8F1B-9602E1C58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F25E0-6EA0-460F-8C13-A66AEA644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247C4-7045-4A66-82BA-73B28EC3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8EA85-5A3D-4B83-A699-4B7C2F9F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římá spojovací čára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Přímá spojovací čára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3341-419F-4C11-9B0E-B530499B980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Přímá spojovací čára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Přímá spojovací čára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Přímá spojovací čára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Přímá spojovací čára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Přímá spojovací čára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Přímá spojovací čára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5646-FDCC-429A-A5A8-6347D678237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Přímá spojovací čára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Přímá spojovací čára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Přímá spojovací čára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Přímá spojovací čára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Přímá spojovací čára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Přímá spojovací čára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BB9D-00F4-4F27-BA2E-F973135A1E5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Přímá spojovací čára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Přímá spojovací čára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B11A-47FB-4279-BC6E-3A30DFA6326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Přímá spojovací čára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Přímá spojovací čára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08EC-B280-468E-B65B-CA698488174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C3F7-D773-4AFB-B294-902FE22C09D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Přímá spojovací čára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Přímá spojovací čára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4307-14A5-4D6C-9398-C8E1BD1D0E2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691C-5034-4454-A34F-03361010B3A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93CE-DDB0-4691-A8DD-946325DC95F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2"/>
          <a:stretch/>
        </p:blipFill>
        <p:spPr>
          <a:xfrm>
            <a:off x="706320" y="1238400"/>
            <a:ext cx="7785360" cy="15541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428840" y="2642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Franklin Gothic Book"/>
              </a:rPr>
              <a:t>Téma:</a:t>
            </a:r>
            <a:r>
              <a:rPr b="0" lang="cs-CZ" sz="26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Franklin Gothic Book"/>
              </a:rPr>
              <a:t>skryté obranné technické prostředky v sebeobraně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443329"/>
                </a:solidFill>
                <a:latin typeface="Franklin Gothic Book"/>
              </a:rPr>
              <a:t> </a:t>
            </a:r>
            <a:r>
              <a:rPr b="0" lang="cs-CZ" sz="2600" spc="-1" strike="noStrike">
                <a:solidFill>
                  <a:srgbClr val="443329"/>
                </a:solidFill>
                <a:latin typeface="Franklin Gothic Book"/>
              </a:rPr>
              <a:t>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TextovéPole 3"/>
          <p:cNvSpPr/>
          <p:nvPr/>
        </p:nvSpPr>
        <p:spPr>
          <a:xfrm>
            <a:off x="285840" y="500076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Václav Ú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Petr Švanda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285840" y="214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Franklin Gothic Book"/>
              </a:rPr>
              <a:t>Střílející dýmka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Není li nabytá, dá se z ní i kouřit :-D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1" name="Zástupný symbol pro obsah 4" descr="SimplePipePistol.gif"/>
          <p:cNvPicPr/>
          <p:nvPr/>
        </p:nvPicPr>
        <p:blipFill>
          <a:blip r:embed="rId1"/>
          <a:stretch/>
        </p:blipFill>
        <p:spPr>
          <a:xfrm>
            <a:off x="2357280" y="2786040"/>
            <a:ext cx="64929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285840" y="214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Franklin Gothic Book"/>
              </a:rPr>
              <a:t>Palná zbraň v jídelním příboru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3" name="Zástupný symbol pro obsah 4" descr="gun-knife-fork-spoon.jpg"/>
          <p:cNvPicPr/>
          <p:nvPr/>
        </p:nvPicPr>
        <p:blipFill>
          <a:blip r:embed="rId1"/>
          <a:stretch/>
        </p:blipFill>
        <p:spPr>
          <a:xfrm>
            <a:off x="1214280" y="2214720"/>
            <a:ext cx="698508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Zástupný symbol pro obsah 3" descr="pistol&amp;holster.jpg"/>
          <p:cNvPicPr/>
          <p:nvPr/>
        </p:nvPicPr>
        <p:blipFill>
          <a:blip r:embed="rId1"/>
          <a:stretch/>
        </p:blipFill>
        <p:spPr>
          <a:xfrm>
            <a:off x="2786040" y="2000160"/>
            <a:ext cx="5118120" cy="3994200"/>
          </a:xfrm>
          <a:prstGeom prst="rect">
            <a:avLst/>
          </a:prstGeom>
          <a:ln w="0">
            <a:noFill/>
          </a:ln>
        </p:spPr>
      </p:pic>
      <p:pic>
        <p:nvPicPr>
          <p:cNvPr id="425" name="Obrázek 5" descr="GoldSmall.jpg"/>
          <p:cNvPicPr/>
          <p:nvPr/>
        </p:nvPicPr>
        <p:blipFill>
          <a:blip r:embed="rId2"/>
          <a:stretch/>
        </p:blipFill>
        <p:spPr>
          <a:xfrm>
            <a:off x="1000080" y="1785960"/>
            <a:ext cx="1265400" cy="4883040"/>
          </a:xfrm>
          <a:prstGeom prst="rect">
            <a:avLst/>
          </a:prstGeom>
          <a:ln w="0">
            <a:noFill/>
          </a:ln>
        </p:spPr>
      </p:pic>
      <p:sp>
        <p:nvSpPr>
          <p:cNvPr id="426" name="Obdélník 6"/>
          <p:cNvSpPr/>
          <p:nvPr/>
        </p:nvSpPr>
        <p:spPr>
          <a:xfrm>
            <a:off x="857160" y="357120"/>
            <a:ext cx="2571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Střílecí p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Nadpis 1" descr=""/>
          <p:cNvPicPr/>
          <p:nvPr/>
        </p:nvPicPr>
        <p:blipFill>
          <a:blip r:embed="rId1"/>
          <a:stretch/>
        </p:blipFill>
        <p:spPr>
          <a:xfrm>
            <a:off x="23760" y="219240"/>
            <a:ext cx="3554640" cy="2060280"/>
          </a:xfrm>
          <a:prstGeom prst="rect">
            <a:avLst/>
          </a:prstGeom>
          <a:ln w="0">
            <a:noFill/>
          </a:ln>
        </p:spPr>
      </p:pic>
      <p:pic>
        <p:nvPicPr>
          <p:cNvPr id="428" name="Zástupný symbol pro obsah 3" descr="article1089355029755a50ax0.jpg"/>
          <p:cNvPicPr/>
          <p:nvPr/>
        </p:nvPicPr>
        <p:blipFill>
          <a:blip r:embed="rId2"/>
          <a:stretch/>
        </p:blipFill>
        <p:spPr>
          <a:xfrm>
            <a:off x="4357800" y="785880"/>
            <a:ext cx="450504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Rectangle 4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chemické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elektrické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2" name="Picture 7" descr="es006"/>
          <p:cNvPicPr/>
          <p:nvPr/>
        </p:nvPicPr>
        <p:blipFill>
          <a:blip r:embed="rId2"/>
          <a:stretch/>
        </p:blipFill>
        <p:spPr>
          <a:xfrm>
            <a:off x="5003640" y="2205000"/>
            <a:ext cx="3206880" cy="42483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8" descr="sj013"/>
          <p:cNvPicPr/>
          <p:nvPr/>
        </p:nvPicPr>
        <p:blipFill>
          <a:blip r:embed="rId3"/>
          <a:stretch/>
        </p:blipFill>
        <p:spPr>
          <a:xfrm>
            <a:off x="468360" y="2276640"/>
            <a:ext cx="32605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e3b30"/>
                </a:solidFill>
                <a:latin typeface="Franklin Gothic Book"/>
              </a:rPr>
              <a:t>Pepřové  spreje ukryté v předmětech denního používání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5" name="Picture 14" descr="sprej_pero_s"/>
          <p:cNvPicPr/>
          <p:nvPr/>
        </p:nvPicPr>
        <p:blipFill>
          <a:blip r:embed="rId1"/>
          <a:stretch/>
        </p:blipFill>
        <p:spPr>
          <a:xfrm>
            <a:off x="4214880" y="2928960"/>
            <a:ext cx="4643280" cy="34923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Medium"/>
              </a:rPr>
              <a:t>VYCHÁZKOVÁ HŮL</a:t>
            </a:r>
            <a:br>
              <a:rPr sz="3200"/>
            </a:br>
            <a:r>
              <a:rPr b="0" lang="cs-CZ" sz="3200" spc="-1" strike="noStrike">
                <a:solidFill>
                  <a:srgbClr val="4e3b30"/>
                </a:solidFill>
                <a:latin typeface="Franklin Gothic Medium"/>
              </a:rPr>
              <a:t>DUTÁ SE SKRYTÝM OSTŘÍM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37" name="Zástupný symbol pro obsah 4" descr="cane-sword-rattan.jpg"/>
          <p:cNvPicPr/>
          <p:nvPr/>
        </p:nvPicPr>
        <p:blipFill>
          <a:blip r:embed="rId1"/>
          <a:stretch/>
        </p:blipFill>
        <p:spPr>
          <a:xfrm>
            <a:off x="2355840" y="1554120"/>
            <a:ext cx="4584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39" name="Zástupný symbol pro obsah 3" descr="PK-1.JPG"/>
          <p:cNvPicPr/>
          <p:nvPr/>
        </p:nvPicPr>
        <p:blipFill>
          <a:blip r:embed="rId2"/>
          <a:stretch/>
        </p:blipFill>
        <p:spPr>
          <a:xfrm>
            <a:off x="3286080" y="1397160"/>
            <a:ext cx="4381560" cy="54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41" name="Zástupný symbol pro obsah 3" descr="82ac0de319_31971166_o2.jpg"/>
          <p:cNvPicPr/>
          <p:nvPr/>
        </p:nvPicPr>
        <p:blipFill>
          <a:blip r:embed="rId2"/>
          <a:stretch/>
        </p:blipFill>
        <p:spPr>
          <a:xfrm>
            <a:off x="3276720" y="2389320"/>
            <a:ext cx="27432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2858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Franklin Gothic Book"/>
              </a:rPr>
              <a:t>Děkuji za pozornost!!!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4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605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Kdy je možné určitou zbraň považovat za skrytou?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zbraň, která byla vyrobena a je primárně určena k použití jako zbraň, avšak vzhled zbraně nemají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Jako neurčitý předmě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Předmět používaný ke zcela jinému účelu (baterka, tužka, vycházková hůl…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Nástrahy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4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Mechanické (zbraně úderné, bodné, sečné, střelné, výbušné s tříštivým obalem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Chemické</a:t>
            </a: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 – využívají k překonání cíle chem. Látky (pepřové spreje, toxické plyny, jedy, žíraviny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Elektrické</a:t>
            </a: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 – využívají k působení na cíl elektrickou energii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Akustické (infrazvuk, ultrazvuk a zvuk resp. hluk ve slyšitelném pásmu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Tlakové (jsou to obvykle výbušné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Tepelné (zápalné, výbušné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Ostatní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09" name="Zástupný symbol pro obsah 3" descr="small-Dart-gun.jpg"/>
          <p:cNvPicPr/>
          <p:nvPr/>
        </p:nvPicPr>
        <p:blipFill>
          <a:blip r:embed="rId2"/>
          <a:stretch/>
        </p:blipFill>
        <p:spPr>
          <a:xfrm>
            <a:off x="3500280" y="1928880"/>
            <a:ext cx="5429520" cy="4651200"/>
          </a:xfrm>
          <a:prstGeom prst="rect">
            <a:avLst/>
          </a:prstGeom>
          <a:ln w="0">
            <a:noFill/>
          </a:ln>
        </p:spPr>
      </p:pic>
      <p:sp>
        <p:nvSpPr>
          <p:cNvPr id="410" name="TextovéPole 4"/>
          <p:cNvSpPr/>
          <p:nvPr/>
        </p:nvSpPr>
        <p:spPr>
          <a:xfrm>
            <a:off x="500040" y="1785960"/>
            <a:ext cx="307188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Dart G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šipková zbra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užívána britskou tajnou službou SOE během 2. sv. vál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rázová plynová zbraň k vystřelování šipek napuštěných je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Zástupný symbol pro obsah 3" descr="stinger3.jpg"/>
          <p:cNvPicPr/>
          <p:nvPr/>
        </p:nvPicPr>
        <p:blipFill>
          <a:blip r:embed="rId1"/>
          <a:stretch/>
        </p:blipFill>
        <p:spPr>
          <a:xfrm>
            <a:off x="3857760" y="1071720"/>
            <a:ext cx="5065560" cy="4389120"/>
          </a:xfrm>
          <a:prstGeom prst="rect">
            <a:avLst/>
          </a:prstGeom>
          <a:ln w="0">
            <a:noFill/>
          </a:ln>
        </p:spPr>
      </p:pic>
      <p:sp>
        <p:nvSpPr>
          <p:cNvPr id="412" name="TextovéPole 4"/>
          <p:cNvSpPr/>
          <p:nvPr/>
        </p:nvSpPr>
        <p:spPr>
          <a:xfrm>
            <a:off x="357120" y="1428840"/>
            <a:ext cx="314316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Sti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užívala americká tajná služba 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yly jí vybaveny partyzánské skupiny v Evrop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856800" y="5000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Franklin Gothic Book"/>
              </a:rPr>
              <a:t>Střílející hole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4" name="Picture 15" descr="Bali 007"/>
          <p:cNvPicPr/>
          <p:nvPr/>
        </p:nvPicPr>
        <p:blipFill>
          <a:blip r:embed="rId1"/>
          <a:stretch/>
        </p:blipFill>
        <p:spPr>
          <a:xfrm>
            <a:off x="6227640" y="2276640"/>
            <a:ext cx="2695680" cy="36003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6" descr="Bali 006"/>
          <p:cNvPicPr/>
          <p:nvPr/>
        </p:nvPicPr>
        <p:blipFill>
          <a:blip r:embed="rId2"/>
          <a:stretch/>
        </p:blipFill>
        <p:spPr>
          <a:xfrm>
            <a:off x="857160" y="2214720"/>
            <a:ext cx="5133960" cy="38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Franklin Gothic Book"/>
              </a:rPr>
              <a:t>Finger Gun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Dostřel až 10m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Zástupný symbol pro obsah 4" descr="ringgun.jpg"/>
          <p:cNvPicPr/>
          <p:nvPr/>
        </p:nvPicPr>
        <p:blipFill>
          <a:blip r:embed="rId1"/>
          <a:stretch/>
        </p:blipFill>
        <p:spPr>
          <a:xfrm>
            <a:off x="4214880" y="1928880"/>
            <a:ext cx="46148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Franklin Gothic Book"/>
              </a:rPr>
              <a:t>Střílející deštník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Používali agenti  KGB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Je zde skrytá plynová zbraň obsahující kuličky jedu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9" name="Zástupný symbol pro obsah 4" descr="umbrella_shooting_sticks.jpg"/>
          <p:cNvPicPr/>
          <p:nvPr/>
        </p:nvPicPr>
        <p:blipFill>
          <a:blip r:embed="rId1"/>
          <a:stretch/>
        </p:blipFill>
        <p:spPr>
          <a:xfrm>
            <a:off x="4648320" y="1838160"/>
            <a:ext cx="43434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8:23:34Z</dcterms:created>
  <dc:creator>Lada</dc:creator>
  <dc:description/>
  <dc:language>en-US</dc:language>
  <cp:lastModifiedBy>Vašík</cp:lastModifiedBy>
  <dcterms:modified xsi:type="dcterms:W3CDTF">2010-04-15T20:52:53Z</dcterms:modified>
  <cp:revision>16</cp:revision>
  <dc:subject/>
  <dc:title>Předmět: Technické prostředky v sebeobraně </dc:title>
</cp:coreProperties>
</file>