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A2A-F1B3-4839-9182-8544653B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168-BCDC-4843-83C2-5B13B42C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CD7FF-789F-4B31-B9F2-74B8A0A2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7A56E-BE3D-49EA-BBA2-7CF4F48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94D50-D2EF-4767-9E96-61F5D0C9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1BD75-3E69-42D8-B14A-C3F63C0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40688-5D67-422F-8B9F-D05321E9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55987-5317-486D-AA4E-FC2660F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34800-F9C9-4539-A4A7-206EE9FF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93F25-BB2E-40B0-A5D3-0B82ACEF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D870-7595-4784-BD42-F8FCDD27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458-256F-4704-BF25-52223D91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401-11EC-48D6-982B-CC09FF04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9F70-7237-4143-BD94-81D835E0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3E97-CBAE-4288-8845-3917F5C4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26F-56BA-40EB-8D3A-EB4965B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8C5D-05CA-437B-B0CE-3FC3D698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F89A-0897-451D-AFE4-F5880C42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0603-6AC8-4523-8DC8-00971DE4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0F9-6A49-4280-BBDF-B9EFE80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1D8-4E98-41D9-901C-EA19F061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DEDB-E117-45BE-8150-2CFA008D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7E2D-D525-4F16-BF00-FECA465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E08-920D-48F8-A58E-FA3245DC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C282-B416-401D-81E5-53C132CB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1641-698D-4EAF-82A1-FFE62682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8598-0C31-406E-8157-2D35D32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011C-14DB-4FF8-B051-E262A6E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DC6B-B1CC-4F20-B14C-0F52E3E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91F8B-4683-4410-90F4-911B65DB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8394-FA2D-4E3B-8D83-B7B8F956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BD1-0EC0-4E4B-BE92-06AE55FD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31BE-FB8D-4B4C-95D6-3E24E5D2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8D26-9B75-4D08-96EF-4655A9A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B538-D176-4CCC-B05E-4A2E13D1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C132-A28F-4D1F-830F-E282430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F3FD-BD82-44A0-AD3D-19F83D85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1EE6-F6F3-4AF2-917C-A116B9E7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5F67-5153-4A3C-B210-8A2C4A51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3B15-8E8B-4F29-B9FD-16C29BB8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D5F4-13B2-4042-85CD-F9B1AFA8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5E8F-BE64-4125-885B-2B3CFC3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D55-EFCB-4F1B-8E7E-74A94C8D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E1E8-9757-4105-ADD1-62A3B9CC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19F5-0E84-4A1A-A321-D7A3D2CC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3CB0-D06A-4AC6-A8EC-E9E1A501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890C-B37F-4947-A405-A4F5215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B9CC-D4DE-49C3-B26D-4C8E1E94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93FB-35A6-4878-8C74-49ECD2F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BA31-5842-4A0B-B002-FE18333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638C-F7B7-4C49-88DB-6984AE3B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D6FB-74A5-4D8C-B042-83EE4B94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CC9E-30C1-4952-B012-DD2AA6A2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DC5-CDA0-4E38-A637-5E3D928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0F9E-29D0-4898-A595-1159CFA1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57DE4-D306-4F67-9922-36380DF1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B95CB-0B03-40E2-A8AE-EEE3CBCB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81744-8D14-42D5-93E4-EC33E5B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8F91-E171-4F0D-B144-E475EBA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0E55-322B-48B9-B86C-92A8111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E69E-0B43-4557-8FE3-63D0B16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FD73-B1FE-4AD6-BDA1-F94A210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EB5C-EC00-4B6E-B233-AB343D10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D25B-3BC6-42CC-8D68-BAA6628F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A70-D436-4E80-B9B0-9930F802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E2BC-F83A-40D7-B00C-8E2F482A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C798F-626B-4193-8B0F-A8AEF0C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6FCE-9C99-4050-B349-B984616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C821E-3546-449B-8CEC-26418C24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6022-679C-4AEF-B348-BCD0ED60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73916-1E30-4DE2-97F1-2E29A062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BD0BC-6765-434A-8ACB-56283D9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A237-431A-444D-9189-873B8BB0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A3A4-C7C7-498B-A479-A0E9270C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CE42F-8629-417C-A039-F9266E86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639-F9D6-448B-ACE9-C953C09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E0D61-C86F-4F75-B5B4-7554431A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FC7C6-8D95-4724-BF2D-04964DC1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6675-C1D9-4B91-9958-BA7E0310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3158-B3BA-4804-B98F-5C3A6712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D6C57-50A9-4E60-833C-BDFA221C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60C4F-5635-479F-A641-D768133E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C3B17-9D5D-498C-B749-3282868A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9621B-5CD6-490E-8DA3-736C15F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EF52-5B17-443F-BD47-687C353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FE91-36BA-43E4-A7D6-7F7BF6E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C5B-4179-412B-B770-3816131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F673-4BED-4A37-B7A0-D6C1BCA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A29A-8370-4852-B8F8-8F3A040C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B755-387A-472F-8336-1E735C12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A2C2-A34E-4931-A3D5-183925C1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031D-FE66-452E-A5CE-05B08024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FBFF1-B921-4D2B-A872-DEE18F91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6ACE3-48AC-4F35-B8F9-F2100AB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66BB4-98BC-4ABD-A872-1E6E4118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B3AE-8E79-49F5-BF5E-2E4839A9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32D02-648A-4984-9A5C-9B1F2E0A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769-76E3-4354-9509-5F4F900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90B47-F680-4ECF-AA62-3CA93BE7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04511-7234-4AD2-81D6-04C6A62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DA2FB-6E1B-41A4-AEC7-75F08774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B2B5-B966-43DF-913C-5742AAF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BF0A-6996-483E-8A97-75D2B99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A1CDD-63D5-488D-AED2-557504D9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CE51-E8E3-4F77-ACA6-E314327C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13BEB-5AFF-470D-8409-B1294A41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AC45D-8D55-489E-82AC-475CFFF6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18E0C-3D12-4183-BD79-A47D1F28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1C17-68C1-460B-B2C6-296B89D292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A436-F5A0-417E-9F36-296D73B2011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F305-6FF1-4674-9987-46285971F56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D1F-FA83-4D3D-A04C-79D4627ECD9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605-314E-4581-8742-0A10608E3FD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552-A358-479A-8DED-770E24881E8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627F-2A29-48AB-9B4A-957CB9E1539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0B24-5D8C-4FC4-97A7-2BEE86826E6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0A28-383E-40AC-B5F3-13B455AB83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706320" y="1238400"/>
            <a:ext cx="7785360" cy="1554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2884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Téma:</a:t>
            </a:r>
            <a:r>
              <a:rPr b="0" lang="cs-CZ" sz="2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skryté obranné technické prostředky v sebeobraně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ovéPole 3"/>
          <p:cNvSpPr/>
          <p:nvPr/>
        </p:nvSpPr>
        <p:spPr>
          <a:xfrm>
            <a:off x="285840" y="50007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áclav Ú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etr Švanda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ýmka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ení li nabytá, dá se z ní i kouřit :-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Zástupný symbol pro obsah 4" descr="SimplePipePistol.gif"/>
          <p:cNvPicPr/>
          <p:nvPr/>
        </p:nvPicPr>
        <p:blipFill>
          <a:blip r:embed="rId1"/>
          <a:stretch/>
        </p:blipFill>
        <p:spPr>
          <a:xfrm>
            <a:off x="2357280" y="2786040"/>
            <a:ext cx="6492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Palná zbraň v jídelním příboru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Zástupný symbol pro obsah 4" descr="gun-knife-fork-spoon.jpg"/>
          <p:cNvPicPr/>
          <p:nvPr/>
        </p:nvPicPr>
        <p:blipFill>
          <a:blip r:embed="rId1"/>
          <a:stretch/>
        </p:blipFill>
        <p:spPr>
          <a:xfrm>
            <a:off x="1214280" y="2214720"/>
            <a:ext cx="6985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3" descr="pistol&amp;holster.jpg"/>
          <p:cNvPicPr/>
          <p:nvPr/>
        </p:nvPicPr>
        <p:blipFill>
          <a:blip r:embed="rId1"/>
          <a:stretch/>
        </p:blipFill>
        <p:spPr>
          <a:xfrm>
            <a:off x="2786040" y="2000160"/>
            <a:ext cx="5118120" cy="3994200"/>
          </a:xfrm>
          <a:prstGeom prst="rect">
            <a:avLst/>
          </a:prstGeom>
          <a:ln w="0">
            <a:noFill/>
          </a:ln>
        </p:spPr>
      </p:pic>
      <p:pic>
        <p:nvPicPr>
          <p:cNvPr id="425" name="Obrázek 5" descr="GoldSmall.jpg"/>
          <p:cNvPicPr/>
          <p:nvPr/>
        </p:nvPicPr>
        <p:blipFill>
          <a:blip r:embed="rId2"/>
          <a:stretch/>
        </p:blipFill>
        <p:spPr>
          <a:xfrm>
            <a:off x="1000080" y="1785960"/>
            <a:ext cx="1265400" cy="4883040"/>
          </a:xfrm>
          <a:prstGeom prst="rect">
            <a:avLst/>
          </a:prstGeom>
          <a:ln w="0">
            <a:noFill/>
          </a:ln>
        </p:spPr>
      </p:pic>
      <p:sp>
        <p:nvSpPr>
          <p:cNvPr id="426" name="Obdélník 6"/>
          <p:cNvSpPr/>
          <p:nvPr/>
        </p:nvSpPr>
        <p:spPr>
          <a:xfrm>
            <a:off x="857160" y="357120"/>
            <a:ext cx="25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řílecí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23760" y="219240"/>
            <a:ext cx="3554640" cy="206028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3" descr="article1089355029755a50ax0.jpg"/>
          <p:cNvPicPr/>
          <p:nvPr/>
        </p:nvPicPr>
        <p:blipFill>
          <a:blip r:embed="rId2"/>
          <a:stretch/>
        </p:blipFill>
        <p:spPr>
          <a:xfrm>
            <a:off x="4357800" y="785880"/>
            <a:ext cx="4505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hem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elektr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7" descr="es006"/>
          <p:cNvPicPr/>
          <p:nvPr/>
        </p:nvPicPr>
        <p:blipFill>
          <a:blip r:embed="rId2"/>
          <a:stretch/>
        </p:blipFill>
        <p:spPr>
          <a:xfrm>
            <a:off x="5003640" y="2205000"/>
            <a:ext cx="3206880" cy="424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sj013"/>
          <p:cNvPicPr/>
          <p:nvPr/>
        </p:nvPicPr>
        <p:blipFill>
          <a:blip r:embed="rId3"/>
          <a:stretch/>
        </p:blipFill>
        <p:spPr>
          <a:xfrm>
            <a:off x="468360" y="2276640"/>
            <a:ext cx="3260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Pepřové  spreje ukryté v předmětech denního používán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14" descr="sprej_pero_s"/>
          <p:cNvPicPr/>
          <p:nvPr/>
        </p:nvPicPr>
        <p:blipFill>
          <a:blip r:embed="rId1"/>
          <a:stretch/>
        </p:blipFill>
        <p:spPr>
          <a:xfrm>
            <a:off x="4214880" y="2928960"/>
            <a:ext cx="464328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VYCHÁZKOVÁ HŮL</a:t>
            </a:r>
            <a:br>
              <a:rPr sz="3200"/>
            </a:b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DUTÁ SE SKRYTÝM OSTŘÍM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Zástupný symbol pro obsah 4" descr="cane-sword-rattan.jpg"/>
          <p:cNvPicPr/>
          <p:nvPr/>
        </p:nvPicPr>
        <p:blipFill>
          <a:blip r:embed="rId1"/>
          <a:stretch/>
        </p:blipFill>
        <p:spPr>
          <a:xfrm>
            <a:off x="2355840" y="1554120"/>
            <a:ext cx="458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9" name="Zástupný symbol pro obsah 3" descr="PK-1.JPG"/>
          <p:cNvPicPr/>
          <p:nvPr/>
        </p:nvPicPr>
        <p:blipFill>
          <a:blip r:embed="rId2"/>
          <a:stretch/>
        </p:blipFill>
        <p:spPr>
          <a:xfrm>
            <a:off x="3286080" y="1397160"/>
            <a:ext cx="438156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1" name="Zástupný symbol pro obsah 3" descr="82ac0de319_31971166_o2.jpg"/>
          <p:cNvPicPr/>
          <p:nvPr/>
        </p:nvPicPr>
        <p:blipFill>
          <a:blip r:embed="rId2"/>
          <a:stretch/>
        </p:blipFill>
        <p:spPr>
          <a:xfrm>
            <a:off x="3276720" y="2389320"/>
            <a:ext cx="2743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Děkuji za pozornost!!!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Kdy je možné určitou zbraň považovat za skrytou?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braň, která byla vyrobena a je primárně určena k použití jako zbraň, avšak vzhled zbraně nemaj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Jako neurčitý předmě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ředmět používaný ke zcela jinému účelu (baterka, tužka, vycházková hůl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ástrah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4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echanické (zbraně úderné, bodné, sečné, střelné, výbušné s tříštivým obalem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Chem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řekonání cíle chem. Látky (pepřové spreje, toxické plyny, jedy, žíravi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Elektr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ůsobení na cíl elektrickou energi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Akustické (infrazvuk, ultrazvuk a zvuk resp. hluk ve slyšitelném pásmu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lakové (jsou to obvykle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epelné (zápalné,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Ostatní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Zástupný symbol pro obsah 3" descr="small-Dart-gun.jpg"/>
          <p:cNvPicPr/>
          <p:nvPr/>
        </p:nvPicPr>
        <p:blipFill>
          <a:blip r:embed="rId2"/>
          <a:stretch/>
        </p:blipFill>
        <p:spPr>
          <a:xfrm>
            <a:off x="3500280" y="1928880"/>
            <a:ext cx="5429520" cy="4651200"/>
          </a:xfrm>
          <a:prstGeom prst="rect">
            <a:avLst/>
          </a:prstGeom>
          <a:ln w="0">
            <a:noFill/>
          </a:ln>
        </p:spPr>
      </p:pic>
      <p:sp>
        <p:nvSpPr>
          <p:cNvPr id="410" name="TextovéPole 4"/>
          <p:cNvSpPr/>
          <p:nvPr/>
        </p:nvSpPr>
        <p:spPr>
          <a:xfrm>
            <a:off x="500040" y="1785960"/>
            <a:ext cx="307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art 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šipková zbra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na britskou tajnou službou SOE během 2. sv.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rázová plynová zbraň k vystřelování šipek napuštěných je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Zástupný symbol pro obsah 3" descr="stinger3.jpg"/>
          <p:cNvPicPr/>
          <p:nvPr/>
        </p:nvPicPr>
        <p:blipFill>
          <a:blip r:embed="rId1"/>
          <a:stretch/>
        </p:blipFill>
        <p:spPr>
          <a:xfrm>
            <a:off x="3857760" y="1071720"/>
            <a:ext cx="5065560" cy="4389120"/>
          </a:xfrm>
          <a:prstGeom prst="rect">
            <a:avLst/>
          </a:prstGeom>
          <a:ln w="0">
            <a:noFill/>
          </a:ln>
        </p:spPr>
      </p:pic>
      <p:sp>
        <p:nvSpPr>
          <p:cNvPr id="412" name="TextovéPole 4"/>
          <p:cNvSpPr/>
          <p:nvPr/>
        </p:nvSpPr>
        <p:spPr>
          <a:xfrm>
            <a:off x="357120" y="1428840"/>
            <a:ext cx="31431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ala americká tajná služba 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y jí vybaveny partyzánské skupiny v Evrop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856800" y="500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hol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15" descr="Bali 007"/>
          <p:cNvPicPr/>
          <p:nvPr/>
        </p:nvPicPr>
        <p:blipFill>
          <a:blip r:embed="rId1"/>
          <a:stretch/>
        </p:blipFill>
        <p:spPr>
          <a:xfrm>
            <a:off x="6227640" y="2276640"/>
            <a:ext cx="2695680" cy="3600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Bali 006"/>
          <p:cNvPicPr/>
          <p:nvPr/>
        </p:nvPicPr>
        <p:blipFill>
          <a:blip r:embed="rId2"/>
          <a:stretch/>
        </p:blipFill>
        <p:spPr>
          <a:xfrm>
            <a:off x="857160" y="2214720"/>
            <a:ext cx="5133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Finger Gun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Dostřel až 10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Zástupný symbol pro obsah 4" descr="ringgun.jpg"/>
          <p:cNvPicPr/>
          <p:nvPr/>
        </p:nvPicPr>
        <p:blipFill>
          <a:blip r:embed="rId1"/>
          <a:stretch/>
        </p:blipFill>
        <p:spPr>
          <a:xfrm>
            <a:off x="4214880" y="1928880"/>
            <a:ext cx="4614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eštník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Používali agenti  KGB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e zde skrytá plynová zbraň obsahující kuličky jedu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Zástupný symbol pro obsah 4" descr="umbrella_shooting_sticks.jpg"/>
          <p:cNvPicPr/>
          <p:nvPr/>
        </p:nvPicPr>
        <p:blipFill>
          <a:blip r:embed="rId1"/>
          <a:stretch/>
        </p:blipFill>
        <p:spPr>
          <a:xfrm>
            <a:off x="4648320" y="1838160"/>
            <a:ext cx="4343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23:34Z</dcterms:created>
  <dc:creator>Lada</dc:creator>
  <dc:description/>
  <dc:language>en-US</dc:language>
  <cp:lastModifiedBy>Vašík</cp:lastModifiedBy>
  <dcterms:modified xsi:type="dcterms:W3CDTF">2010-04-15T20:52:53Z</dcterms:modified>
  <cp:revision>16</cp:revision>
  <dc:subject/>
  <dc:title>Předmět: Technické prostředky v sebeobraně </dc:title>
</cp:coreProperties>
</file>