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F085-ECB0-44F2-9D06-089EBEA1795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4F2-B0CF-4892-AE93-13B14811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FF2-AEDB-4C56-8D92-A1E095CC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6E3-D8A3-41D2-BADE-EBEFFD1D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203-61CC-4184-B923-5F2BAA12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E6B3-61EE-4412-BE62-9E42C719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E78-9B1C-43A4-A4B0-C487ED34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904-FBBC-4EA9-8279-13D7175F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DC2-73E6-464A-BCD8-051E0664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A1A-9284-41BC-A37E-D75728ED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985-4285-4071-8D18-B7507DA1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D98-E687-4768-A03C-C5B9FCB8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388-8CBB-43A3-BDAF-1A243A0D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4ACB-670A-41BC-A7B3-C523F9A1B6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ÁRNÍ PRÁCE</a:t>
            </a:r>
            <a:br>
              <a:rPr sz="4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předmětu</a:t>
            </a:r>
            <a:br>
              <a:rPr sz="2000"/>
            </a:br>
            <a:r>
              <a:rPr b="1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chnické prostředky v sebeobran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e a současnost automatických palných zbra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obci zbraní, nap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isto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eská zbrojov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ckler Ko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G Sauer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volv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mith a W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an W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ssi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minární práci vytvořili: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gr. Petr Droščák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c. Jaroslav Matoušek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EBS, II. semestr.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voj zbraní už od pravěku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zbraně: pěstní klí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dřevěný kyj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br>
              <a:rPr sz="20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tupem času vznik oštěpu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štěp: vzniká zašpičatěním kyje a jako hrot se používá špičatý kámen nebo ko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105520" y="1905120"/>
          <a:ext cx="2495520" cy="160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05120"/>
                    <a:ext cx="24955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40 000 lety vynález vrhače kratších oštěp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vynález lu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 je složen z lučiště a tětivy a vyroben ze dře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lí opět šíp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971800" y="4495680"/>
          <a:ext cx="3067200" cy="118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495680"/>
                    <a:ext cx="30672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8000 lety v Mezopotámii objeven bronz.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prve bronzové hroty kopí, šípy a dýky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ně i první meč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6000 lety objeveno zpracování železa a s tím n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nikají první brnění a kuše.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952880" y="4343400"/>
          <a:ext cx="229572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343400"/>
                    <a:ext cx="2295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 13. Století v Číně vynalezen střelný prach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 je tvořen 75% sanytru, 15% dřevěného uhlí a 10% sí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uhá polovina 14. stol. vznik prvního dě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děla té doby bylo tzv. bombar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polovina 15. stol. - vznik ručních střelných zbra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arkebuz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houfni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píšťaly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vznik prvních mušket.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16. stol. - vznik první pist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výhody: malý dostř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malé nabíj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562720" y="3048120"/>
          <a:ext cx="2552760" cy="105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048120"/>
                    <a:ext cx="25527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45 - ve Francii zaveden kovový náboj s okrajovým zápalem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66 - vznik náboje s oddělenou zápalkou vlisovanou do dna nábojnice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zavedení bezdýmového prachu, který umožnil vznik samonabíjecích zbraní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nešní zbraně dělíme na: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amonabíjecí pistol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revolver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brokovni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pušk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amopal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kulome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granátome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raketom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43000" y="2438280"/>
          <a:ext cx="2381400" cy="141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238140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219320" y="4419720"/>
          <a:ext cx="2190600" cy="1212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419720"/>
                    <a:ext cx="21906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ní části zbraně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ožná hla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ožná nábojová komora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álec revolv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zdro závěru nebo tělo a závě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91120" y="1143000"/>
          <a:ext cx="418140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143000"/>
                    <a:ext cx="418140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PM</cp:lastModifiedBy>
  <dcterms:modified xsi:type="dcterms:W3CDTF">2010-05-04T23:19:18Z</dcterms:modified>
  <cp:revision>1</cp:revision>
  <dc:subject/>
  <dc:title>PowerPoint Presentation</dc:title>
</cp:coreProperties>
</file>