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08D-F14F-40F0-AE36-A8F9CB2C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B34-2B2E-4313-97E8-7F6F0686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3E1-EB6F-49C5-9919-9CCD8340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762-B086-4B0F-AC56-7E6A2556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1F04-86D8-4E6B-BD9B-BC5C28BC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DEEEB-1769-4025-841E-061AD199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5138-6679-4CC7-850F-E77BF649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D47D-F942-4C4C-982B-232F19C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3AF9-9305-4E89-9626-8733DB3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14D94-2F27-4BA2-82BE-AF32B60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A3FE4-101C-4738-8E36-04F84E4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73F-ABB4-49D0-8736-C18FFBC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114C-CB99-4ABE-A88C-47F584D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A8118-418E-4889-A4B5-82D335F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0EF09-E80C-471C-813B-0D58E084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2A7A-79CD-4A53-807F-F7D0B058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1E12D-C4D3-4235-AC5A-FBDD0390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A76D-05E7-4D92-A670-55F0469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1C9F-CE95-4715-8563-6562CC3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46A8-CAB5-4D21-8230-394E78C0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575F-492F-45BA-B6A6-8521F622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5C5C-ECEE-41C9-8D0E-10265FA0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732-066F-4457-A65F-7C3E3AC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513B-1ECE-43BD-ACC0-E46890C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433F-C000-48C3-86EB-69824F4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2602-0C3A-4725-89F2-B623F44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D021-9BEF-4834-8052-7230FAD7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3583-25E8-4C85-B05C-A121FA4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D7B7-DC92-4959-B241-A8B09C8E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F6F5-81AE-483D-9E5A-878D0D6F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3BA13-9D12-4D1C-96A0-37E4C577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ABE60-4CCC-40AE-A5BE-8D55E76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D65C9-698B-4723-B2F7-D2910EF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5C3-00D1-4C4E-9F70-B07FAB1A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239F0-668A-4B36-A081-0A4383DA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32E76-5310-4C57-80CB-191D76F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207A8-BE77-40E3-BCFE-941634B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912DE-3225-4436-9A8D-3B8BF2A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9B6D4-E20B-4AC8-875B-07D14DD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403D4-F4DB-4624-AD67-BC065868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8A2B4-83FD-4759-ACF2-D40BFCD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68B03-7074-4283-BA1D-647CA2EB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1A133-10C5-4BF2-96B8-4BA88F3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D2C7A-97CA-489F-B729-8255A5B5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11D-C7E2-494E-BCC0-031F3A7E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0FCB1-28C7-4EDE-956B-E475285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68335-31BB-4BE8-ACB2-1C62DB54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DDFC5-E215-4D01-9B46-5F6C7E6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B1D07-2CF6-43F1-99D8-53348E2F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686CA-CC59-49F0-AD5C-A4F0CB9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F354A-EDC0-484E-BF8B-926213B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B2269-7DB2-4F25-9B2E-3DA82AC5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7FF23-C07F-4B70-86C0-6252CF32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A1D0E-B6B8-41EE-8EDF-28EDBBE6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E78A0-7527-42A6-BF9C-38829B1F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2B5-ED50-41CA-A7BD-95366D6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B323F-A3AD-42B1-9CD2-AF08E3B9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189CC-4717-4A67-8DB9-FD5C0BFE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4E61C-F380-40C6-938C-D75AC1DD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1ED4A-CF1B-45FB-93A9-1EF5796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A1C23-4DF7-484D-8503-A7B9D71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17316-AD3C-4384-90AC-9B5B506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4BAD8-8BD4-4754-9465-28A68D0E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801B9-90AB-473F-A3A2-3B8AE717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5D545-68C1-4C55-A78B-1D57FAA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6F4C1-672E-4BD7-B18B-E945166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8D0-B572-447F-8D7C-38608F5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03C1D-EA4F-4080-9C1E-04B5A282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41E70-E0E3-4E5D-BA0A-C397DEB0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3A56C-A8A7-4F8B-984A-00C7BE2C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C2E-DD44-46F1-A4FB-9F73916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99F-E18A-483F-B2B0-66BC25A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2DE8-0D23-4337-B2E0-BCF40709ABAD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0CF-F8E4-458A-9F9A-ED9C38902DCA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D37-4B03-48A6-A195-6CA89AF7AE9D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ABE-A3AA-4E81-814F-D48A1238CDCE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630F-C656-4BD7-990A-48959F8467C1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41B-4F5B-45A8-A147-EDC1BE9FAF75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400" y="4500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onstantia"/>
              </a:rPr>
              <a:t>Bc. Krajcigr Radek, Bc. Mařan Lib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Nadpis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Podnadpis 2"/>
          <p:cNvSpPr/>
          <p:nvPr/>
        </p:nvSpPr>
        <p:spPr>
          <a:xfrm>
            <a:off x="500040" y="29289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fefac9"/>
                </a:solidFill>
                <a:uFillTx/>
                <a:latin typeface="Constantia"/>
              </a:rPr>
              <a:t>Technické prostředky v sebeobraně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Obrázek 4" descr="277thumb.jpg"/>
          <p:cNvPicPr/>
          <p:nvPr/>
        </p:nvPicPr>
        <p:blipFill>
          <a:blip r:embed="rId2"/>
          <a:stretch/>
        </p:blipFill>
        <p:spPr>
          <a:xfrm>
            <a:off x="7000920" y="3857760"/>
            <a:ext cx="1555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historické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zbraně jednoranové a dvouranové zkonstruované na principech doutnákových, kolečkových, křesadlových nebo perkusních zámkových systémů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palné zbraně určené pro střelbu náboji typu flobert s energií střely na ústí hlavně do 7,5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plynové zbraně na vzduchovou kartuš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plynové zbraně, u nichž kinetická energie střely na ústí hlavně dosahuje nejvíce 16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expanzní zbraně a expanzní přístr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mechanické zbraně, u nichž je napínací síla větší než 150 N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znehodnocené zbraně, na kterých byly provedeny takové nevratné úpravy, které znemožňují jejich použití ke střelb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i) zbraně, na kterých byly řezem provedeny takové úpravy, které odkrývají alespoň částečně vnitřní konstrukci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j) neaktivní střelivo a munice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k) zbraně neuvedené v kategoriích A až C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00000"/>
                </a:solidFill>
                <a:uFillTx/>
                <a:latin typeface="Constantia"/>
              </a:rPr>
              <a:t>Nabývat do vlastnictví, s výjimkou dědění, a držet nebo nosit zbraň nebo střelivo může pouze ten, kdo je držitelem zbrojního průkazu nebo zbrojní licence, pokud tento zákon nestanoví jinak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Obrázek 4" descr="309tipthumb.jpg"/>
          <p:cNvPicPr/>
          <p:nvPr/>
        </p:nvPicPr>
        <p:blipFill>
          <a:blip r:embed="rId1"/>
          <a:stretch/>
        </p:blipFill>
        <p:spPr>
          <a:xfrm>
            <a:off x="5715000" y="3857760"/>
            <a:ext cx="23050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je zakázáno nabývat do vlastnictví, držet nebo nosit, pokud není dále stanoveno jinak. Zákaz podle věty první se nevztahuje na vývoz nebo dovoz uskutečňovaný podle zvláštního právního předpis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3" name="Obrázek 3" descr="ump45.jpg"/>
          <p:cNvPicPr/>
          <p:nvPr/>
        </p:nvPicPr>
        <p:blipFill>
          <a:blip r:embed="rId2"/>
          <a:stretch/>
        </p:blipFill>
        <p:spPr>
          <a:xfrm>
            <a:off x="2428920" y="35719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5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lze nabývat do vlastnictví a držet nebo nosit jen na základě povolení, pokud tento zákon nestanoví ji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Nadpis 2" descr=""/>
          <p:cNvPicPr/>
          <p:nvPr/>
        </p:nvPicPr>
        <p:blipFill>
          <a:blip r:embed="rId2"/>
          <a:stretch/>
        </p:blipFill>
        <p:spPr>
          <a:xfrm>
            <a:off x="122400" y="2352600"/>
            <a:ext cx="8472240" cy="1231920"/>
          </a:xfrm>
          <a:prstGeom prst="rect">
            <a:avLst/>
          </a:prstGeom>
          <a:ln w="0">
            <a:noFill/>
          </a:ln>
        </p:spPr>
      </p:pic>
      <p:sp>
        <p:nvSpPr>
          <p:cNvPr id="287" name="Obdélník 5"/>
          <p:cNvSpPr/>
          <p:nvPr/>
        </p:nvSpPr>
        <p:spPr>
          <a:xfrm>
            <a:off x="500040" y="37148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uze držitel zbrojního průkazu příslušné skupiny nebo zbrojní licence příslušné skupiny, který je povinen nabytí vlastnictví této zbraně ohlásit příslušnému útvaru policie. Tuto zbraň může držitel zbrojního průkazu nosit pouze v rozsahu oprávnění stanovených pro jednotlivé skupiny zbrojních průkazů až po její registra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nstantia"/>
              </a:rPr>
              <a:t>Zbrojní průkaz je veřejná listina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, která fyzickou osobu opravňuje k nabývání vlastnictví a držení zbraně nebo střeliva do těchto zbraní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A - ke sběratels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B - ke sportovní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C - k lovec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D - k výkonu zaměstnání nebo povolání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E - k ochraně života, zdraví nebo majetk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F – k provádění pyrotechnického průzkum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9" name="Nadpis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90" name="Obrázek 3" descr="SVD_Dragunov.jpg"/>
          <p:cNvPicPr/>
          <p:nvPr/>
        </p:nvPicPr>
        <p:blipFill>
          <a:blip r:embed="rId2"/>
          <a:stretch/>
        </p:blipFill>
        <p:spPr>
          <a:xfrm>
            <a:off x="6357960" y="264312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Zbrojní průkaz vydává příslušný útvar policie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 na základě žádost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Jde-li o žádost o vydání zbrojního průkazu skupiny C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je žadatel povinen také předložit platný lovecký líste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Příslušný útvar policie vydá zbrojní průkaz fyzické osobě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která splňuje určité podmínk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onstantia"/>
              </a:rPr>
              <a:t>Věková hranice pro vydání zbrojního průkaz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Zdravotní způsobilost pro vydání zbrojního průkaz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Odborná způsobilost žadatele o zbrojní průkaz skupiny A až 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928440"/>
            <a:ext cx="81154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Rozšíření skupin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Zánik platnosti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dnětí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právnění držitelů zbrojních průkazů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Povinnosti držitele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třelná zbraň   Palná zbraň   Plynová zbraň   Mechanick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Expanzní zbraň   Expanzní přístroj   Kulová zbraň   Brok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Kombinovaná zbraň   Krátká zbraň   Dlouhá zbraň   Samočinn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amonabíjecí zbraň   Opakovací zbraň   Jednoran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Víceranová zbraň   Vojenská zbraň   Sportov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Lovecká zbraň   Paintbalová zbraň   Signál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Historická zbraň   Hlavní části střelné zbraně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Znehodnocená zbraň   Řez zbraně   Odpalovací zařízení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95" name="Obrázek 3" descr="is.jpg"/>
          <p:cNvPicPr/>
          <p:nvPr/>
        </p:nvPicPr>
        <p:blipFill>
          <a:blip r:embed="rId2"/>
          <a:stretch/>
        </p:blipFill>
        <p:spPr>
          <a:xfrm>
            <a:off x="4143240" y="285840"/>
            <a:ext cx="16257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ostup při koupi střelních zbraní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ní normy upravující postup při koupi střelné zbraně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a a povinnosti držitele střelné zbraně“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Obrázek 3" descr="10005.jpg"/>
          <p:cNvPicPr/>
          <p:nvPr/>
        </p:nvPicPr>
        <p:blipFill>
          <a:blip r:embed="rId1"/>
          <a:stretch/>
        </p:blipFill>
        <p:spPr>
          <a:xfrm>
            <a:off x="1785960" y="3543480"/>
            <a:ext cx="542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upravuje zákon </a:t>
            </a:r>
            <a:r>
              <a:rPr b="0" lang="cs-CZ" sz="2600" spc="-1" strike="noStrike">
                <a:solidFill>
                  <a:srgbClr val="c00000"/>
                </a:solidFill>
                <a:latin typeface="Constantia"/>
              </a:rPr>
              <a:t>č. 119/2002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b. ve znění pozdějších změn a doplnění. Jedná se o Zákon o střelných zbraních a střeliv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Nařízení Vlády ČR 338/2002 Sb. O technických požadavcích pro zabezpečení přechovávaných zbraní nebo střeliv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právní řád - Zákon č. 500/2004 S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Nadpis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3" descr="043spim.jpg"/>
          <p:cNvPicPr/>
          <p:nvPr/>
        </p:nvPicPr>
        <p:blipFill>
          <a:blip r:embed="rId2"/>
          <a:stretch/>
        </p:blipFill>
        <p:spPr>
          <a:xfrm>
            <a:off x="6643800" y="4491000"/>
            <a:ext cx="15652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upravuje kategorie střelných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nabývání vlastnictví, držení, nošení a používání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áva a povinnosti držitelů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vývoz, dovoz nebo tranzit zbraní nebo systémů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sankce a výkon státní správy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ovozování střelnic a provozování a provádění pyrotechnického průzkum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Nadpis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pic>
        <p:nvPicPr>
          <p:cNvPr id="263" name="Obrázek 3" descr="is.jpg"/>
          <p:cNvPicPr/>
          <p:nvPr/>
        </p:nvPicPr>
        <p:blipFill>
          <a:blip r:embed="rId2"/>
          <a:stretch/>
        </p:blipFill>
        <p:spPr>
          <a:xfrm>
            <a:off x="6100920" y="5143680"/>
            <a:ext cx="152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a) zakázané zbraně, zakázané střelivo nebo zakázané doplňky zbraní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b) zbraně podléhající povolení - kategori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c) zbraně podléhající ohlášení - kategorie C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d) ostatní zbraně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e) střelivo do zbraní kategorií A až D, které není zakázan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Nadpis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041tipm.jpg"/>
          <p:cNvPicPr/>
          <p:nvPr/>
        </p:nvPicPr>
        <p:blipFill>
          <a:blip r:embed="rId2"/>
          <a:stretch/>
        </p:blipFill>
        <p:spPr>
          <a:xfrm>
            <a:off x="5802480" y="4643280"/>
            <a:ext cx="1396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ffffff"/>
                </a:solidFill>
                <a:uFillTx/>
                <a:latin typeface="Constantia"/>
              </a:rPr>
              <a:t>a) zbraně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1. vojenské, včetně odpalovacích zařízení, s výjimkou pušek, pistolí a revolverů, ověřených pro civilní použití, pokud podléhají ověřování podle zvláštního právního předpisu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2. samočinné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3. vyrobené nebo upravené tak, že lze utajit jejich účel, nebo u kterých byly původní charakter a podoba změněny tak, aby se jejich použitím mohly způsobit těžší následky, anebo zbraně maskované jako jiné předměty 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4. palné nevyrobené z kovů, pokud nejsou identifikovatelné jako zbraně při kontrolách osob a zavazadel pomocí detekčních a rentgenových přístrojů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5. plynové nebo expanzní, nejde-li o dovolené výrobní provedení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6. střelná nástrahová zařízení 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7. s pevně vestavěnými tlumiči hluku výstřelu nebo s pevně vestavěnými laserovými zaměřovači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Zástupný symbol pro obsah 5" descr="m3.jpg"/>
          <p:cNvPicPr/>
          <p:nvPr/>
        </p:nvPicPr>
        <p:blipFill>
          <a:blip r:embed="rId1"/>
          <a:stretch/>
        </p:blipFill>
        <p:spPr>
          <a:xfrm>
            <a:off x="4929120" y="4714920"/>
            <a:ext cx="2857680" cy="15159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Obdélník 3"/>
          <p:cNvSpPr/>
          <p:nvPr/>
        </p:nvSpPr>
        <p:spPr>
          <a:xfrm>
            <a:off x="714240" y="144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b) střeliv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se střelou průbojnou, výbušnou nebo zápalno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pro krátké kulové zbraně se střelou šokovou nebo střelou určenou ke zvýšení ranivého účink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které neodpovídá dovolenému výrobnímu provede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4. munic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c) doplňky zbraní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tlumiče hluku výstřel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zaměřovače zbraní konstruované na principu noktovizorů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laserové zaměřovače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krátké opakovací nebo samonabíjecí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krátké jednoranové nebo víceranové zbraně pro střelivo se středovým zápale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jednoranové nebo víceranové zbraně pro střelivo s okrajovým zápalem, jejichž celková délka je menší než 28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dlouhé samonabíjecí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dlouhé samonabíjecí zbraně, jejichž zásobník nebo nábojová schránka a nábojová komora nemohou dohromady pojmout více než 3 náboje a u nichž je podávací ústrojí odnímatelné, anebo u nichž není zaručeno, že nemohou být přeměněny běžně dostupnými nástroji na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dlouhé opakovací nebo samonabíjecí zbraně s hladkým vývrtem hlavně, jejichž délka hlavně je menší nebo je rovná 60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samonabíjecí zbraně, pokud mají vzhled samočinných zbra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signální zbraně pro použití signálních nábojů ráže větší než 16 mm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a) jednoranové nebo víceranové zbraně pro střelivo s okrajovým zápalem, jejichž celková délka se rovná nebo je větší než 280 mm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b) jednoranové nebo víceranové, opakovací nebo samonabíjecí dlouhé zbraně neuvedené v § 5 písm. d) až f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c) plynové zbraně, u nichž kinetická energie střely na ústí hlavně je vyšší než 16 J, s výjimkou paintbalových zbraní, 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d) více než dvouranové nebo opakovací zbraně zkonstruované na principu perkusních zámkových systém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9:35:08Z</dcterms:created>
  <dc:creator>Radek Krajcigr</dc:creator>
  <dc:description/>
  <dc:language>en-US</dc:language>
  <cp:lastModifiedBy>Radek Krajcigr</cp:lastModifiedBy>
  <dcterms:modified xsi:type="dcterms:W3CDTF">2010-05-10T20:28:13Z</dcterms:modified>
  <cp:revision>6</cp:revision>
  <dc:subject/>
  <dc:title>MASARYKOVA UNIVERZITA BRNO FAKULTA SPORTOVNÍCH STUDIÍ</dc:title>
</cp:coreProperties>
</file>