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B43B-5AC3-479C-B027-4F40011026F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279-493E-432A-83D0-89B81422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EF6-201F-47D1-A215-FD0A107D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DEA-2E29-40D9-A4EC-2F474950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D3ED-6DBB-4FFE-BEAE-8FB2ED46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3697-3D85-4792-84EA-54EDDD76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E53-4D3B-4F80-847D-67D187BE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D2E-0E93-43B1-8E16-3F4A6BAB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905-4FC6-46FB-AFC0-EC838E45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8FDB-B47E-48B5-BF92-2C08C936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8C3-D6BC-4770-B914-8A649042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0409-DCD0-4435-BFFF-3BF5E32E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9D9-900F-4F90-BC0F-A2AF7B6F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EEFB-04FE-493C-8914-EA9EDEB150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ÁRNÍ PRÁCE</a:t>
            </a:r>
            <a:br>
              <a:rPr sz="4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předmětu</a:t>
            </a:r>
            <a:br>
              <a:rPr sz="2000"/>
            </a:br>
            <a:r>
              <a:rPr b="1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chnické prostředky v sebeobraně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e a současnost automatických palných zbran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robci zbraní, nap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isto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eská zbrojov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ckler Ko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r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u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G Sauer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volv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mith a We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u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an We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ssi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minární práci vytvořili: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gr. Petr Droščák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c. Jaroslav Matoušek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EBS, II. semestr.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voj zbraní už od pravěku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ní zbraně: pěstní klí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dřevěný kyj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br>
              <a:rPr sz="20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stupem času vznik oštěpu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štěp: vzniká zašpičatěním kyje a jako hrot se používá špičatý kámen nebo kos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105520" y="1905120"/>
          <a:ext cx="2495520" cy="160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905120"/>
                    <a:ext cx="24955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40 000 lety vynález vrhače kratších oštěp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vynález lu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 je složen z lučiště a tětivy a vyroben ze dře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ílí opět šíp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971800" y="4495680"/>
          <a:ext cx="3067200" cy="118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495680"/>
                    <a:ext cx="30672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8000 lety v Mezopotámii objeven bronz.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prve bronzové hroty kopí, šípy a dýky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ně i první meč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6000 lety objeveno zpracování železa a s tím n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žno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nikají první brnění a kuše.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952880" y="4343400"/>
          <a:ext cx="229572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343400"/>
                    <a:ext cx="22957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 13. Století v Číně vynalezen střelný prach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 je tvořen 75% sanytru, 15% dřevěného uhlí a 10% sí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ruhá polovina 14. stol. vznik prvního dě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ětší děla té doby bylo tzv. bombar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ní polovina 15. stol. - vznik ručních střelných zbraní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arkebuz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houfni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píšťaly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vznik prvních mušket.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16. stol. - vznik první pist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výhody: malý dostř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malé nabíj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562720" y="3048120"/>
          <a:ext cx="2552760" cy="105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048120"/>
                    <a:ext cx="25527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45 - ve Francii zaveden kovový náboj s okrajovým zápalem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66 - vznik náboje s oddělenou zápalkou vlisovanou do dna nábojnice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zavedení bezdýmového prachu, který umožnil vznik samonabíjecích zbraní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nešní zbraně dělíme na: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samonabíjecí pistol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revolver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brokovni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pušk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samopal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kulomet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granátomet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raketom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43000" y="2438280"/>
          <a:ext cx="2381400" cy="141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38280"/>
                    <a:ext cx="238140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219320" y="4419720"/>
          <a:ext cx="2190600" cy="1212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419720"/>
                    <a:ext cx="21906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ní části zbraně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ožná hlav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ožná nábojová komora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álec revolv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zdro závěru nebo tělo a závě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191120" y="1143000"/>
          <a:ext cx="418140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143000"/>
                    <a:ext cx="418140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PM</cp:lastModifiedBy>
  <dcterms:modified xsi:type="dcterms:W3CDTF">2010-05-04T23:19:18Z</dcterms:modified>
  <cp:revision>1</cp:revision>
  <dc:subject/>
  <dc:title>PowerPoint Presentation</dc:title>
</cp:coreProperties>
</file>