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5560-6474-449D-8127-753EE0A7997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61CF-E054-4DB6-AA27-DED5E55FF27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ám seš poznám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FDC-FCE5-4FEE-86FC-2B3F7EA2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DE5-C3D9-45CE-97FB-B6B215F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957-CE4F-432E-8D5F-BFBF7C4B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B5B-BD63-480C-8CA2-6D14AC3E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3B2ED-715A-43F8-8741-552642F2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6643F-D54F-42BD-B483-36440023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FC0D7-B86D-4942-98AF-E3414647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20717-3DE9-44F0-8006-082A3EB6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FE032-F574-4FF3-BD86-95AAC9F8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F312C-F9CF-4D92-A40E-677482F0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AA332-0265-4F0D-A131-B4A8A505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07B-95BC-41A6-8647-4289F585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58D21-DAF7-4B57-B79C-18DE486A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1B006-7486-40EF-AA85-96A2362C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C3410-5E55-45CC-8C5B-B69F4026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4C813-8286-42B4-A94D-1509E8AA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F25E2-E2B4-48B6-835D-EF23C49A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6AD-0BE3-463F-8B5A-F65C6F00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ADE-1A1D-496C-8B5F-C37D914F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BA1-8DB6-4900-A207-619707F9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004-BD96-42F7-BA98-2210ABB2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4FA-C2A9-486E-93B3-D0313CD6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09E-5D2E-455E-A995-E37D15D9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A63-D9BA-4308-9D80-9CB4493D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4250-00DE-448D-891E-BD05A566D8E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F873-248F-4141-B841-D47F61C3093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87640" y="691920"/>
            <a:ext cx="374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Krátké chladné zbraně a jejich užití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3250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tanto"/>
          <p:cNvPicPr/>
          <p:nvPr/>
        </p:nvPicPr>
        <p:blipFill>
          <a:blip r:embed="rId1"/>
          <a:stretch/>
        </p:blipFill>
        <p:spPr>
          <a:xfrm>
            <a:off x="0" y="0"/>
            <a:ext cx="496728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Vycházková hůl</a:t>
            </a:r>
            <a:br>
              <a:rPr sz="40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dutá se skrytým ostří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6" descr="vycházkovka"/>
          <p:cNvPicPr/>
          <p:nvPr/>
        </p:nvPicPr>
        <p:blipFill>
          <a:blip r:embed="rId1"/>
          <a:stretch/>
        </p:blipFill>
        <p:spPr>
          <a:xfrm>
            <a:off x="3348000" y="249228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Házecí nůž</a:t>
            </a:r>
            <a:br>
              <a:rPr sz="40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s posuvným těžiště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Picture 6" descr="házecí"/>
          <p:cNvPicPr/>
          <p:nvPr/>
        </p:nvPicPr>
        <p:blipFill>
          <a:blip r:embed="rId1"/>
          <a:stretch/>
        </p:blipFill>
        <p:spPr>
          <a:xfrm>
            <a:off x="2700360" y="2421000"/>
            <a:ext cx="3610080" cy="3101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odák AK 47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historií prověřený multifunkční nástroj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Rectangle 2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672000" cy="376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3e3ff"/>
                </a:solidFill>
                <a:latin typeface="Arial"/>
              </a:rPr>
              <a:t>Cold </a:t>
            </a: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Steel</a:t>
            </a:r>
            <a:r>
              <a:rPr b="1" lang="cs-CZ" sz="3600" spc="-1" strike="noStrike">
                <a:solidFill>
                  <a:srgbClr val="e3e3ff"/>
                </a:solidFill>
                <a:latin typeface="Arial"/>
              </a:rPr>
              <a:t> War Head</a:t>
            </a:r>
            <a:br>
              <a:rPr sz="3600"/>
            </a:br>
            <a:r>
              <a:rPr b="1" lang="cs-CZ" sz="2000" spc="-1" strike="noStrike">
                <a:solidFill>
                  <a:srgbClr val="e3e3ff"/>
                </a:solidFill>
                <a:latin typeface="Arial"/>
              </a:rPr>
              <a:t>bojový nůž o celkové délce 36 cm. Vyroben z uhlíkové oceli 1055</a:t>
            </a:r>
            <a:br>
              <a:rPr sz="4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9" descr="80pwh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Armádní útočný nůž Mikov</a:t>
            </a:r>
            <a:br>
              <a:rPr sz="4000"/>
            </a:br>
            <a:r>
              <a:rPr b="1" lang="cs-CZ" sz="2000" spc="-1" strike="noStrike">
                <a:solidFill>
                  <a:srgbClr val="e3e3ff"/>
                </a:solidFill>
                <a:latin typeface="Arial"/>
              </a:rPr>
              <a:t>Používán některými útvary PČR a Armády ČR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5" descr="mikov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German Military Dagger </a:t>
            </a:r>
            <a:br>
              <a:rPr sz="44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replika nože hitlerjugen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6" descr="replik HJ zprzněná"/>
          <p:cNvPicPr/>
          <p:nvPr/>
        </p:nvPicPr>
        <p:blipFill>
          <a:blip r:embed="rId1"/>
          <a:stretch/>
        </p:blipFill>
        <p:spPr>
          <a:xfrm>
            <a:off x="2919240" y="2200320"/>
            <a:ext cx="330372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Wood Kukri</a:t>
            </a:r>
            <a:br>
              <a:rPr sz="4400"/>
            </a:br>
            <a:r>
              <a:rPr b="1" lang="cs-CZ" sz="2400" spc="-1" strike="noStrike">
                <a:solidFill>
                  <a:srgbClr val="e3e3ff"/>
                </a:solidFill>
                <a:latin typeface="Arial"/>
              </a:rPr>
              <a:t>replika nože obávaných Gurků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6" descr="khukri"/>
          <p:cNvPicPr/>
          <p:nvPr/>
        </p:nvPicPr>
        <p:blipFill>
          <a:blip r:embed="rId1"/>
          <a:stretch/>
        </p:blipFill>
        <p:spPr>
          <a:xfrm>
            <a:off x="1908000" y="1903320"/>
            <a:ext cx="4680000" cy="4516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3e3ff"/>
                </a:solidFill>
                <a:latin typeface="Arial"/>
              </a:rPr>
              <a:t>Chris Reeve Knives Mk IV</a:t>
            </a: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nůž z jednoho kusu A2 nástrojové oceli</a:t>
            </a: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Picture 6" descr="jedsen kus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Schrade X-Timer Extreme Camp Knife </a:t>
            </a:r>
            <a:br>
              <a:rPr sz="40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nůž pro přežití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přežití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Nůž pro extrémní podmínky</a:t>
            </a:r>
            <a:br>
              <a:rPr sz="44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elý z jednoho kusu, uvnitř rukojeti prostor s nástavci na šroubování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6" descr="SCHF2SM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Útočná dýka</a:t>
            </a:r>
            <a:br>
              <a:rPr sz="44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s trojúhelníkovou čepelí pro snadnější „</a:t>
            </a: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průchod“</a:t>
            </a: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 materiále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6" descr="trojuhel čepel"/>
          <p:cNvPicPr/>
          <p:nvPr/>
        </p:nvPicPr>
        <p:blipFill>
          <a:blip r:embed="rId1"/>
          <a:stretch/>
        </p:blipFill>
        <p:spPr>
          <a:xfrm>
            <a:off x="3203640" y="1773360"/>
            <a:ext cx="302400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9:31:40Z</dcterms:created>
  <dc:creator>Cu016200</dc:creator>
  <dc:description/>
  <dc:language>en-US</dc:language>
  <cp:lastModifiedBy>Cu016200</cp:lastModifiedBy>
  <dcterms:modified xsi:type="dcterms:W3CDTF">2010-03-23T12:32:53Z</dcterms:modified>
  <cp:revision>19</cp:revision>
  <dc:subject/>
  <dc:title>Krátké chladné zbraně</dc:title>
</cp:coreProperties>
</file>