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39B4-2B48-480B-A311-612C375F85A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CD4-4BB7-410C-9CD6-9CD30CAB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62E3-53AA-420A-9642-89F71B6C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5C1-6613-400C-A899-4A5A2CD3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58C7-8DA3-47FF-A4E1-D028EDF2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EB2-D5FA-4DAC-8AE1-30301FF6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FB0-F880-40C8-B875-9E167B61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D2B3-45D4-4249-971E-5C7BB91E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EFA-AB66-45C8-BE66-E5EBC29A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D1F-DECD-4E64-95B4-B9B96FEB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DA0-988A-4FF2-AC84-8C074A55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748-992D-4B91-9167-0348D67B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1E2-BF2D-429F-9C7B-F3B5E3F7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7646-A150-464B-AF82-5D81531C35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ÁRNÍ PRÁCE</a:t>
            </a:r>
            <a:br>
              <a:rPr sz="4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předmětu</a:t>
            </a:r>
            <a:br>
              <a:rPr sz="2000"/>
            </a:br>
            <a:r>
              <a:rPr b="1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chnické prostředky v sebeobraně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e a současnost automatických palných zbran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robci zbraní, nap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isto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eská zbrojov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ckler Ko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r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u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G Sauer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volv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mith a We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u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an We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ssi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minární práci vytvořili: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gr. Petr Droščák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c. Jaroslav Matoušek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EBS, II. semestr.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voj zbraní už od pravěku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ní zbraně: pěstní klí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dřevěný kyj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br>
              <a:rPr sz="20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stupem času vznik oštěpu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štěp: vzniká zašpičatěním kyje a jako hrot se používá špičatý kámen nebo kos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105520" y="1905120"/>
          <a:ext cx="2495520" cy="160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905120"/>
                    <a:ext cx="24955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40 000 lety vynález vrhače kratších oštěp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vynález lu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 je složen z lučiště a tětivy a vyroben ze dře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ílí opět šíp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971800" y="4495680"/>
          <a:ext cx="3067200" cy="118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495680"/>
                    <a:ext cx="30672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8000 lety v Mezopotámii objeven bronz.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prve bronzové hroty kopí, šípy a dýky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ně i první meč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6000 lety objeveno zpracování železa a s tím n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žno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nikají první brnění a kuše.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952880" y="4343400"/>
          <a:ext cx="229572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343400"/>
                    <a:ext cx="22957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 13. Století v Číně vynalezen střelný prach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 je tvořen 75% sanytru, 15% dřevěného uhlí a 10% sí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ruhá polovina 14. stol. vznik prvního dě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ětší děla té doby bylo tzv. bombar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ní polovina 15. stol. - vznik ručních střelných zbraní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arkebuz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houfni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píšťaly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vznik prvních mušket.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16. stol. - vznik první pist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výhody: malý dostř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malé nabíj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562720" y="3048120"/>
          <a:ext cx="2552760" cy="105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048120"/>
                    <a:ext cx="25527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45 - ve Francii zaveden kovový náboj s okrajovým zápalem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66 - vznik náboje s oddělenou zápalkou vlisovanou do dna nábojnice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zavedení bezdýmového prachu, který umožnil vznik samonabíjecích zbraní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nešní zbraně dělíme na: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samonabíjecí pistol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revolver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brokovni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pušk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samopal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kulomet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granátomet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raketom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43000" y="2438280"/>
          <a:ext cx="2381400" cy="141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38280"/>
                    <a:ext cx="238140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219320" y="4419720"/>
          <a:ext cx="2190600" cy="1212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419720"/>
                    <a:ext cx="21906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ní části zbraně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ožná hlav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ožná nábojová komora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álec revolv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zdro závěru nebo tělo a závě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191120" y="1143000"/>
          <a:ext cx="418140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143000"/>
                    <a:ext cx="418140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PM</cp:lastModifiedBy>
  <dcterms:modified xsi:type="dcterms:W3CDTF">2010-05-04T23:19:18Z</dcterms:modified>
  <cp:revision>1</cp:revision>
  <dc:subject/>
  <dc:title>PowerPoint Presentation</dc:title>
</cp:coreProperties>
</file>