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9C7-6062-4D08-81F1-510FB266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8C6-D97E-458B-86FB-33044811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BE7-7889-4C61-B2CF-20461BAE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8AD-B9FC-4E4C-89E9-1EFD2839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67D0C-D212-4440-9AEF-25961A97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8EE2C-704B-4FFE-861F-D27DE639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04F27-2F33-465E-AA25-10EE1929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7247C-B3C6-458F-8432-89000B66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48EC7-B0D7-45DD-A20D-F7455A82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FE1BD-42D6-4488-8E68-1AEA2D77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8555F-E421-4936-B206-CB65DD9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8AB-78E8-4639-A41B-06B93450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BC649-B920-4C0F-A493-330C6FE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A42BD-90DD-43F9-86E8-F7202B3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07226-0D43-4FF9-816E-2D9234EF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8F25C-6BBA-41E4-AE19-6B94A855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700EF-994A-42FE-B5A8-07633473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522F-D191-4E3A-9A43-62FA6695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C019-F70B-4A80-96EB-F46F64B9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A023-98E2-417F-9C91-A69E9FE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0D39-A914-4C8D-B898-8FDF1DCC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7E1F-A993-460A-BCB1-53D7CF33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125-5218-4D9A-AF48-D9ABD28E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3B0C-653A-4B6B-9CD1-4F3EE685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2E25-8146-4D8D-9582-F0264213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45AC-1484-4741-AEAD-38686E83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748E-6454-4BB7-A4F1-FAA8B11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5F60-8172-4199-9939-BDE60501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F87E-7EF9-4DE8-9D32-5C461CF7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195D-96F0-424D-A25F-191D2328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2031C-1E43-4890-A527-DF9AC93A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63703-7FFD-47BF-8E87-6A17B39B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0A99A-868A-46DE-935E-BC8D3616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242-E84C-4445-9D59-D465326A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0142A-F894-4529-916C-7ABFDF3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88476-C9E7-4A48-940A-9B10C51A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9475C-8C4C-4BB3-812D-DD0D57F4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EA2CB-83DD-4CEF-ADF5-4929BC55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60D03D-F1FC-48D3-B0FB-3CAFAB7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AD03A-26CC-4503-A0A5-67EBB10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837D6-D7B9-4829-B388-626AAED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6F40A-0415-4828-92E3-20880F79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43C242-595D-46DF-B389-DE3C9EBE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F7A31-AC2E-4883-8A63-325E633C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B20-483F-415D-9C1F-AD28585A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3E709-250B-46EC-9F57-6693921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EE076-BA64-45E0-9C08-864E98AC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3E6EF-6018-4265-8AC4-6405DFB4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14BA4-8E32-480E-A40B-9BB27938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16585-9662-4A5D-A4CC-09EA3D78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8723F-13C6-49FF-A647-2F2C9F1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C7883-FC2E-4334-B134-63C26D18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8D5D6-6423-4ABA-9FBD-8EC8D96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614E5-1A80-42B4-9B28-7CD282F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5F63D-93F0-43F3-8F4B-B88DE388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FE2-4182-403E-A1F5-EBCBF437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36346-542B-4DBA-8547-74E308C9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713F5-3811-4EEF-B60C-B7546F82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2D380F-04F1-4E74-A032-343778E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5171E-5E6D-4150-A877-0698AD72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FF65F-3EA3-43F3-8EDE-D9BA4A8B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1D615-9A3B-408F-90B6-AD885C42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CFF11-D8E5-4722-B0D1-1CD7E0B9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A445F-12BB-4C91-AC3F-C97BE8E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36CC0-1C17-4200-B8CD-605024AA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DA0E1-642D-42D0-94C4-DDD7AA0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7C1-CDDC-4AC2-A0C3-1C0E9CB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3F1AE-D354-47B0-A3D5-981A68E3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1A0B9-C505-4799-AAC5-6D0B8F61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59B11-2619-4A60-ADE4-0EB6DF97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165-3698-4864-8B39-008D90E7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F90-CD6D-4EDD-B4DC-43B9CF86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4D82-6409-4BA5-945B-190DAA2223DA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římá spojovací čára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Elipsa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7C45-EDCE-4EDF-AA25-375647E14CEB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římá spojovací čára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06BB-11AD-4FB4-99B4-274B6C8E4E69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římá spojovací čára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římá spojovací čára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A9D4-447D-49D6-AA04-20340FF91DD9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8A9E-28B9-477D-8F33-662ED98FA2C3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5DAF-F4A4-4565-8698-A91EBCA93256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8400" y="4500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onstantia"/>
              </a:rPr>
              <a:t>Bc. Krajcigr Radek, Bc. Mařan Libo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Nadpis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4" name="Podnadpis 2"/>
          <p:cNvSpPr/>
          <p:nvPr/>
        </p:nvSpPr>
        <p:spPr>
          <a:xfrm>
            <a:off x="500040" y="29289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fefac9"/>
                </a:solidFill>
                <a:uFillTx/>
                <a:latin typeface="Constantia"/>
              </a:rPr>
              <a:t>Technické prostředky v sebeobraně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Obrázek 4" descr="277thumb.jpg"/>
          <p:cNvPicPr/>
          <p:nvPr/>
        </p:nvPicPr>
        <p:blipFill>
          <a:blip r:embed="rId2"/>
          <a:stretch/>
        </p:blipFill>
        <p:spPr>
          <a:xfrm>
            <a:off x="7000920" y="3857760"/>
            <a:ext cx="15555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a) historické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b) zbraně jednoranové a dvouranové zkonstruované na principech doutnákových, kolečkových, křesadlových nebo perkusních zámkových systémů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c) palné zbraně určené pro střelbu náboji typu flobert s energií střely na ústí hlavně do 7,5 J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d) plynové zbraně na vzduchovou kartuš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e) plynové zbraně, u nichž kinetická energie střely na ústí hlavně dosahuje nejvíce 16 J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f) expanzní zbraně a expanzní přístr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g) mechanické zbraně, u nichž je napínací síla větší než 150 N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h) znehodnocené zbraně, na kterých byly provedeny takové nevratné úpravy, které znemožňují jejich použití ke střelb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i) zbraně, na kterých byly řezem provedeny takové úpravy, které odkrývají alespoň částečně vnitřní konstrukci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j) neaktivní střelivo a munice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k) zbraně neuvedené v kategoriích A až C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00000"/>
                </a:solidFill>
                <a:uFillTx/>
                <a:latin typeface="Constantia"/>
              </a:rPr>
              <a:t>Nabývat do vlastnictví, s výjimkou dědění, a držet nebo nosit zbraň nebo střelivo může pouze ten, kdo je držitelem zbrojního průkazu nebo zbrojní licence, pokud tento zákon nestanoví jinak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0" name="Obrázek 4" descr="309tipthumb.jpg"/>
          <p:cNvPicPr/>
          <p:nvPr/>
        </p:nvPicPr>
        <p:blipFill>
          <a:blip r:embed="rId1"/>
          <a:stretch/>
        </p:blipFill>
        <p:spPr>
          <a:xfrm>
            <a:off x="5715000" y="3857760"/>
            <a:ext cx="230508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je zakázáno nabývat do vlastnictví, držet nebo nosit, pokud není dále stanoveno jinak. Zákaz podle věty první se nevztahuje na vývoz nebo dovoz uskutečňovaný podle zvláštního právního předpis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Nadpis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3" name="Obrázek 3" descr="ump45.jpg"/>
          <p:cNvPicPr/>
          <p:nvPr/>
        </p:nvPicPr>
        <p:blipFill>
          <a:blip r:embed="rId2"/>
          <a:stretch/>
        </p:blipFill>
        <p:spPr>
          <a:xfrm>
            <a:off x="2428920" y="35719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520"/>
            <a:ext cx="82296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lze nabývat do vlastnictví a držet nebo nosit jen na základě povolení, pokud tento zákon nestanoví ji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Nadpis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6" name="Nadpis 2" descr=""/>
          <p:cNvPicPr/>
          <p:nvPr/>
        </p:nvPicPr>
        <p:blipFill>
          <a:blip r:embed="rId2"/>
          <a:stretch/>
        </p:blipFill>
        <p:spPr>
          <a:xfrm>
            <a:off x="122400" y="2352600"/>
            <a:ext cx="8472240" cy="1231920"/>
          </a:xfrm>
          <a:prstGeom prst="rect">
            <a:avLst/>
          </a:prstGeom>
          <a:ln w="0">
            <a:noFill/>
          </a:ln>
        </p:spPr>
      </p:pic>
      <p:sp>
        <p:nvSpPr>
          <p:cNvPr id="287" name="Obdélník 5"/>
          <p:cNvSpPr/>
          <p:nvPr/>
        </p:nvSpPr>
        <p:spPr>
          <a:xfrm>
            <a:off x="500040" y="3714840"/>
            <a:ext cx="785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uze držitel zbrojního průkazu příslušné skupiny nebo zbrojní licence příslušné skupiny, který je povinen nabytí vlastnictví této zbraně ohlásit příslušnému útvaru policie. Tuto zbraň může držitel zbrojního průkazu nosit pouze v rozsahu oprávnění stanovených pro jednotlivé skupiny zbrojních průkazů až po její registrac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nstantia"/>
              </a:rPr>
              <a:t>Zbrojní průkaz je veřejná listina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, která fyzickou osobu opravňuje k nabývání vlastnictví a držení zbraně nebo střeliva do těchto zbraní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A - ke sběratelský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B - ke sportovní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C - k lovecký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D - k výkonu zaměstnání nebo povolání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E - k ochraně života, zdraví nebo majetku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F – k provádění pyrotechnického průzkumu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89" name="Nadpis 2" descr=""/>
          <p:cNvPicPr/>
          <p:nvPr/>
        </p:nvPicPr>
        <p:blipFill>
          <a:blip r:embed="rId1"/>
          <a:stretch/>
        </p:blipFill>
        <p:spPr>
          <a:xfrm>
            <a:off x="237960" y="-49320"/>
            <a:ext cx="8455320" cy="1427400"/>
          </a:xfrm>
          <a:prstGeom prst="rect">
            <a:avLst/>
          </a:prstGeom>
          <a:ln w="0">
            <a:noFill/>
          </a:ln>
        </p:spPr>
      </p:pic>
      <p:pic>
        <p:nvPicPr>
          <p:cNvPr id="290" name="Obrázek 3" descr="SVD_Dragunov.jpg"/>
          <p:cNvPicPr/>
          <p:nvPr/>
        </p:nvPicPr>
        <p:blipFill>
          <a:blip r:embed="rId2"/>
          <a:stretch/>
        </p:blipFill>
        <p:spPr>
          <a:xfrm>
            <a:off x="6357960" y="264312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Zbrojní průkaz vydává příslušný útvar policie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 na základě žádosti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Jde-li o žádost o vydání zbrojního průkazu skupiny C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, je žadatel povinen také předložit platný lovecký líste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Příslušný útvar policie vydá zbrojní průkaz fyzické osobě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, která splňuje určité podmínk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onstantia"/>
              </a:rPr>
              <a:t>Věková hranice pro vydání zbrojního průkaz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70c0"/>
                </a:solidFill>
                <a:latin typeface="Constantia"/>
              </a:rPr>
              <a:t>Zdravotní způsobilost pro vydání zbrojního průkaz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70c0"/>
                </a:solidFill>
                <a:latin typeface="Constantia"/>
              </a:rPr>
              <a:t>Odborná způsobilost žadatele o zbrojní průkaz skupiny A až 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6840" y="928440"/>
            <a:ext cx="81154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Rozšíření skupin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Zánik platnosti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Odnětí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Oprávnění držitelů zbrojních průkazů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Povinnosti držitele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Střelná zbraň   Palná zbraň   Plynová zbraň   Mechanick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Expanzní zbraň   Expanzní přístroj   Kulová zbraň   Brokov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Kombinovaná zbraň   Krátká zbraň   Dlouhá zbraň   Samočinn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Samonabíjecí zbraň   Opakovací zbraň   Jednoranov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Víceranová zbraň   Vojenská zbraň   Sportovní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Lovecká zbraň   Paintbalová zbraň   Signální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Historická zbraň   Hlavní části střelné zbraně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Znehodnocená zbraň   Řez zbraně   Odpalovací zařízení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95" name="Obrázek 3" descr="is.jpg"/>
          <p:cNvPicPr/>
          <p:nvPr/>
        </p:nvPicPr>
        <p:blipFill>
          <a:blip r:embed="rId2"/>
          <a:stretch/>
        </p:blipFill>
        <p:spPr>
          <a:xfrm>
            <a:off x="4143240" y="285840"/>
            <a:ext cx="162576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„</a:t>
            </a: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ostup při koupi střelních zbraní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rávní normy upravující postup při koupi střelné zbraně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ráva a povinnosti držitele střelné zbraně“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Obrázek 3" descr="10005.jpg"/>
          <p:cNvPicPr/>
          <p:nvPr/>
        </p:nvPicPr>
        <p:blipFill>
          <a:blip r:embed="rId1"/>
          <a:stretch/>
        </p:blipFill>
        <p:spPr>
          <a:xfrm>
            <a:off x="1785960" y="3543480"/>
            <a:ext cx="5429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upravuje zákon </a:t>
            </a:r>
            <a:r>
              <a:rPr b="0" lang="cs-CZ" sz="2600" spc="-1" strike="noStrike">
                <a:solidFill>
                  <a:srgbClr val="c00000"/>
                </a:solidFill>
                <a:latin typeface="Constantia"/>
              </a:rPr>
              <a:t>č. 119/2002 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b. ve znění pozdějších změn a doplnění. Jedná se o Zákon o střelných zbraních a střeliv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Nařízení Vlády ČR 338/2002 Sb. O technických požadavcích pro zabezpečení přechovávaných zbraní nebo střeliva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právní řád - Zákon č. 500/2004 Sb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Nadpis 2" descr=""/>
          <p:cNvPicPr/>
          <p:nvPr/>
        </p:nvPicPr>
        <p:blipFill>
          <a:blip r:embed="rId1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  <p:pic>
        <p:nvPicPr>
          <p:cNvPr id="260" name="Obrázek 3" descr="043spim.jpg"/>
          <p:cNvPicPr/>
          <p:nvPr/>
        </p:nvPicPr>
        <p:blipFill>
          <a:blip r:embed="rId2"/>
          <a:stretch/>
        </p:blipFill>
        <p:spPr>
          <a:xfrm>
            <a:off x="6643800" y="4491000"/>
            <a:ext cx="15652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upravuje kategorie střelných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dmínky pro nabývání vlastnictví, držení, nošení a používání zbraní nebo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ráva a povinnosti držitelů zbraní nebo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dmínky pro vývoz, dovoz nebo tranzit zbraní nebo systémů v oblasti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sankce a výkon státní správy v oblasti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rovozování střelnic a provozování a provádění pyrotechnického průzkumu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Nadpis 2" descr=""/>
          <p:cNvPicPr/>
          <p:nvPr/>
        </p:nvPicPr>
        <p:blipFill>
          <a:blip r:embed="rId1"/>
          <a:stretch/>
        </p:blipFill>
        <p:spPr>
          <a:xfrm>
            <a:off x="328680" y="-55440"/>
            <a:ext cx="8364600" cy="1433520"/>
          </a:xfrm>
          <a:prstGeom prst="rect">
            <a:avLst/>
          </a:prstGeom>
          <a:ln w="0">
            <a:noFill/>
          </a:ln>
        </p:spPr>
      </p:pic>
      <p:pic>
        <p:nvPicPr>
          <p:cNvPr id="263" name="Obrázek 3" descr="is.jpg"/>
          <p:cNvPicPr/>
          <p:nvPr/>
        </p:nvPicPr>
        <p:blipFill>
          <a:blip r:embed="rId2"/>
          <a:stretch/>
        </p:blipFill>
        <p:spPr>
          <a:xfrm>
            <a:off x="6100920" y="5143680"/>
            <a:ext cx="152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a) zakázané zbraně, zakázané střelivo nebo zakázané doplňky zbraní - kategori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b) zbraně podléhající povolení - kategori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c) zbraně podléhající ohlášení - kategorie C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d) ostatní zbraně - kategori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e) střelivo do zbraní kategorií A až D, které není zakázan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Nadpis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041tipm.jpg"/>
          <p:cNvPicPr/>
          <p:nvPr/>
        </p:nvPicPr>
        <p:blipFill>
          <a:blip r:embed="rId2"/>
          <a:stretch/>
        </p:blipFill>
        <p:spPr>
          <a:xfrm>
            <a:off x="5802480" y="4643280"/>
            <a:ext cx="1396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ffffff"/>
                </a:solidFill>
                <a:uFillTx/>
                <a:latin typeface="Constantia"/>
              </a:rPr>
              <a:t>a) zbraně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1. vojenské, včetně odpalovacích zařízení, s výjimkou pušek, pistolí a revolverů, ověřených pro civilní použití, pokud podléhají ověřování podle zvláštního právního předpisu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2. samočinné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3. vyrobené nebo upravené tak, že lze utajit jejich účel, nebo u kterých byly původní charakter a podoba změněny tak, aby se jejich použitím mohly způsobit těžší následky, anebo zbraně maskované jako jiné předměty 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4. palné nevyrobené z kovů, pokud nejsou identifikovatelné jako zbraně při kontrolách osob a zavazadel pomocí detekčních a rentgenových přístrojů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5. plynové nebo expanzní, nejde-li o dovolené výrobní provedení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6. střelná nástrahová zařízení a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7. s pevně vestavěnými tlumiči hluku výstřelu nebo s pevně vestavěnými laserovými zaměřovači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Zástupný symbol pro obsah 5" descr="m3.jpg"/>
          <p:cNvPicPr/>
          <p:nvPr/>
        </p:nvPicPr>
        <p:blipFill>
          <a:blip r:embed="rId1"/>
          <a:stretch/>
        </p:blipFill>
        <p:spPr>
          <a:xfrm>
            <a:off x="4929120" y="4714920"/>
            <a:ext cx="2857680" cy="15159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244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Obdélník 3"/>
          <p:cNvSpPr/>
          <p:nvPr/>
        </p:nvSpPr>
        <p:spPr>
          <a:xfrm>
            <a:off x="714240" y="14446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Constantia"/>
              </a:rPr>
              <a:t>b) střeliv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1. se střelou průbojnou, výbušnou nebo zápalno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2. pro krátké kulové zbraně se střelou šokovou nebo střelou určenou ke zvýšení ranivého účink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3. které neodpovídá dovolenému výrobnímu provedení,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4. munic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Constantia"/>
              </a:rPr>
              <a:t>c) doplňky zbraní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1. tlumiče hluku výstřel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2. zaměřovače zbraní konstruované na principu noktovizorů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3. laserové zaměřovače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a) krátké opakovací nebo samonabíjecí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b) krátké jednoranové nebo víceranové zbraně pro střelivo se středovým zápale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c) jednoranové nebo víceranové zbraně pro střelivo s okrajovým zápalem, jejichž celková délka je menší než 280 m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d) dlouhé samonabíjecí zbraně, jejichž zásobník nebo nábojová schránka a nábojová komora mohou dohromady pojmout více než 3 náb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e) dlouhé samonabíjecí zbraně, jejichž zásobník nebo nábojová schránka a nábojová komora nemohou dohromady pojmout více než 3 náboje a u nichž je podávací ústrojí odnímatelné, anebo u nichž není zaručeno, že nemohou být přeměněny běžně dostupnými nástroji na zbraně, jejichž zásobník nebo nábojová schránka a nábojová komora mohou dohromady pojmout více než 3 náb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f) dlouhé opakovací nebo samonabíjecí zbraně s hladkým vývrtem hlavně, jejichž délka hlavně je menší nebo je rovná 600 m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g) samonabíjecí zbraně, pokud mají vzhled samočinných zbraní,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h) signální zbraně pro použití signálních nábojů ráže větší než 16 mm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a) jednoranové nebo víceranové zbraně pro střelivo s okrajovým zápalem, jejichž celková délka se rovná nebo je větší než 280 mm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b) jednoranové nebo víceranové, opakovací nebo samonabíjecí dlouhé zbraně neuvedené v § 5 písm. d) až f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c) plynové zbraně, u nichž kinetická energie střely na ústí hlavně je vyšší než 16 J, s výjimkou paintbalových zbraní, 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d) více než dvouranové nebo opakovací zbraně zkonstruované na principu perkusních zámkových systémů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9:35:08Z</dcterms:created>
  <dc:creator>Radek Krajcigr</dc:creator>
  <dc:description/>
  <dc:language>en-US</dc:language>
  <cp:lastModifiedBy>Radek Krajcigr</cp:lastModifiedBy>
  <dcterms:modified xsi:type="dcterms:W3CDTF">2010-05-10T20:28:13Z</dcterms:modified>
  <cp:revision>6</cp:revision>
  <dc:subject/>
  <dc:title>MASARYKOVA UNIVERZITA BRNO FAKULTA SPORTOVNÍCH STUDIÍ</dc:title>
</cp:coreProperties>
</file>