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2756-AEA9-47BF-8BCB-339E0D1E99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68A4-32A0-48BE-9ECB-0FB62C19AC3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ám seš poznám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36A-72E1-4598-BD99-9A73D7A2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7B2-11A6-48BE-97DA-EA5D6ECB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A2F-4331-4B52-B866-49AB3BA6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27D-2FA2-4AEE-A92E-6FF4C6FF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69973-774C-47B3-A40F-BF7B7EAA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5C42E-919E-45F6-98D2-E29E66B4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542DA-04C9-44D7-9B79-795198E4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A09E2-C312-4255-9AD8-0045233C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981DA-393E-4CAC-AA55-02B814F3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509B2-DF90-4F2D-9328-0C965881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568DD-C47E-4C66-A4BC-F53878B8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72D-3D0F-4CC2-8AEA-38C1046B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96C5A-4DDB-4E89-8765-8374D2E7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9318F-D83C-4CA6-8A45-3E181E2D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E6F57-CCB4-45D5-8BD0-B4DBBE65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C6DC0-1FF0-4FE1-80A5-90C84509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EC530-7488-4A7F-927A-19AFAD59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D60-7AED-4ED5-84F8-A00D0E29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0F4-2AFF-4C5E-BF0A-F430A541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531-C8D6-4812-900B-79B62E20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9FC-1EEC-48EC-8D8F-17C6F300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128-CA1E-4791-8767-FF4C514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958-EB82-4980-8B00-6C2D12D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922-E648-4698-8C4D-3D71788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F7FA-4917-452A-A190-E82BA6D467A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9576-1C37-49A1-B3B7-799D4362957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87640" y="691920"/>
            <a:ext cx="374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Krátké chladné zbraně a jejich užití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3250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tanto"/>
          <p:cNvPicPr/>
          <p:nvPr/>
        </p:nvPicPr>
        <p:blipFill>
          <a:blip r:embed="rId1"/>
          <a:stretch/>
        </p:blipFill>
        <p:spPr>
          <a:xfrm>
            <a:off x="0" y="0"/>
            <a:ext cx="496728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Vycházková hůl</a:t>
            </a:r>
            <a:br>
              <a:rPr sz="40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dutá se skrytým ostří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6" descr="vycházkovka"/>
          <p:cNvPicPr/>
          <p:nvPr/>
        </p:nvPicPr>
        <p:blipFill>
          <a:blip r:embed="rId1"/>
          <a:stretch/>
        </p:blipFill>
        <p:spPr>
          <a:xfrm>
            <a:off x="3348000" y="249228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Házecí nůž</a:t>
            </a:r>
            <a:br>
              <a:rPr sz="40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s posuvným těžiště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Picture 6" descr="házecí"/>
          <p:cNvPicPr/>
          <p:nvPr/>
        </p:nvPicPr>
        <p:blipFill>
          <a:blip r:embed="rId1"/>
          <a:stretch/>
        </p:blipFill>
        <p:spPr>
          <a:xfrm>
            <a:off x="2700360" y="2421000"/>
            <a:ext cx="3610080" cy="3101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odák AK 47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historií prověřený multifunkční nástroj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Rectangle 23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672000" cy="3764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3e3ff"/>
                </a:solidFill>
                <a:latin typeface="Arial"/>
              </a:rPr>
              <a:t>Cold </a:t>
            </a:r>
            <a:r>
              <a:rPr b="1" lang="cs-CZ" sz="4000" spc="-1" strike="noStrike">
                <a:solidFill>
                  <a:srgbClr val="e3e3ff"/>
                </a:solidFill>
                <a:latin typeface="Arial"/>
              </a:rPr>
              <a:t>Steel</a:t>
            </a:r>
            <a:r>
              <a:rPr b="1" lang="cs-CZ" sz="3600" spc="-1" strike="noStrike">
                <a:solidFill>
                  <a:srgbClr val="e3e3ff"/>
                </a:solidFill>
                <a:latin typeface="Arial"/>
              </a:rPr>
              <a:t> War Head</a:t>
            </a:r>
            <a:br>
              <a:rPr sz="3600"/>
            </a:br>
            <a:r>
              <a:rPr b="1" lang="cs-CZ" sz="2000" spc="-1" strike="noStrike">
                <a:solidFill>
                  <a:srgbClr val="e3e3ff"/>
                </a:solidFill>
                <a:latin typeface="Arial"/>
              </a:rPr>
              <a:t>bojový nůž o celkové délce 36 cm. Vyroben z uhlíkové oceli 1055</a:t>
            </a:r>
            <a:br>
              <a:rPr sz="4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9" descr="80pwh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3e3ff"/>
                </a:solidFill>
                <a:latin typeface="Arial"/>
              </a:rPr>
              <a:t>Armádní útočný nůž Mikov</a:t>
            </a:r>
            <a:br>
              <a:rPr sz="4000"/>
            </a:br>
            <a:r>
              <a:rPr b="1" lang="cs-CZ" sz="2000" spc="-1" strike="noStrike">
                <a:solidFill>
                  <a:srgbClr val="e3e3ff"/>
                </a:solidFill>
                <a:latin typeface="Arial"/>
              </a:rPr>
              <a:t>Používán některými útvary PČR a Armády ČR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Picture 5" descr="mikov"/>
          <p:cNvPicPr/>
          <p:nvPr/>
        </p:nvPicPr>
        <p:blipFill>
          <a:blip r:embed="rId1"/>
          <a:stretch/>
        </p:blipFill>
        <p:spPr>
          <a:xfrm>
            <a:off x="232416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German Military Dagger </a:t>
            </a:r>
            <a:br>
              <a:rPr sz="44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replika nože hitlerjugend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6" descr="replik HJ zprzněná"/>
          <p:cNvPicPr/>
          <p:nvPr/>
        </p:nvPicPr>
        <p:blipFill>
          <a:blip r:embed="rId1"/>
          <a:stretch/>
        </p:blipFill>
        <p:spPr>
          <a:xfrm>
            <a:off x="2919240" y="2200320"/>
            <a:ext cx="330372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3e3ff"/>
                </a:solidFill>
                <a:latin typeface="Arial"/>
              </a:rPr>
              <a:t>Wood Kukri</a:t>
            </a:r>
            <a:br>
              <a:rPr sz="4400"/>
            </a:br>
            <a:r>
              <a:rPr b="1" lang="cs-CZ" sz="2400" spc="-1" strike="noStrike">
                <a:solidFill>
                  <a:srgbClr val="e3e3ff"/>
                </a:solidFill>
                <a:latin typeface="Arial"/>
              </a:rPr>
              <a:t>replika nože obávaných Gurků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6" descr="khukri"/>
          <p:cNvPicPr/>
          <p:nvPr/>
        </p:nvPicPr>
        <p:blipFill>
          <a:blip r:embed="rId1"/>
          <a:stretch/>
        </p:blipFill>
        <p:spPr>
          <a:xfrm>
            <a:off x="1908000" y="1903320"/>
            <a:ext cx="4680000" cy="4516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3e3ff"/>
                </a:solidFill>
                <a:latin typeface="Arial"/>
              </a:rPr>
              <a:t>Chris Reeve Knives Mk IV</a:t>
            </a: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nůž z jednoho kusu A2 nástrojové oceli</a:t>
            </a: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Picture 6" descr="jedsen kus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Schrade X-Timer Extreme Camp Knife </a:t>
            </a:r>
            <a:br>
              <a:rPr sz="40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nůž pro přežití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přežití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Nůž pro extrémní podmínky</a:t>
            </a:r>
            <a:br>
              <a:rPr sz="44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elý z jednoho kusu, uvnitř rukojeti prostor s nástavci na šroubování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6" descr="SCHF2SM"/>
          <p:cNvPicPr/>
          <p:nvPr/>
        </p:nvPicPr>
        <p:blipFill>
          <a:blip r:embed="rId1"/>
          <a:stretch/>
        </p:blipFill>
        <p:spPr>
          <a:xfrm>
            <a:off x="232416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Útočná dýka</a:t>
            </a:r>
            <a:br>
              <a:rPr sz="44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s trojúhelníkovou čepelí pro snadnější „</a:t>
            </a: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průchod“</a:t>
            </a: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 materiále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Picture 6" descr="trojuhel čepel"/>
          <p:cNvPicPr/>
          <p:nvPr/>
        </p:nvPicPr>
        <p:blipFill>
          <a:blip r:embed="rId1"/>
          <a:stretch/>
        </p:blipFill>
        <p:spPr>
          <a:xfrm>
            <a:off x="3203640" y="1773360"/>
            <a:ext cx="302400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9:31:40Z</dcterms:created>
  <dc:creator>Cu016200</dc:creator>
  <dc:description/>
  <dc:language>en-US</dc:language>
  <cp:lastModifiedBy>Cu016200</cp:lastModifiedBy>
  <dcterms:modified xsi:type="dcterms:W3CDTF">2010-03-23T12:32:53Z</dcterms:modified>
  <cp:revision>19</cp:revision>
  <dc:subject/>
  <dc:title>Krátké chladné zbraně</dc:title>
</cp:coreProperties>
</file>