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8EC-B9F1-4D2B-84E4-587D0BEA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471-A9BB-40C1-B5DC-984041BA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9DACF-CCF3-456E-87DD-6E8BE67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9687-0F25-483A-A9B8-2C30AF5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C0419-A60A-4EE2-BB30-6EA4C56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A573C-607C-41DB-8EB7-427EC87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E4E7D-5C21-4800-86EB-C98D46E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7A83-682B-4CC4-9D5E-2FF3B71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E8652-C0F3-414D-846F-3B87E061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745FE-4011-4E28-B10C-4D84EADB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BE09-0C29-4342-BBB6-7FB3022F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EDE-AFB9-4F2C-97D6-0F64342D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D1E-86F3-43A0-9C77-B34383D4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907-08CE-4532-A075-4297E518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99CE-BA89-4F74-B1CF-B1BD9B3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69B-FB6B-4A52-B638-6C7D368C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00C5-1186-491C-AAA5-E4E2A510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F71C-AEC1-459B-A6BB-8FDEADF9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0F3-7822-465D-B37D-73B091E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B9A-D087-494C-B2A6-1F1B916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41B-6A7F-4617-92B1-A7B6E2D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9238-F379-4A63-BCF5-5C4C2398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ABE-D446-4766-82CE-2A8CE0FD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2E52-520E-4DAA-8159-1B5FE03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700-1505-40E5-9CE1-F0A5594A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A12D-3F7B-4047-9C67-EF9BC094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2531-2D47-4054-9379-1DE1285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999B-8422-4D70-92D4-FC00C48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6B0B-45A8-48E2-B9BB-DBFC3AD1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F5A0-A3A2-42B4-BD33-73B705E9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60EC-BFE8-4987-AD39-A374CAD4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895-2820-4A37-8F84-B73D66D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0CC4-FBB3-4B83-B715-87259F0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52F5-589D-4098-B42E-6E4C5DC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E396-E70E-4F65-B51F-9A727BA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5466-A225-4547-AA8E-1FD05C7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9D7D-6540-4A09-8C3C-E23A3F8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C77F-FC02-4FF1-976D-7BEDF858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E5E6-DC50-4ECD-B4C6-39A0283B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23E0-49FC-4550-AA30-3939A2BD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F08F-5E21-4EB6-B039-5CFA1EE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AF02-FD4B-4ACA-991B-92554BB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799-2E6A-4E26-8AF0-32FE1928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DAAB-236E-4A0A-973E-4D05A1E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18BA-D0BF-40A5-91ED-516507E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5D10-27D4-4C76-BC24-5ADD96E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F200-594F-406F-82BF-9BCC43C4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C090-A995-490E-A641-123331A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E23D-1531-4FF2-A1D1-7A382DD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DD8E-0102-464B-834C-AFE7319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FBC74-3658-451B-A297-2E8D5AB0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3078-232C-4914-B446-95C89BFE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9112-D13A-44E0-B53C-96C08A66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F74-9B16-4191-941C-3A511D5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6E90-1A78-4E8D-97C0-6FD28244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5341-D33A-4A69-83D0-6459800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291F-A879-44C5-8D92-4AFA644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370B4-2C8D-499D-940E-B3A48497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13E7-C56C-46D4-B7CC-3920ACA7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DC75-AEFE-4AA6-989B-70231C4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AC5C-127B-427E-A0F8-D630CDD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3AC6-B9F6-4832-B2D5-0F553CA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39BF-E855-4426-9AD1-2EB56F1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A7CA-464B-4A5E-A5AE-C3CB4E7D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63F-9698-4954-9457-98A37DC1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E0CF-AE6E-4D91-9452-A091D11A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9447-E7AC-46A3-9D6E-AF8BEDB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F118-9F77-4D83-BE90-B2BBA59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CD52-3C4C-426C-8DCA-BFEF01FA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333F-D2A0-43EB-A8D3-1F3B230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828A-DA4B-4554-8804-D8845FF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A22B-4503-4249-8E52-8537B7D7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BAD75-1C69-4BBC-9F57-C49D0B9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B041-7226-4C34-9D4D-B2AC257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423D1-07BA-4B40-8043-2A97E98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5A6-D6B0-405C-80C6-81701BC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CDFD-092E-4B82-A4B0-3CA6628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123C8-4D3C-4472-90DC-DC39B03F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4FCA-724F-44C8-A68D-951D1F0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FE07-18F5-4F0D-B7C9-BA198332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05C9-432E-416C-94D5-FEB6580B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A362-3A72-4338-9BF6-C6129FC8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E66B-0639-43C9-A7F1-D03B411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A2850-6119-4165-AF03-6417D826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40CC6-3F65-47B2-B808-2EBB4E0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DE23B-BB67-4AC9-8287-71C33B3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5A6-7A3B-433A-B31A-A8F311B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AA68-D554-44DB-B2E0-2EEA536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2024E-EF45-4272-A313-FD853F9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CFB4-3EDF-4CE9-86CF-D314766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FDE5-D10B-4C24-B228-5F3F30B3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E8ED9-5596-4F73-BD9A-EE4326EE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54D80-16C8-48FE-A7EB-2C212DBD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047A-59C6-4700-A0D1-5C4E4522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C093-7E8A-45D0-A3F0-2B783C9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54432-613A-4B16-BB79-4340E3F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B9E0-105F-4942-9246-B925BB23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571-2036-4D4B-9433-7249495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73B2D-E770-41CE-BC7C-A0B9638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3707-7BD5-4CCF-9514-1EAF973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945FB-CBA4-4294-B4D4-C0A8ACA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4BD8-E655-407B-8C81-54D30EE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25A1-9EDA-48B2-9770-8C012B6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5A4E5-EFE8-418C-92F1-C139F044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63AE-0B78-41D8-A95B-35A8E4FF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E7A4-94C1-47BB-B886-DCF5F29A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094B-F766-4B59-AF4C-E4554AB2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4617-13A4-49CC-9272-8EA73DF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2374-9A36-4AC3-89F0-2F3ECD65D49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B18-B45E-45DF-880E-D92621200F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2295-4E8A-4251-A2F6-52FD3A74F0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F82-3D13-4DA4-B4E3-DE62D3B0A4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657-9725-41D1-A402-A0B8E1A643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719-11F1-4BCA-ABEB-413A6ADE810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D54-BAA5-416E-8A51-C34C131EA38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129-0E04-466F-9968-D085B7428F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4B1-D830-4F67-B105-F008E2BAFF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706320" y="1238400"/>
            <a:ext cx="778536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Téma:</a:t>
            </a:r>
            <a:r>
              <a:rPr b="0" lang="cs-CZ" sz="2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skryté obranné technické prostředky v sebeobraně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ovéPole 3"/>
          <p:cNvSpPr/>
          <p:nvPr/>
        </p:nvSpPr>
        <p:spPr>
          <a:xfrm>
            <a:off x="285840" y="5000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áclav Ú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etr Švand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ýmka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ní li nabytá, dá se z ní i kouřit :-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Zástupný symbol pro obsah 4" descr="SimplePipePistol.gif"/>
          <p:cNvPicPr/>
          <p:nvPr/>
        </p:nvPicPr>
        <p:blipFill>
          <a:blip r:embed="rId1"/>
          <a:stretch/>
        </p:blipFill>
        <p:spPr>
          <a:xfrm>
            <a:off x="2357280" y="2786040"/>
            <a:ext cx="6492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Palná zbraň v jídelním příboru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Zástupný symbol pro obsah 4" descr="gun-knife-fork-spoon.jpg"/>
          <p:cNvPicPr/>
          <p:nvPr/>
        </p:nvPicPr>
        <p:blipFill>
          <a:blip r:embed="rId1"/>
          <a:stretch/>
        </p:blipFill>
        <p:spPr>
          <a:xfrm>
            <a:off x="1214280" y="2214720"/>
            <a:ext cx="6985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3" descr="pistol&amp;holster.jpg"/>
          <p:cNvPicPr/>
          <p:nvPr/>
        </p:nvPicPr>
        <p:blipFill>
          <a:blip r:embed="rId1"/>
          <a:stretch/>
        </p:blipFill>
        <p:spPr>
          <a:xfrm>
            <a:off x="2786040" y="2000160"/>
            <a:ext cx="5118120" cy="399420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5" descr="GoldSmall.jpg"/>
          <p:cNvPicPr/>
          <p:nvPr/>
        </p:nvPicPr>
        <p:blipFill>
          <a:blip r:embed="rId2"/>
          <a:stretch/>
        </p:blipFill>
        <p:spPr>
          <a:xfrm>
            <a:off x="1000080" y="1785960"/>
            <a:ext cx="1265400" cy="4883040"/>
          </a:xfrm>
          <a:prstGeom prst="rect">
            <a:avLst/>
          </a:prstGeom>
          <a:ln w="0">
            <a:noFill/>
          </a:ln>
        </p:spPr>
      </p:pic>
      <p:sp>
        <p:nvSpPr>
          <p:cNvPr id="426" name="Obdélník 6"/>
          <p:cNvSpPr/>
          <p:nvPr/>
        </p:nvSpPr>
        <p:spPr>
          <a:xfrm>
            <a:off x="857160" y="357120"/>
            <a:ext cx="25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řílecí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23760" y="219240"/>
            <a:ext cx="3554640" cy="206028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3" descr="article1089355029755a50ax0.jpg"/>
          <p:cNvPicPr/>
          <p:nvPr/>
        </p:nvPicPr>
        <p:blipFill>
          <a:blip r:embed="rId2"/>
          <a:stretch/>
        </p:blipFill>
        <p:spPr>
          <a:xfrm>
            <a:off x="4357800" y="785880"/>
            <a:ext cx="4505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hem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elektr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7" descr="es006"/>
          <p:cNvPicPr/>
          <p:nvPr/>
        </p:nvPicPr>
        <p:blipFill>
          <a:blip r:embed="rId2"/>
          <a:stretch/>
        </p:blipFill>
        <p:spPr>
          <a:xfrm>
            <a:off x="5003640" y="2205000"/>
            <a:ext cx="3206880" cy="424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sj013"/>
          <p:cNvPicPr/>
          <p:nvPr/>
        </p:nvPicPr>
        <p:blipFill>
          <a:blip r:embed="rId3"/>
          <a:stretch/>
        </p:blipFill>
        <p:spPr>
          <a:xfrm>
            <a:off x="468360" y="2276640"/>
            <a:ext cx="3260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Pepřové  spreje ukryté v předmětech denního používán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14" descr="sprej_pero_s"/>
          <p:cNvPicPr/>
          <p:nvPr/>
        </p:nvPicPr>
        <p:blipFill>
          <a:blip r:embed="rId1"/>
          <a:stretch/>
        </p:blipFill>
        <p:spPr>
          <a:xfrm>
            <a:off x="4214880" y="2928960"/>
            <a:ext cx="464328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VYCHÁZKOVÁ HŮL</a:t>
            </a:r>
            <a:br>
              <a:rPr sz="3200"/>
            </a:b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DUTÁ SE SKRYTÝM OSTŘÍM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Zástupný symbol pro obsah 4" descr="cane-sword-rattan.jpg"/>
          <p:cNvPicPr/>
          <p:nvPr/>
        </p:nvPicPr>
        <p:blipFill>
          <a:blip r:embed="rId1"/>
          <a:stretch/>
        </p:blipFill>
        <p:spPr>
          <a:xfrm>
            <a:off x="2355840" y="1554120"/>
            <a:ext cx="458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Zástupný symbol pro obsah 3" descr="PK-1.JPG"/>
          <p:cNvPicPr/>
          <p:nvPr/>
        </p:nvPicPr>
        <p:blipFill>
          <a:blip r:embed="rId2"/>
          <a:stretch/>
        </p:blipFill>
        <p:spPr>
          <a:xfrm>
            <a:off x="3286080" y="1397160"/>
            <a:ext cx="438156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Zástupný symbol pro obsah 3" descr="82ac0de319_31971166_o2.jpg"/>
          <p:cNvPicPr/>
          <p:nvPr/>
        </p:nvPicPr>
        <p:blipFill>
          <a:blip r:embed="rId2"/>
          <a:stretch/>
        </p:blipFill>
        <p:spPr>
          <a:xfrm>
            <a:off x="3276720" y="2389320"/>
            <a:ext cx="274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Děkuji za pozornost!!!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Kdy je možné určitou zbraň považovat za skrytou?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braň, která byla vyrobena a je primárně určena k použití jako zbraň, avšak vzhled zbraně nemaj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o neurčitý předmě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ředmět používaný ke zcela jinému účelu (baterka, tužka, vycházková hůl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ástrah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echanické (zbraně úderné, bodné, sečné, střelné, výbušné s tříštivým obalem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hem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řekonání cíle chem. Látky (pepřové spreje, toxické plyny, jedy, žíravi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Elektr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ůsobení na cíl elektrickou energi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Akustické (infrazvuk, ultrazvuk a zvuk resp. hluk ve slyšitelném pásmu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lakové (jsou to obvykle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epelné (zápalné,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Ostatní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Zástupný symbol pro obsah 3" descr="small-Dart-gun.jpg"/>
          <p:cNvPicPr/>
          <p:nvPr/>
        </p:nvPicPr>
        <p:blipFill>
          <a:blip r:embed="rId2"/>
          <a:stretch/>
        </p:blipFill>
        <p:spPr>
          <a:xfrm>
            <a:off x="3500280" y="1928880"/>
            <a:ext cx="5429520" cy="4651200"/>
          </a:xfrm>
          <a:prstGeom prst="rect">
            <a:avLst/>
          </a:prstGeom>
          <a:ln w="0">
            <a:noFill/>
          </a:ln>
        </p:spPr>
      </p:pic>
      <p:sp>
        <p:nvSpPr>
          <p:cNvPr id="410" name="TextovéPole 4"/>
          <p:cNvSpPr/>
          <p:nvPr/>
        </p:nvSpPr>
        <p:spPr>
          <a:xfrm>
            <a:off x="500040" y="1785960"/>
            <a:ext cx="307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art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šipková zbra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na britskou tajnou službou SOE během 2. sv.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rázová plynová zbraň k vystřelování šipek napuštěných j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Zástupný symbol pro obsah 3" descr="stinger3.jpg"/>
          <p:cNvPicPr/>
          <p:nvPr/>
        </p:nvPicPr>
        <p:blipFill>
          <a:blip r:embed="rId1"/>
          <a:stretch/>
        </p:blipFill>
        <p:spPr>
          <a:xfrm>
            <a:off x="3857760" y="1071720"/>
            <a:ext cx="5065560" cy="4389120"/>
          </a:xfrm>
          <a:prstGeom prst="rect">
            <a:avLst/>
          </a:prstGeom>
          <a:ln w="0">
            <a:noFill/>
          </a:ln>
        </p:spPr>
      </p:pic>
      <p:sp>
        <p:nvSpPr>
          <p:cNvPr id="412" name="TextovéPole 4"/>
          <p:cNvSpPr/>
          <p:nvPr/>
        </p:nvSpPr>
        <p:spPr>
          <a:xfrm>
            <a:off x="357120" y="1428840"/>
            <a:ext cx="3143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ala americká tajná služba 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y jí vybaveny partyzánské skupiny v Evrop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56800" y="500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hol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5" descr="Bali 007"/>
          <p:cNvPicPr/>
          <p:nvPr/>
        </p:nvPicPr>
        <p:blipFill>
          <a:blip r:embed="rId1"/>
          <a:stretch/>
        </p:blipFill>
        <p:spPr>
          <a:xfrm>
            <a:off x="6227640" y="2276640"/>
            <a:ext cx="2695680" cy="3600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Bali 006"/>
          <p:cNvPicPr/>
          <p:nvPr/>
        </p:nvPicPr>
        <p:blipFill>
          <a:blip r:embed="rId2"/>
          <a:stretch/>
        </p:blipFill>
        <p:spPr>
          <a:xfrm>
            <a:off x="857160" y="2214720"/>
            <a:ext cx="5133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Finger Gun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Dostřel až 10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Zástupný symbol pro obsah 4" descr="ringgun.jpg"/>
          <p:cNvPicPr/>
          <p:nvPr/>
        </p:nvPicPr>
        <p:blipFill>
          <a:blip r:embed="rId1"/>
          <a:stretch/>
        </p:blipFill>
        <p:spPr>
          <a:xfrm>
            <a:off x="4214880" y="1928880"/>
            <a:ext cx="46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eštník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užívali agenti  KG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e zde skrytá plynová zbraň obsahující kuličky jedu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Zástupný symbol pro obsah 4" descr="umbrella_shooting_sticks.jpg"/>
          <p:cNvPicPr/>
          <p:nvPr/>
        </p:nvPicPr>
        <p:blipFill>
          <a:blip r:embed="rId1"/>
          <a:stretch/>
        </p:blipFill>
        <p:spPr>
          <a:xfrm>
            <a:off x="4648320" y="1838160"/>
            <a:ext cx="4343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23:34Z</dcterms:created>
  <dc:creator>Lada</dc:creator>
  <dc:description/>
  <dc:language>en-US</dc:language>
  <cp:lastModifiedBy>Vašík</cp:lastModifiedBy>
  <dcterms:modified xsi:type="dcterms:W3CDTF">2010-04-15T20:52:53Z</dcterms:modified>
  <cp:revision>16</cp:revision>
  <dc:subject/>
  <dc:title>Předmět: Technické prostředky v sebeobraně </dc:title>
</cp:coreProperties>
</file>