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AC9B0-5F36-4CC1-A28F-3F0BC2B7F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96DCE-E58E-45D2-A4ED-3D9B72108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1555E-B584-43A6-B035-5B7F99AE8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5EABA-505E-478B-AC0D-6A5CF4C40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12FC4-8512-494C-9CD1-DB49E6447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E5D12-DE0A-49C7-88CE-2136413FA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DDCAB-1292-46EB-842A-397AE1392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92236-2C65-4DF6-A75D-637D3BAAC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1DF59-5763-42EC-88CE-042232C31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CF009-734D-40E2-A64A-A3F3FF2E3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44BD8-F80A-428B-B426-E3EBF4A8B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797FB-DAE3-48D6-B2C2-89A9F7673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CFBD3-6CEE-48EA-A4A5-39F44EFFB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A09A4-60E7-4B8B-A7C9-C2AE3024B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3EC52-1CF9-489D-8302-EE46D6127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95DDA-D923-409E-9E07-7EC2B2EE9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01A9C-C39C-4763-A73D-D7DBDA118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33F0C-DAAB-444E-8F6F-723EB43EA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B465-9686-45EE-8EC9-51C734F3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FCB2E-8437-48CA-94F3-087BE18F4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537D0-3AC5-41C4-B481-D7E5F03C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D24C-FEC0-4F33-B230-E3E592795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80135-B7AA-446E-946B-489571B3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5049-65EF-42CB-98FD-344590B1B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E5D3-E2F8-4DBB-AB0A-FB0025BA2DE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CC8D-044E-4AB8-9709-FD67959362C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obranazeny.cz/obranazeny.cz/page.php?link=nop_paralyzer" TargetMode="External"/><Relationship Id="rId2" Type="http://schemas.openxmlformats.org/officeDocument/2006/relationships/hyperlink" Target="http://www.obranazeny.cz/obranazeny.cz/page.php?link=nop_paralyzer" TargetMode="External"/><Relationship Id="rId3" Type="http://schemas.openxmlformats.org/officeDocument/2006/relationships/hyperlink" Target="http://www.obranazeny.cz/obranazeny.cz/page.php?link=nop_paralyzer" TargetMode="External"/><Relationship Id="rId4" Type="http://schemas.openxmlformats.org/officeDocument/2006/relationships/hyperlink" Target="http://www.obranazeny.cz/obranazeny.cz/page.php?link=nop_paralyzer" TargetMode="External"/><Relationship Id="rId5" Type="http://schemas.openxmlformats.org/officeDocument/2006/relationships/hyperlink" Target="http://www.obranazeny.cz/obranazeny.cz/page.php?link=nop_paralyzer" TargetMode="External"/><Relationship Id="rId6" Type="http://schemas.openxmlformats.org/officeDocument/2006/relationships/hyperlink" Target="http://www.obranazeny.cz/obranazeny.cz/page.php?link=nop_paralyzer" TargetMode="External"/><Relationship Id="rId7" Type="http://schemas.openxmlformats.org/officeDocument/2006/relationships/hyperlink" Target="http://www.obranazeny.cz/obranazeny.cz/page.php?link=nop_paralyzer" TargetMode="External"/><Relationship Id="rId8" Type="http://schemas.openxmlformats.org/officeDocument/2006/relationships/hyperlink" Target="http://www.obranazeny.cz/obranazeny.cz/page.php?link=nop_paralyzer" TargetMode="External"/><Relationship Id="rId9" Type="http://schemas.openxmlformats.org/officeDocument/2006/relationships/hyperlink" Target="http://www.obranazeny.cz/obranazeny.cz/page.php?link=nop_paralyzer" TargetMode="External"/><Relationship Id="rId10" Type="http://schemas.openxmlformats.org/officeDocument/2006/relationships/hyperlink" Target="http://www.obranazeny.cz/obranazeny.cz/page.php?link=nop_paralyzer" TargetMode="External"/><Relationship Id="rId11" Type="http://schemas.openxmlformats.org/officeDocument/2006/relationships/hyperlink" Target="http://www.obranazeny.cz/obranazeny.cz/page.php?link=nop_paralyzer" TargetMode="External"/><Relationship Id="rId12" Type="http://schemas.openxmlformats.org/officeDocument/2006/relationships/hyperlink" Target="http://www.obranazeny.cz/obranazeny.cz/page.php?link=nop_paralyzer" TargetMode="External"/><Relationship Id="rId13" Type="http://schemas.openxmlformats.org/officeDocument/2006/relationships/hyperlink" Target="http://www.obranazeny.cz/obranazeny.cz/page.php?link=nop_paralyzer" TargetMode="External"/><Relationship Id="rId14" Type="http://schemas.openxmlformats.org/officeDocument/2006/relationships/hyperlink" Target="http://www.obranazeny.cz/obranazeny.cz/page.php?link=nop_paralyzer" TargetMode="External"/><Relationship Id="rId15" Type="http://schemas.openxmlformats.org/officeDocument/2006/relationships/hyperlink" Target="http://www.obranazeny.cz/obranazeny.cz/page.php?link=nop_paralyzer" TargetMode="External"/><Relationship Id="rId16" Type="http://schemas.openxmlformats.org/officeDocument/2006/relationships/hyperlink" Target="http://www.obranazeny.cz/obranazeny.cz/page.php?link=nop_paralyzer" TargetMode="External"/><Relationship Id="rId17" Type="http://schemas.openxmlformats.org/officeDocument/2006/relationships/hyperlink" Target="http://danyk.wz.cz/paral.html" TargetMode="External"/><Relationship Id="rId18" Type="http://schemas.openxmlformats.org/officeDocument/2006/relationships/hyperlink" Target="http://encyklopedie.seznam.cz/heslo/245217-elektricke-zbrane" TargetMode="External"/><Relationship Id="rId19" Type="http://schemas.openxmlformats.org/officeDocument/2006/relationships/hyperlink" Target="http://www.wikipedia.cz/taser" TargetMode="External"/><Relationship Id="rId2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549000"/>
            <a:ext cx="77724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Comic Sans MS"/>
              </a:rPr>
              <a:t>Osobní elektrické zbraně</a:t>
            </a:r>
            <a:endParaRPr b="1" lang="en-US" sz="5000" spc="-1" strike="noStrike">
              <a:solidFill>
                <a:srgbClr val="eaeaea"/>
              </a:solidFill>
              <a:latin typeface="Tahoma"/>
            </a:endParaRPr>
          </a:p>
        </p:txBody>
      </p:sp>
      <p:sp>
        <p:nvSpPr>
          <p:cNvPr id="110" name="PlaceHolder 2"/>
          <p:cNvSpPr>
            <a:spLocks noGrp="1"/>
          </p:cNvSpPr>
          <p:nvPr>
            <p:ph type="subTitle"/>
          </p:nvPr>
        </p:nvSpPr>
        <p:spPr>
          <a:xfrm>
            <a:off x="0" y="5734080"/>
            <a:ext cx="5867280" cy="1123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pracovali: Bc. Lubos Vrabel</a:t>
            </a:r>
            <a:endParaRPr b="0" lang="en-US" sz="3200" spc="-1" strike="noStrike">
              <a:solidFill>
                <a:srgbClr val="ffffff"/>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c. Jana Juranova</a:t>
            </a:r>
            <a:endParaRPr b="0" lang="en-US" sz="3200" spc="-1" strike="noStrike">
              <a:solidFill>
                <a:srgbClr val="ffffff"/>
              </a:solidFill>
              <a:latin typeface="Tahoma"/>
            </a:endParaRPr>
          </a:p>
        </p:txBody>
      </p:sp>
      <p:pic>
        <p:nvPicPr>
          <p:cNvPr id="111" name="" descr=""/>
          <p:cNvPicPr/>
          <p:nvPr/>
        </p:nvPicPr>
        <p:blipFill>
          <a:blip r:embed="rId1"/>
          <a:stretch/>
        </p:blipFill>
        <p:spPr>
          <a:xfrm>
            <a:off x="5334120" y="1700280"/>
            <a:ext cx="3809880" cy="39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Paralyzéry</a:t>
            </a:r>
            <a:endParaRPr b="1" lang="en-US" sz="4400" spc="-1" strike="noStrike">
              <a:solidFill>
                <a:srgbClr val="eaeaea"/>
              </a:solidFill>
              <a:latin typeface="Tahoma"/>
            </a:endParaRPr>
          </a:p>
        </p:txBody>
      </p:sp>
      <p:sp>
        <p:nvSpPr>
          <p:cNvPr id="131" name="PlaceHolder 2"/>
          <p:cNvSpPr>
            <a:spLocks noGrp="1"/>
          </p:cNvSpPr>
          <p:nvPr>
            <p:ph/>
          </p:nvPr>
        </p:nvSpPr>
        <p:spPr>
          <a:xfrm>
            <a:off x="395280" y="1196640"/>
            <a:ext cx="8569440" cy="566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 patří k nejúčinnějším prostředkům sebeobran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je to malý, poměrně lehký kapesní transformátor, který napětí vnitřního zdroje (obvykle 9V baterie) dokáže přeměnit na výboje o síle i několik set tisíc voltů.</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elektrody přístroje se musí dostat do kontaktu s tělem protivníka na vzdálenost 1-1,5 c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oužití:</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obránce drží paralyzér v ruce a při přiložení paralyzéru na útočníka zmáčkne spínač, čímž vyvolá elektrický výboj</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při krátkém kontaktu s napětím dostane elektrický šok, který ho krátkodobě ochromí, odradí od dalšího úto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a:t>
            </a:r>
            <a:r>
              <a:rPr b="0" lang="cs-CZ" sz="2400" spc="-1" strike="noStrike">
                <a:solidFill>
                  <a:srgbClr val="ffffff"/>
                </a:solidFill>
                <a:latin typeface="Comic Sans MS"/>
              </a:rPr>
              <a:t>- při delším kontaktu s napětím (více než 1s) dochází ke svalové křeči, útočník padá na zem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3" name="PlaceHolder 2"/>
          <p:cNvSpPr>
            <a:spLocks noGrp="1"/>
          </p:cNvSpPr>
          <p:nvPr>
            <p:ph/>
          </p:nvPr>
        </p:nvSpPr>
        <p:spPr>
          <a:xfrm>
            <a:off x="394920" y="1197000"/>
            <a:ext cx="820908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ž několik minut je útočník neschopen koordinovaného pohybu.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Účinnost je ovlivně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místem zásahu na těle útočník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fyzickým i psychickým stav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utnost bezprostředního kontaktu s útočník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ýhod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a:t>
            </a:r>
            <a:r>
              <a:rPr b="1" lang="en-US" sz="2000" spc="-1" strike="noStrike">
                <a:solidFill>
                  <a:srgbClr val="ffffff"/>
                </a:solidFill>
                <a:latin typeface="Tahoma"/>
              </a:rPr>
              <a:t> </a:t>
            </a:r>
            <a:r>
              <a:rPr b="0" lang="en-US" sz="2000" spc="-1" strike="noStrike">
                <a:solidFill>
                  <a:srgbClr val="ffffff"/>
                </a:solidFill>
                <a:latin typeface="Comic Sans MS"/>
              </a:rPr>
              <a:t>nezanechává žádné psychické ani fyzické následky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nemůžete utrpět zpětný výboj, ani když Vás útočník pevně drží</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Typy paralyzéru</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yto zbraně mají většinou tvar delšího či kratšího obuš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hou mít však v podstatě jakýkoli tva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Časté jsou také kombinace těchto zbraní například s chemickými zbraněmi.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78920" y="404280"/>
            <a:ext cx="4038840" cy="4526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Pen</a:t>
            </a:r>
            <a:r>
              <a:rPr b="0" lang="cs-CZ"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ér s pepřovým sprejem</a:t>
            </a:r>
            <a:endParaRPr b="0" lang="en-US" sz="2400" spc="-1" strike="noStrike">
              <a:solidFill>
                <a:srgbClr val="ffffff"/>
              </a:solidFill>
              <a:latin typeface="Tahoma"/>
            </a:endParaRPr>
          </a:p>
        </p:txBody>
      </p:sp>
      <p:sp>
        <p:nvSpPr>
          <p:cNvPr id="138" name="PlaceHolder 3"/>
          <p:cNvSpPr>
            <a:spLocks noGrp="1"/>
          </p:cNvSpPr>
          <p:nvPr>
            <p:ph/>
          </p:nvPr>
        </p:nvSpPr>
        <p:spPr>
          <a:xfrm>
            <a:off x="3780000" y="476280"/>
            <a:ext cx="40384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Paralyzer Obušek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Běžný paralyzér</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obrázek 8" descr="http://www.outdoorpark.cz/outdoor/bigbig/15125.jpg"/>
          <p:cNvPicPr/>
          <p:nvPr/>
        </p:nvPicPr>
        <p:blipFill>
          <a:blip r:embed="rId1"/>
          <a:stretch/>
        </p:blipFill>
        <p:spPr>
          <a:xfrm>
            <a:off x="324000" y="907920"/>
            <a:ext cx="3047760" cy="3048120"/>
          </a:xfrm>
          <a:prstGeom prst="rect">
            <a:avLst/>
          </a:prstGeom>
          <a:ln w="0">
            <a:noFill/>
          </a:ln>
        </p:spPr>
      </p:pic>
      <p:pic>
        <p:nvPicPr>
          <p:cNvPr id="140" name="obrázek 6" descr="http://www.outdoorpark.cz/outdoor/bigbig/15120.jpg"/>
          <p:cNvPicPr/>
          <p:nvPr/>
        </p:nvPicPr>
        <p:blipFill>
          <a:blip r:embed="rId2"/>
          <a:stretch/>
        </p:blipFill>
        <p:spPr>
          <a:xfrm>
            <a:off x="4500720" y="1125360"/>
            <a:ext cx="3024000" cy="2519640"/>
          </a:xfrm>
          <a:prstGeom prst="rect">
            <a:avLst/>
          </a:prstGeom>
          <a:ln w="0">
            <a:noFill/>
          </a:ln>
        </p:spPr>
      </p:pic>
      <p:pic>
        <p:nvPicPr>
          <p:cNvPr id="141" name="obrázek 4" descr="http://www.outdoorpark.cz/outdoor/bigbig/15123.jpg"/>
          <p:cNvPicPr/>
          <p:nvPr/>
        </p:nvPicPr>
        <p:blipFill>
          <a:blip r:embed="rId3"/>
          <a:stretch/>
        </p:blipFill>
        <p:spPr>
          <a:xfrm>
            <a:off x="4572000" y="4508640"/>
            <a:ext cx="2160720" cy="2160360"/>
          </a:xfrm>
          <a:prstGeom prst="rect">
            <a:avLst/>
          </a:prstGeom>
          <a:ln w="0">
            <a:noFill/>
          </a:ln>
        </p:spPr>
      </p:pic>
      <p:pic>
        <p:nvPicPr>
          <p:cNvPr id="142" name="obrázek 12" descr="http://www.obrana.cz/obrana.cz/produkty/small/s3_scorpy_200_n.gif"/>
          <p:cNvPicPr/>
          <p:nvPr/>
        </p:nvPicPr>
        <p:blipFill>
          <a:blip r:embed="rId4"/>
          <a:stretch/>
        </p:blipFill>
        <p:spPr>
          <a:xfrm>
            <a:off x="1835280" y="4365720"/>
            <a:ext cx="1611360" cy="249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Comic Sans MS"/>
              </a:rPr>
              <a:t>Tas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cs-CZ" sz="2400" spc="-1" strike="noStrike">
                <a:solidFill>
                  <a:srgbClr val="ffffff"/>
                </a:solidFill>
                <a:latin typeface="Comic Sans MS"/>
              </a:rPr>
              <a:t>paraylzuje útočníka na větší vzdálenost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vystřelenými elektrodami paralyzuje nervovou soustavu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dovoluje protivníka zasáhnout na délku až 10 m a přes 5cm vrstvu oblečení</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varem připomíná pistoli</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ochromí pouze příčně pruhované (kosterní) svalstvo, takže nedojde k narušení činnosti srdc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taser vydává napětí až 50 000 voltů (50 kV), používá přitom pulzů, které jsou přibližně stejné jako nervové vzruchy v lidském mozku</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  zasažený člověk zůstane při vědomí, vnímá své okolí, ale není schopný ovládat své svalstvo </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456840" y="1125360"/>
            <a:ext cx="8435880" cy="5732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S návrhem první verze začal Jack Cover již v roce 1969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v roce 1991 začal být poprvé používán policií (v Los Angel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je používána zejména policejními složkami např. v USA, Kanadě, Hong Kongu ale i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 </a:t>
            </a:r>
            <a:r>
              <a:rPr b="0" lang="cs-CZ" sz="2800" spc="-1" strike="noStrike">
                <a:solidFill>
                  <a:srgbClr val="ffffff"/>
                </a:solidFill>
                <a:latin typeface="Comic Sans MS"/>
              </a:rPr>
              <a:t>tasery jsou výrobky americké firmy TASER International, Inc. ze Scottsdale v Arizoně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taser střílí dva dráty ve kterých vede elektrický proud, který po dopadu útočníka ochromí na několik minu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eaeaea"/>
                </a:solidFill>
                <a:latin typeface="Tahoma"/>
              </a:rPr>
              <a:t>                    </a:t>
            </a:r>
            <a:r>
              <a:rPr b="1" lang="cs-CZ" sz="2400" spc="-1" strike="noStrike">
                <a:solidFill>
                  <a:srgbClr val="eaeaea"/>
                </a:solidFill>
                <a:latin typeface="Tahoma"/>
              </a:rPr>
              <a:t>J. Cover</a:t>
            </a:r>
            <a:endParaRPr b="1" lang="en-US" sz="2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Impulsem pro vznik zbraně byly dvě události. Cover pracoval jako fyzik pro NASA v programu přistání Apolla na Měsíci. V roce 1960 si v Los Angeles Times přečetl příběh o turistovi, který přežil několikahodinové strnutí u plotu, připojeného k vedení vysokého napětí.</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Ve stejné době vyšla zpráva Komise Modré stuhy prezidenta Lyndona Johnsona, která vyzvala k rozvoji nesmrtících zbraní pro boj s narůstajícími únosy letadel a občanskými nepokoj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Cover proto zahájil výzkum v oblasti elektrických zbraní, který zaměřil na impulsy vysokého napětí, ale při nízkém proudu.</a:t>
            </a:r>
            <a:endParaRPr b="0" lang="en-US" sz="2400" spc="-1" strike="noStrike">
              <a:solidFill>
                <a:srgbClr val="ffffff"/>
              </a:solidFill>
              <a:latin typeface="Tahoma"/>
            </a:endParaRPr>
          </a:p>
        </p:txBody>
      </p:sp>
      <p:pic>
        <p:nvPicPr>
          <p:cNvPr id="149" name="obrázek 32" descr="Vynálezce Taseru Jack Cover"/>
          <p:cNvPicPr/>
          <p:nvPr/>
        </p:nvPicPr>
        <p:blipFill>
          <a:blip r:embed="rId1"/>
          <a:stretch/>
        </p:blipFill>
        <p:spPr>
          <a:xfrm>
            <a:off x="2484360" y="0"/>
            <a:ext cx="2232000" cy="167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456840" y="189000"/>
            <a:ext cx="771516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rvní TASER v podobě palné zbraně byl představen v roce 1974 a lze jej považovat za TASER první generac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5 byl dokončen vývoj druhé generace TASERu – Air Taser Stun Weapon 34000, u něhož byl výmet elektrod realizován stlačený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dusíke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 roce 1999 byl představen TAS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třetí generace – Advanced TASER M 26 EMD Weapon.</a:t>
            </a:r>
            <a:endParaRPr b="0" lang="en-US" sz="3200" spc="-1" strike="noStrike">
              <a:solidFill>
                <a:srgbClr val="ffffff"/>
              </a:solidFill>
              <a:latin typeface="Tahoma"/>
            </a:endParaRPr>
          </a:p>
        </p:txBody>
      </p:sp>
      <p:pic>
        <p:nvPicPr>
          <p:cNvPr id="152" name="obrázek 14" descr="http://www.rucevzhuru.cz/poradna/1/obrazky/Air%20Taser%2034%20000.jpg"/>
          <p:cNvPicPr/>
          <p:nvPr/>
        </p:nvPicPr>
        <p:blipFill>
          <a:blip r:embed="rId1"/>
          <a:stretch/>
        </p:blipFill>
        <p:spPr>
          <a:xfrm>
            <a:off x="7236000" y="2852640"/>
            <a:ext cx="1908000" cy="1333440"/>
          </a:xfrm>
          <a:prstGeom prst="rect">
            <a:avLst/>
          </a:prstGeom>
          <a:ln w="0">
            <a:noFill/>
          </a:ln>
        </p:spPr>
      </p:pic>
      <p:pic>
        <p:nvPicPr>
          <p:cNvPr id="153" name="obrázek 15" descr="http://www.rucevzhuru.cz/poradna/1/obrazky/Taser%20M26.jpg"/>
          <p:cNvPicPr/>
          <p:nvPr/>
        </p:nvPicPr>
        <p:blipFill>
          <a:blip r:embed="rId2"/>
          <a:stretch/>
        </p:blipFill>
        <p:spPr>
          <a:xfrm>
            <a:off x="6300720" y="5445000"/>
            <a:ext cx="1727280" cy="14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tvrtou a zatím poslední generací elektrických zbraní TASER je TASER X 26. </a:t>
            </a:r>
            <a:endParaRPr b="0" lang="en-US" sz="3200" spc="-1" strike="noStrike">
              <a:solidFill>
                <a:srgbClr val="ffffff"/>
              </a:solidFill>
              <a:latin typeface="Tahoma"/>
            </a:endParaRPr>
          </a:p>
        </p:txBody>
      </p:sp>
      <p:pic>
        <p:nvPicPr>
          <p:cNvPr id="156" name="obrázek 16" descr="http://www.rucevzhuru.cz/poradna/1/obrazky/taserX26.jpg"/>
          <p:cNvPicPr/>
          <p:nvPr/>
        </p:nvPicPr>
        <p:blipFill>
          <a:blip r:embed="rId1"/>
          <a:stretch/>
        </p:blipFill>
        <p:spPr>
          <a:xfrm>
            <a:off x="5543640" y="2565360"/>
            <a:ext cx="3600360" cy="1800360"/>
          </a:xfrm>
          <a:prstGeom prst="rect">
            <a:avLst/>
          </a:prstGeom>
          <a:ln w="0">
            <a:noFill/>
          </a:ln>
        </p:spPr>
      </p:pic>
      <p:pic>
        <p:nvPicPr>
          <p:cNvPr id="157" name="obrázek 236" descr="http://www.21stoleti.cz/fotky/1213646267.jpg"/>
          <p:cNvPicPr/>
          <p:nvPr/>
        </p:nvPicPr>
        <p:blipFill>
          <a:blip r:embed="rId2"/>
          <a:stretch/>
        </p:blipFill>
        <p:spPr>
          <a:xfrm>
            <a:off x="0" y="4005360"/>
            <a:ext cx="5762520" cy="257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ýhody:</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ýstřel většinou není smrtelný jako pistole</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Nevýhody:</a:t>
            </a:r>
            <a:r>
              <a:rPr b="0" lang="en-US" sz="2800" spc="-1" strike="noStrike">
                <a:solidFill>
                  <a:srgbClr val="ffffff"/>
                </a:solidFill>
                <a:latin typeface="Comic Sans MS"/>
              </a:rPr>
              <a:t> </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musí se po každém výstřelu nabí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počet projektilů se musí pravidelně doplňovat</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v případě potřeby většího použití mohou projektily dojít </a:t>
            </a:r>
            <a:endParaRPr b="0" lang="en-US" sz="2800" spc="-1" strike="noStrike">
              <a:solidFill>
                <a:srgbClr val="ffffff"/>
              </a:solidFill>
              <a:latin typeface="Tahoma"/>
            </a:endParaRPr>
          </a:p>
        </p:txBody>
      </p:sp>
      <p:pic>
        <p:nvPicPr>
          <p:cNvPr id="159" name="obrázek 11" descr="http://www.rucevzhuru.cz/poradna/1/obrazky/Taser%201a.jpg"/>
          <p:cNvPicPr/>
          <p:nvPr/>
        </p:nvPicPr>
        <p:blipFill>
          <a:blip r:embed="rId1"/>
          <a:stretch/>
        </p:blipFill>
        <p:spPr>
          <a:xfrm>
            <a:off x="4356000" y="189000"/>
            <a:ext cx="231156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Úvod</a:t>
            </a:r>
            <a:endParaRPr b="1" lang="en-US" sz="4400" spc="-1" strike="noStrike">
              <a:solidFill>
                <a:srgbClr val="eaeaea"/>
              </a:solidFill>
              <a:latin typeface="Tahoma"/>
            </a:endParaRPr>
          </a:p>
        </p:txBody>
      </p:sp>
      <p:sp>
        <p:nvSpPr>
          <p:cNvPr id="113" name="PlaceHolder 2"/>
          <p:cNvSpPr>
            <a:spLocks noGrp="1"/>
          </p:cNvSpPr>
          <p:nvPr>
            <p:ph/>
          </p:nvPr>
        </p:nvSpPr>
        <p:spPr>
          <a:xfrm>
            <a:off x="468000" y="1196640"/>
            <a:ext cx="8280360" cy="56610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omic Sans MS"/>
              </a:rPr>
              <a:t> </a:t>
            </a:r>
            <a:r>
              <a:rPr b="0" lang="cs-CZ" sz="2500" spc="-1" strike="noStrike">
                <a:solidFill>
                  <a:srgbClr val="ffffff"/>
                </a:solidFill>
                <a:latin typeface="Comic Sans MS"/>
              </a:rPr>
              <a:t>Zbraně se vyvíjely již od prvopočátku lidstva. V pravěku to byly především oštěpy a sekery, ve starověku kopí a meče, ve středověku převládaly halapartny a kuše. Záchytným bodem můžeme nazvat ranný novověk, do kterého spadá objevení střelného prachu a rozvoj tzv. palných zbraní. 20. století by jsme mohli nazvat revolucí v rozvoji zbraní, zasloužilo se o to především obrovské množství nových zbraní, jako je například kulomet, tank, torpéda, chemické zbraně, miny, atomové a jaderné bomby, laserem naváděné střely a mnohé další.</a:t>
            </a: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Mezi obrovský výčet zbraní, které člověk vyvinul, patří zbraně chladné, střelné, chemické, elektrické.</a:t>
            </a:r>
            <a:endParaRPr b="0" lang="en-US" sz="25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Comic Sans MS"/>
              </a:rPr>
              <a:t>Eletrické zbraně si přiblížíme v této práci</a:t>
            </a:r>
            <a:r>
              <a:rPr b="0" lang="cs-CZ" sz="2000" spc="-1" strike="noStrike">
                <a:solidFill>
                  <a:srgbClr val="ffffff"/>
                </a:solidFill>
                <a:latin typeface="Comic Sans MS"/>
              </a:rPr>
              <a:t>.</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Jednou z nejvíce rozšířených nesmrtících zbraní je elektrický TASER. Přestože mezi veřejností přetrvávají pochybnosti o bezpečných účincích elektrického šoku po zásahu touto zbraní, začínají se po množících se teroristických útocích v západním světě k používání TASERů přiklánět i jejich dřívější odpůrci.</a:t>
            </a:r>
            <a:r>
              <a:rPr b="0" lang="cs-CZ" sz="2800" spc="-1" strike="noStrike">
                <a:solidFill>
                  <a:srgbClr val="ffffff"/>
                </a:solidFill>
                <a:latin typeface="Tahoma"/>
              </a:rPr>
              <a:t> </a:t>
            </a:r>
            <a:endParaRPr b="0" lang="en-US" sz="2800" spc="-1" strike="noStrike">
              <a:solidFill>
                <a:srgbClr val="ffffff"/>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25. června 2008 sněmovnou parlamentu prošel nový zákon o policii ministra Ivana Langera, který policistům použití paralyzéru coby donucovacího prostředku povoluj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Literatura</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
              </a:rPr>
              <a:t>http://www.</a:t>
            </a:r>
            <a:r>
              <a:rPr b="0" lang="cs-CZ" sz="2000" spc="-1" strike="noStrike" u="sng">
                <a:solidFill>
                  <a:srgbClr val="ffffcc"/>
                </a:solidFill>
                <a:uFillTx/>
                <a:latin typeface="Comic Sans MS"/>
                <a:hlinkClick r:id="rId2"/>
              </a:rPr>
              <a:t>obranazeny</a:t>
            </a:r>
            <a:r>
              <a:rPr b="0" lang="cs-CZ" sz="2000" spc="-1" strike="noStrike" u="sng">
                <a:solidFill>
                  <a:srgbClr val="ffffcc"/>
                </a:solidFill>
                <a:uFillTx/>
                <a:latin typeface="Comic Sans MS"/>
                <a:hlinkClick r:id="rId3"/>
              </a:rPr>
              <a:t>.</a:t>
            </a:r>
            <a:r>
              <a:rPr b="0" lang="cs-CZ" sz="2000" spc="-1" strike="noStrike" u="sng">
                <a:solidFill>
                  <a:srgbClr val="ffffcc"/>
                </a:solidFill>
                <a:uFillTx/>
                <a:latin typeface="Comic Sans MS"/>
                <a:hlinkClick r:id="rId4"/>
              </a:rPr>
              <a:t>cz</a:t>
            </a:r>
            <a:r>
              <a:rPr b="0" lang="cs-CZ" sz="2000" spc="-1" strike="noStrike" u="sng">
                <a:solidFill>
                  <a:srgbClr val="ffffcc"/>
                </a:solidFill>
                <a:uFillTx/>
                <a:latin typeface="Comic Sans MS"/>
                <a:hlinkClick r:id="rId5"/>
              </a:rPr>
              <a:t>/</a:t>
            </a:r>
            <a:r>
              <a:rPr b="0" lang="cs-CZ" sz="2000" spc="-1" strike="noStrike" u="sng">
                <a:solidFill>
                  <a:srgbClr val="ffffcc"/>
                </a:solidFill>
                <a:uFillTx/>
                <a:latin typeface="Comic Sans MS"/>
                <a:hlinkClick r:id="rId6"/>
              </a:rPr>
              <a:t>obranazeny</a:t>
            </a:r>
            <a:r>
              <a:rPr b="0" lang="cs-CZ" sz="2000" spc="-1" strike="noStrike" u="sng">
                <a:solidFill>
                  <a:srgbClr val="ffffcc"/>
                </a:solidFill>
                <a:uFillTx/>
                <a:latin typeface="Comic Sans MS"/>
                <a:hlinkClick r:id="rId7"/>
              </a:rPr>
              <a:t>.</a:t>
            </a:r>
            <a:r>
              <a:rPr b="0" lang="cs-CZ" sz="2000" spc="-1" strike="noStrike" u="sng">
                <a:solidFill>
                  <a:srgbClr val="ffffcc"/>
                </a:solidFill>
                <a:uFillTx/>
                <a:latin typeface="Comic Sans MS"/>
                <a:hlinkClick r:id="rId8"/>
              </a:rPr>
              <a:t>cz</a:t>
            </a:r>
            <a:r>
              <a:rPr b="0" lang="cs-CZ" sz="2000" spc="-1" strike="noStrike" u="sng">
                <a:solidFill>
                  <a:srgbClr val="ffffcc"/>
                </a:solidFill>
                <a:uFillTx/>
                <a:latin typeface="Comic Sans MS"/>
                <a:hlinkClick r:id="rId9"/>
              </a:rPr>
              <a:t>/</a:t>
            </a:r>
            <a:r>
              <a:rPr b="0" lang="cs-CZ" sz="2000" spc="-1" strike="noStrike" u="sng">
                <a:solidFill>
                  <a:srgbClr val="ffffcc"/>
                </a:solidFill>
                <a:uFillTx/>
                <a:latin typeface="Comic Sans MS"/>
                <a:hlinkClick r:id="rId10"/>
              </a:rPr>
              <a:t>page</a:t>
            </a:r>
            <a:r>
              <a:rPr b="0" lang="cs-CZ" sz="2000" spc="-1" strike="noStrike" u="sng">
                <a:solidFill>
                  <a:srgbClr val="ffffcc"/>
                </a:solidFill>
                <a:uFillTx/>
                <a:latin typeface="Comic Sans MS"/>
                <a:hlinkClick r:id="rId11"/>
              </a:rPr>
              <a:t>.</a:t>
            </a:r>
            <a:r>
              <a:rPr b="0" lang="cs-CZ" sz="2000" spc="-1" strike="noStrike" u="sng">
                <a:solidFill>
                  <a:srgbClr val="ffffcc"/>
                </a:solidFill>
                <a:uFillTx/>
                <a:latin typeface="Comic Sans MS"/>
                <a:hlinkClick r:id="rId12"/>
              </a:rPr>
              <a:t>php</a:t>
            </a:r>
            <a:r>
              <a:rPr b="0" lang="cs-CZ" sz="2000" spc="-1" strike="noStrike" u="sng">
                <a:solidFill>
                  <a:srgbClr val="ffffcc"/>
                </a:solidFill>
                <a:uFillTx/>
                <a:latin typeface="Comic Sans MS"/>
                <a:hlinkClick r:id="rId13"/>
              </a:rPr>
              <a:t>?</a:t>
            </a:r>
            <a:r>
              <a:rPr b="0" lang="cs-CZ" sz="2000" spc="-1" strike="noStrike" u="sng">
                <a:solidFill>
                  <a:srgbClr val="ffffcc"/>
                </a:solidFill>
                <a:uFillTx/>
                <a:latin typeface="Comic Sans MS"/>
                <a:hlinkClick r:id="rId14"/>
              </a:rPr>
              <a:t>link</a:t>
            </a:r>
            <a:r>
              <a:rPr b="0" lang="cs-CZ" sz="2000" spc="-1" strike="noStrike" u="sng">
                <a:solidFill>
                  <a:srgbClr val="ffffcc"/>
                </a:solidFill>
                <a:uFillTx/>
                <a:latin typeface="Comic Sans MS"/>
                <a:hlinkClick r:id="rId15"/>
              </a:rPr>
              <a:t>=nop_</a:t>
            </a:r>
            <a:r>
              <a:rPr b="0" lang="cs-CZ" sz="2000" spc="-1" strike="noStrike" u="sng">
                <a:solidFill>
                  <a:srgbClr val="ffffcc"/>
                </a:solidFill>
                <a:uFillTx/>
                <a:latin typeface="Comic Sans MS"/>
                <a:hlinkClick r:id="rId16"/>
              </a:rPr>
              <a:t>paralyzer</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7"/>
              </a:rPr>
              <a:t>http://danyk.wz.cz/paral.html</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8"/>
              </a:rPr>
              <a:t>http://encyklopedie.seznam.cz/heslo/245217-elektricke-zbrane</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Comic Sans MS"/>
                <a:hlinkClick r:id="rId19"/>
              </a:rPr>
              <a:t>http://www.wikipedia.cz/taser</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Historie elektrických zbraní</a:t>
            </a:r>
            <a:endParaRPr b="1" lang="en-US" sz="4400" spc="-1" strike="noStrike">
              <a:solidFill>
                <a:srgbClr val="eaeaea"/>
              </a:solidFill>
              <a:latin typeface="Tahoma"/>
            </a:endParaRPr>
          </a:p>
        </p:txBody>
      </p:sp>
      <p:sp>
        <p:nvSpPr>
          <p:cNvPr id="115"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Je spjata s vědeckotechnickým rozvojem lidstva.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Už při objevení elektrických polí různých těles a jejich ovládnutí člověk začal přemýšlet, jak by tuto energii využil i v oblasti vojenství.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á jiskra se začala hojně užívat k odpalování náloží, které mohly být iniciovány už z velkých vzdáleností. Při dřívějším odpalování těchto velkých náloží bylo totiž nutné počítat i s tzv. ztraceným mužem. Při využití elektrické energie k těmto účelům byly tyto lidské ztráty prakticky odstraněny. </a:t>
            </a:r>
            <a:endParaRPr b="0" lang="en-US" sz="2400" spc="-1" strike="noStrike">
              <a:solidFill>
                <a:srgbClr val="ffffff"/>
              </a:solidFill>
              <a:latin typeface="Tahoma"/>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využití elektrické jiskry lze vidět také při využití tzv. elektrických ručnic. Prvním pokusem, užití elektrické jiskry pro ručnice, byla na světové výstavě v Paříži r. 1867 vystavená elektrická ručnice od Le Barona a Delmasa v Caënu. Od této zbraně se liší patentovaná elektrická ručnice H. Piepera v Lutichu.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eaeaea"/>
              </a:solidFill>
              <a:latin typeface="Comic Sans MS"/>
            </a:endParaRPr>
          </a:p>
        </p:txBody>
      </p:sp>
      <p:sp>
        <p:nvSpPr>
          <p:cNvPr id="117" name="PlaceHolder 2"/>
          <p:cNvSpPr>
            <a:spLocks noGrp="1"/>
          </p:cNvSpPr>
          <p:nvPr>
            <p:ph/>
          </p:nvPr>
        </p:nvSpPr>
        <p:spPr>
          <a:xfrm>
            <a:off x="324000" y="620280"/>
            <a:ext cx="8229600" cy="55450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od Le Barona a Delmasa v Caënu.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Tato ručnice byla světovým unikáte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K zapálení náboje bylo použito elektrické energie, která byla vyrobena galvanickým článkem nacházejícím se v pažbě. Náboje k této ručnici byly bez zápalky. Článek této zbraně účinkoval pouze několik hodin. Střelec byl nucen vedle speciálních nábojů nosit s sebou ještě i láhev s kyselinou sírovou a několikrát za den ji dolév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 </a:t>
            </a:r>
            <a:r>
              <a:rPr b="0" lang="cs-CZ" sz="2800" spc="-1" strike="noStrike">
                <a:solidFill>
                  <a:srgbClr val="ffffff"/>
                </a:solidFill>
                <a:latin typeface="Comic Sans MS"/>
              </a:rPr>
              <a:t>Proto nenalezla rozšíření. </a:t>
            </a:r>
            <a:endParaRPr b="0" lang="en-US" sz="2800" spc="-1" strike="noStrike">
              <a:solidFill>
                <a:srgbClr val="ffffff"/>
              </a:solidFill>
              <a:latin typeface="Tahoma"/>
            </a:endParaRPr>
          </a:p>
        </p:txBody>
      </p:sp>
      <p:pic>
        <p:nvPicPr>
          <p:cNvPr id="118" name="obrázek 1" descr="obrázek č. 1330. 1. Elektrická ručnice soustavy Le Baron a Delmas (podélný průřez). 2. Průřez nábojnice téže."/>
          <p:cNvPicPr/>
          <p:nvPr/>
        </p:nvPicPr>
        <p:blipFill>
          <a:blip r:embed="rId1"/>
          <a:stretch/>
        </p:blipFill>
        <p:spPr>
          <a:xfrm>
            <a:off x="5724360" y="5284800"/>
            <a:ext cx="3419640" cy="157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250920" y="333360"/>
            <a:ext cx="8229600" cy="65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Comic Sans MS"/>
              </a:rPr>
              <a:t>Elektrická ručnice H. Piepera v Lutich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Galvanický článek zde nahrazuje malý akumulátor, který po jediném nabití účinkoval dva týdny. Byl umístěn buď v pažbě ručnice, nebo v kapse střelce. Propojení jednotlivých elektrických součástí pak bylo rozdílné podle druhu umístění akumulátoru.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Při umístění akumulátoru v kapse střelce musel mít střelec upevněnou na rameni kovovou síťku, pomocí níž se přenášel kontakt se zbraní. </a:t>
            </a:r>
            <a:endParaRPr b="0" lang="en-US" sz="2800" spc="-1" strike="noStrike">
              <a:solidFill>
                <a:srgbClr val="ffffff"/>
              </a:solidFill>
              <a:latin typeface="Tahoma"/>
            </a:endParaRPr>
          </a:p>
        </p:txBody>
      </p:sp>
      <p:pic>
        <p:nvPicPr>
          <p:cNvPr id="121" name="obrázek 2" descr="obrázek č. 1331. 3. Elektrická ručnice Pieperova s kapesním akkumulátorem (3a) a síťkou (3b). - 4. Průřez nábojnice téže. - 5. Zátka k nábojnici."/>
          <p:cNvPicPr/>
          <p:nvPr/>
        </p:nvPicPr>
        <p:blipFill>
          <a:blip r:embed="rId1"/>
          <a:stretch/>
        </p:blipFill>
        <p:spPr>
          <a:xfrm>
            <a:off x="6732720" y="907920"/>
            <a:ext cx="2411280" cy="154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324000" y="692280"/>
            <a:ext cx="8496000" cy="59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Další ručnice s elektrickým zápalem na sebe nenechaly dlouho ček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Mezi nejznámější firmy, které se zabývaly výrobou těchto zbraní, se stala firma American Electric Arms &amp; Ammunition Company v New Yorku.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Tyto zbraně však v oblasti vojenství nenašly takovou odezvu, jako stávající zbraně využívající osvědčené náboje se zápalkou. Důvodem nezařazení těchto zbraní byl slabý proud nutný k zapálení prachové náplně, což mělo za následek delší prodlevu samotného výstřelu, nespolehlivost elektrosoučástek té doby a náročnost a nespolehlivost speciálních nábojů do těchto ručnic.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mic Sans MS"/>
              </a:rPr>
              <a:t>Elektrickým zbraním se ale předpovídala skvělá budoucnost pro vyloučení negativních účinků zplodin, které vznikají při hoření prachových náplní nábojů.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468000" y="1196640"/>
            <a:ext cx="8351640" cy="5327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lším mezníkem ve vývoji elektrických zbraní je používání elektrického výboje v Argentině při výslechu vězňů.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to metoda se začala uplatňovat po zkušenosti chovatelů dobytka s elektrickým proudem a jeho působením při omračování dobytk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dobenství lze pak spatřovat i v jiných státech světa při obdobných situacích. Tyto policejní metody pro svou brutalitu byly odsuzovány veřejností, nicméně vlastnosti elektrického proudu na lidský organismus přinesly potřebu jeho využití při konstruování zbraní humánnějšího charakteru.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ývoj</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Elektrický výboj se stal doménou při tvorbě moderních prostředků, které člověka nemají zabít, ale jen paralyzov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mic Sans MS"/>
              </a:rPr>
              <a:t>Vývoj</a:t>
            </a:r>
            <a:endParaRPr b="0" lang="en-US" sz="28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dřevěných projektilů</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elektrické obuš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laser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chemické prostředky</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mikrovlnné zařízení ADS systém aktivního odporu</a:t>
            </a:r>
            <a:endParaRPr b="0" lang="en-US" sz="1600" spc="-1" strike="noStrike">
              <a:solidFill>
                <a:srgbClr val="ffffff"/>
              </a:solidFill>
              <a:latin typeface="Tahoma"/>
            </a:endParaRPr>
          </a:p>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omic Sans MS"/>
              </a:rPr>
              <a:t>parabolické talíře LRAD akustické zařízení s dlouhým dosahem, tóny s intenzitou asi 150 dB</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omic Sans MS"/>
              </a:rPr>
              <a:t>Dělení zbraní dle kontaktů s útočníkem:</a:t>
            </a: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paralyzér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Comic Sans MS"/>
              </a:rPr>
              <a:t>s nepřímým kontaktem útočník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Comic Sans MS"/>
              </a:rPr>
              <a:t>    </a:t>
            </a:r>
            <a:r>
              <a:rPr b="0" lang="cs-CZ" sz="3200" spc="-1" strike="noStrike">
                <a:solidFill>
                  <a:srgbClr val="ffffff"/>
                </a:solidFill>
                <a:latin typeface="Comic Sans MS"/>
              </a:rPr>
              <a:t>- tase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10:36:44Z</dcterms:created>
  <dc:creator>Luboš Vrabel</dc:creator>
  <dc:description/>
  <dc:language>en-US</dc:language>
  <cp:lastModifiedBy>c0711012</cp:lastModifiedBy>
  <dcterms:modified xsi:type="dcterms:W3CDTF">2010-04-21T06:19:15Z</dcterms:modified>
  <cp:revision>10</cp:revision>
  <dc:subject/>
  <dc:title>Osobní elektrické zbraně</dc:title>
</cp:coreProperties>
</file>