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A324-8716-4091-84D5-2F8717402E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83F9-471F-4469-AE8E-35BADDE62DF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ám seš poznám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640-3CB3-425C-8400-651C0BA9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03F-9705-48B0-AE91-37BCFBF4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3E7-8E60-4AD4-8867-5FD8CB66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A8F-8A1D-44D0-9493-7864D7F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48963-C446-4A06-B94C-906E4D8B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A1FFC-0BE8-4594-A81E-CD4D3DC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8DB9-7D40-40B3-A4BD-11C61CC9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F99B-96C0-4C91-AEAB-72561E2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88D0E-92E5-4C7F-B3A3-C45B410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B400-B1D7-43A6-B01C-F48F43C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DDE58-1DAC-4E39-B69D-9180740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C15-70C3-4CD2-A174-72230BB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66381-491A-47FF-B692-2529462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DAB81-58BD-4BC8-906C-63E9DE48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BCD99-AAA6-4267-ADBC-18CBE55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43A0-5152-45D2-84D9-FE46C397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DECE0-130A-4A2F-A68B-30FA836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127-4824-41E2-AE0A-90133CC0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444-A435-4946-956E-AA08D6D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DA5-54C2-4039-92CE-17BF1F5E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1A6-81ED-4456-9AD5-44B46E0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C3D-63BB-4EA4-81DB-8637364F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039-CC0B-42A0-B1D7-957C2DC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DD8-B383-4084-A6A5-60E7FA2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BB6-3828-4B09-81D4-90BB09EE622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BAAC-3585-422F-91A4-584ABD52885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87640" y="691920"/>
            <a:ext cx="374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rátké chladné zbraně a jejich užití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3250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tanto"/>
          <p:cNvPicPr/>
          <p:nvPr/>
        </p:nvPicPr>
        <p:blipFill>
          <a:blip r:embed="rId1"/>
          <a:stretch/>
        </p:blipFill>
        <p:spPr>
          <a:xfrm>
            <a:off x="0" y="0"/>
            <a:ext cx="496728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Vycházková hůl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dutá se skrytým ostří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6" descr="vycházkovka"/>
          <p:cNvPicPr/>
          <p:nvPr/>
        </p:nvPicPr>
        <p:blipFill>
          <a:blip r:embed="rId1"/>
          <a:stretch/>
        </p:blipFill>
        <p:spPr>
          <a:xfrm>
            <a:off x="3348000" y="249228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Házecí nůž</a:t>
            </a:r>
            <a:br>
              <a:rPr sz="40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posuvným těžiště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6" descr="házecí"/>
          <p:cNvPicPr/>
          <p:nvPr/>
        </p:nvPicPr>
        <p:blipFill>
          <a:blip r:embed="rId1"/>
          <a:stretch/>
        </p:blipFill>
        <p:spPr>
          <a:xfrm>
            <a:off x="2700360" y="2421000"/>
            <a:ext cx="361008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odák AK 47</a:t>
            </a:r>
            <a:br>
              <a:rPr sz="4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historií prověřený multifunkční nástroj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Rectangle 2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672000" cy="376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Cold </a:t>
            </a: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Steel</a:t>
            </a:r>
            <a:r>
              <a:rPr b="1" lang="cs-CZ" sz="3600" spc="-1" strike="noStrike">
                <a:solidFill>
                  <a:srgbClr val="e3e3ff"/>
                </a:solidFill>
                <a:latin typeface="Arial"/>
              </a:rPr>
              <a:t> War Head</a:t>
            </a:r>
            <a:br>
              <a:rPr sz="36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bojový nůž o celkové délce 36 cm. Vyroben z uhlíkové oceli 1055</a:t>
            </a:r>
            <a:br>
              <a:rPr sz="4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80pwh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3e3ff"/>
                </a:solidFill>
                <a:latin typeface="Arial"/>
              </a:rPr>
              <a:t>Armádní útočný nůž Mikov</a:t>
            </a:r>
            <a:br>
              <a:rPr sz="4000"/>
            </a:br>
            <a:r>
              <a:rPr b="1" lang="cs-CZ" sz="2000" spc="-1" strike="noStrike">
                <a:solidFill>
                  <a:srgbClr val="e3e3ff"/>
                </a:solidFill>
                <a:latin typeface="Arial"/>
              </a:rPr>
              <a:t>Používán některými útvary PČR a Armády ČR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5" descr="mikov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German Military Dagger </a:t>
            </a:r>
            <a:br>
              <a:rPr sz="44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replika nože hitlerjugen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replik HJ zprzněná"/>
          <p:cNvPicPr/>
          <p:nvPr/>
        </p:nvPicPr>
        <p:blipFill>
          <a:blip r:embed="rId1"/>
          <a:stretch/>
        </p:blipFill>
        <p:spPr>
          <a:xfrm>
            <a:off x="2919240" y="2200320"/>
            <a:ext cx="330372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3e3ff"/>
                </a:solidFill>
                <a:latin typeface="Arial"/>
              </a:rPr>
              <a:t>Wood Kukri</a:t>
            </a:r>
            <a:br>
              <a:rPr sz="4400"/>
            </a:br>
            <a:r>
              <a:rPr b="1" lang="cs-CZ" sz="2400" spc="-1" strike="noStrike">
                <a:solidFill>
                  <a:srgbClr val="e3e3ff"/>
                </a:solidFill>
                <a:latin typeface="Arial"/>
              </a:rPr>
              <a:t>replika nože obávaných Gurků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6" descr="khukri"/>
          <p:cNvPicPr/>
          <p:nvPr/>
        </p:nvPicPr>
        <p:blipFill>
          <a:blip r:embed="rId1"/>
          <a:stretch/>
        </p:blipFill>
        <p:spPr>
          <a:xfrm>
            <a:off x="1908000" y="1903320"/>
            <a:ext cx="468000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3e3ff"/>
                </a:solidFill>
                <a:latin typeface="Arial"/>
              </a:rPr>
              <a:t>Chris Reeve Knives Mk IV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z jednoho kusu A2 nástrojové oceli</a:t>
            </a: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Picture 6" descr="jedsen kus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3e3ff"/>
                </a:solidFill>
                <a:latin typeface="Arial"/>
              </a:rPr>
              <a:t>Schrade X-Timer Extreme Camp Knife </a:t>
            </a:r>
            <a:br>
              <a:rPr sz="4000"/>
            </a:b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nůž pro přežit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přežití"/>
          <p:cNvPicPr/>
          <p:nvPr/>
        </p:nvPicPr>
        <p:blipFill>
          <a:blip r:embed="rId1"/>
          <a:stretch/>
        </p:blipFill>
        <p:spPr>
          <a:xfrm>
            <a:off x="2666880" y="1943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Nůž pro extrémní podmínky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elý z jednoho kusu, uvnitř rukojeti prostor s nástavci na šroubování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6" descr="SCHF2SM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3e3ff"/>
                </a:solidFill>
                <a:latin typeface="Arial"/>
              </a:rPr>
              <a:t>Útočná dýka</a:t>
            </a:r>
            <a:br>
              <a:rPr sz="4400"/>
            </a:b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s trojúhelníkovou čepelí pro snadnější „</a:t>
            </a:r>
            <a:r>
              <a:rPr b="0" lang="cs-CZ" sz="2000" spc="-1" strike="noStrike">
                <a:solidFill>
                  <a:srgbClr val="e3e3ff"/>
                </a:solidFill>
                <a:latin typeface="Arial"/>
              </a:rPr>
              <a:t>průchod“</a:t>
            </a:r>
            <a:r>
              <a:rPr b="0" lang="cs-CZ" sz="2400" spc="-1" strike="noStrike">
                <a:solidFill>
                  <a:srgbClr val="e3e3ff"/>
                </a:solidFill>
                <a:latin typeface="Arial"/>
              </a:rPr>
              <a:t> materiále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6" descr="trojuhel čepel"/>
          <p:cNvPicPr/>
          <p:nvPr/>
        </p:nvPicPr>
        <p:blipFill>
          <a:blip r:embed="rId1"/>
          <a:stretch/>
        </p:blipFill>
        <p:spPr>
          <a:xfrm>
            <a:off x="3203640" y="1773360"/>
            <a:ext cx="302400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9:31:40Z</dcterms:created>
  <dc:creator>Cu016200</dc:creator>
  <dc:description/>
  <dc:language>en-US</dc:language>
  <cp:lastModifiedBy>Cu016200</cp:lastModifiedBy>
  <dcterms:modified xsi:type="dcterms:W3CDTF">2010-03-23T12:32:53Z</dcterms:modified>
  <cp:revision>19</cp:revision>
  <dc:subject/>
  <dc:title>Krátké chladné zbraně</dc:title>
</cp:coreProperties>
</file>