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9FB-CD57-4E24-9A74-6FB2C2C1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BA8-4763-4ADD-B9BB-80EBDF9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54F65-6A60-4102-B36B-871BEA8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8DCD2-0EDB-4656-85A6-BA315947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46E66-F56E-4BA2-A113-22DF9AC3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30721-62F4-438E-B111-A41570D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F6A14-8B2A-4004-B5A9-27A0E1D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B5316-094C-4F80-9DA3-06D148A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509A3-703D-45C2-A8B8-814C8A1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E571A-EF2D-486B-A30C-D3697680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2AD54-BFD8-4319-A67C-7FC84411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817-DB3E-458A-9E21-28F69EB1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E9D-1D75-4799-BA90-2B5EFDAE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7A8-18C6-41B1-B440-5BB6E13E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FE04-3262-451C-9576-0B57D22D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A9D7-4438-4531-9B32-ACE9ACA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AFE4-CD5A-4B6F-B859-75ABC038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C714-558C-4A87-B938-F0ABE6D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5BDB-E9F5-4027-B8A5-27A7DD2B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CAEE-8A7D-408B-9222-CC09AAB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A9F-EE29-4C0D-AF40-B0F18AE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8AD1-CE40-419B-B3D6-284FC79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F37-9E2A-461D-B9DB-CCAA054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403-7D37-4625-961A-C6FD6530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60C-1683-40E6-8A4D-6F59DD76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648F-56F5-4031-BFD6-C5F857DA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013C-3A2E-4B6E-8B41-A812C778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8779-487F-4BDA-941C-29DF275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C1A7-EECE-420D-A1F5-B6E7456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C374-5B20-431E-98B6-2F01ECB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6406-B7E2-49FB-90A0-3810ACB9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3BD-4CE3-4514-96CC-4B72FCE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2D44-5C79-4442-A7A0-C036A53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E8A1-4B03-4A15-9F54-C5F0DA4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0823-1004-49D6-B10B-704BE70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4E13-6E01-4EAD-B696-A32EFCA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89B9-49A9-4651-BE9A-80151D80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F00A-A24A-4C1C-B8F2-F31C5F22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633E-58BA-42C9-B29E-3DCA2D92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D365-75CA-466C-900E-FD8B1A7A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D8ED-A3BA-4E88-942E-65A6A34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9B03-A167-4845-8C0F-4B3ECBB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96E-D89D-45E8-BFAC-F69ACCC7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D18A-1A1A-40B8-AD91-5B6A6E5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DE0D-532E-4F55-801D-EA5AA1B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6786-7F0D-4F43-AF57-B248BD28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F6C6-419E-4627-AFD8-6EB4ACB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6269-1275-4574-8892-1171B46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67F6-B7E0-4D03-866C-80F3F746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8954-02F2-4089-9B1E-AF40C20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F74B-552B-42B9-9370-FEFB5204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4055-E65E-4CAB-A852-E7CF1181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2E0E-9874-43AB-B6CC-8EC29D36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8A0-7A27-493C-AC8E-9E1AA900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FD227-33C6-4425-BCD4-EC5CB5C8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3764-3ACD-4F0E-A646-6CE0B800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B23BF-2D17-472B-BFFA-8E95A520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DA41-A15B-4151-B2F1-F9F4191F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D548-FCE0-4BFB-87F1-7587F05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F2E6-D2D6-4D13-8150-C0B85A2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5B15E-5C90-4A85-89E1-95006CA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9005-53DF-44A5-B072-2BC7AA9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37F6-5370-48F8-A8A9-6FD29ECE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5EC6-DFF3-4634-AA5D-FC3105BE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C05-3CD7-40C5-9EB7-75B96982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F7699-5A84-4D5A-9CBA-45D4CF90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819A0-E85E-4FDD-BD51-80645674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0CFD-F490-484D-9649-76E9CFCF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622A7-72F6-414F-9CA6-5116EA32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083C-08B6-4238-8487-ADE92E0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DB39-E909-406C-8FDE-B5404CF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4DBD-BA93-47FB-8746-4EF0CF4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82347-B266-4B79-BC4D-8050DEE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559B5-1916-4C68-AAEB-D5928BE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6E8FB-EAD5-4AA0-BF1F-8A94B18D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A6B-D974-4CC1-AFF5-21C1EDD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20E72-A93C-432C-BAA9-9891605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DA10-799D-4804-B932-0EA12703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744D-24AB-40C6-BC7B-27B6C9E0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475F5-EC79-4E4E-BE4D-6967AFE6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238C-2F25-4190-BF23-8D5347A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5AC0-0333-4960-9063-5A9CA7DE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272E-1606-45B0-9485-A134A3B4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AF88-7817-45E9-8B36-E30E7CE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CA8B-0086-4BC4-A3B8-31EBADB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CB62-CB8D-481A-8EAC-FCABA15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0DE-F140-47B5-AD69-877EE77E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F578-3C5C-4F06-915A-1040E9F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F0EB0-BABB-4366-B05E-E513CA9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65A0-0CE2-4DD0-BDF6-F9847256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1353B-4E46-482E-B583-0C107297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3420-FF9E-45AE-BD01-FA0AE06C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3754-2B61-4782-9010-BA9C2366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CC12-5482-41EF-B28B-DB7D5D7F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FCB1-1078-42A8-8FAD-B91180F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A2AD9-14F1-419C-BAC4-D941F8B5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DBAF-9DD5-446F-A927-06E62927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6FE-82D5-4281-9839-FD097A4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1CEF6-8D72-4D1C-AF92-9138009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F75B-3EE3-4C80-8226-8373A22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B5D4E-237F-4A16-B2ED-0BB413D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750FA-7031-471D-9D69-DD7B41F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D84F-1292-4444-98CA-DCDAC57F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CCC58-52A6-4096-9B50-AD62E5C5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A423C-4A92-487F-A456-E7ED1FED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8ADA4-046E-433A-8ECE-B8959DF1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44E06-DB10-41AD-9AB8-46201148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6002B-CC38-44B1-A853-3B760960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016E-802F-4DAD-8A33-0E98280552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20B-5687-4801-844C-856FE6DF253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BC96-35A5-4A27-B95D-BEF0F61EB12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CE9-C97E-45A3-B5F6-3EC3726180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9722-2DB8-4B4A-92D1-1EB9CC12DCF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C0A1-B5D8-4D0D-B0EA-752DCF5158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27E4-7443-4F84-9581-F82AF4C2D2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603-4068-4E3B-893D-48EC64DDFB8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6E3-8455-48F1-9421-8D0B4C33070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706320" y="1238400"/>
            <a:ext cx="7785360" cy="1554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2884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Téma:</a:t>
            </a:r>
            <a:r>
              <a:rPr b="0" lang="cs-CZ" sz="2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Franklin Gothic Book"/>
              </a:rPr>
              <a:t>skryté obranné technické prostředky v sebeobraně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cs-CZ" sz="2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ovéPole 3"/>
          <p:cNvSpPr/>
          <p:nvPr/>
        </p:nvSpPr>
        <p:spPr>
          <a:xfrm>
            <a:off x="285840" y="50007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áclav Ú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etr Švanda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ýmka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ení li nabytá, dá se z ní i kouřit :-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Zástupný symbol pro obsah 4" descr="SimplePipePistol.gif"/>
          <p:cNvPicPr/>
          <p:nvPr/>
        </p:nvPicPr>
        <p:blipFill>
          <a:blip r:embed="rId1"/>
          <a:stretch/>
        </p:blipFill>
        <p:spPr>
          <a:xfrm>
            <a:off x="2357280" y="2786040"/>
            <a:ext cx="6492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85840" y="214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Palná zbraň v jídelním příboru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Zástupný symbol pro obsah 4" descr="gun-knife-fork-spoon.jpg"/>
          <p:cNvPicPr/>
          <p:nvPr/>
        </p:nvPicPr>
        <p:blipFill>
          <a:blip r:embed="rId1"/>
          <a:stretch/>
        </p:blipFill>
        <p:spPr>
          <a:xfrm>
            <a:off x="1214280" y="2214720"/>
            <a:ext cx="6985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3" descr="pistol&amp;holster.jpg"/>
          <p:cNvPicPr/>
          <p:nvPr/>
        </p:nvPicPr>
        <p:blipFill>
          <a:blip r:embed="rId1"/>
          <a:stretch/>
        </p:blipFill>
        <p:spPr>
          <a:xfrm>
            <a:off x="2786040" y="2000160"/>
            <a:ext cx="5118120" cy="3994200"/>
          </a:xfrm>
          <a:prstGeom prst="rect">
            <a:avLst/>
          </a:prstGeom>
          <a:ln w="0">
            <a:noFill/>
          </a:ln>
        </p:spPr>
      </p:pic>
      <p:pic>
        <p:nvPicPr>
          <p:cNvPr id="425" name="Obrázek 5" descr="GoldSmall.jpg"/>
          <p:cNvPicPr/>
          <p:nvPr/>
        </p:nvPicPr>
        <p:blipFill>
          <a:blip r:embed="rId2"/>
          <a:stretch/>
        </p:blipFill>
        <p:spPr>
          <a:xfrm>
            <a:off x="1000080" y="1785960"/>
            <a:ext cx="1265400" cy="4883040"/>
          </a:xfrm>
          <a:prstGeom prst="rect">
            <a:avLst/>
          </a:prstGeom>
          <a:ln w="0">
            <a:noFill/>
          </a:ln>
        </p:spPr>
      </p:pic>
      <p:sp>
        <p:nvSpPr>
          <p:cNvPr id="426" name="Obdélník 6"/>
          <p:cNvSpPr/>
          <p:nvPr/>
        </p:nvSpPr>
        <p:spPr>
          <a:xfrm>
            <a:off x="857160" y="357120"/>
            <a:ext cx="25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řílecí p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1"/>
          <a:stretch/>
        </p:blipFill>
        <p:spPr>
          <a:xfrm>
            <a:off x="23760" y="219240"/>
            <a:ext cx="3554640" cy="206028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3" descr="article1089355029755a50ax0.jpg"/>
          <p:cNvPicPr/>
          <p:nvPr/>
        </p:nvPicPr>
        <p:blipFill>
          <a:blip r:embed="rId2"/>
          <a:stretch/>
        </p:blipFill>
        <p:spPr>
          <a:xfrm>
            <a:off x="4357800" y="785880"/>
            <a:ext cx="4505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hem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elektrick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7" descr="es006"/>
          <p:cNvPicPr/>
          <p:nvPr/>
        </p:nvPicPr>
        <p:blipFill>
          <a:blip r:embed="rId2"/>
          <a:stretch/>
        </p:blipFill>
        <p:spPr>
          <a:xfrm>
            <a:off x="5003640" y="2205000"/>
            <a:ext cx="3206880" cy="424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sj013"/>
          <p:cNvPicPr/>
          <p:nvPr/>
        </p:nvPicPr>
        <p:blipFill>
          <a:blip r:embed="rId3"/>
          <a:stretch/>
        </p:blipFill>
        <p:spPr>
          <a:xfrm>
            <a:off x="468360" y="2276640"/>
            <a:ext cx="3260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Pepřové  spreje ukryté v předmětech denního používán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14" descr="sprej_pero_s"/>
          <p:cNvPicPr/>
          <p:nvPr/>
        </p:nvPicPr>
        <p:blipFill>
          <a:blip r:embed="rId1"/>
          <a:stretch/>
        </p:blipFill>
        <p:spPr>
          <a:xfrm>
            <a:off x="4214880" y="2928960"/>
            <a:ext cx="464328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VYCHÁZKOVÁ HŮL</a:t>
            </a:r>
            <a:br>
              <a:rPr sz="3200"/>
            </a:br>
            <a:r>
              <a:rPr b="0" lang="cs-CZ" sz="3200" spc="-1" strike="noStrike">
                <a:solidFill>
                  <a:srgbClr val="4e3b30"/>
                </a:solidFill>
                <a:latin typeface="Franklin Gothic Medium"/>
              </a:rPr>
              <a:t>DUTÁ SE SKRYTÝM OSTŘÍM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Zástupný symbol pro obsah 4" descr="cane-sword-rattan.jpg"/>
          <p:cNvPicPr/>
          <p:nvPr/>
        </p:nvPicPr>
        <p:blipFill>
          <a:blip r:embed="rId1"/>
          <a:stretch/>
        </p:blipFill>
        <p:spPr>
          <a:xfrm>
            <a:off x="2355840" y="1554120"/>
            <a:ext cx="458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9" name="Zástupný symbol pro obsah 3" descr="PK-1.JPG"/>
          <p:cNvPicPr/>
          <p:nvPr/>
        </p:nvPicPr>
        <p:blipFill>
          <a:blip r:embed="rId2"/>
          <a:stretch/>
        </p:blipFill>
        <p:spPr>
          <a:xfrm>
            <a:off x="3286080" y="1397160"/>
            <a:ext cx="438156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Zástupný symbol pro obsah 3" descr="82ac0de319_31971166_o2.jpg"/>
          <p:cNvPicPr/>
          <p:nvPr/>
        </p:nvPicPr>
        <p:blipFill>
          <a:blip r:embed="rId2"/>
          <a:stretch/>
        </p:blipFill>
        <p:spPr>
          <a:xfrm>
            <a:off x="3276720" y="2389320"/>
            <a:ext cx="2743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Děkuji za pozornost!!!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Kdy je možné určitou zbraň považovat za skrytou?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braň, která byla vyrobena a je primárně určena k použití jako zbraň, avšak vzhled zbraně nemají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Jako neurčitý předmě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ředmět používaný ke zcela jinému účelu (baterka, tužka, vycházková hůl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ástrah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4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echanické (zbraně úderné, bodné, sečné, střelné, výbušné s tříštivým obalem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Chem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řekonání cíle chem. Látky (pepřové spreje, toxické plyny, jedy, žíravi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Elektrické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– využívají k působení na cíl elektrickou energi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Akustické (infrazvuk, ultrazvuk a zvuk resp. hluk ve slyšitelném pásmu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lakové (jsou to obvykle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epelné (zápalné, výbušn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Ostatní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Zástupný symbol pro obsah 3" descr="small-Dart-gun.jpg"/>
          <p:cNvPicPr/>
          <p:nvPr/>
        </p:nvPicPr>
        <p:blipFill>
          <a:blip r:embed="rId2"/>
          <a:stretch/>
        </p:blipFill>
        <p:spPr>
          <a:xfrm>
            <a:off x="3500280" y="1928880"/>
            <a:ext cx="5429520" cy="4651200"/>
          </a:xfrm>
          <a:prstGeom prst="rect">
            <a:avLst/>
          </a:prstGeom>
          <a:ln w="0">
            <a:noFill/>
          </a:ln>
        </p:spPr>
      </p:pic>
      <p:sp>
        <p:nvSpPr>
          <p:cNvPr id="410" name="TextovéPole 4"/>
          <p:cNvSpPr/>
          <p:nvPr/>
        </p:nvSpPr>
        <p:spPr>
          <a:xfrm>
            <a:off x="500040" y="1785960"/>
            <a:ext cx="307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art 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šipková zbra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na britskou tajnou službou SOE během 2. sv.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rázová plynová zbraň k vystřelování šipek napuštěných je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Zástupný symbol pro obsah 3" descr="stinger3.jpg"/>
          <p:cNvPicPr/>
          <p:nvPr/>
        </p:nvPicPr>
        <p:blipFill>
          <a:blip r:embed="rId1"/>
          <a:stretch/>
        </p:blipFill>
        <p:spPr>
          <a:xfrm>
            <a:off x="3857760" y="1071720"/>
            <a:ext cx="5065560" cy="4389120"/>
          </a:xfrm>
          <a:prstGeom prst="rect">
            <a:avLst/>
          </a:prstGeom>
          <a:ln w="0">
            <a:noFill/>
          </a:ln>
        </p:spPr>
      </p:pic>
      <p:sp>
        <p:nvSpPr>
          <p:cNvPr id="412" name="TextovéPole 4"/>
          <p:cNvSpPr/>
          <p:nvPr/>
        </p:nvSpPr>
        <p:spPr>
          <a:xfrm>
            <a:off x="357120" y="1428840"/>
            <a:ext cx="31431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i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ala americká tajná služba 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y jí vybaveny partyzánské skupiny v Evrop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856800" y="500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hol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15" descr="Bali 007"/>
          <p:cNvPicPr/>
          <p:nvPr/>
        </p:nvPicPr>
        <p:blipFill>
          <a:blip r:embed="rId1"/>
          <a:stretch/>
        </p:blipFill>
        <p:spPr>
          <a:xfrm>
            <a:off x="6227640" y="2276640"/>
            <a:ext cx="2695680" cy="3600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Bali 006"/>
          <p:cNvPicPr/>
          <p:nvPr/>
        </p:nvPicPr>
        <p:blipFill>
          <a:blip r:embed="rId2"/>
          <a:stretch/>
        </p:blipFill>
        <p:spPr>
          <a:xfrm>
            <a:off x="857160" y="2214720"/>
            <a:ext cx="5133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Finger Gun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Dostřel až 10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Zástupný symbol pro obsah 4" descr="ringgun.jpg"/>
          <p:cNvPicPr/>
          <p:nvPr/>
        </p:nvPicPr>
        <p:blipFill>
          <a:blip r:embed="rId1"/>
          <a:stretch/>
        </p:blipFill>
        <p:spPr>
          <a:xfrm>
            <a:off x="4214880" y="1928880"/>
            <a:ext cx="4614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Franklin Gothic Book"/>
              </a:rPr>
              <a:t>Střílející deštník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Používali agenti  KGB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e zde skrytá plynová zbraň obsahující kuličky jedu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Zástupný symbol pro obsah 4" descr="umbrella_shooting_sticks.jpg"/>
          <p:cNvPicPr/>
          <p:nvPr/>
        </p:nvPicPr>
        <p:blipFill>
          <a:blip r:embed="rId1"/>
          <a:stretch/>
        </p:blipFill>
        <p:spPr>
          <a:xfrm>
            <a:off x="4648320" y="1838160"/>
            <a:ext cx="4343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23:34Z</dcterms:created>
  <dc:creator>Lada</dc:creator>
  <dc:description/>
  <dc:language>en-US</dc:language>
  <cp:lastModifiedBy>Vašík</cp:lastModifiedBy>
  <dcterms:modified xsi:type="dcterms:W3CDTF">2010-04-15T20:52:53Z</dcterms:modified>
  <cp:revision>16</cp:revision>
  <dc:subject/>
  <dc:title>Předmět: Technické prostředky v sebeobraně </dc:title>
</cp:coreProperties>
</file>