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DE46-D38C-4227-896F-116AC7C5BC1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878-9266-4D50-98C5-59FBD308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46B-CE68-4869-9D8D-A6181561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F67-8375-4554-9B81-66E321BC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E8E-6407-44EF-A5EF-CA31B6C9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3C9-F04A-433E-A9CE-612EBE02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7D5-8F18-42AD-A482-5D709CAB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824-4934-4773-B687-929D8807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588-821E-4703-A079-D864B9E4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43D-86A4-4F50-AF9C-B08802B5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54A-AFD4-4885-B26A-28DFDEE0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8F8-2ADB-4C63-89D2-ABB472F8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8D8-9B0F-4B83-AAC7-C228ADC0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ADC8-0772-4586-949D-7F089519F2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ÁRNÍ PRÁCE</a:t>
            </a:r>
            <a:br>
              <a:rPr sz="4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předmětu</a:t>
            </a:r>
            <a:br>
              <a:rPr sz="2000"/>
            </a:br>
            <a:r>
              <a:rPr b="1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chnické prostředky v sebeobran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e a současnost automatických palných zbra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obci zbraní, nap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isto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eská zbrojov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ckler Ko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r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G Sauer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volv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mith a W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u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an We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ssi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minární práci vytvořili: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gr. Petr Droščák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c. Jaroslav Matoušek</a:t>
            </a:r>
            <a:br>
              <a:rPr sz="28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EBS, II. semestr.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voj zbraní už od pravěku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zbraně: pěstní klí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dřevěný kyj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br>
              <a:rPr sz="20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tupem času vznik oštěpu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štěp: vzniká zašpičatěním kyje a jako hrot se používá špičatý kámen nebo ko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105520" y="1905120"/>
          <a:ext cx="2495520" cy="160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05120"/>
                    <a:ext cx="24955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40 000 lety vynález vrhače kratších oštěp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vynález lu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 je složen z lučiště a tětivy a vyroben ze dře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lí opět šíp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971800" y="4495680"/>
          <a:ext cx="3067200" cy="118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495680"/>
                    <a:ext cx="30672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8000 lety v Mezopotámii objeven bronz.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prve bronzové hroty kopí, šípy a dýky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ně i první meč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6000 lety objeveno zpracování železa a s tím n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nikají první brnění a kuše.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952880" y="4343400"/>
          <a:ext cx="229572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343400"/>
                    <a:ext cx="2295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 13. Století v Číně vynalezen střelný prach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 je tvořen 75% sanytru, 15% dřevěného uhlí a 10% sí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uhá polovina 14. stol. vznik prvního dě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děla té doby bylo tzv. bombar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polovina 15. stol. - vznik ručních střelných zbra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arkebuz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houfni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píšťaly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vznik prvních mušket.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16. stol. - vznik první pist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výhody: malý dostř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malé nabíj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562720" y="3048120"/>
          <a:ext cx="2552760" cy="105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048120"/>
                    <a:ext cx="25527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45 - ve Francii zaveden kovový náboj s okrajovým zápalem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66 - vznik náboje s oddělenou zápalkou vlisovanou do dna nábojnice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leduje zavedení bezdýmového prachu, který umožnil vznik samonabíjecích zbraní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nešní zbraně dělíme na: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amonabíjecí pistol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revolver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brokovni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pušk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samopal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kulome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granátome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raketom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43000" y="2438280"/>
          <a:ext cx="2381400" cy="141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238140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219320" y="4419720"/>
          <a:ext cx="2190600" cy="1212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419720"/>
                    <a:ext cx="21906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ní části zbraně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ožná hla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ožná nábojová komora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álec revolv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zdro závěru nebo tělo a závě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91120" y="1143000"/>
          <a:ext cx="418140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143000"/>
                    <a:ext cx="418140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PM</cp:lastModifiedBy>
  <dcterms:modified xsi:type="dcterms:W3CDTF">2010-05-04T23:19:18Z</dcterms:modified>
  <cp:revision>1</cp:revision>
  <dc:subject/>
  <dc:title>PowerPoint Presentation</dc:title>
</cp:coreProperties>
</file>