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4CA3-2818-4FE8-B1BE-49E24348A0F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E5C-C5CA-4742-AB38-ABDA71AE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B27-BD18-4E4A-A6D2-C971211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247-5DB4-47EE-9FB7-3FEEE803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575-AC27-4300-ABB2-DBE401C8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E29-FF7F-4FF4-A0EF-1999DDC6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529-B612-41C4-873B-342AE893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22C-3DAA-4248-8BD1-2C8491CD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D2B-BEAC-45CE-96E7-B4A63878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7B0-0F81-424B-8B00-A2B8534A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813-2351-4950-81D0-CA868B8E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471-55EF-4EB2-BEB0-A0797DD9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3C0-EEEF-4E77-A69A-7B40818A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0DB6-BF40-4E90-9FF8-C3F1A1DCF7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ÁRNÍ PRÁCE</a:t>
            </a:r>
            <a:br>
              <a:rPr sz="4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předmětu</a:t>
            </a:r>
            <a:br>
              <a:rPr sz="2000"/>
            </a:br>
            <a:r>
              <a:rPr b="1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chnické prostředky v sebeobran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e a současnost automatických palných zbra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obci zbraní, nap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isto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eská zbrojov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ckler Ko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G Sauer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volv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mith a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an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ssi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minární práci vytvořili: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gr. Petr Droščá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c. Jaroslav Matouše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EBS, II. semestr.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voj zbraní už od pravěk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zbraně: pěstní klí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dřevěný kyj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br>
              <a:rPr sz="20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tupem času vznik oštěpu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štěp: vzniká zašpičatěním kyje a jako hrot se používá špičatý kámen nebo ko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05520" y="1905120"/>
          <a:ext cx="2495520" cy="160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24955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40 000 lety vynález vrhače kratších oštěp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ynález lu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složen z lučiště a tětivy a vyroben ze dře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lí opět šíp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71800" y="4495680"/>
          <a:ext cx="3067200" cy="118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495680"/>
                    <a:ext cx="30672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8000 lety v Mezopotámii objeven bronz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prve bronzové hroty kopí, šípy a dýky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ně i první meč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6000 lety objeveno zpracování železa a s tím n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ají první brnění a kuše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52880" y="4343400"/>
          <a:ext cx="229572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343400"/>
                    <a:ext cx="2295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13. Století v Číně vynalezen střelný prach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tvořen 75% sanytru, 15% dřevěného uhlí a 10% sí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á polovina 14. stol. vznik prvního dě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děla té doby bylo tzv. bombar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polovina 15. stol. - vznik ručních střelných zbra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arkebuz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houf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píšťaly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znik prvních mušket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16. stol. - vznik první pi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ýhody: malý dostř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malé nabíj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62720" y="3048120"/>
          <a:ext cx="2552760" cy="105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048120"/>
                    <a:ext cx="25527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45 - ve Francii zaveden kovový náboj s okrajovým zápalem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66 - vznik náboje s oddělenou zápalkou vlisovanou do dna nábojnice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zavedení bezdýmového prachu, který umožnil vznik samonabíjecích zbraní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nešní zbraně dělíme na: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nabíjecí pistol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evolver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brokov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pušk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pal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kul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granát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aketom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2438280"/>
          <a:ext cx="238140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238140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4419720"/>
          <a:ext cx="2190600" cy="1212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19720"/>
                    <a:ext cx="21906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části zbraně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nábojová komora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lec revolv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zdro závěru nebo tělo a závě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91120" y="1143000"/>
          <a:ext cx="418140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41814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PM</cp:lastModifiedBy>
  <dcterms:modified xsi:type="dcterms:W3CDTF">2010-05-04T23:19:18Z</dcterms:modified>
  <cp:revision>1</cp:revision>
  <dc:subject/>
  <dc:title>PowerPoint Presentation</dc:title>
</cp:coreProperties>
</file>