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624-06F6-4A3F-BFBE-BC876956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56B-763F-4A39-9AF4-BDC030F2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16D-01F7-4A8A-888C-94839290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C7C-5811-41E7-9659-FC307DA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6D37-33BF-4A83-9BA3-0F7D70F4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0D51C-9FE7-45B7-86D5-F73EF3FC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1404-5C85-40B9-97A1-9070E67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98F5-2319-4D48-A6A2-4D214C1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21DB9-3DA0-4219-8A11-F7FB9C2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87F7F-505A-4310-A3F0-EB442FEB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770A-BB7C-4784-A1D1-5374AC6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DC2-92F3-4B9E-84FA-D83A81D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A3202-C394-4A9F-B402-AE6A8C9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8BCB-C206-4C5C-9431-12B7667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200E1-2D14-4F3F-8F46-E4D6E783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8DB25-5944-4B14-B0BD-30E0E58D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F84C-0983-4DE6-AFE8-FA574FD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38332-034C-4003-93A3-8BAF37BA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6C35-1B68-44AF-91D7-B3111B24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E4E5-1D6D-48BD-B26C-AA085E2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50E6-C9D3-452C-9B3D-3B666A3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50B2-096C-48E2-927C-A189659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7B8-9A8B-4F65-945C-35DE7F2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6621-8500-4EE6-B2BE-81ACAA1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14D3-9CFE-4949-9515-FEE93F3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6EA7-B56B-43EE-8B26-0F6BD81D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D95FB-A085-4C7D-A40F-373B0D6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8E30-A90A-49B1-9AB1-5162AA51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C5C9-A40F-4ECD-A058-3546ECF3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C5B9-8F8A-448D-9ED7-5669FE56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A20AB-CA74-4F7F-B53E-B93CADE5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AB0009-C304-4874-A49A-C798E266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D32D4-BE98-4074-8A1C-5ECF467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25B-CD32-4880-9051-BB04E91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710AF-56B4-4ACC-9F8B-9AB8B05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2F910-E4B0-4B0B-9372-0D537BF0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10562-A437-4B3F-AA7A-0ACF58F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428F1-7C84-443C-A4D7-1288090E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48E3C-CC9E-4C17-8D2D-3E1F9DD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F3C2E-A815-42DD-A209-82B9FFE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89CDB-B7CD-40FC-A220-1D8746A6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26A24-8008-44D2-A1E7-F8C76BEF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E984F-48EF-43B8-AF38-4B51A34F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9D0E7-5128-4B58-BB4D-F6E3D4BF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1C2-9915-4B0C-92C5-345CEA8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ABF3F-32D1-42A4-A8C6-751B2E22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D1EDF-6B33-47CD-A9A7-781F22F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BF351-EED3-4E8D-AA2A-43F51D2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28924-755C-48A8-8710-F6AF967E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B409E-D3C1-43A6-AE90-D42B902B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94D6F-E796-4753-90E0-2A753BB9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0C5DD-8DD0-46BE-AEAC-BBAE5B4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A6853-C483-4A76-9B4C-E80D7C7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73AAE-5932-440C-B3E1-F149CBC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FB8D7-2481-4319-8CB9-6F9DDCAA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632-3858-42F4-8DCF-DFBB3D6C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C0202-5D63-45E2-B07B-742C2863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B25B9-64D1-4A61-B661-F4073200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47C57-7614-401E-8A09-A22676B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AB3AB-4A97-4FDF-A9BA-14D1BCC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C3E35-DBE2-41B5-B79E-421BB6AC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55A5A-3F11-4B5C-9FDC-BF7117D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8F75B-9EBF-47A3-9F70-FB2EE3CA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DA07A-2CE5-4100-B0A7-FED5194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F46A3-31BA-481F-A369-C0E0D46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EE874-5CA7-4E87-8E67-6C8DF9B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DF5-91BF-4389-BE4E-0472786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367D2-DD27-4812-9F76-640F709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D804A-4810-4295-91F0-05EE490D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37A24-0083-409E-B8D9-8A248D20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E2B-96FC-4082-927E-2CAD33A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0E8-BE9A-45F4-9A1B-A8294E1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53C-BCE3-4AC1-8FE4-571E15417A62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1AD-4CD5-4E8A-940C-F971B0641C61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římá spojovací čár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26D2-6057-4162-9A9A-7336644894E7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římá spojovací čár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římá spojovací čár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31B-BF19-4158-8AA5-9A189690556B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045-426F-472D-9D36-69BB449CEA0C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C4D-1DD7-446B-AFDA-5B94448948CD}" type="slidenum">
              <a:rPr b="0" lang="cs-CZ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400" y="4500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onstantia"/>
              </a:rPr>
              <a:t>Bc. Krajcigr Radek, Bc. Mařan Lib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Nadpis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54" name="Podnadpis 2"/>
          <p:cNvSpPr/>
          <p:nvPr/>
        </p:nvSpPr>
        <p:spPr>
          <a:xfrm>
            <a:off x="500040" y="29289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 u="sng">
                <a:solidFill>
                  <a:srgbClr val="fefac9"/>
                </a:solidFill>
                <a:uFillTx/>
                <a:latin typeface="Constantia"/>
              </a:rPr>
              <a:t>Technické prostředky v sebeobraně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Obrázek 4" descr="277thumb.jpg"/>
          <p:cNvPicPr/>
          <p:nvPr/>
        </p:nvPicPr>
        <p:blipFill>
          <a:blip r:embed="rId2"/>
          <a:stretch/>
        </p:blipFill>
        <p:spPr>
          <a:xfrm>
            <a:off x="7000920" y="3857760"/>
            <a:ext cx="15555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historické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zbraně jednoranové a dvouranové zkonstruované na principech doutnákových, kolečkových, křesadlových nebo perkusních zámkových systémů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palné zbraně určené pro střelbu náboji typu flobert s energií střely na ústí hlavně do 7,5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plynové zbraně na vzduchovou kartuš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plynové zbraně, u nichž kinetická energie střely na ústí hlavně dosahuje nejvíce 16 J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expanzní zbraně a expanzní přístr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mechanické zbraně, u nichž je napínací síla větší než 150 N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znehodnocené zbraně, na kterých byly provedeny takové nevratné úpravy, které znemožňují jejich použití ke střelb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i) zbraně, na kterých byly řezem provedeny takové úpravy, které odkrývají alespoň částečně vnitřní konstrukci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j) neaktivní střelivo a munice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k) zbraně neuvedené v kategoriích A až C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00000"/>
                </a:solidFill>
                <a:uFillTx/>
                <a:latin typeface="Constantia"/>
              </a:rPr>
              <a:t>Nabývat do vlastnictví, s výjimkou dědění, a držet nebo nosit zbraň nebo střelivo může pouze ten, kdo je držitelem zbrojního průkazu nebo zbrojní licence, pokud tento zákon nestanoví jinak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80" name="Obrázek 4" descr="309tipthumb.jpg"/>
          <p:cNvPicPr/>
          <p:nvPr/>
        </p:nvPicPr>
        <p:blipFill>
          <a:blip r:embed="rId1"/>
          <a:stretch/>
        </p:blipFill>
        <p:spPr>
          <a:xfrm>
            <a:off x="5715000" y="3857760"/>
            <a:ext cx="23050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je zakázáno nabývat do vlastnictví, držet nebo nosit, pokud není dále stanoveno jinak. Zákaz podle věty první se nevztahuje na vývoz nebo dovoz uskutečňovaný podle zvláštního právního předpis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3" name="Obrázek 3" descr="ump45.jpg"/>
          <p:cNvPicPr/>
          <p:nvPr/>
        </p:nvPicPr>
        <p:blipFill>
          <a:blip r:embed="rId2"/>
          <a:stretch/>
        </p:blipFill>
        <p:spPr>
          <a:xfrm>
            <a:off x="2428920" y="35719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520"/>
            <a:ext cx="82296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lze nabývat do vlastnictví a držet nebo nosit jen na základě povolení, pokud tento zákon nestanoví jina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Nadpis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Nadpis 2" descr=""/>
          <p:cNvPicPr/>
          <p:nvPr/>
        </p:nvPicPr>
        <p:blipFill>
          <a:blip r:embed="rId2"/>
          <a:stretch/>
        </p:blipFill>
        <p:spPr>
          <a:xfrm>
            <a:off x="122400" y="2352600"/>
            <a:ext cx="8472240" cy="1231920"/>
          </a:xfrm>
          <a:prstGeom prst="rect">
            <a:avLst/>
          </a:prstGeom>
          <a:ln w="0">
            <a:noFill/>
          </a:ln>
        </p:spPr>
      </p:pic>
      <p:sp>
        <p:nvSpPr>
          <p:cNvPr id="287" name="Obdélník 5"/>
          <p:cNvSpPr/>
          <p:nvPr/>
        </p:nvSpPr>
        <p:spPr>
          <a:xfrm>
            <a:off x="500040" y="3714840"/>
            <a:ext cx="785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uze držitel zbrojního průkazu příslušné skupiny nebo zbrojní licence příslušné skupiny, který je povinen nabytí vlastnictví této zbraně ohlásit příslušnému útvaru policie. Tuto zbraň může držitel zbrojního průkazu nosit pouze v rozsahu oprávnění stanovených pro jednotlivé skupiny zbrojních průkazů až po její registrac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nstantia"/>
              </a:rPr>
              <a:t>Zbrojní průkaz je veřejná listina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, která fyzickou osobu opravňuje k nabývání vlastnictví a držení zbraně nebo střeliva do těchto zbraní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A - ke sběratels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B - ke sportovní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C - k loveckým účelů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D - k výkonu zaměstnání nebo povolání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E - k ochraně života, zdraví nebo majetk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ac9"/>
                </a:solidFill>
                <a:latin typeface="Constantia"/>
              </a:rPr>
              <a:t>F – k provádění pyrotechnického průzkumu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9" name="Nadpis 2" descr=""/>
          <p:cNvPicPr/>
          <p:nvPr/>
        </p:nvPicPr>
        <p:blipFill>
          <a:blip r:embed="rId1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90" name="Obrázek 3" descr="SVD_Dragunov.jpg"/>
          <p:cNvPicPr/>
          <p:nvPr/>
        </p:nvPicPr>
        <p:blipFill>
          <a:blip r:embed="rId2"/>
          <a:stretch/>
        </p:blipFill>
        <p:spPr>
          <a:xfrm>
            <a:off x="6357960" y="2643120"/>
            <a:ext cx="147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Zbrojní průkaz vydává příslušný útvar policie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 na základě žádost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Jde-li o žádost o vydání zbrojního průkazu skupiny C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je žadatel povinen také předložit platný lovecký líste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44e6d"/>
                </a:solidFill>
                <a:uFillTx/>
                <a:latin typeface="Constantia"/>
              </a:rPr>
              <a:t>Příslušný útvar policie vydá zbrojní průkaz fyzické osobě</a:t>
            </a:r>
            <a:r>
              <a:rPr b="0" lang="cs-CZ" sz="2600" spc="-1" strike="noStrike">
                <a:solidFill>
                  <a:srgbClr val="344e6d"/>
                </a:solidFill>
                <a:latin typeface="Constantia"/>
              </a:rPr>
              <a:t>, která splňuje určité podmínk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70c0"/>
                </a:solidFill>
                <a:latin typeface="Constantia"/>
              </a:rPr>
              <a:t>Věková hranice pro vydání zbrojního průkaz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Zdravotní způsobilost pro vydání zbrojního průkaz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70c0"/>
                </a:solidFill>
                <a:latin typeface="Constantia"/>
              </a:rPr>
              <a:t>Odborná způsobilost žadatele o zbrojní průkaz skupiny A až 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928440"/>
            <a:ext cx="81154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Rozšíření skupin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Zánik platnosti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dnětí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Oprávnění držitelů zbrojních průkazů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nstantia"/>
              </a:rPr>
              <a:t>Povinnosti držitele zbrojního průkazu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třelná zbraň   Palná zbraň   Plynová zbraň   Mechanick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Expanzní zbraň   Expanzní přístroj   Kulová zbraň   Brok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Kombinovaná zbraň   Krátká zbraň   Dlouhá zbraň   Samočinn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Samonabíjecí zbraň   Opakovací zbraň   Jednoranová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Víceranová zbraň   Vojenská zbraň   Sportov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Lovecká zbraň   Paintbalová zbraň   Signální zbra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Historická zbraň   Hlavní části střelné zbraně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onstantia"/>
              </a:rPr>
              <a:t>Znehodnocená zbraň   Řez zbraně   Odpalovací zařízení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95" name="Obrázek 3" descr="is.jpg"/>
          <p:cNvPicPr/>
          <p:nvPr/>
        </p:nvPicPr>
        <p:blipFill>
          <a:blip r:embed="rId2"/>
          <a:stretch/>
        </p:blipFill>
        <p:spPr>
          <a:xfrm>
            <a:off x="4143240" y="285840"/>
            <a:ext cx="16257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ostup při koupi střelních zbraní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ní normy upravující postup při koupi střelné zbraně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Constantia"/>
              </a:rPr>
              <a:t>Práva a povinnosti držitele střelné zbraně“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Obrázek 3" descr="10005.jpg"/>
          <p:cNvPicPr/>
          <p:nvPr/>
        </p:nvPicPr>
        <p:blipFill>
          <a:blip r:embed="rId1"/>
          <a:stretch/>
        </p:blipFill>
        <p:spPr>
          <a:xfrm>
            <a:off x="1785960" y="3543480"/>
            <a:ext cx="542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upravuje zákon </a:t>
            </a:r>
            <a:r>
              <a:rPr b="0" lang="cs-CZ" sz="2600" spc="-1" strike="noStrike">
                <a:solidFill>
                  <a:srgbClr val="c00000"/>
                </a:solidFill>
                <a:latin typeface="Constantia"/>
              </a:rPr>
              <a:t>č. 119/2002 </a:t>
            </a: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b. ve znění pozdějších změn a doplnění. Jedná se o Zákon o střelných zbraních a střeliv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Nařízení Vlády ČR 338/2002 Sb. O technických požadavcích pro zabezpečení přechovávaných zbraní nebo střeliva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Správní řád - Zákon č. 500/2004 S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Nadpis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Obrázek 3" descr="043spim.jpg"/>
          <p:cNvPicPr/>
          <p:nvPr/>
        </p:nvPicPr>
        <p:blipFill>
          <a:blip r:embed="rId2"/>
          <a:stretch/>
        </p:blipFill>
        <p:spPr>
          <a:xfrm>
            <a:off x="6643800" y="4491000"/>
            <a:ext cx="156528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upravuje kategorie střelných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nabývání vlastnictví, držení, nošení a používání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áva a povinnosti držitelů zbraní nebo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odmínky pro vývoz, dovoz nebo tranzit zbraní nebo systémů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sankce a výkon státní správy v oblasti zbraní a střel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provozování střelnic a provozování a provádění pyrotechnického průzkum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Nadpis 2" descr=""/>
          <p:cNvPicPr/>
          <p:nvPr/>
        </p:nvPicPr>
        <p:blipFill>
          <a:blip r:embed="rId1"/>
          <a:stretch/>
        </p:blipFill>
        <p:spPr>
          <a:xfrm>
            <a:off x="328680" y="-55440"/>
            <a:ext cx="8364600" cy="1433520"/>
          </a:xfrm>
          <a:prstGeom prst="rect">
            <a:avLst/>
          </a:prstGeom>
          <a:ln w="0">
            <a:noFill/>
          </a:ln>
        </p:spPr>
      </p:pic>
      <p:pic>
        <p:nvPicPr>
          <p:cNvPr id="263" name="Obrázek 3" descr="is.jpg"/>
          <p:cNvPicPr/>
          <p:nvPr/>
        </p:nvPicPr>
        <p:blipFill>
          <a:blip r:embed="rId2"/>
          <a:stretch/>
        </p:blipFill>
        <p:spPr>
          <a:xfrm>
            <a:off x="6100920" y="5143680"/>
            <a:ext cx="152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a) zakázané zbraně, zakázané střelivo nebo zakázané doplňky zbraní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b) zbraně podléhající povolení - kategori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c) zbraně podléhající ohlášení - kategorie C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d) ostatní zbraně - kategori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e) střelivo do zbraní kategorií A až D, které není zakázan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Nadpis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041tipm.jpg"/>
          <p:cNvPicPr/>
          <p:nvPr/>
        </p:nvPicPr>
        <p:blipFill>
          <a:blip r:embed="rId2"/>
          <a:stretch/>
        </p:blipFill>
        <p:spPr>
          <a:xfrm>
            <a:off x="5802480" y="4643280"/>
            <a:ext cx="1396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ffffff"/>
                </a:solidFill>
                <a:uFillTx/>
                <a:latin typeface="Constantia"/>
              </a:rPr>
              <a:t>a) zbraně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1. vojenské, včetně odpalovacích zařízení, s výjimkou pušek, pistolí a revolverů, ověřených pro civilní použití, pokud podléhají ověřování podle zvláštního právního předpisu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2. samočinné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3. vyrobené nebo upravené tak, že lze utajit jejich účel, nebo u kterých byly původní charakter a podoba změněny tak, aby se jejich použitím mohly způsobit těžší následky, anebo zbraně maskované jako jiné předměty 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4. palné nevyrobené z kovů, pokud nejsou identifikovatelné jako zbraně při kontrolách osob a zavazadel pomocí detekčních a rentgenových přístrojů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5. plynové nebo expanzní, nejde-li o dovolené výrobní provedení,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6. střelná nástrahová zařízení a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Constantia"/>
              </a:rPr>
              <a:t>7. s pevně vestavěnými tlumiči hluku výstřelu nebo s pevně vestavěnými laserovými zaměřovači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Zástupný symbol pro obsah 5" descr="m3.jpg"/>
          <p:cNvPicPr/>
          <p:nvPr/>
        </p:nvPicPr>
        <p:blipFill>
          <a:blip r:embed="rId1"/>
          <a:stretch/>
        </p:blipFill>
        <p:spPr>
          <a:xfrm>
            <a:off x="4929120" y="4714920"/>
            <a:ext cx="2857680" cy="15159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244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Obdélník 3"/>
          <p:cNvSpPr/>
          <p:nvPr/>
        </p:nvSpPr>
        <p:spPr>
          <a:xfrm>
            <a:off x="714240" y="144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b) střelivo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se střelou průbojnou, výbušnou nebo zápalno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pro krátké kulové zbraně se střelou šokovou nebo střelou určenou ke zvýšení ranivého účink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které neodpovídá dovolenému výrobnímu provede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4. munic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Constantia"/>
              </a:rPr>
              <a:t>c) doplňky zbraní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1. tlumiče hluku výstřelu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2. zaměřovače zbraní konstruované na principu noktovizorů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3. laserové zaměřovače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a) krátké opakovací nebo samonabíjecí zbraně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b) krátké jednoranové nebo víceranové zbraně pro střelivo se středovým zápale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c) jednoranové nebo víceranové zbraně pro střelivo s okrajovým zápalem, jejichž celková délka je menší než 28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d) dlouhé samonabíjecí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e) dlouhé samonabíjecí zbraně, jejichž zásobník nebo nábojová schránka a nábojová komora nemohou dohromady pojmout více než 3 náboje a u nichž je podávací ústrojí odnímatelné, anebo u nichž není zaručeno, že nemohou být přeměněny běžně dostupnými nástroji na zbraně, jejichž zásobník nebo nábojová schránka a nábojová komora mohou dohromady pojmout více než 3 náboje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f) dlouhé opakovací nebo samonabíjecí zbraně s hladkým vývrtem hlavně, jejichž délka hlavně je menší nebo je rovná 600 mm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g) samonabíjecí zbraně, pokud mají vzhled samočinných zbraní, 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nstantia"/>
              </a:rPr>
              <a:t>h) signální zbraně pro použití signálních nábojů ráže větší než 16 mm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a) jednoranové nebo víceranové zbraně pro střelivo s okrajovým zápalem, jejichž celková délka se rovná nebo je větší než 280 mm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b) jednoranové nebo víceranové, opakovací nebo samonabíjecí dlouhé zbraně neuvedené v § 5 písm. d) až f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c) plynové zbraně, u nichž kinetická energie střely na ústí hlavně je vyšší než 16 J, s výjimkou paintbalových zbraní, 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nstantia"/>
              </a:rPr>
              <a:t>d) více než dvouranové nebo opakovací zbraně zkonstruované na principu perkusních zámkových systém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Nadpis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9:35:08Z</dcterms:created>
  <dc:creator>Radek Krajcigr</dc:creator>
  <dc:description/>
  <dc:language>en-US</dc:language>
  <cp:lastModifiedBy>Radek Krajcigr</cp:lastModifiedBy>
  <dcterms:modified xsi:type="dcterms:W3CDTF">2010-05-10T20:28:13Z</dcterms:modified>
  <cp:revision>6</cp:revision>
  <dc:subject/>
  <dc:title>MASARYKOVA UNIVERZITA BRNO FAKULTA SPORTOVNÍCH STUDIÍ</dc:title>
</cp:coreProperties>
</file>