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D88-38C4-46EE-A169-766A7739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9BF-DEE4-4F25-8386-B192E2C6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1EC-CD01-42C7-9FC6-51A956C1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D80-B5D9-4312-BC5B-6FE7F81D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C33F-659E-4696-8AA9-A8AF4FFA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440-E081-4610-BC5E-0D618408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1D2-ED22-4632-96F9-971E2143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17C-AD6A-453D-8670-22D779AA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E25F-5BCE-4D40-91A2-4DFAEE51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CBA-0BD9-4B2D-B63E-B87C0C3F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8E1-FC65-4AF8-B7DE-28144279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84C-6033-4A5B-872E-E8670622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B239-EAE5-473B-BBE1-A13A60197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TV P 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yrovnávací / kompenzační cvič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í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lepši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unkční parame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dnotlivých složek PA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loubní pohyblivos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pětí (snížit u svalů s tendencí ke zkrácení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ílu (zvýšit u ochablých svalů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uhru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valů, nervosvalovou koordinaci (D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akter pohybových stereotyp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ás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yrovnávací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vičit poma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řad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k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vičení uvolňovac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cvičení protahovací → cvičení posilovací (s nácvikem správných pohybových stereotypů) → cvičení relaxa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cvičení dechová, vytrvalostní a    rovnovážná jako doplňková  vyrovnávací 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Postupo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d jednodušších cvičení po složit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novit fyziologickou délku svalů, odstranit spasmy, zlepšit celkovou funkčnost svalstva (pruž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drž v poloze nejméně 10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ždou polohu dostatečně „prodýcha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t opakování dle zvolené metody (statický strečink x PIR, AG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akovat každých 24 hod. (příp. do 48 ho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803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správného prota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ycházet ze znalostí anatom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funkč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rotahováním dostatečně zahřát sval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výchozí polo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ahovat ve směru svalových vlá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doprovázet dýcháním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ržovat vhodný počet opakování daného cv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hypermobilitu 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lovací cvičen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otonická, izometrick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5832360" cy="324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4508640"/>
            <a:ext cx="1728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met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3068640"/>
            <a:ext cx="1584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tonick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posil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osilováním daného svalstva je třeba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protáhnout antagonis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ípadně i synergis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ýchozí poloh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abychom mohli do funkce přednostně zapojit cílené svalstvo (pohyb. stereoty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Zatíž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plikovat dle zdatnosti cvič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ádět minimálně 2x tý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ovat nejprve s vlastním tělem, potom se zatěží (pomůc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8:37:12Z</dcterms:created>
  <dc:creator>koprivova</dc:creator>
  <dc:description/>
  <dc:language>en-US</dc:language>
  <cp:lastModifiedBy>koprivova</cp:lastModifiedBy>
  <dcterms:modified xsi:type="dcterms:W3CDTF">2010-12-20T14:41:11Z</dcterms:modified>
  <cp:revision>3</cp:revision>
  <dc:subject/>
  <dc:title>Vyrovnávací proces</dc:title>
</cp:coreProperties>
</file>