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FF2-F140-4C4A-AFFD-A4A62172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CC2-ACED-4180-AD2B-5A3CB0BE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099-121D-450B-A66D-26A03676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523-E889-4450-8367-EF563A71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BEA-41B9-45EF-A68F-388ADBB3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350-0535-430D-A5EF-3D09D16C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864-D973-4B7A-A25B-C43B738F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955-F52A-4933-A782-F063C0E1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176-D7A5-47EC-BD43-D7F203FA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13B2-11D8-47D8-B8B4-FB046754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58E-D5BD-4D17-B29F-78F19553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05BA-4582-4BE3-92EB-35A9793E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CAD7-8075-4012-AA4A-221E672B0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kardiovaskulárn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kace a kontraindikace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Žiln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emocněn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arix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riziko vzniku žilního uzávěru, ucpání plicní cévy – embo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Zásady pro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horizontální poloze – imitace chůze, jízdy na 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ndážování 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prava životosprávy, ne statické polohy, nenosit břemena s velkou hmot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cévního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íž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est a poruchy citlivosti konče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vné a tepelné změny k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ýživy tkáně (bércové vředy, gangré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F max = 220 – vě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otonik – 70/min (palpace na radiální tepně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gotonik  -   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mpatikotonik – 80/min (zrychlená H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rtovec – 40-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ální TK                120/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ý TK          nad 150/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ý TK           pod 100/60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srdeční funk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ep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 W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cévních funkc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hové, podvazové, tepelné a chladové zkouš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 testem 30 min. klid, potom v sedě Hf1 (10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řepů (45s)- ihned poté H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ne si a po 1 min opět HF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érium výkonnosti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f1+Hf2+Hf3 -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ně než 0       výbo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5                     dob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1-10                průměr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1-15              slab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,1 – více        nedostatečn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ška stupínku: 50cm/M, 40cm/Ž, 20-30cm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tupovat rychlostí 30x/1min po dobu 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ukončení sed a měří se Hf (30s)vždy v první polovině druhé (T1), třetí (T2) a čtvrté (T3) min. zotav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oba vystupování v s. x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1+T2+T3) x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 55        velmi slab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-64          slabý prům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5-79          průmě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0 a více     velmi zda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časového průběh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 aku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ron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e charakteru →  funkční (lze uprav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cká (mož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hrožení živo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urocirkulační sten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/slabost(nervozita, dušnost, nespavost nekoncentrovatelnost) lze ji medikamentozně a vhodným pohybem upr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Hyperkinetický syndro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zrychlení HF (tachykardie) vhodnost PA (AE charak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gulační poruchy krevního obě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v klidu, emo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 vzestup systolického tl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ká poško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CH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nedostatečné prokrvení srdeční svaloviny s nedostatečným přívodem kysl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infarkt myokar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ronická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ngina pecto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činy: snížení cévního průsvitu (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TS (tepny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ateromatózní pláty – LDL chol., tromb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srdečních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est na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uchy rytmu – bradykardie (zpoma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tachykardie (zrych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š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ky (edémy) - DK (při selhávání P 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Plicní otok ( při selhávání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š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šší než 150/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/80 – zdraví jedinc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ár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95% - jsou neznámého pův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kundární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 onemocnění ledvin, srdce, žláz s vnitřní sekrecí, nervové cho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z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bi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xova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dia 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víc změny na srdc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většení L komory), na ledvinách (bílkovina v moči), na očním pozadí (zúžení cé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uze 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avíc orgánová poškoze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srdce (levostranné selháv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mozku (krvácení, měknu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očního pozadí (krvácení do sítn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ertenze = hlavní rizikový faktor IC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sady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PA je vhodná jen pro I a II. stádium 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E, cyklický charakter – intervalová zátě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tenz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60-80% HFmax, 3-5x týdně 30 min.,(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le výsledků zátěžového test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hyby DK a HK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zlepšení cirkulace k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rola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bez st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oroby periferních cé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epen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závěrová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(náhlý uzávěr vmetkem, embo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hronická (pomalu vznikající následkem ATS, diabetu, tox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éčba: - farm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posilování svalstva a zlepšování bočního oběhu – jen u prvních 2 stádií, ostatní L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7:01:41Z</dcterms:created>
  <dc:creator>kopřivovi</dc:creator>
  <dc:description/>
  <dc:language>en-US</dc:language>
  <cp:lastModifiedBy>koprivova</cp:lastModifiedBy>
  <dcterms:modified xsi:type="dcterms:W3CDTF">2010-12-20T15:32:53Z</dcterms:modified>
  <cp:revision>7</cp:revision>
  <dc:subject/>
  <dc:title>Oslabení kardiovaskulárního systému</dc:title>
</cp:coreProperties>
</file>