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FFA-CEF4-40F9-9ADA-74FDF6D4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85B-64A9-44DA-85BC-0F5F9911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1A5-B05A-4CBC-86FC-9C51371A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699-5210-47B2-93F0-E08E8F07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581-BCC2-4B75-B098-8077083C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84A-41C2-484F-8D98-0D7547DE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905-052B-44F0-A047-FC916E0D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27A-BFD7-4318-BC3E-4B6CEA2F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936-A93A-4374-864B-3633CEB4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B9B-574F-4824-9D7D-7A46FFFC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51B-D4CA-466A-BFDD-6E7E2B4D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06B-C80D-4682-9820-2468D9C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8026-2715-48FE-A3A6-0AB52DF98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psychická oslab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chvato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rebrovaskulární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nětli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uchy funkční (neuróz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chvatová onem. CN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jevem mozkové dysfunkce z nadměrné vzrušivosti nervov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livem poškození mozku v útlém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orečky, záněty, zranění mo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ědičnost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oby záchva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rand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bezvědomí,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tit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krátkodobá absence vědomí, bez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agnóza na základě EEG vyše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éčb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držovat režim-pravidelný rytmus bdění-sp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iminovat provokační momenty (blikavé světlo, silné emoční prožitky, hyperhydra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. pomo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!  uložit na vhodné místo, kontrola uložení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vičen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náročná PA, pozor na PA ve vodě a ve velkých výškách, ne dlouhodobá rela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rebrovaskulár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škození mozku podmíněné mozkovým infarktem trombotického nebo embolického původu, nebo krvácením do moz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činy:ATS, vysoký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ek: porucha řeči, hemipar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ičení: střídat svalové napětí a uvolnění,procvičovat zápěstí, prsty- jemná motorika, obnovit narušené pohybové stereotypy (chů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lzheimero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oroba (postupná ztráta paměti, dem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kamentózní léč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 – rozvoj kognitivních a paměťových funkcí, soběstačnost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nětlivá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akutní fázi vyžadují k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až v rámci rekonvalescence – konsultace s lékař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O a L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M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opožděný vývoj všech funkcí – zejména poruchy hy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otonus, hypertonus (spas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é kineziologické vyšetření z hlediska psychomotorického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habilitační techniky (reflexoterapie, Vojta, Bob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M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ADHD) – projevy v moto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eraktivita nebo hypoa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ulsivita, agres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chy pozornosti a koncen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 – PM, cvičení a hry na rozvoj koordinace, pestrost,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sych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uróz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urastenie, psychastenie, hyste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 stresových situací a neadekvátní reakce na danou situaci (nespav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pozitivní naladění, komunikace, relaxační, protahovací cvičení, PM, cvičení při hud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04:19Z</dcterms:created>
  <dc:creator>kopřivovi</dc:creator>
  <dc:description/>
  <dc:language>en-US</dc:language>
  <cp:lastModifiedBy>koprivova</cp:lastModifiedBy>
  <dcterms:modified xsi:type="dcterms:W3CDTF">2010-12-21T12:52:15Z</dcterms:modified>
  <cp:revision>6</cp:revision>
  <dc:subject/>
  <dc:title>Neuropsychická oslabení</dc:title>
</cp:coreProperties>
</file>