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65AA-C8DF-4059-829F-429F40080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0C43-387B-4DCB-A15B-E1C8DC08F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29AF-A338-4704-B4FE-9388F65AF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67BF-201E-4FBB-960C-6E23A52B2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E0E8-7822-4D3B-92CF-12650146D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3C00-46C7-4FC1-903E-59E9164AC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AEDA-EE64-4481-A874-C03A88584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242F-8CE6-4A00-879F-DEB0D9609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7232-A17D-49D6-8378-69F2B38F9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8AA7-9F34-4047-B2F0-78501DF8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3240-32F3-4561-8127-F615CDE4E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173E-9D71-4ADB-9381-AF6AB5F08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0EF10-AF0B-4961-A4D3-0DD30EBC72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DRAVOTNÍ TĚLESNÁ VÝCHOVA – bp02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p023z, bp023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ZATÍŽEN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 CVIČEBNÍ JEDNOTCE / VYUČOVACÍ HODI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3 základní křivky zatížení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jednovrcholová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vrchol je v rozvíjející části) – pro oslabení hybného systé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dvouvrcholová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2 vrcholy v rozvíjející části) – pro astmati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s vyrovnaným zatížením v rozvíjející části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mírně kolísající zatížení intervalového charakteru)  - pro jedince s nadváhou, obezitou a pro kardia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ah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vičební jednotky / vyučovací hodi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přizpůsobu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uhu zdravotního oslab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dravotnímu stav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logickému vě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hlav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hybovému rozvoji cvičenců/žáků a jejich předcházející pohybové průprav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kční zdatnosti cvičenc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ájmu cvičenc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dmínky předmětu pro závěrečnou zkoušk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řednášky – 75% úč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solvování 3 dílčích testů ( znalost svalů a jejich funkce, diagnostika PA, vyrovnávací cvičení) – každý test min. 60% úspěšnost odpověd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cházka na semináře KC, ZTV, metodický výstup, seminární prá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poručená lit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TV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álková, J. et al.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Zdravotní tělesná výchova. Speciální učební texty. I. část.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Praha: ČASPV, 2001. 120 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yslová, V et al.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Zdravotní tělesná výchova. Speciální učební text. II. část.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Praha: ČASPV, 2003. 106 s. ISBN 80-86586-03-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áček, M., Máčková, J.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Fyziologie tělesných cvičení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. Brno: MU, FSpS a PdF, 2002.112 s. ISBN 80-210-1604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Alter, Michael J.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Strečink : 311 protahovacích cviků pro 41 sportů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. 1. vyd. Praha : Grada Publishing, 1999. 228 s. ISBN 80-7169-76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ostálová,I., Aláčová, P. G.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Vyšetřování svalového aparátu.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Olomouc: Hanex, 2006. ISBN 80-85783-51-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ostálová, I., Miklánková,L.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Protahování a posilování pro zdraví.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Olomouc: Hanex, 2005. ISBN 80-85783-47-9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Interaktivní osnovy (I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KC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Kompenzační cvičení pro fotbalisty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. Edited by Marta Bursová - Jaromír Votík - Jiří Zalabák. První vyd. Praha : Olympia, 2003. 95 s. ISBN 80-7033-793-1.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Exercise in rehabilitation medicine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. Edited by Walter R. Frontera - David M. Slovik - David Michael Dawson. 2nd ed. Champaign : Human Kinetics, 2006. ix, 454 s. ISBN 0-7360-5541-X.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Beránková, Lenka - Fiala, Jindřich.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Kompenzační cvičení, dopopručení-návod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. Brno : Ústav preventivního lékařství, lékařská fakulta Masarykovy univerzity, 2002. 14 s.</a:t>
            </a:r>
            <a:br>
              <a:rPr sz="1400"/>
            </a:br>
            <a:br>
              <a:rPr sz="800"/>
            </a:b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jem ZT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dravotní tělesná výchova </a:t>
            </a: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je specifická forma tělesné výchovy (TV) určená pro zdravotně oslabené jedince, tedy jedince zařazené do III. zdravotn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kupiny dle zdravotnické klasifikace. Je určena všem věkovým skupiná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ZDRAVOTNÍ SKUPI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cc00"/>
                </a:solidFill>
                <a:latin typeface="Arial"/>
              </a:rPr>
              <a:t>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jedinci </a:t>
            </a:r>
            <a:r>
              <a:rPr b="0" lang="cs-CZ" sz="2400" spc="-1" strike="noStrike">
                <a:solidFill>
                  <a:srgbClr val="00cc00"/>
                </a:solidFill>
                <a:latin typeface="Arial"/>
              </a:rPr>
              <a:t>zdrav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přiměřeně vyvinutí s vysokým stupně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rénovanosti, připraveni k plnému tělesnému zatíže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TV a sport neomezeně, kvalifikovaný učitel, trené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cc00"/>
                </a:solidFill>
                <a:latin typeface="Arial"/>
              </a:rPr>
              <a:t>I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jedinci </a:t>
            </a:r>
            <a:r>
              <a:rPr b="0" lang="cs-CZ" sz="2400" spc="-1" strike="noStrike">
                <a:solidFill>
                  <a:srgbClr val="00cc00"/>
                </a:solidFill>
                <a:latin typeface="Arial"/>
              </a:rPr>
              <a:t>zdrav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méně trénovaní (totéž jako I. sk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ff"/>
                </a:solidFill>
                <a:latin typeface="Arial"/>
              </a:rPr>
              <a:t>II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jedinci </a:t>
            </a:r>
            <a:r>
              <a:rPr b="0" lang="cs-CZ" sz="2400" spc="-1" strike="noStrike">
                <a:solidFill>
                  <a:srgbClr val="3366ff"/>
                </a:solidFill>
                <a:latin typeface="Arial"/>
              </a:rPr>
              <a:t>zdravotně oslabe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trvalé nebo dočasn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chylky tělesného vývoje, tělesné stavby a zdravotní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avu) – mají určitá omeze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aprobovaný učitel TV – zk. Ze ZTV /cvičitel ZT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IV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nemocní jedinc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- LTV (pouze fyzioterapeu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ruhy zdravotního oslabení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Hybný systé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Respirační systé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ardiovaskulární systé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Metabolické a endokrinologické poru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Gastrointestinální systé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Gynekologická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Nervová a neuropsychick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myslová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tarší věk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ÍLE A ÚKOLY ZTV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í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ZTV j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cionálním způsobem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dstranit nebo zmírnit zdravotní oslabení a posílit organism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kytnout zdravotně oslabenému možnost sportovního vyžití ve vztahu k jeho schopnostem a zdravotnímu stav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ytvořit předpoklady pro všestranný harmonický vývoj zdravotně oslabeného jedi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yrovnávací prostřed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Cvičení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uvolňovací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uvolnit klouby a svalové kontraktury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Cvičení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protahovací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obnovit fyziologickou délku svalů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vičení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posilovací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zvýšit zdatnost oslabených svalů a svalových skupin) – dynamické/stat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vičení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dechová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statické/dynamické, druhy dech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vičení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relaxačn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význam, polohy, podmínky, druh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vičení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vytrvalostn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význam, výběr, měření, Zottova tabulk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vičení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rovnovážná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statická/dynamická/balancování předmět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ecné – ZG, RG, plavání a jiné spo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VIČEBNÍ JEDNOTKA / VYUČOVACÍ HOD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ři trvání 45 min.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Úvodn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5-10min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lavn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) </a:t>
            </a: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vyrovnávac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15 – 20min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kondiční/rozvíjející (10 – 15min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Závěrečn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5-7min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15:00:42Z</dcterms:created>
  <dc:creator>koprivova</dc:creator>
  <dc:description/>
  <dc:language>en-US</dc:language>
  <cp:lastModifiedBy>koprivova</cp:lastModifiedBy>
  <dcterms:modified xsi:type="dcterms:W3CDTF">2010-12-20T14:33:06Z</dcterms:modified>
  <cp:revision>3</cp:revision>
  <dc:subject/>
  <dc:title>ZDRAVOTNÍ TĚLESNÁ VÝCHOVA – bp023</dc:title>
</cp:coreProperties>
</file>