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EC9D-0883-4401-8028-5F4D7F84F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2FDB-9BB9-459D-9AD4-83F326FF0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BB03-0D5A-4F63-AE88-C9F1364EF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9EFB-AF3B-4D3A-8407-842CDB4C5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9854-C3C4-43BB-AFB9-92734A667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55A8-6F10-4A89-B296-445A9C202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D5C0-4738-4822-B505-849AE49BC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42E2-8C89-4135-BE83-CECA0CC11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2047-2305-4947-A355-1D8CE32D6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9148-9BF3-431F-A931-4055D0CB9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EF5C-3C92-4E82-B591-844199104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7DA9-9329-47EB-9E5A-4F2063E45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33645-FAC5-46CC-BA60-467DE0CF6B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labení smyslov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R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OHO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ruchy ZRAK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efrakční vad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poruchy zrak.ostrosti) – krátkozrakost, dalekozrakost, astigmatism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oruchy zorného p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oruchy binokulárního viděn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tupozrako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generativní onemocněn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glaukom, šedý zákal, odchlípení sítni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raktická slepota a zbytky zra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évní porucha sítni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při hypertenz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oruchy barevného vidě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ásady pro cvičení a sport - Zra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storová orient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ovnováhové schopnosti, bezpečnost chů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ílit taktilní a zvukové vním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kontraindikac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koky, tvrdé doskoky,prudké pohyby hlavou, kontaktní pohyb. hry, statické silové prv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ruchy SLUCHU a POLOHOCI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uchy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řevodn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bubínek, sluchové kůstky) – vlivem častých zánětů středouš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uchy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ercepčn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porucha nervových drah nebo korového centr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uchy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míšen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viz výš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uchy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vestibulárního apará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rucha rovnováhy (polohocitu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přízrak závratí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- vestibulární habituační trénink (procvičovat změny poloh, pohyby hlavou – otáčení(pozor na provázanost rovnovážného, zrakového a útrobního systém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Menierův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syndrom – zmnožením tekutiny ve vnitřním uchu (snížení až ztráta sluchu, hučení v uších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V a sport (SLUCH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voj smyslového vnímání, prostorové orient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lepšit rovnováhové schop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olečenské začlenění (navazování kontaktů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N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cviky na nářadí, rychlé střídání poloh těla, otřesy a prudké pohyby hlavou, cvičení hlavou dol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! vizuální ukázka doplněná taktilními a kinestetickými informacemi,  artikulac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5T09:01:05Z</dcterms:created>
  <dc:creator>kopřivovi</dc:creator>
  <dc:description/>
  <dc:language>en-US</dc:language>
  <cp:lastModifiedBy>koprivova</cp:lastModifiedBy>
  <dcterms:modified xsi:type="dcterms:W3CDTF">2010-12-21T12:53:43Z</dcterms:modified>
  <cp:revision>4</cp:revision>
  <dc:subject/>
  <dc:title>Oslabení smyslová</dc:title>
</cp:coreProperties>
</file>