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DD6-5B97-4F04-80A8-61426031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336-8C09-4878-BFB8-5822C817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ABD-89A8-4C43-A28C-8150BB6B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60D-5C93-4724-ABAC-4BAF5611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B07-C482-45A1-B362-DA39E253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7EA-5368-46A2-9F5C-CF4F2821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84F-FA80-4142-89DD-7B7800CE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20D-AFC4-4FCE-A0AC-1118CE71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726-E9F3-419C-9995-CE0D507F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E29-0CDC-4AB4-B26B-CC293F73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9ED-36F5-49EB-93AD-6EA9F056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1A9-9D52-40A0-A9F0-8D6F203C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A09D-7A5B-40D0-9BF2-DD5545CE5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iza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ůst za posledních 10 let o 4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R – prudký nárůst DM I. typu u dětí do 9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 stárnoucí populace (DM II. Ty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k, nevhodné stravovací návyky – velký příjem tuků, malá fyzická aktivita, obezita, nezdravý životní sty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TV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Je nutné znát zdravotní stav nemoc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da je v inzulínovém režimu, nebo pouze užívá perorální antidiabetika – PAD. Pokud je aplikován inzulín je nutné znát kam, zda se vyskytuje orgánová kompl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át symptomatologii všech akutních stavů DM a umět je správně vyře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ZTV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řazovat diabetiky dekompenz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ejména s ketoacidózou či častou hyperglykém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esahovat možnosti cvičenců, sledovat TF (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60-70% max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erobní a silová cvičení prokládat relaxacemi, PA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4x týdně v délce cca 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vičební jednotku přizpůsobovat věku diabetiků, jejich typu DM a úrovni fyzické zda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á je spolupráce s diabetologem zejména u dětí a seni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výraznější polyneuropatii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těžovat staticky chod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átěži se vyhýbat poloze v leže na břiše a všem cvikům, při kterých dochází k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výšení tlaku za o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 –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1599840"/>
            <a:ext cx="6761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abolické onemocn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rucha metabolismu sacharid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onalé hospodaření s glukózou je řízeno souhrou několika horm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nzul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rmon produková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uňkami slinivky břišní – má 2 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vá pokyn k ukládání glukózy do zásob v játrech (glyko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myká buňky v těle, aby mohla do nich glukóza vstou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M I.typu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/ při nedostatku inzulinu (10% z celkového počtu diabetik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důsledkem autoimunit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strukce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ß buněk ostrůvků slinivky břišní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teré neprodukují žádný inzulin, tento hormon v těle zcela chybí!!! – je nutno dodat inz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častěji postihuje děti, dospívající a mladé jedince do 35 let - nebývá spojen s obezitou 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uvenilní D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 vzniku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50% genetika, 50% zev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zna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nadměrná žízeň, nadměrné močení, hubnutí a únava, přechodné poruchy zrakové ostrosti, dech páchnoucí po acet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boratorní vyšetření – hyperglykémie (vyšší než 11,1 mmol/l, glykosurie (cukr v moči), ketolátky v krvi i v moč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yp diabetu se sklonem ke ketoacid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M II.typ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/ při snížené účinnosti inzulí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kyt převážně u dospělých a stárnoucí pop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kombinace genetických predispozic a zevních faktorů (snižuje se fyzická aktivita a zvyšuje se příjem ži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rizikovějším faktorem je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znaky: málokdy subjektivní potíže, je prokázán až při screeningu (ketoacidóza, přítomnost již komplik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Hyperglykémi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glykémie vyšší než 11,1 mmol/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ižší než 17 mmol/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Léčba inzulinem + poh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ad 17 mmol/l se nedoporučuje sportovat – možnost vzniku diabetické ketoacidó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perglykemické koma – při nedostatku inzulínu – ihned podat inzulín a zavolat léka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glyké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orma: 3,5 – 5,5 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atologický pokles glykémie pod 3,3 m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podání velkého množství inzulínu, nebo nadměrné zátěže, nebo nedostatkem jí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oje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malátnost, únava, vyčerpanost, dezorientace, p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poglykemický záchvat– při vědomí podat cukr do úst (mezi tvář a zuby), při ztrátě vědomí ihned zavolat lékařskou pom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likace způsobené diabetem /hyperglykémi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ledv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ef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retinop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rv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neu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mocně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oh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znam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hodně zvolená PA vede k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ětšení svalové hmo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je zásobárnou glykogenu. Z něj se může v případě poklesu glykémie uvolnit glukóza, proto dochází k menším výkyvům glykémie během dne a při cvič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 je významným prostředkem př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dukci nad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ejména u DM 2. typu. Navíc soustavný sportovní trénin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yšuje citlivost buněk na inzulí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vičit po jí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jlépe 2 hod. po podání inzulínu,  mít u sebe vždy nějakou formu cuk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pitný rež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opakovaných potížích v souvislosti s pohybem vždy konzultovat s lékařem případné upravení dávek inzulí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léčbě inzulínem kontrolovat glykémii před i po cvičení a zejména tehdy, je-li PA prováděna po dlouhé době, déle než hodinu a nebo s nezvyklou intenzit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50:55Z</dcterms:created>
  <dc:creator>koprivova</dc:creator>
  <dc:description/>
  <dc:language>en-US</dc:language>
  <cp:lastModifiedBy>koprivova</cp:lastModifiedBy>
  <dcterms:modified xsi:type="dcterms:W3CDTF">2010-12-21T12:29:21Z</dcterms:modified>
  <cp:revision>20</cp:revision>
  <dc:subject/>
  <dc:title>Diabetes Mellitus </dc:title>
</cp:coreProperties>
</file>