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5B2-83ED-4879-B92E-4A3DD39C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578-4138-4058-880E-0FA13144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47A0-6538-4A98-A81E-07D8665D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E74-8FD3-43BD-ABBE-C12A5F99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E01C-D105-4D6D-8C5B-EC3C705B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862-C892-4596-A9B9-71FF29FF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C03-DF7A-4247-81EE-FC5C27C2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689-EB68-4743-AA9E-5BCB2C19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155-7105-4333-927D-D80AAD4D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226F-EBD3-4F44-9211-C879D6A7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C957-7A72-4F37-BF90-500E3973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9C3D-30C1-4E4B-A5A6-7EA1A178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946B-AE66-48D7-9AD4-CFD3EEEC3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psychická oslab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chvatová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rebrovaskulární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nětlivá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uchy funkční (neuróz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áchvatová onem. CN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EPILEP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ojevem mozkové dysfunkce z nadměrné vzrušivosti nervov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č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vlivem poškození mozku v útlém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horečky, záněty, zranění moz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dědičnost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oby záchva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rand m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bezvědomí, kře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etit m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- krátkodobá absence vědomí, bez kře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pileps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agnóza na základě EEG vyše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éčb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rm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držovat režim-pravidelný rytmus bdění-sp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iminovat provokační momenty (blikavé světlo, silné emoční prožitky, hyperhydra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. pomo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!  uložit na vhodné místo, kontrola uložení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vičen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náročná PA, pozor na PA ve vodě a ve velkých výškách, ne dlouhodobá rela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erebrovaskulární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škození mozku podmíněné mozkovým infarktem trombotického nebo embolického původu, nebo krvácením do moz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činy:ATS, vysoký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sledek: porucha řeči, hemipar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vičení: střídat svalové napětí a uvolnění,procvičovat zápěstí, prsty- jemná motorika, obnovit narušené pohybové stereotypy (chů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enerativní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lzheimerov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horoba (postupná ztráta paměti, dem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dikamentózní léč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 – rozvoj kognitivních a paměťových funkcí, soběstačnost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nětlivá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akutní fázi vyžadují k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 až v rámci rekonvalescence – konsultace s lékař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MO a LM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M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opožděný vývoj všech funkcí – zejména poruchy hyb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potonus, hypertonus (spast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é kineziologické vyšetření z hlediska psychomotorického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habilitační techniky (reflexoterapie, Vojta, Bob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M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ADHD) – projevy v moto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peraktivita nebo hypoakt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ulsivita, agres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chy pozornosti a koncen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 – PM, cvičení a hry na rozvoj koordinace, pestrost, mot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psychické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uróz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neurastenie, psychastenie, hyste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iv stresových situací a neadekvátní reakce na danou situaci (nespav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pozitivní naladění, komunikace, relaxační, protahovací cvičení, PM, cvičení při hudb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04:19Z</dcterms:created>
  <dc:creator>kopřivovi</dc:creator>
  <dc:description/>
  <dc:language>en-US</dc:language>
  <cp:lastModifiedBy>koprivova</cp:lastModifiedBy>
  <dcterms:modified xsi:type="dcterms:W3CDTF">2010-12-21T12:52:15Z</dcterms:modified>
  <cp:revision>6</cp:revision>
  <dc:subject/>
  <dc:title>Neuropsychická oslabení</dc:title>
</cp:coreProperties>
</file>