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947-1588-4C33-B5E1-F97A01CE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3C6-5C36-468D-921C-B3D0280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CCD-99CA-4FE5-9FA4-3934F311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C2D-3580-4D4D-9C2F-B67088D8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317-9244-4D01-AB48-6FF19604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4F3-BB36-4010-B494-47039995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F89-E9A2-40E2-8EBB-14ECFE81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438-EA12-4B01-A1A9-70D601A9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C48-5EB4-4676-B9DB-0E2D0362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134-EE24-45F6-8678-ED39B1E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6E3-B3C0-4A61-935A-7FB03B09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EE0-FB55-4C8B-BEDD-08D64256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DF31-F296-49B7-B0FF-5FEB3F5BC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labení gynekolog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ožděný vývoj dělo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idelné menstruační cyk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udržení moči (inkontin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něty vnějších a vnitřních rod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ždy řádně vyléčit (nedoporučuje se sport a pohy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odnost (neprůchodnost vejcovod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nick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hodná jsou lehká kondiční cvičení a cvičení na prokrvení a uvolnění pánevní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DT, ochablost svalů – břišní, hýžďové a pánevní dno, zácpa, zadržování moči, může být i vroze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ůsled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olesti v kříži, pokles pánevních orgánů, obtížnost otěhot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brácené polohy – pánví vzhů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tické (hormonální poruchy, malá děloha, neprůchodnost vejcovod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oroby, záněty, srůsty (např. po operaci apendix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ojžíšová (vyrovnávací cvičení na úpravu funkce sval. systému + manipulace kostrč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říčiny vzni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rdé dopady a doskoky, prudké zvýšení nitrobřišního tlaku, zvedání těžkých břemen, chronická zácpa, porod (ihned po porodu těžká práce a posilování břišních svalů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hodn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ou polohy jako „svíčka“, podpor klečmo na předl. , vtahování svalů pánevníh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chodného i trvalého rá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zniku:vrozené i získané (chorobami, infekcemi, záněty), pokles dělohy a orgá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tresová inkontin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smích, kašel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stup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kašli, smí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rychlém pohybu (běh), zvedání bř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chůzi, při změně polohy (sed-stoj, leh-sto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odné chování – nejdříve lékařské vyšetření ( případný operativní zák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prazdňování před pohy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lování svalů pánevního dna ( ve stoji, v sedu na ži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ická po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ence – včasné odhalení, léč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avý životní s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nova psychické a fyzick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ZTV dle závažnosti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damírová, J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ynegymnasti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Praha:Jan Vašut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ánevní skl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valová rovnová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ahov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aly v L obl. – m. erector trunci, m. quadratus lumb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lexory kyčle- m.rectus  femoris, m. 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duktory kyčelního klo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l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řišní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ýžďové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valy pánevního d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provádějí pohyb v kloubu, rozprostírají se plošně – od stydké kosti až po kostrč – probíhají podél, napříč i kruhovitě – svěrače (kolem ústí močové trubice, konečníku) -pracují spole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valy pánevního dna (SPD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ásady posil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- leh na záde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domé stahování S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ržet stažené několik sec. (cca 10 se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lnit na dvojnásobnou dobu (20 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om v polohách sedu (náklon vpřed a vz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ádět denně 1 – 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ěhotenství (fyziologický st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hodná 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u nerizikového těhotenství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pro těhotné a plavání pro těhotné (fitb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DT – poloha pán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posílení svalov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udržení dobrého stavu plosky n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švihy, dopady, prudké pohyby, visy, zádrže dechu, opatrně v době obvyklé menstruace a ve 3 a 6. měsí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Šestinedělí / fyziologický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je porod bez komplikací – cvičit ihned druhý den – poloha na břiše –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sílení pánevníh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zavinování dělo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lohovat s dítětem na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tvorby mléka (pohyby ramen a posilování prsních sva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ýšení krevního oběhu (polohování D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ilování břišních svalů, cvičení na 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rozený proces – po 40.roce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rucha= předčasné nebo opožděné klimakteriu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mě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á produkce ženských pohlavních hormonů – menopauza - ztráta plod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rovnováhy funkce štítné žlázy, nadledvinek a nervového systému („návaly“, bolesti hlavy, nespav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cká labilita – přecitlivě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bd. Postklimak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 – vytrvalostního charakter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ičení zaměřené na SDT, udržovat svalovou rovnováhu, posilovat pánevní 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vičení : rychlá změna poloh, cvičení s hlavou dolů, prudké dop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ožděný pohlavní vývoj – bolestivá menstru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ucha v období přechodu dítěte v ž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hodná cvičení : uvolnění a prokrvení svalů v oblasti pánevního dna (cvičení na fitball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 chorobný reflex – psychického původu) – vhodná cvi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uvolnění oblasti břicha – dýchací cvičení (poloha „klubíčka“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kytují se v podbřišku v období menstru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řišní dých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ažení svalů v oblast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18:59Z</dcterms:created>
  <dc:creator>Kopřivová</dc:creator>
  <dc:description/>
  <dc:language>en-US</dc:language>
  <cp:lastModifiedBy>koprivova</cp:lastModifiedBy>
  <dcterms:modified xsi:type="dcterms:W3CDTF">2010-12-21T12:35:03Z</dcterms:modified>
  <cp:revision>9</cp:revision>
  <dc:subject/>
  <dc:title>Oslabení gynekologická</dc:title>
</cp:coreProperties>
</file>