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EC9D-3146-44C0-9A95-59065231E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623-2607-4835-BADB-D59EB021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5710-1F4D-4DA9-94FD-E3A3EF9B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ACF-9608-4F19-B2A3-B6B0D41CC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883-8C6B-4CB2-AEA8-D8059FD8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33C-3C9A-4706-9EC5-26103769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A92-8E97-4EF4-8F34-6A8446EB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736A-B6D0-4B59-91AF-AD671C2D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0774-CB82-4FB6-B6A2-B3BD177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7A2-18B0-41D3-B423-334F2708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353-BCF2-43BC-9E39-F3FC16E5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B06-2173-443C-A38B-5019FE7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4765-0214-4606-9687-1F32624E9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ěková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ejich zvláštnosti a patogenez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785988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GENEZE – vývoj jedince od narození do smr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ů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kvantitativní změny – končí dospěl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ý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kvalitativní změny – neustává, je po celý ži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edškolní věk (3-6 l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dobí pomalého a klidného rů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ončení vývoje hrubé motoriky – udržování rovnová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jemné motor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átky abstraktního myš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jvhodnější období (zejm. 4. rok života) pro tvorbu motorických spoj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á činnost, tvořivá dětská h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hybová potře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normomotorické dítě (6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hypermotorické dítě (8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 hypomotorické dítě (40 % aktivní pohy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(6-8) – vytáhlost a poté plno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postupný rozvoj percepčně motorického u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větší výkonnost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nerovnoměrnost v růstu kostí a sval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začínají vady držení těla, sv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sbalancí, obez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UBESC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Mladší školní vě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 (8-11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cepčně motorická činnost dokonalej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ynamičtější pohyb. vývo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ůst pohyb. vytrvalosti, rychlosti, pře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třeba 1 hod. denně intenzivní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vhodná speci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strannost, rozvoj koordinačních s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ormonální změn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astý výskyt VDT, vady páteře (Morbus Scheuermann – H, skoliozy – 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neurovegetativní regu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rdiovaskulární poru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ezita, mentální anorex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pomalení rů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hyby koordinova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chol fyzické výkonnosti, rychlejší růst trénovanosti, roste svalová sí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ktní myšle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výskyt onemocnění dýchacích cest, kožní problémy,infekční onemocn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řeba sportu – touha po seberealiza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SPĚL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končení růstu, osifikace kostí (18 – 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bývání tělesné hmot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xuální dozrá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ětší fyziologická zdatnost –tělesná obratnost, smyslová bystrost, pohotovost, nejkratší doba reakce – vrchol zdraví a sí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30. roku evoluce, po 30. roce invol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ůležitost pohybu pro udržování funkcí jednotlivých systém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ÁŘÍ je výsledkem stárnu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to označení pozdních fází ontogen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důsledkem a projevem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dmíněných involučních procesů modifikovaných dalšími faktory (choroby, životní způsob, životní podmínk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nější f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trava, přiměřená aktivita, tělesné cvi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ýslednicí vzájemného působ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enetick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životního sty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ÁŘ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Biologick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y v organismu (Po Ap, Nerv a smysl. funkce, kardiovaskulár. sy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Sociální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ůchod (změna ŽS), posproduktivní věk, fáze zá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Kalendářní (chronologický)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dříve 60.vě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yní 65 – 74 mlad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75 – 84 staří senioř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85 a více  velmi sta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  90 let - dlouhověk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 stárnu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číná od samotného poč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kles funkcí(atrofie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◄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o dosažení sexuální dospěl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yflick (199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fatální nutnost – nikomu se nemů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hn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o normální pro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atoulek, Vilikus (200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znivý vliv pohy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odílu aktivní tělesné hmoty k tukové hmo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funkční kapacity kardiov.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ení některých metabol.paramet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glyké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í celkového cholesterolu – zvýšení HDL-cholestero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ýšení pevnosti k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dukce tzv. endorfinů v mozk. tkáni     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►zlepšení pohody /well-be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apy vývoje podle klasifikace W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ládí                                  do 3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lost                              31 – 4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řední věk                       46 – 6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ší věk                          61 – 75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áří                                  76 – 90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lmi vysoký věk               nad 91 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běr vhodné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třeba respektovat všechny změny vyvolané stárnutí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iologické (úbytek sv.hmoty zejm. D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ruchy zdraví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horoby ve stář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  (degener.onem.PA, osteoporóza, slabost zraku, sluchu, hypertenze, diabetes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nezdatnost organism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oru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zátěž denně min.30 min. střed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nzity, respektovat zájmy seni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uži po 50 – ideální kombinace   ANAE      (posilování sv. trupu) a AE (50-60% max) zátěž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rvalostní a cyklická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avotní tělesná cvič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aktivity v přírod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genetický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LÁD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mbryonální vývoj (prenatál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orozenecké období (porod – 28.den) - postnatáln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jenecké obd. (do 1 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atole (do konce 3.rok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školní věk (3 – 6 l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pubescence (ml. a stř. šk.věk-6-8, 8-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ubescence (11-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olescence (15-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bryonální vývo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2 měsíce: vývoj jednotl.orgán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etická výb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tlivost na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škodliv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evního prostředí působící prostřednictvím matky (choroby, kouření, drogy, špatná životospráva, alkoholismus…)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►vznik morfologických vad – patrné po porod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!! pozitivní vliv pohy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d 3. měsíce: obd. fetální (plodové) – jsou vytvořeny základy všech orgánů – vznik růstových a vývojových retardací (postižení mozk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torické projevy prenatálního vývoje C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spontánní pohyby – ke konci 6. embr.týd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vní reflexní odpovědi – u 7 týdenního embrya – odklon hl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orické funk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měsíc – sval.kontrakce, reakce na taktilní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měsíc – pohyby DK a HK, úst a hlavi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.-7. měsíc – reakce na taktilní, akustické, vizuální a chuťové podně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ec 8. měsíce- jsou již založeny všechny svaly – rozvoj geneticky daných motorických vzorců – reflexní posturální moto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orozenecké obdob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od – 28. 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o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nedostatek kyslíku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příčinou rozvíjející se choroby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rfologického, funkčního poškození (LM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ůsobení velkých mechanických sil na hlavičku (D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předčasné porody (DMO, smyslové vady, poruchy psychi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* ne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OJENEC- postnatální vývo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konce 1. ro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míněné refle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chlý rozvoj motoriky (zejména lokomo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dání hlavičky (2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se koníčky (3. – 6. mě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stabilní sed (6. měs.)- infantilní kyfó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ze, staví se u nábytku, stabilní sed (9.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mostatná chůze (12.m, nejzazší norma -18.m,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trola vývoje kyčelních kloubů (lux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ývoj tvaru páteř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3. měs. -  krč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6. měs. -  hrudní kyf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 1 roku  -   bederní lordó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OLE (do konce 3. rok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kladní lokomoce – chůze, koncem období i bě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voj jemné motoriky (ruka, prs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jení fyzické a psychické slož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a-spontánní pohyb. aktiv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strost pohy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ezovat statickou čin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tivní pohyb.činnost – 75 % doby bdě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9:13:55Z</dcterms:created>
  <dc:creator>kopřivovi</dc:creator>
  <dc:description/>
  <dc:language>en-US</dc:language>
  <cp:lastModifiedBy>koprivova</cp:lastModifiedBy>
  <dcterms:modified xsi:type="dcterms:W3CDTF">2010-12-21T13:05:04Z</dcterms:modified>
  <cp:revision>9</cp:revision>
  <dc:subject/>
  <dc:title>      Věková období jejich zvláštnosti a patogeneze    </dc:title>
</cp:coreProperties>
</file>