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2F05-2AC6-4A30-B4CD-B0076FB0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9D01-0F14-4B39-8FD7-BBF03BC5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EF0D-74A5-45B2-B17E-766F146CB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6A1D-FAB2-4AF2-BBBB-F320546F1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9216-739B-44A9-9923-D267CD7C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CBF3-E291-41B4-9585-EE83EC77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73D3-C669-40FB-8745-5FE93529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3400-39A5-4356-9EC0-890DCCAA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8651-8FB7-4E5A-AA2F-C9D57D6E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ACEE-D3A1-4B7D-8C84-B251A37D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7AB3-5531-4882-AB66-CB915499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B731-A66A-494A-A8B1-9EDFBFEA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64CA-D92C-4B21-81B3-081503EE6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ivilizační onemocn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árůst za posledních 10 let o 4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ČR – prudký nárůst DM I. typu u dětí do 9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u stárnoucí populace (DM II. Typ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ěk, nevhodné stravovací návyky – velký příjem tuků, malá fyzická aktivita, obezita, nezdravý životní sty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sady TV proce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Je nutné znát zdravotní stav nemocného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zda je v inzulínovém režimu, nebo pouze užívá perorální antidiabetika – PAD. Pokud je aplikován inzulín je nutné znát kam, zda se vyskytuje orgánová kompl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át symptomatologii všech akutních stavů DM a umět je správně vyřeš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 ZTV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nezařazovat diabetiky dekompenzované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zejména s ketoacidózou či častou hyperglykém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přesahovat možnosti cvičenců, sledovat TF (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60-70% max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erobní a silová cvičení prokládat relaxacemi, PA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4x týdně v délce cca 40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vičební jednotku přizpůsobovat věku diabetiků, jejich typu DM a úrovni fyzické zdatn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utná je spolupráce s diabetologem zejména u dětí a seni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výraznější polyneuropatii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nezatěžovat staticky chodidl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átěži se vyhýbat poloze v leže na břiše a všem cvikům, při kterých dochází ke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zvýšení tlaku za oč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iabetes Mellitus –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42560" y="1599840"/>
            <a:ext cx="676116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abolické onemocně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porucha metabolismu sacharidů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konalé hospodaření s glukózou je řízeno souhrou několika hormon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Inzuli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hormon produkován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buňkami slinivky břišní – má 2 funk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ává pokyn k ukládání glukózy do zásob v játrech (glykog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emyká buňky v těle, aby mohla do nich glukóza vstoup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DM I.typu 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/ při nedostatku inzulinu (10% z celkového počtu diabetiků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důsledkem autoimunitní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destrukce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ß buněk ostrůvků slinivky břišní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které neprodukují žádný inzulin, tento hormon v těle zcela chybí!!! – je nutno dodat inzu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častěji postihuje děti, dospívající a mladé jedince do 35 let - nebývá spojen s obezitou (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juvenilní D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říčiny vzniku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50% genetika, 50% zevní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říznak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nadměrná žízeň, nadměrné močení, hubnutí a únava, přechodné poruchy zrakové ostrosti, dech páchnoucí po aceto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aboratorní vyšetření – hyperglykémie (vyšší než 11,1 mmol/l, glykosurie (cukr v moči), ketolátky v krvi i v moč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to typ diabetu se sklonem ke ketoacidó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M II.typu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/ při snížené účinnosti inzulí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kyt převážně u dospělých a stárnoucí popu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to kombinace genetických predispozic a zevních faktorů (snižuje se fyzická aktivita a zvyšuje se příjem živ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rizikovějším faktorem je OBEZ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znaky: málokdy subjektivní potíže, je prokázán až při screeningu (ketoacidóza, přítomnost již komplikac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Hyperglykémie 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(glykémie vyšší než 11,1 mmol/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 glykémii nižší než 17 mmol/l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Léčba inzulinem + pohy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i glykémii nad 17 mmol/l se nedoporučuje sportovat – možnost vzniku diabetické ketoacidóz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yperglykemické koma – při nedostatku inzulínu – ihned podat inzulín a zavolat lékař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glykém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orma: 3,5 – 5,5 mmol/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Patologický pokles glykémie pod 3,3 mmol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říči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podání velkého množství inzulínu, nebo nadměrné zátěže, nebo nedostatkem jíd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roje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- malátnost, únava, vyčerpanost, dezorientace, poc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ypoglykemický záchvat– při vědomí podat cukr do úst (mezi tvář a zuby), při ztrátě vědomí ihned zavolat lékařskou pom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omplikace způsobené diabetem /hyperglykémi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tižení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ledvin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diabetická nefrop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tižení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ok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diabetická retinopat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nerv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- neurop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nemocnění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noho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diabetická no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znam 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hodně zvolená PA vede k 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většení svalové hmo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a je zásobárnou glykogenu. Z něj se může v případě poklesu glykémie uvolnit glukóza, proto dochází k menším výkyvům glykémie během dne a při cvičen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 je významným prostředkem př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dukci nadvá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zejména u DM 2. typu. Navíc soustavný sportovní trénink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vyšuje citlivost buněk na inzulí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oru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vičit po jíd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ejlépe 2 hod. po podání inzulínu,  mít u sebe vždy nějakou formu cuk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držovat pitný rež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i opakovaných potížích v souvislosti s pohybem vždy konzultovat s lékařem případné upravení dávek inzulí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i léčbě inzulínem kontrolovat glykémii před i po cvičení a zejména tehdy, je-li PA prováděna po dlouhé době, déle než hodinu a nebo s nezvyklou intenzit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5:50:55Z</dcterms:created>
  <dc:creator>koprivova</dc:creator>
  <dc:description/>
  <dc:language>en-US</dc:language>
  <cp:lastModifiedBy>koprivova</cp:lastModifiedBy>
  <dcterms:modified xsi:type="dcterms:W3CDTF">2010-12-21T12:29:21Z</dcterms:modified>
  <cp:revision>20</cp:revision>
  <dc:subject/>
  <dc:title>Diabetes Mellitus </dc:title>
</cp:coreProperties>
</file>