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6F83-8FE5-47BE-BF4A-6E466E5F6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E0C7-E543-43A6-A701-F87ED1414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64CE-F0ED-420E-9B9E-D5890C034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57E6-B103-401C-8841-FADBEEFF6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8FED-59D3-4979-9330-3E58F3702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BE7D-9C57-4999-BE93-72DC34D50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7BBD-A189-45E7-A489-913A4EC9C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39D1-BEBE-49E3-9CA5-AD5F05264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4A77-205E-4AA7-891E-45EFB497C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D342-952F-47B0-A1AE-F7222B87E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B9F9-86D3-4650-84C0-1E76C0C40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76C8-01DB-4013-85B2-76A9269F6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8F9BC-144E-4CB7-9615-BE4AE3B2EC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slabení gynekologick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77724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ožděný vývoj děloh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pravidelné menstruační cykl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olestivá menstru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Vazivové bole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áně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kloněná děloh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plod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kles děloh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rucha udržení moči (inkontin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ádorová onemocně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692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Záně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něty vnějších a vnitřních rodi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kutn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záněty – vždy řádně vyléčit (nedoporučuje se sport a pohyb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plodnost (neprůchodnost vejcovodů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hronické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záněty – vhodná jsou lehká kondiční cvičení a cvičení na prokrvení a uvolnění pánevní oblas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Zakloněná děloh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říčin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VDT, ochablost svalů – břišní, hýžďové a pánevní dno, zácpa, zadržování moči, může být i vroze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ůsledk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bolesti v kříži, pokles pánevních orgánů, obtížnost otěhotně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Vhodná cvičen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obrácené polohy – pánví vzhůr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eplodno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Příčiny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tické (hormonální poruchy, malá děloha, neprůchodnost vejcovodů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horoby, záněty, srůsty (např. po operaci apendixu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sychi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Vhodná cvičení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– Mojžíšová (vyrovnávací cvičení na úpravu funkce sval. systému + manipulace kostrč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kles dělo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říčiny vznik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vrdé dopady a doskoky, prudké zvýšení nitrobřišního tlaku, zvedání těžkých břemen, chronická zácpa, porod (ihned po porodu těžká práce a posilování břišních svalů!!!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hodné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sou polohy jako „svíčka“, podpor klečmo na předl. , vtahování svalů pánevního d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Inkontinence </a:t>
            </a:r>
            <a:br>
              <a:rPr sz="4000"/>
            </a:b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 porucha udržení moč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echodného i trvalého ráz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Příčiny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vzniku:vrozené i získané (chorobami, infekcemi, záněty), pokles dělohy a orgán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Stresová inkontinence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(smích, kašel.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3 stupně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i kašli, smích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i rychlém pohybu (běh), zvedání bře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i chůzi, při změně polohy (sed-stoj, leh-stoj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Inkontinence </a:t>
            </a:r>
            <a:br>
              <a:rPr sz="4000"/>
            </a:br>
            <a:r>
              <a:rPr b="1" lang="cs-CZ" sz="4000" spc="-1" strike="noStrike">
                <a:solidFill>
                  <a:srgbClr val="000000"/>
                </a:solidFill>
                <a:latin typeface="Times New Roman"/>
              </a:rPr>
              <a:t> porucha udržení moč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hodné chování – nejdříve lékařské vyšetření ( případný operativní zákrok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yprazdňování před pohyb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ilování svalů pánevního dna ( ve stoji, v sedu na židl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sychická poho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ádorová onemocně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evence – včasné odhalení, léčb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dravý životní sty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bnova psychické a fyzické rovnováh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vičení ZTV dle závažnosti onemocně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Literatur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damírová, J.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Gynegymnastik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. Praha:Jan Vašut, 1999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9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ánevní sklon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svalová rovnováh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773000"/>
            <a:ext cx="7772400" cy="43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tahova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valy v L obl. – m. erector trunci, m. quadratus lumbor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Flexory kyčle- m.rectus  femoris, m. iliopso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dduktory kyčelního kloub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Posilov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Břišní svalst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Hýžďové svalst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Svaly pánevního dn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– neprovádějí pohyb v kloubu, rozprostírají se plošně – od stydké kosti až po kostrč – probíhají podél, napříč i kruhovitě – svěrače (kolem ústí močové trubice, konečníku) -pracují společn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valy pánevního dna (SPD)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zásady posilování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- leh na zádech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ědomé stahování SP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držet stažené několik sec. (cca 10 sec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volnit na dvojnásobnou dobu (20 se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tom v polohách sedu (náklon vpřed a vza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ádět denně 1 – 2 m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ěhotenství (fyziologický stav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Vhodná P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(u nerizikového těhotenství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vičení pro těhotné a plavání pro těhotné (fitbal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DT – poloha pán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vičení na posílení svalové rovnováh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vičení na udržení dobrého stavu plosky noh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vhodná cvičení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švihy, dopady, prudké pohyby, visy, zádrže dechu, opatrně v době obvyklé menstruace a ve 3 a 6. měsí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Šestinedělí / fyziologický stav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kud je porod bez komplikací – cvičit ihned druhý den – poloha na břiše –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posílení pánevního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dn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(zavinování děloh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lohovat s dítětem na tě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tvorby mléka (pohyby ramen a posilování prsních svalů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výšení krevního oběhu (polohování D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silování břišních svalů, cvičení na SD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limakterium/přech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irozený proces – po 40.roce (</a:t>
            </a: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porucha= předčasné nebo opožděné klimakteriu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</a:rPr>
              <a:t>Změny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nížená produkce ženských pohlavních hormonů – menopauza - ztráta plod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rucha rovnováhy funkce štítné žlázy, nadledvinek a nervového systému („návaly“, bolesti hlavy, nespavos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sychická labilita – přecitlivěl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Osteoporóz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(obd. Postklimakteri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limakterium/přech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Vhodná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A – vytrvalostního charakter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vičení zaměřené na SDT, udržovat svalovou rovnováhu, posilovat pánevní d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evhodná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vičení : rychlá změna poloh, cvičení s hlavou dolů, prudké dopa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požděný pohlavní vývoj – bolestivá menstrua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rucha v období přechodu dítěte v žen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hodná cvičení : uvolnění a prokrvení svalů v oblasti pánevního dna (cvičení na fitballech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Times New Roman"/>
              </a:rPr>
              <a:t>Bolestivá menstruac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 chorobný reflex – psychického původu) – vhodná cvičení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a uvolnění oblasti břicha – dýchací cvičení (poloha „klubíčka“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azivové bolest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yskytují se v podbřišku v období menstru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Vhodná cvičen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řišní dých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volnění kyčl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tažení svalů v oblastí kyčl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1T16:18:59Z</dcterms:created>
  <dc:creator>Kopřivová</dc:creator>
  <dc:description/>
  <dc:language>en-US</dc:language>
  <cp:lastModifiedBy>koprivova</cp:lastModifiedBy>
  <dcterms:modified xsi:type="dcterms:W3CDTF">2010-12-21T12:35:03Z</dcterms:modified>
  <cp:revision>9</cp:revision>
  <dc:subject/>
  <dc:title>Oslabení gynekologická</dc:title>
</cp:coreProperties>
</file>