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FCE8-48B2-4E04-A4EB-D68C82D6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1E18-2439-4AD0-969D-F29CDE39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BE3-E7A0-457F-ADF6-64EECAA1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E9C2-1121-4049-9604-149F2C11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406-4BC5-456B-96C5-7D99DED0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455D-498F-4202-8120-BAFA7DC3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96B-1E69-47E9-A3C8-15324186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57B-713A-4D15-9AEB-79F66D3F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FCA-5B35-401A-8CBB-B03AB55A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247-761B-4022-B748-9F4BFF09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78B-9BDB-45C1-9B32-6D312FD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22FF-97C6-4784-BD1F-B501BAA4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0D3-4CF2-4DDA-9E4A-8894C0B92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kardiovaskulárn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ízna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kace a kontraindikace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Žiln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nemocněn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arix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riziko vzniku žilního uzávěru, ucpání plicní cévy – embol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Zásady pro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horizontální poloze – imitace chůze, jízdy na k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ndážování 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prava životosprávy, ne statické polohy, nenosit břemena s velkou hmot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cévního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íž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est a poruchy citlivosti končet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o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vné a tepelné změny k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ýživy tkáně (bércové vředy, gangré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F max = 220 – vě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otonik – 70/min (palpace na radiální tepně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agotonik  -   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mpatikotonik – 80/min (zrychlená H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rtovec – 40-60/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rmální TK                120/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ý TK          nad 150/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ý TK           pod 100/60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zkouš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srdeční funk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p t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W1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yšetření cévních funkc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hové, podvazové, tepelné a chladové zkou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uffierova zkouš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 testem 30 min. klid, potom v sedě Hf1 (10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dřepů (45s)- ihned poté Hf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dne si a po 1 min opět HF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itérium výkonnosti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f1+Hf2+Hf3 -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ně než 0       výbo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-5                     dob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1-10                průměr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1-15              slab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,1 – více        nedostatečná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-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ška stupínku: 50cm/M, 40cm/Ž, 20-30cm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tupovat rychlostí 30x/1min po dobu 5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 ukončení sed a měří se Hf (30s)vždy v první polovině druhé (T1), třetí (T2) a čtvrté (T3) min. zotav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ex: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oba vystupování v s. x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T1+T2+T3) x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 55        velmi slab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-64          slabý prům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-79          průměrná zda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90 a více     velmi zdat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kteristik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e časového průběh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 akut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ron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le charakteru →  funkční (lze uprav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→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cká (možno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hrožení živo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Neurocirkulační steni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/slabost(nervozita, dušnost, nespavost nekoncentrovatelnost) lze ji medikamentozně a vhodným pohybem uprav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Hyperkinetický syndro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zrychlení HF (tachykardie) vhodnost PA (AE charak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gulační poruchy krevního obě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v klidu, emo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 vzestup systolického tla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ká poškoz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CH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nedostatečné prokrvení srdeční svaloviny s nedostatečným přívodem kyslí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infarkt myokar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ická forma =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íčiny: snížení cévního průsvitu (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TS (tepny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ateromatózní pláty – LDL chol., tromb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íznaky srdečních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lest na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uchy rytmu – bradykardie (zpoma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tachykardie (zrych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š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oky (edémy) - DK (při selhávání P 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Plicní otok ( při selhávání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d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an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š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šší než 150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/80 – zdraví jedinc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ár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95% - jsou neznámého pův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kundární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ři onemocnění ledvin, srdce, žláz s vnitřní sekrecí, nervové choro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pertenz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abi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ixova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dia hyperten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víc změny na srdc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většení L komory), na ledvinách (bílkovina v moči), na očním pozadí (zúžení cé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uze zvýšený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avíc orgánová poškoze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srdce (levostranné selhá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mozku (krvácení, měknut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čního pozadí (krvácení do sítn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ypertenze = hlavní rizikový faktor IC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sady cvičen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PA je vhodná jen pro I a II. stádium 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E, cyklický charakter – intervalová zátě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tenzi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60-80% HFmax, 3-5x týdně 30 min.,(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le výsledků zátěžového test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hyby DK a HK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zlepšení cirkulace k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rola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tmosféra bez st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horoby periferních cé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Tepen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uzávěrová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utní (náhlý uzávěr vmetkem, embo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chronická (pomalu vznikající následkem ATS, diabetu, tox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éčba: - farm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posilování svalstva a zlepšování bočního oběhu – jen u prvních 2 stádií, ostatní L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7:01:41Z</dcterms:created>
  <dc:creator>kopřivovi</dc:creator>
  <dc:description/>
  <dc:language>en-US</dc:language>
  <cp:lastModifiedBy>koprivova</cp:lastModifiedBy>
  <dcterms:modified xsi:type="dcterms:W3CDTF">2010-12-20T15:32:53Z</dcterms:modified>
  <cp:revision>7</cp:revision>
  <dc:subject/>
  <dc:title>Oslabení kardiovaskulárního systému</dc:title>
</cp:coreProperties>
</file>