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452-10B8-4164-80F3-725AA62D7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903C-4917-4F8A-B04D-185F0E7F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F00F-D62D-4364-9497-306818F88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9F29-5500-402D-834A-DB3BD84D3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40E-F040-42F9-AF24-99BD74EE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FDBF-E8DD-4277-87DC-54227B92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E62C-FDA5-494A-B012-1FED8FD3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D0B-304B-4F67-B992-97367413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891-3BFF-455C-9FDA-7D6467E6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FE9B-0AA2-47E7-B214-E54BCCA1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789-70DC-401D-A344-ABCB0EFE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26D-D5E9-424D-92EF-FBFF2A50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D589-4B9F-4E0B-AEFB-2EACBD31E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yrovnávací pro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TV P /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yrovnávací / kompenzační cviče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í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lepši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unkční parame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dnotlivých složek PA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loubní pohyblivos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apětí (snížit u svalů s tendencí ke zkrácení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ílu (zvýšit u ochablých svalů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uhru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valů, nervosvalovou koordinaci (D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rakter pohybových stereotypů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ása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yrovnávacího proc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vičit pomal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řízený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držova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řad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nostik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vičení uvolňovací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cvičení protahovací → cvičení posilovací (s nácvikem správných pohybových stereotypů) → cvičení relaxa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 cvičení dechová, vytrvalostní a    rovnovážná jako doplňková  vyrovnávací cvi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Arial"/>
              </a:rPr>
              <a:t>Postupov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d jednodušších cvičení po složitěj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ahovací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novit fyziologickou délku svalů, odstranit spasmy, zlepšit celkovou funkčnost svalstva (pružn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ýdrž v poloze nejméně 10s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ždou polohu dostatečně „prodýchat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čet opakování dle zvolené metody (statický strečink x PIR, AG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akovat každých 24 hod. (příp. do 48 hod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ahovací cviče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4803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správného protah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ycházet ze znalostí anatom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funkč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protahováním dostatečně zahřát svalst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it vhodnou výchozí polo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ahovat ve směru svalových vlá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 doprovázet dýcháním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držovat vhodný počet opakování daného cv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hypermobilitu 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lovací cvičení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zotonická, izometrick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5832360" cy="3240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03280" y="4508640"/>
            <a:ext cx="1728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ometrické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kt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8000" y="3068640"/>
            <a:ext cx="1584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zotonické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kte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sady posil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posilováním daného svalstva je třeba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protáhnout antagonis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řípadně i synergis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olit vhodnou </a:t>
            </a: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výchozí poloh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abychom mohli do funkce přednostně zapojit cílené svalstvo (pohyb. stereoty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Řízený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00"/>
                </a:solidFill>
                <a:latin typeface="Arial"/>
              </a:rPr>
              <a:t>Zatíž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plikovat dle zdatnosti cvič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vádět minimálně 2x týd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covat nejprve s vlastním tělem, potom se zatěží (pomůc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08:37:12Z</dcterms:created>
  <dc:creator>koprivova</dc:creator>
  <dc:description/>
  <dc:language>en-US</dc:language>
  <cp:lastModifiedBy>koprivova</cp:lastModifiedBy>
  <dcterms:modified xsi:type="dcterms:W3CDTF">2010-12-20T14:41:11Z</dcterms:modified>
  <cp:revision>3</cp:revision>
  <dc:subject/>
  <dc:title>Vyrovnávací proces</dc:title>
</cp:coreProperties>
</file>