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CDA-330B-4B5C-9535-61386D72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D4C-4A92-4130-B6C6-D871DB94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982-C527-4075-B734-70AE2B2E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B28-FC19-4DF1-B98A-2A170604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FBE-63E6-4C7F-B50B-83F316340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AF5D-E44C-44DF-99F8-666C4D39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7244-3F33-43F3-A208-ACBEA8F1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37A4-966E-4AE4-A555-7A374018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423-6281-4D97-B187-CFD05349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DF3-3200-4694-B984-F4135E6E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5F6A-6590-4886-A716-53C7279C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05CF-DFF4-42B1-8FDE-E6D87A51D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E507-78E5-4EFE-8B35-04CE90F46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opsychická oslab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chvato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rebrovaskulární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nětlivá onemocnění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uchy funkční (neuróz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Záchvatová onem. CNS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ojevem mozkové dysfunkce z nadměrné vzrušivosti nervové tká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čin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livem poškození mozku v útlém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horečky, záněty, zranění mo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dědičnost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odoby záchva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rand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bezvědomí,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etit ma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- krátkodobá absence vědomí, bez kře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pileps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agnóza na základě EEG vyše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éčb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rm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držovat režim-pravidelný rytmus bdění-sp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iminovat provokační momenty (blikavé světlo, silné emoční prožitky, hyperhydra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. pomo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!  uložit na vhodné místo, kontrola uložení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vičení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enáročná PA, pozor na PA ve vodě a ve velkých výškách, ne dlouhodobá relax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erebrovaskulár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škození mozku podmíněné mozkovým infarktem trombotického nebo embolického původu, nebo krvácením do moz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činy:ATS, vysoký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sledek: porucha řeči, hemipar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vičení: střídat svalové napětí a uvolnění,procvičovat zápěstí, prsty- jemná motorika, obnovit narušené pohybové stereotypy (chů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generativní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Alzheimerov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choroba (postupná ztráta paměti, dem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dikamentózní léč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 – rozvoj kognitivních a paměťových funkcí, soběstačnost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nětlivá onemocn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akutní fázi vyžadují k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 až v rámci rekonvalescence – konsultace s lékař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MO a L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M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- opožděný vývoj všech funkcí – zejména poruchy hyb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otonus, hypertonus (spas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é kineziologické vyšetření z hlediska psychomotorického vý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habilitační techniky (reflexoterapie, Vojta, Boba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MD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ADHD) – projevy v moto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peraktivita nebo hypoakt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ulsivita, agresiv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uchy pozornosti a koncen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hodná PA – PM, cvičení a hry na rozvoj koordinace, pestrost, motiv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kční psychické poru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Neurózy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neurastenie, psychastenie, hyster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liv stresových situací a neadekvátní reakce na danou situaci (nespav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pozitivní naladění, komunikace, relaxační, protahovací cvičení, PM, cvičení při hudb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08:04:19Z</dcterms:created>
  <dc:creator>kopřivovi</dc:creator>
  <dc:description/>
  <dc:language>en-US</dc:language>
  <cp:lastModifiedBy>koprivova</cp:lastModifiedBy>
  <dcterms:modified xsi:type="dcterms:W3CDTF">2010-12-21T12:52:15Z</dcterms:modified>
  <cp:revision>6</cp:revision>
  <dc:subject/>
  <dc:title>Neuropsychická oslabení</dc:title>
</cp:coreProperties>
</file>