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958-B160-487E-BD39-0ADECB35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044E-ADED-49DF-A5C4-9587FBD4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F1DF-921A-4173-8C9D-D733ED4F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829-C9E1-4DBC-A512-9AE3E0FC8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2992-2C82-42B6-92ED-2AC40F46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4A1F-9E60-449A-8EC4-D61C5C58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478B-7FA8-4779-8228-58C85CF8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15BC-776A-4375-84FC-3B929858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75E0-31B3-4CB0-B916-4966D822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0700-944F-48DF-A26F-DB2B25C1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9D1-C01E-4897-8ADA-DA9C6579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B5C-9E6F-4EB7-A321-372FBA1B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9949-E693-4BD0-8419-5A2087572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DRAVOTNÍ TĚLESNÁ VÝCHOVA – bp0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p023z, bp023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ZATÍŽEN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 CVIČEBNÍ JEDNOTCE / VYUČOVACÍ HODI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základní křivky zatížení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jedno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vrchol je v rozvíjející části) – pro oslabení hybné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dvouvrcholov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2 vrcholy v rozvíjející části) – pro astma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 vyrovnaným zatížením v rozvíjející části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mírně kolísající zatížení intervalového charakteru)  - pro jedince s nadváhou, obezitou a pro kardi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ah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ičební jednotky / vyučovací hod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řizpůsobu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hu zdravotního oslab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logickému vě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la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hybovému rozvoji cvičenců/žáků a jejich předcházející pohybové průpra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kční zdatnosti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ájmu cviče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dmínky předmětu pro závěrečnou zkouš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řednášky – 75% úč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solvování 3 dílčích testů ( znalost svalů a jejich funkce, diagnostika PA, vyrovnávací cvičení) – každý test min. 60% úspěšnost odpověd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cházka na semináře KC, ZTV, metodický výstup,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á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T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álková, J. 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y. 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1. 120 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yslová, V et a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Zdravotní tělesná výchova. Speciální učební text. II. část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raha: ČASPV, 2003. 106 s. ISBN 80-86586-03-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áček, M., Máčková,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Fyziologie tělesných cvičení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: MU, FSpS a PdF, 2002.112 s. ISBN 80-210-160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ter, Michael J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Strečink : 311 protahovacích cviků pro 41 sportů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1. vyd. Praha : Grada Publishing, 1999. 228 s. ISBN 80-7169-76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I., Aláčová, P. G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Vyšetřování svalového aparátu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6. ISBN 80-85783-51-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stálová, I., Miklánková,L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Protahování a posilování pro zdraví.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Olomouc: Hanex, 2005. ISBN 80-85783-47-9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Interaktivní osnovy (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C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 pro fotbalisty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Marta Bursová - Jaromír Votík - Jiří Zalabák. První vyd. Praha : Olympia, 2003. 95 s. ISBN 80-7033-793-1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Exercise in rehabilitation medicin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Edited by Walter R. Frontera - David M. Slovik - David Michael Dawson. 2nd ed. Champaign : Human Kinetics, 2006. ix, 454 s. ISBN 0-7360-5541-X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Beránková, Lenka - Fiala, Jindřich.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Kompenzační cvičení, dopopručení-návod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. Brno : Ústav preventivního lékařství, lékařská fakulta Masarykovy univerzity, 2002. 14 s.</a:t>
            </a:r>
            <a:br>
              <a:rPr sz="1400"/>
            </a:br>
            <a:br>
              <a:rPr sz="800"/>
            </a:b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jem Z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dravotní tělesná výchova </a:t>
            </a:r>
            <a:r>
              <a:rPr b="1" i="1" lang="en-US" sz="3200" spc="-1" strike="noStrike">
                <a:solidFill>
                  <a:srgbClr val="00cc00"/>
                </a:solidFill>
                <a:latin typeface="Arial"/>
              </a:rPr>
              <a:t>je specifická forma tělesné výchovy (TV) určená pro zdravotně oslabené jedince, tedy jedince zařazené do III. zdravotn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kupiny dle zdravotnické klasifikace. Je určena všem věkovým skupiná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DRAVOTNÍ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přiměřeně vyvinutí s vysokým stupně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énovanosti, připraveni k plnému tělesnému zatíž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V a sport neomezeně, kvalifikovaný učitel, trené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00cc00"/>
                </a:solidFill>
                <a:latin typeface="Arial"/>
              </a:rPr>
              <a:t>zdrav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méně trénovaní (totéž jako I. sk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II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jedinci </a:t>
            </a:r>
            <a:r>
              <a:rPr b="0" lang="cs-CZ" sz="2400" spc="-1" strike="noStrike">
                <a:solidFill>
                  <a:srgbClr val="3366ff"/>
                </a:solidFill>
                <a:latin typeface="Arial"/>
              </a:rPr>
              <a:t>zdravotně oslab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trvalé nebo dočasn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hylky tělesného vývoje, tělesné stavby a zdravot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vu) – mají určitá ome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aprobovaný učitel TV – zk. Ze ZTV /cvičitel ZT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nemocní jedin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LTV (pouze fyzioterape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ruhy zdravotního oslaben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ybný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spirač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ardiovaskulární syst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etabolické a endokrinologické por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astrointestinální syst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Gynekologick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rvová a neuropsych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myslo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rší vě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ÍLE A ÚKOLY ZT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í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TV j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álním způsobe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stranit nebo zmírnit zdravotní oslabení a posílit organism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kytnout zdravotně oslabenému možnost sportovního vyžití ve vztahu k jeho schopnostem a zdravotnímu sta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tvořit předpoklady pro všestranný harmonický vývoj zdravotně oslabeného jed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střed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volň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volnit klouby a svalové kontraktur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rotah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obnovit fyziologickou délku svalů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silovac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zvýšit zdatnost oslabených svalů a svalových skupin) – dynamické/sta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chov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é/dynamické, druhy dec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elaxač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polohy, podmínky, druh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ytrvalostn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význam, výběr, měření, Zottova tabul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iče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ovnovážn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atická/dynamická/balancování předmět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é – ZG, RG, plavání a jiné spo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VIČEBNÍ JEDNOTKA / VYUČOVACÍ HOD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ři trvání 45 min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Úvod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1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lav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) </a:t>
            </a:r>
            <a:r>
              <a:rPr b="0" lang="en-US" sz="2800" spc="-1" strike="noStrike">
                <a:solidFill>
                  <a:srgbClr val="00cc00"/>
                </a:solidFill>
                <a:latin typeface="Arial"/>
              </a:rPr>
              <a:t>vyrovnávac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5 – 20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kondiční/rozvíjející (10 – 15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ávěrečn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5-7min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5:00:42Z</dcterms:created>
  <dc:creator>koprivova</dc:creator>
  <dc:description/>
  <dc:language>en-US</dc:language>
  <cp:lastModifiedBy>koprivova</cp:lastModifiedBy>
  <dcterms:modified xsi:type="dcterms:W3CDTF">2010-12-20T14:33:06Z</dcterms:modified>
  <cp:revision>3</cp:revision>
  <dc:subject/>
  <dc:title>ZDRAVOTNÍ TĚLESNÁ VÝCHOVA – bp023</dc:title>
</cp:coreProperties>
</file>