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FA24-41DE-4E6E-BB0A-5C06E87D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8E33-37DD-4020-9CB2-C37FAC92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A10E-5BCF-4B01-941B-809B84BAE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F443-789A-4F8E-A8C2-7BEB1416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06F0-2906-4FD0-A269-5466C96B9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95E9-1638-4E00-8998-9299C6F1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BAE5-DE68-4D9E-99E3-845212F1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4B8F-2E16-443B-A458-82B3F3E3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B1FA-95AE-4A0A-B5AE-2BA6D1E5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FE8E-6D94-41FD-BAFC-5944F8DE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7D4F-17D3-401E-AD47-A29F9CF1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4B88-EB0E-4CE0-AE6F-91DB361F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50DE-C6D4-4114-9221-D355F2B00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labení smyslov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R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OHO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uchy ZRA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efrakční va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oruchy zrak.ostrosti) – krátkozrakost, dalekozrakost, astigmati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ruchy zorného p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ruchy binokulárního vidě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tupozrak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generativní onemocně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glaukom, šedý zákal, odchlípení sítn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aktická slepota a zbytky zra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évní porucha sítn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při hypertenz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ruchy barevného vid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ásady pro cvičení a sport - Zra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storová orient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ovnováhové schopnosti, bezpečnost chů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ílit taktilní a zvukové vním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kontraindikac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koky, tvrdé doskoky,prudké pohyby hlavou, kontaktní pohyb. hry, statické silové prv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ruchy SLUCHU a POLOHOCI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řevod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bubínek, sluchové kůstky) – vlivem častých zánětů středouš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ercepčn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orucha nervových drah nebo korového centr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míšen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viz výš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uch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estibulárního apará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rucha rovnováhy (polohoci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přízrak závratí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- vestibulární habituační trénink (procvičovat změny poloh, pohyby hlavou – otáčení(pozor na provázanost rovnovážného, zrakového a útrobního systém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Menierův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syndrom – zmnožením tekutiny ve vnitřním uchu (snížení až ztráta sluchu, hučení v uších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V a sport (SLUC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oj smyslového vnímání, prostorové orient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lepšit rovnováhové schop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ečenské začlenění (navazování kontakt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cviky na nářadí, rychlé střídání poloh těla, otřesy a prudké pohyby hlavou, cvičení hlavou do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! vizuální ukázka doplněná taktilními a kinestetickými informacemi,  artikula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9:01:05Z</dcterms:created>
  <dc:creator>kopřivovi</dc:creator>
  <dc:description/>
  <dc:language>en-US</dc:language>
  <cp:lastModifiedBy>koprivova</cp:lastModifiedBy>
  <dcterms:modified xsi:type="dcterms:W3CDTF">2010-12-21T12:53:43Z</dcterms:modified>
  <cp:revision>4</cp:revision>
  <dc:subject/>
  <dc:title>Oslabení smyslová</dc:title>
</cp:coreProperties>
</file>