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444-E58D-4425-878E-812CC9EE2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971-56CE-4BC3-8ECD-7DF0694B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C9BD-9F17-4202-915A-3523183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0AE-8C98-47AE-B47E-B298787C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565-5025-479E-BC88-A6B1DA68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297-C5C9-42A6-965A-3E644BC4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D0F-70E1-433A-9058-7F5A4620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81A-1603-4ABB-A11A-81D15454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2FD-9F73-449B-9610-07FB2A7F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DFE-234C-4EA4-B7AA-FECE9A4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514-93B6-4F33-A84A-332AC10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ECE-221F-4692-BB26-8EEB33A7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4D8F-CE22-449C-A281-0E8C035AA73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dýchacího systé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z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OBSTRUK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ekážka v proudění vzduchu, zúžení dýchacích cest) -  Astma bronchiale, záněty dýchacích c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ruchy při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RESTRIKC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mění se pohyblivost plic a hrudníku, dochází k omezení dýchací plochy) – deformity hrud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echová gymnastik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tatické a dynamické dechové cvi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Korekce D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hlava, hrudník,knoflíková ram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Úprava sval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rovnováhy (HZ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319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B a tělesná zátě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nzivní těl.zátěž v nevhodném prostředí -častý faktor vyvolávající pozátěž. bronchospasmus (70 – 80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Vhodná a pravidelná P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zlepšuje dýchací a oběhový systém, zlepšuje funkci Po Ap, příznivě působí na psychi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uristika (!alergeny ve formě py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ízda na kole (! alergeny a dobu trvání při 75% HF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á zátěž ( tenis, volejbal, basktetb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CÍL: zlepšit adaptaci organismu na fyzickou zátěž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stma bronchi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ronické zánětlivé onemocnění dýchacích cest, je charakterizováno záchvaty výdechové dušnosti (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bronchospasmem)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volané generalizovanou obstrukcí dýchacích cest různého stupně a trvání, která je částečně nebo úplně reverzibilní buď spontánně nebo po léčebném zása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pouštěcí fakt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udený nebo suchý vzdu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chové podněty, dráždivé látky v ovzduší, alerge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dměrná tělesná zátě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ekce dýchacích c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tiologie a příčiny vzniku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Atopická dispozice - vrozená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alergická reakce zprostředkovaná imunoglobulinem E (IgE) – imunitní pořecitlivě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3300"/>
                </a:solidFill>
                <a:latin typeface="Arial"/>
              </a:rPr>
              <a:t>Kontakt s alergene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prach, pyl, roztoči, plísně, srst zvířat, potravi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Nerovnováha ve vegetativním nervovém systému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zvýšená aktivita parasympatiku –nervus vagus; blokáda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receptorů sympatik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 – stanovení diagnó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mn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yzikální vyšetření – poslech, držení r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ření výdechové rych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vyšetření – Spiroergometrie, Spirometrie (VO2 max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dilatační testy (měření výdech.rychlosti před a po podání látky rozšiřující průduš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ronchoprovokační testy – ve vztahu k pracovnímu prostře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v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T, deformity hrudníku, snížená vitální kapacita plic, snížená výko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ční poruchy (funkce dýchac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imunitního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ve sféře psychické a soci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unolog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Alerg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ýšená činnost IS na některé látky zevního prostředí (</a:t>
            </a: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imunologická hyperreaktiv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. Projevuje se jako rýma, průduškové astma, atopický ekzém, potravinová al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u dětí je v 80-90% alergic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ý Zéland – nejvyšší výskyt AB (není průmysl znečišťující ovzduší, ale převažuje zemědělství – chov ov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ormy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topické, aler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B (spojeno často s atopickým ekzémem) – má genetický zá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endogen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B – citlivost na bakteriální antigeny v dýchacích cest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pozátěžové astma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EIA-exercise induced asthma)- 4-10min. na zač., nebo do 20-40-min po intenzivní zátěži (chladný a suchý vzdu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chladové ast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</a:rPr>
              <a:t>aspirinové (AIA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reakce na kyselinu acetylsalicilov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lasifikace tíže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rmitentní – ojedinělé záchvaty, 1-2x /měsíc/noční, PEF nad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ké perzistující – max. 1x denně, více než 2x noc/měsíc, PEF na 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ředně těžké perzistující – každodenní, noční častěji než 1x týdně, PEF 60-8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ěžké perzistující astma – kontinuální příznaky s omezením životních aktivit, PEF pod 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éčba 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 - na základě momentálního stavu nemocného (klidový stav, období záchvatu, pozáchvatový sta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oterap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limatoterapie (speleoterapie, pobyt na horách, u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ázeňská léč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rovnávací cvi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9:15:09Z</dcterms:created>
  <dc:creator>kopřivovi</dc:creator>
  <dc:description/>
  <dc:language>en-US</dc:language>
  <cp:lastModifiedBy>koprivova</cp:lastModifiedBy>
  <dcterms:modified xsi:type="dcterms:W3CDTF">2010-12-20T15:28:18Z</dcterms:modified>
  <cp:revision>19</cp:revision>
  <dc:subject/>
  <dc:title>Oslabení dýchacího systému</dc:title>
</cp:coreProperties>
</file>