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E36-D4E7-49CA-9F14-5F45DEF5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F4F-3445-48DE-9133-398DDFCA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166-4845-4A03-8242-34F8FFC9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BD7-50A2-4247-93BA-11D508C3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309-4B56-455A-8CAF-0B979E7D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9C7-D27B-4F78-9A1F-ABB5A94F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69A-672D-4CB7-AFE2-ABBCCFD8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5B5-EF59-4FD1-B82D-2702DFC8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DF5-A591-4E3C-A39A-CB20BA1C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6BC-F5A1-46B7-A3B5-98A16DB2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84A-2FB1-4C54-BA36-C303384D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4C1-12FB-4C95-8BD2-AD681FA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5942-69C0-4BA6-B95D-AF347754C3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dýchac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z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OBSTRUK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ekážka v proudění vzduchu, zúžení dýchacích cest) -  Astma bronchiale, záněty dýchacích c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při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RESTRIKC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ění se pohyblivost plic a hrudníku, dochází k omezení dýchací plochy) – deformity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echová gymnasti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tatické a dynamické dechové cvi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rekce D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lava, hrudník,knoflíková ram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prava sval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rovnováhy (HZ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19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B a tělesná zátě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nzivní těl.zátěž v nevhodném prostředí -častý faktor vyvolávající pozátěž. bronchospasmus (70 – 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hodná a pravidelná P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zlepšuje dýchací a oběhový systém, zlepšuje funkci Po Ap, příznivě působí na psych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ristika (!alergeny ve formě py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ízda na kole (! alergeny a dobu trvání při 75% HF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á zátěž ( tenis, volejbal, basktetb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CÍL: zlepšit adaptaci organismu na fyzickou zátěž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stma bronch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ronické zánětlivé onemocnění dýchacích cest, je charakterizováno záchvaty výdechové dušnosti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ronchospasmem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olané generalizovanou obstrukcí dýchacích cest různého stupně a trvání, která je částečně nebo úplně reverzibilní buď spontánně nebo po léčebném zá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pouštěc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dený nebo suchý vzd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hové podněty, dráždivé látky v ovzduší, aler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měrná tělesná zátě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ekce dýchacích c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tiologie a příčiny vzniku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Atopická dispozice - vroze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lergická reakce zprostředkovaná imunoglobulinem E (IgE) – imunitní pořecitliv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Kontakt s alergen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rach, pyl, roztoči, plísně, srst zvířat, potrav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Nerovnováha ve vegetativním nervovém systém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výšená aktivita parasympatiku –nervus vagus; blokád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ů sympati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 – stanovení diagnó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mn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kální vyšetření – poslech, držení r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výdechové rych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vyšetření – Spiroergometrie, Spirometrie (VO2 max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dilatační testy (měření výdech.rychlosti před a po podání látky rozšiřující průduš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provokační testy – ve vztahu k pracovnímu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v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T, deformity hrudníku, snížená vitální kapacita plic, snížená výko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ční poruchy (funkce dých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imunit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e sféře psychické a 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unolog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lerg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výšená činnost IS na některé látky zevního prostředí (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munologická hyperreaktiv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Projevuje se jako rýma, průduškové astma, atopický ekzém, potravinová al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u dětí je v 80-90% alerg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Zéland – nejvyšší výskyt AB (není průmysl znečišťující ovzduší, ale převažuje zemědělství – chov ov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topické, aler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B (spojeno často s atopickým ekzémem) – má genetický z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endogen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– citlivost na bakteriální antigeny v dýchacích cest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zátěžové astm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EIA-exercise induced asthma)- 4-10min. na zač., nebo do 20-40-min po intenzivní zátěži (chladný a suchý vzdu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chladové ast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spirinové (AIA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reakce na kyselinu acetylsalicilov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ifikace tíže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mitentní – ojedinělé záchvaty, 1-2x /měsíc/noční, PEF nad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ké perzistující – max. 1x denně, více než 2x noc/měsíc, PEF na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ě těžké perzistující – každodenní, noční častěji než 1x týdně, PEF 60-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é perzistující astma – kontinuální příznaky s omezením životních aktivit, PEF pod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éčba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 - na základě momentálního stavu nemocného (klidový stav, období záchvatu, pozáchvatový sta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matoterapie (speleoterapie, pobyt na horách, u moř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ázeňs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rovnávací 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9:15:09Z</dcterms:created>
  <dc:creator>kopřivovi</dc:creator>
  <dc:description/>
  <dc:language>en-US</dc:language>
  <cp:lastModifiedBy>koprivova</cp:lastModifiedBy>
  <dcterms:modified xsi:type="dcterms:W3CDTF">2010-12-20T15:28:18Z</dcterms:modified>
  <cp:revision>19</cp:revision>
  <dc:subject/>
  <dc:title>Oslabení dýchacího systému</dc:title>
</cp:coreProperties>
</file>