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BA6-4B5B-49BA-A0B6-43865351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910-9AB0-4C36-8B10-4A95B32E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EBC-22A8-47D4-8B4E-9ED208A1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314-BF7D-4BE9-9CCB-CAB2B399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819-72D8-4A7E-BC4E-C2F373DD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2BF-3AF1-4BFD-9808-37C8E026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45C-87B6-453D-A73E-1D690036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104-82BB-4E28-8EC6-9ECD76AB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9DB-B99B-4F09-B24B-349435B9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CCE-C571-4734-9C8D-9E6569F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69B-AFAC-43BB-82C8-66BF49C5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AA2-5D08-4D4A-A5AB-F809D8E2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23E4-E63E-4E39-B1E9-5E3D001A9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AVOTNÍ TĚLESNÁ VÝCHOVA – bp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023z, bp02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ZATÍŽE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 CVIČEBNÍ JEDNOTCE / VYUČOVACÍ HOD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základní křivky zatížení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jedno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rchol je v rozvíjející části) – pro oslabení hybn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vou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2 vrcholy v rozvíjející části) – pro astma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 vyrovnaným zatížením v rozvíjející čá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mírně kolísající zatížení intervalového charakteru)  - pro jedince s nadváhou, obezitou a pro kardi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a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ičební jednotky / vyučovací hod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řizpůsob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hu zdravotního oslab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kému vě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l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ybovému rozvoji cvičenců/žáků a jejich předcházející pohybové průpra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ční zdatnosti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jmu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mínky předmětu pro závěrečnou zkouš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řednášky – 75% úč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vování 3 dílčích testů ( znalost svalů a jejich funkce, diagnostika PA, vyrovnávací cvičení) – každý test min. 60% úspěšnost odpově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házka na semináře KC, ZTV, metodický výstup,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T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álková, J. 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y. 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1. 120 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yslová, V 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. I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3. 106 s. ISBN 80-86586-03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áček, M., Máčková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Fyziologie tělesných cviče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: MU, FSpS a PdF, 2002.112 s. ISBN 80-210-160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ter, Michael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Strečink : 311 protahovacích cviků pro 41 sport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1. vyd. Praha : Grada Publishing, 1999. 228 s. ISBN 80-7169-76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I., Aláčová, P. G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yšetřování svalového aparátu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6. ISBN 80-85783-51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 I., Miklánková,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tahování a posilování pro zdraví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5. ISBN 80-85783-47-9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aktivní osnovy (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 pro fotbalist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Marta Bursová - Jaromír Votík - Jiří Zalabák. První vyd. Praha : Olympia, 2003. 95 s. ISBN 80-7033-793-1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Exercise in rehabilitation medicin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Walter R. Frontera - David M. Slovik - David Michael Dawson. 2nd ed. Champaign : Human Kinetics, 2006. ix, 454 s. ISBN 0-7360-5541-X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ránková, Lenka - Fiala, Jindřich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, dopopručení-návo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 : Ústav preventivního lékařství, lékařská fakulta Masarykovy univerzity, 2002. 14 s.</a:t>
            </a:r>
            <a:br>
              <a:rPr sz="1400"/>
            </a:br>
            <a:br>
              <a:rPr sz="800"/>
            </a:b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em Z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dravotní tělesná výchova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je specifická forma tělesné výchovy (TV) určená pro zdravotně oslabené jedince, tedy jedince zařazené do III. zdravotn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kupiny dle zdravotnické klasifikace. Je určena všem věkovým skupiná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DRAVOTNÍ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řiměřeně vyvinutí s vysokým stupně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énovanosti, připraveni k plnému tělesnému zatíž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V a sport neomezeně, kvalifikovaný učitel, trené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méně trénovaní (totéž jako I. sk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I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zdravotně oslab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rvalé nebo dočas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hylky tělesného vývoje, tělesné stavby a zdravot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u) – mají určitá ome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probovaný učitel TV – zk. Ze ZTV /cvičitel Z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emocní jedin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LTV (pouze fyzioterape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y zdravotního oslab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ybný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spirač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rdiovaskulár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etabolické a endokrinologické por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astrointestinál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ynekologick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rvová a neuropsych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mys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rší vě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ÍLE A ÚKOLY ZT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í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TV 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álním způsob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stranit nebo zmírnit zdravotní oslabení a posílit organis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kytnout zdravotně oslabenému možnost sportovního vyžití ve vztahu k jeho schopnostem a 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ořit předpoklady pro všestranný harmonický vývoj zdravotně oslabeného jed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stř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volň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volnit klouby a svalové kontraktu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rotah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bnovit fyziologickou délku svalů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sil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výšit zdatnost oslabených svalů a svalových skupin) – dynamické/sta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chov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é/dynamické, druhy dec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elaxač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polohy, podmínky, dru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ytrvalost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výběr, měření, Zottova tabul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ovnováž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á/dynamická/balancování předmět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é – ZG, RG, plavání a jiné spo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VIČEBNÍ JEDNOTKA / VYUČOVACÍ HOD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ři trvání 45 min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vod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1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lav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)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vyrovnávac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5 – 2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kondiční/rozvíjející (10 – 15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ávěrečn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7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00:42Z</dcterms:created>
  <dc:creator>koprivova</dc:creator>
  <dc:description/>
  <dc:language>en-US</dc:language>
  <cp:lastModifiedBy>koprivova</cp:lastModifiedBy>
  <dcterms:modified xsi:type="dcterms:W3CDTF">2010-12-20T14:33:06Z</dcterms:modified>
  <cp:revision>3</cp:revision>
  <dc:subject/>
  <dc:title>ZDRAVOTNÍ TĚLESNÁ VÝCHOVA – bp023</dc:title>
</cp:coreProperties>
</file>