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A35-A638-4C87-9F9E-D02CFAFB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3B4-2759-4120-AFCE-4EA27744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674-D88F-4D24-B7A5-2D7B0B6E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15B-D283-40BA-956D-A0CA2D9F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92D-3FA5-46FE-A238-8954A2A9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C9B-435A-4969-9253-5B40BA3D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B02-D9BC-4218-8504-11648E33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962-5382-435C-AEF9-08E3CC49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027-12F4-4674-9775-1ED87203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C02-A275-429F-95A2-E2942582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F4A-3465-46FA-9FF0-C957C4E9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6FF-CF65-4CE7-B72C-F0039BDA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33AD-F83C-417F-A08C-AAD85AD40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TV P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yrovnávací / kompenzační cvič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lepši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unkční para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tlivých složek P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oubní pohyblivo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pětí (snížit u svalů s tendencí ke zkrácení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ílu (zvýšit u ochablých svalů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hr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valů, nervosvalovou koordinaci (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kter pohybových stereotyp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ás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yrovná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vičit poma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řad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ičení uvolňovac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cvičení protahovací → cvičení posilovací (s nácvikem správných pohybových stereotypů) → cvičení relaxa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vičení dechová, vytrvalostní a    rovnovážná jako doplňková  vyrovnávací 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Postupo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d jednodušších cvičení po složit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 fyziologickou délku svalů, odstranit spasmy, zlepšit celkovou funkčnost svalstva (pruž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drž v poloze nejméně 10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ou polohu dostatečně „prodýcha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opakování dle zvolené metody (statický strečink x PIR, AG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akovat každých 24 hod. (příp. do 48 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správného prota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ycházet ze znalostí anatom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funkč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rotahováním dostatečně zahřát sval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výchozí polo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ahovat ve směru svalových vlá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doprovázet dýchání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ovat vhodný počet opakování daného cv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hypermobilitu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lovací cvičen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otonická, izometrick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83236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4508640"/>
            <a:ext cx="1728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met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3068640"/>
            <a:ext cx="158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tonick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posi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osilováním daného svalstva je třeb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rotáhnout antagoni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ípadně i synergi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ýchozí pol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bychom mohli do funkce přednostně zapojit cílené svalstvo (pohyb. stereoty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Zatíž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plikovat dle zdatnosti cvič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dět minimálně 2x tý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at nejprve s vlastním tělem, potom se zatěží (pomůc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37:12Z</dcterms:created>
  <dc:creator>koprivova</dc:creator>
  <dc:description/>
  <dc:language>en-US</dc:language>
  <cp:lastModifiedBy>koprivova</cp:lastModifiedBy>
  <dcterms:modified xsi:type="dcterms:W3CDTF">2010-12-20T14:41:11Z</dcterms:modified>
  <cp:revision>3</cp:revision>
  <dc:subject/>
  <dc:title>Vyrovnávací proces</dc:title>
</cp:coreProperties>
</file>