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00E7-ED73-4F73-BA41-142259944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AA8C-6E06-455B-9FA1-7247D470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7223-1865-4A79-A383-68CF08D94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F3AE-830F-47BB-ABA3-EF7ACC3F7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F25F-E76C-4C9D-A92D-281BF9B4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D71F-CF3B-4529-9C5F-47454B11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0581-1C43-4C6B-876D-3730525E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9DBC-D4BA-418E-9260-46851174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0D34-8EC6-42AD-9EC3-28213E6F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8362-9BD9-4531-8639-E29CD529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FB0C-BAE4-4DD3-9C36-F1297047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F2DB-96CB-457C-98CC-77E755AA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D014-248C-4F15-910E-CD6E3B811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labení kardiovaskulárního systé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kteris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ízna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kace a kontraindikace 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Žiln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nemocnění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arixy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riziko vzniku žilního uzávěru, ucpání plicní cévy – embol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Zásady pro cviče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horizontální poloze – imitace chůze, jízdy na 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andážování 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prava životosprávy, ne statické polohy, nenosit břemena s velkou hmot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znaky cévního onemocn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ížený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výšený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lest a poruchy citlivosti konče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o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evné a tepelné změny kůž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výživy tkáně (bércové vředy, gangré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kční zkouš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F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HF max = 220 – vě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rmotonik – 70/min (palpace na radiální tepně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agotonik  -   60/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ympatikotonik – 80/min (zrychlená H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rtovec – 40-60/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rmální TK                120/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ýšený TK          nad 150/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nížený TK           pod 100/60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kční zkouš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Vyšetření srdeční funkc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ep t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uffierova zkou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st W1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Vyšetření cévních funkc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lohové, podvazové, tepelné a chladové zkouš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uffierova zkouš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ed testem 30 min. klid, potom v sedě Hf1 (10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dřepů (45s)- ihned poté Hf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dne si a po 1 min opět HF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itérium výkonnosti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f1+Hf2+Hf3 -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ně než 0       výborná zdat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-5                     dobr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,1-10                průměr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,1-15              slab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,1 – více        nedostatečná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-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ška stupínku: 50cm/M, 40cm/Ž, 20-30cm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tupovat rychlostí 30x/1min po dobu 5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 ukončení sed a měří se Hf (30s)vždy v první polovině druhé (T1), třetí (T2) a čtvrté (T3) min. zotav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ex: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doba vystupování v s. x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T1+T2+T3) x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 55        velmi slabá zdat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-64          slabý průmě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5-79          průměrná zdat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90 a více     velmi zdat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kteristik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le časového průběh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  akut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→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ron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le charakteru →  funkční (lze uprav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→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cká (mož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hrožení živo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kční poru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Neurocirkulační steni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/slabost(nervozita, dušnost, nespavost nekoncentrovatelnost) lze ji medikamentozně a vhodným pohybem uprav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Hyperkinetický syndro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zrychlení HF (tachykardie) vhodnost PA (AE charak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egulační poruchy krevního obě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v klidu, emoce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→ vzestup systolického tla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cká poškoz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ICHS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nedostatečné prokrvení srdeční svaloviny s nedostatečným přívodem kyslí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utní forma =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infarkt myokar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ronická forma =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angina pecto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činy: snížení cévního průsvitu (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ATS (tepny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ateromatózní pláty – LDL chol., tromb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znaky srdečních onemocn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lest na hrudní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uchy rytmu – bradykardie (zpomale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 tachykardie (zrychle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š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oky (edémy) - DK (při selhávání P srd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Plicní otok ( při selhávání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d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anó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š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ten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yšší než 150/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/80 – zdraví jedinc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ár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95% - jsou neznámého půvo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kundární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i onemocnění ledvin, srdce, žláz s vnitřní sekrecí, nervové choro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tenz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abi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xova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ádia hyperten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víc změny na srdc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zvětšení L komory), na ledvinách (bílkovina v moči), na očním pozadí (zúžení cé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uze zvýšený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avíc orgánová poškoze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srdce (levostranné selhává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mozku (krvácení, měknut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očního pozadí (krvácení do sítn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ypertenze = hlavní rizikový faktor IC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ásady cviče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PA je vhodná jen pro I a II. stádium 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E, cyklický charakter – intervalová zátě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intenzit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60-80% HFmax, 3-5x týdně 30 min.,(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le výsledků zátěžového test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hyby DK a HK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zlepšení cirkulace k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rola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tmosféra bez stre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horoby periferních cé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Tepenn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uzávěrová onemocn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utní (náhlý uzávěr vmetkem, embol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chronická (pomalu vznikající následkem ATS, diabetu, toxi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éčba: - farm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posilování svalstva a zlepšování bočního oběhu – jen u prvních 2 stádií, ostatní L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07:01:41Z</dcterms:created>
  <dc:creator>kopřivovi</dc:creator>
  <dc:description/>
  <dc:language>en-US</dc:language>
  <cp:lastModifiedBy>koprivova</cp:lastModifiedBy>
  <dcterms:modified xsi:type="dcterms:W3CDTF">2010-12-20T15:32:53Z</dcterms:modified>
  <cp:revision>7</cp:revision>
  <dc:subject/>
  <dc:title>Oslabení kardiovaskulárního systému</dc:title>
</cp:coreProperties>
</file>