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4572-DBA3-4B9F-8B72-18AF0DC39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D23E-0523-4092-A622-933DC7AC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7EB8-A91E-4AF2-8934-014902A46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4467-E531-4A73-9C6F-9AE4362EE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81CA-A99A-4651-8D42-8799D5BF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AA33-37F9-43CB-90A5-5CA1925C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39C7-F6D6-414F-99E7-1AFF79C6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BDD2-1A3E-463C-9F37-A1A0A2EC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988F-69B4-45C6-B25D-79B28EB4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4657-3C36-4FF0-A484-75190119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9720-4610-4FAC-8C8C-B6EF4DB7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F56A-4F45-436B-A4C7-688A5699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3AFC-0D8F-4CFC-8CC5-BE65A3DCA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labení gynekologick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ožděný vývoj děloh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pravidelné menstruační cyk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olestivá menstru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azivové bole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áně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kloněná dělo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plod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kles dělo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rucha udržení moči (inkontin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ádorová onemocně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án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něty vnějších a vnitřních rodi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kutn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záněty – vždy řádně vyléčit (nedoporučuje se sport a pohyb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plodnost (neprůchodnost vejcovodů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hronick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záněty – vhodná jsou lehká kondiční cvičení a cvičení na prokrvení a uvolnění pánevní obla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akloněná dělo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říči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VDT, ochablost svalů – břišní, hýžďové a pánevní dno, zácpa, zadržování moči, může být i vroze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ůsledk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bolesti v kříži, pokles pánevních orgánů, obtížnost otěhotně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hodná cvičen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obrácené polohy – pánví vzhů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plodn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říči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tické (hormonální poruchy, malá děloha, neprůchodnost vejcovodů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horoby, záněty, srůsty (např. po operaci apendix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sych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hodná cvičení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Mojžíšová (vyrovnávací cvičení na úpravu funkce sval. systému + manipulace kostrč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kles dělo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říčiny vznik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vrdé dopady a doskoky, prudké zvýšení nitrobřišního tlaku, zvedání těžkých břemen, chronická zácpa, porod (ihned po porodu těžká práce a posilování břišních svalů!!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hodné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sou polohy jako „svíčka“, podpor klečmo na předl. , vtahování svalů pánevního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Inkontinence 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porucha udržení moč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echodného i trvalého ráz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říči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vzniku:vrozené i získané (chorobami, infekcemi, záněty), pokles dělohy a orgán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tresová inkontinenc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smích, kašel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3 stupně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i kašli, smích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i rychlém pohybu (běh), zvedání bř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i chůzi, při změně polohy (sed-stoj, leh-stoj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Inkontinence 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porucha udržení moč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hodné chování – nejdříve lékařské vyšetření ( případný operativní zákro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yprazdňování před pohyb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lování svalů pánevního dna ( ve stoji, v sedu na židl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ychická poho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ádorová onemocně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vence – včasné odhalení, léč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dravý životní sty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bnova psychické a fyzické rovnová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vičení ZTV dle závažnosti onemocně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teratur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damírová, J.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ynegymnastik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 Praha:Jan Vašut, 199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9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ánevní skl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svalová rovnováh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tahova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valy v L obl. – m. erector trunci, m. quadratus lumb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lexory kyčle- m.rectus  femoris, m. iliopso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dduktory kyčelního kloub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silov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řišní svalst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ýžďové svalst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valy pánevního d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– neprovádějí pohyb v kloubu, rozprostírají se plošně – od stydké kosti až po kostrč – probíhají podél, napříč i kruhovitě – svěrače (kolem ústí močové trubice, konečníku) -pracují společn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valy pánevního dna (SPD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zásady posilován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- leh na zádech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ědomé stahování SP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držet stažené několik sec. (cca 10 se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volnit na dvojnásobnou dobu (20 se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om v polohách sedu (náklon vpřed a vz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ádět denně 1 – 2 m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ěhotenství (fyziologický sta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Vhodná P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u nerizikového těhotenství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vičení pro těhotné a plavání pro těhotné (fitbal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DT – poloha pán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vičení na posílení svalové rovnová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vičení na udržení dobrého stavu plosky no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vhodná cvičení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švihy, dopady, prudké pohyby, visy, zádrže dechu, opatrně v době obvyklé menstruace a ve 3 a 6. měsí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Šestinedělí / fyziologický sta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kud je porod bez komplikací – cvičit ihned druhý den – poloha na břiše –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osílení pánevního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zavinování děloh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lohovat s dítětem na tě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tvorby mléka (pohyby ramen a posilování prsních svalů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výšení krevního oběhu (polohování D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silování břišních svalů, cvičení na SD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limakterium/přec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irozený proces – po 40.roce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orucha= předčasné nebo opožděné klimakteriu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mě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nížená produkce ženských pohlavních hormonů – menopauza - ztráta plod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rucha rovnováhy funkce štítné žlázy, nadledvinek a nervového systému („návaly“, bolesti hlavy, nespavo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sychická labilita – přecitlivěl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steoporóz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obd. Postklimakter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limakterium/přec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Vhodn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 – vytrvalostního charakter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vičení zaměřené na SDT, udržovat svalovou rovnováhu, posilovat pánevní d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vhodn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vičení : rychlá změna poloh, cvičení s hlavou dolů, prudké dopa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požděný pohlavní vývoj – bolestivá menstru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rucha v období přechodu dítěte v že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hodná cvičení : uvolnění a prokrvení svalů v oblasti pánevního dna (cvičení na fitballe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olestivá menstruac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 chorobný reflex – psychického původu) – vhodná cvičení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a uvolnění oblasti břicha – dýchací cvičení (poloha „klubíčka“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azivové bole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yskytují se v podbřišku v období menstru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Vhodná cvičen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řišní dých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olnění kyčl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ažení svalů v oblastí kyčl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6:18:59Z</dcterms:created>
  <dc:creator>Kopřivová</dc:creator>
  <dc:description/>
  <dc:language>en-US</dc:language>
  <cp:lastModifiedBy>koprivova</cp:lastModifiedBy>
  <dcterms:modified xsi:type="dcterms:W3CDTF">2010-12-21T12:35:03Z</dcterms:modified>
  <cp:revision>9</cp:revision>
  <dc:subject/>
  <dc:title>Oslabení gynekologická</dc:title>
</cp:coreProperties>
</file>