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13A4-D02D-4DD8-80C8-E9D01D6C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617-03DB-4417-8768-4A22FBF1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135D-5821-4D23-B8DD-9BCBE887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3C6B-B2CB-4FE5-AC68-2C363D91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3F4-6939-4596-B3BD-0B0AF043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B53B-5D98-453A-9B4E-57FABEC8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5B89-8BC5-4D80-B4C8-94A9C988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EEF-9DCD-4FD6-B88B-E755C860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D3E4-A5EF-4891-8E4E-1211EDED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F6A-0074-46A3-AB34-8ACF4AE3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961E-45C9-4525-8A29-2918CDF0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5B30-F7E2-4B45-91DD-68708582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946D-D388-432D-BB72-17DEC4764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labení gynekologick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ožděný vývoj děloh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pravidelné menstruační cyk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olestivá menstru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azivové bol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ně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kloněná dělo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plo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kles dělo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rucha udržení moči (inkontin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ádorová onemocně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án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něty vnějších a vnitřních rodi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kut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áněty – vždy řádně vyléčit (nedoporučuje se sport a pohy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lodnost (neprůchodnost vejcovodů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nick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áněty – vhodná jsou lehká kondiční cvičení a cvičení na prokrvení a uvolnění pánevní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kloněná dělo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VDT, ochablost svalů – břišní, hýžďové a pánevní dno, zácpa, zadržování moči, může být i vroze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ůsledk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bolesti v kříži, pokles pánevních orgánů, obtížnost otěhotně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hodná cviče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brácené polohy – pánví vzhů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plod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tické (hormonální poruchy, malá děloha, neprůchodnost vejcovod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oroby, záněty, srůsty (např. po operaci apendix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sych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hodná cviče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Mojžíšová (vyrovnávací cvičení na úpravu funkce sval. systému + manipulace kostrč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kles dělo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říčiny vzni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vrdé dopady a doskoky, prudké zvýšení nitrobřišního tlaku, zvedání těžkých břemen, chronická zácpa, porod (ihned po porodu těžká práce a posilování břišních svalů!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hodné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ou polohy jako „svíčka“, podpor klečmo na předl. , vtahování svalů pánevního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nkontinenc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porucha udržení moč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echodného i trvalého ráz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vzniku:vrozené i získané (chorobami, infekcemi, záněty), pokles dělohy a orgán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tresová inkontinen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smích, kašel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 stupně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kašli, smíc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rychlém pohybu (běh), zvedání bř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chůzi, při změně polohy (sed-stoj, leh-sto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nkontinenc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porucha udržení moč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hodné chování – nejdříve lékařské vyšetření ( případný operativní zákr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prazdňování před pohyb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lování svalů pánevního dna ( ve stoji, v sedu na židl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ická poh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ádorová onemocně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ence – včasné odhalení, léč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dravý životní sty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bnova psychické a fyzické rovnová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ZTV dle závažnosti onemocně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teratur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damírová, J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ynegymnastik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 Praha:Jan Vašut, 199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ánevní skl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valová rovnováh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tahova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valy v L obl. – m. erector trunci, m. quadratus lumb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lexory kyčle- m.rectus  femoris, m. iliopso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dduktory kyčelního klou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silov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řišní svalst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ýžďové svalst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valy pánevního d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neprovádějí pohyb v kloubu, rozprostírají se plošně – od stydké kosti až po kostrč – probíhají podél, napříč i kruhovitě – svěrače (kolem ústí močové trubice, konečníku) -pracují společn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valy pánevního dna (SPD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ásady posilován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- leh na zádec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ědomé stahování S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ržet stažené několik sec. (cca 10 se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olnit na dvojnásobnou dobu (20 s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om v polohách sedu (náklon vpřed a vz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ádět denně 1 – 2 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ěhotenství (fyziologický sta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Vhodná P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u nerizikového těhotenství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pro těhotné a plavání pro těhotné (fitb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DT – poloha pán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na posílení svalové rovnová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na udržení dobrého stavu plosky no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vhodná cviče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švihy, dopady, prudké pohyby, visy, zádrže dechu, opatrně v době obvyklé menstruace a ve 3 a 6. měsí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Šestinedělí / fyziologický st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kud je porod bez komplikací – cvičit ihned druhý den – poloha na břiše –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osílení pánevníh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zavinování děloh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lohovat s dítětem na tě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tvorby mléka (pohyby ramen a posilování prsních sval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výšení krevního oběhu (polohování D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silování břišních svalů, cvičení na S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makterium/přec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rozený proces – po 40.roce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orucha= předčasné nebo opožděné klimakteriu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mě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nížená produkce ženských pohlavních hormonů – menopauza - ztráta plod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rucha rovnováhy funkce štítné žlázy, nadledvinek a nervového systému („návaly“, bolesti hlavy, nespav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sychická labilita – přecitlivě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eoporóz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obd. Postklimakte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makterium/přec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hodn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 – vytrvalostního charakter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vičení zaměřené na SDT, udržovat svalovou rovnováhu, posilovat pánevní 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vhodn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vičení : rychlá změna poloh, cvičení s hlavou dolů, prudké dop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požděný pohlavní vývoj – bolestivá menstru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rucha v období přechodu dítěte v ž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hodná cvičení : uvolnění a prokrvení svalů v oblasti pánevního dna (cvičení na fitballe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olestivá menstruac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 chorobný reflex – psychického původu) – vhodná cvičen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 uvolnění oblasti břicha – dýchací cvičení (poloha „klubíčka“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zivové bol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skytují se v podbřišku v období menstru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hodná cviče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řišní dých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lnění kyčl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ažení svalů v oblastí kyčl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18:59Z</dcterms:created>
  <dc:creator>Kopřivová</dc:creator>
  <dc:description/>
  <dc:language>en-US</dc:language>
  <cp:lastModifiedBy>koprivova</cp:lastModifiedBy>
  <dcterms:modified xsi:type="dcterms:W3CDTF">2010-12-21T12:35:03Z</dcterms:modified>
  <cp:revision>9</cp:revision>
  <dc:subject/>
  <dc:title>Oslabení gynekologická</dc:title>
</cp:coreProperties>
</file>