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9E1E-1803-4AA4-8175-2D4D3A563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F530-9644-4911-9C06-8752EC366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DDA7-48D9-46ED-9838-3E8B1EE7F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1435-122D-4773-B063-E23F59CC6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FB4F-5B0C-4D2A-875F-69A79987A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8A5B-092E-4AA9-9B74-5E2E4538E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3C80-54FF-4F64-A6B9-AD30927AC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91D1-82F6-481A-B8FF-85C70737D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E743-8BAF-4B3B-A5CA-914C5C481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F805-E01F-4352-871B-C3AB6E41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8BFF-6488-4DE3-B298-48A384A1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9B93-6127-44CB-83DB-234B16C1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B3AC0-E13A-4106-A852-7593EA8C13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yrovnávací pro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TV P /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yrovnávací / kompenzační cviče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í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lepši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unkční paramet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ednotlivých složek PA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loubní pohyblivos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apětí (snížit u svalů s tendencí ke zkrácení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ílu (zvýšit u ochablých svalů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uhru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valů, nervosvalovou koordinaci (D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rakter pohybových stereotypů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Zásad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yrovnávacího proce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vičit pomal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řízený pohy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držovat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pořad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nostik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vičení uvolňovací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cvičení protahovací → cvičení posilovací (s nácvikem správných pohybových stereotypů) → cvičení relaxač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+ cvičení dechová, vytrvalostní a    rovnovážná jako doplňková  vyrovnávací cvič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Arial"/>
              </a:rPr>
              <a:t>Postupov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od jednodušších cvičení po složitěj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ahovací cvič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novit fyziologickou délku svalů, odstranit spasmy, zlepšit celkovou funkčnost svalstva (pružno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ýdrž v poloze nejméně 10se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ždou polohu dostatečně „prodýchat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čet opakování dle zvolené metody (statický strečink x PIR, AG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akovat každých 24 hod. (příp. do 48 hod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ahovací cvič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6480360" cy="37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ásady správného protah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00"/>
                </a:solidFill>
                <a:latin typeface="Arial"/>
              </a:rPr>
              <a:t>Vycházet ze znalostí anatomi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funkčn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ed protahováním dostatečně zahřát svalst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olit vhodnou výchozí poloh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tahovat ve směru svalových vlá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hyb doprovázet dýcháním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držovat vhodný počet opakování daného cvi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zor na hypermobilitu 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ilovací cvičení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zotonická, izometrick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332000" y="1916280"/>
            <a:ext cx="5832360" cy="3240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403280" y="4508640"/>
            <a:ext cx="172872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zometrické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kte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588000" y="3068640"/>
            <a:ext cx="158436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zotonickéh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kte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ásady posil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ed posilováním daného svalstva je třeba </a:t>
            </a:r>
            <a:r>
              <a:rPr b="0" lang="cs-CZ" sz="2800" spc="-1" strike="noStrike">
                <a:solidFill>
                  <a:srgbClr val="ff3300"/>
                </a:solidFill>
                <a:latin typeface="Arial"/>
              </a:rPr>
              <a:t>protáhnout antagonist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případně i synergist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olit vhodnou </a:t>
            </a:r>
            <a:r>
              <a:rPr b="0" lang="cs-CZ" sz="2800" spc="-1" strike="noStrike">
                <a:solidFill>
                  <a:srgbClr val="ff3300"/>
                </a:solidFill>
                <a:latin typeface="Arial"/>
              </a:rPr>
              <a:t>výchozí poloh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abychom mohli do funkce přednostně zapojit cílené svalstvo (pohyb. stereotyp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00"/>
                </a:solidFill>
                <a:latin typeface="Arial"/>
              </a:rPr>
              <a:t>Řízený pohy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00"/>
                </a:solidFill>
                <a:latin typeface="Arial"/>
              </a:rPr>
              <a:t>Zatíže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aplikovat dle zdatnosti cvič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vádět minimálně 2x týdn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acovat nejprve s vlastním tělem, potom se zatěží (pomůck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3T08:37:12Z</dcterms:created>
  <dc:creator>koprivova</dc:creator>
  <dc:description/>
  <dc:language>en-US</dc:language>
  <cp:lastModifiedBy>koprivova</cp:lastModifiedBy>
  <dcterms:modified xsi:type="dcterms:W3CDTF">2010-12-20T14:41:11Z</dcterms:modified>
  <cp:revision>3</cp:revision>
  <dc:subject/>
  <dc:title>Vyrovnávací proces</dc:title>
</cp:coreProperties>
</file>