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B120-4FAF-4B71-BEBF-E178A2B2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B6D1-9C4F-4B39-9D67-9255A45F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2B7F-2C63-40C5-BDA2-B4233AC7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1818-0A01-4025-8C5B-0B2F799D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2182-487D-4BEE-9D3F-A75262B7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BCD5-1EEF-4E8F-8A0D-20683BD4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EE63-89AD-4B46-A9BC-4E6C8CB0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B761-893B-42EC-90A1-916AADB7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D273-1549-4AC2-A112-87A77A89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B8A0-374C-45A9-936D-59DB4DA1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3B64-EE78-403C-A769-2D111718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2163-881D-4CF3-8479-FFC0FEA0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CD79-991F-4625-A1C3-03E3EFD4A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vilizační onemocn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růst za posledních 10 let o 4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R – prudký nárůst DM I. typu u dětí do 9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 stárnoucí populace (DM II. Typ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ěk, nevhodné stravovací návyky – velký příjem tuků, malá fyzická aktivita, obezita, nezdravý životní sty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sady TV proce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Je nutné znát zdravotní stav nemocnéh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zda je v inzulínovém režimu, nebo pouze užívá perorální antidiabetika – PAD. Pokud je aplikován inzulín je nutné znát kam, zda se vyskytuje orgánová kompl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át symptomatologii všech akutních stavů DM a umět je správně vyřeš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ZTV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nezařazovat diabetiky dekompenzovan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zejména s ketoacidózou či častou hyperglykém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přesahovat možnosti cvičenců, sledovat TF (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60-70% max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erobní a silová cvičení prokládat relaxacemi, PA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4x týdně v délce cca 40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vičební jednotku přizpůsobovat věku diabetiků, jejich typu DM a úrovni fyzické zdat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tná je spolupráce s diabetologem zejména u dětí a seni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výraznější polyneuropatii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nezatěžovat staticky chodidl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átěži se vyhýbat poloze v leže na břiše a všem cvikům, při kterých dochází ke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zvýšení tlaku za oč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abetes Mellitus –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42560" y="1599840"/>
            <a:ext cx="676116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abolické onemocně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orucha metabolismu sacharidů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konalé hospodaření s glukózou je řízeno souhrou několika hormo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Inzuli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hormon produková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buňkami slinivky břišní – má 2 funk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ává pokyn k ukládání glukózy do zásob v játrech (glyko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emyká buňky v těle, aby mohla do nich glukóza vstoup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M I.typu 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/ při nedostatku inzulinu (10% z celkového počtu diabetiků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důsledkem autoimunit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estrukce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ß buněk ostrůvků slinivky břišní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které neprodukují žádný inzulin, tento hormon v těle zcela chybí!!! – je nutno dodat inz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častěji postihuje děti, dospívající a mladé jedince do 35 let - nebývá spojen s obezitou (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juvenilní D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činy vzniku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50% genetika, 50% zev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zna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nadměrná žízeň, nadměrné močení, hubnutí a únava, přechodné poruchy zrakové ostrosti, dech páchnoucí po aceto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aboratorní vyšetření – hyperglykémie (vyšší než 11,1 mmol/l, glykosurie (cukr v moči), ketolátky v krvi i v moč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to typ diabetu se sklonem ke ketoacidó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M II.typ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/ při snížené účinnosti inzulí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kyt převážně u dospělých a stárnoucí popu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o kombinace genetických predispozic a zevních faktorů (snižuje se fyzická aktivita a zvyšuje se příjem živ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rizikovějším faktorem je OBEZ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znaky: málokdy subjektivní potíže, je prokázán až při screeningu (ketoacidóza, přítomnost již komplikac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Hyperglykémie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(glykémie vyšší než 11,1 mmol/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 glykémii nižší než 17 mmol/l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Léčba inzulinem + pohy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 glykémii nad 17 mmol/l se nedoporučuje sportovat – možnost vzniku diabetické ketoacidó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yperglykemické koma – při nedostatku inzulínu – ihned podat inzulín a zavolat lékař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glyké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orma: 3,5 – 5,5 mmol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atologický pokles glykémie pod 3,3 mmol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či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podání velkého množství inzulínu, nebo nadměrné zátěže, nebo nedostatkem jíd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roje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malátnost, únava, vyčerpanost, dezorientace, poc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ypoglykemický záchvat– při vědomí podat cukr do úst (mezi tvář a zuby), při ztrátě vědomí ihned zavolat lékařskou pom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omplikace způsobené diabetem /hyperglykémi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tižení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ledvi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diabetická nefrop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tižení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ok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diabetická retinop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nerv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- neurop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nemocnění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noho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diabetická no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znam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hodně zvolená PA vede k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většení svalové hmo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a je zásobárnou glykogenu. Z něj se může v případě poklesu glykémie uvolnit glukóza, proto dochází k menším výkyvům glykémie během dne a při cvič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 je významným prostředkem př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dukci nadvá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zejména u DM 2. typu. Navíc soustavný sportovní trénink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vyšuje citlivost buněk na inzulí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oru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vičit po jíd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ejlépe 2 hod. po podání inzulínu,  mít u sebe vždy nějakou formu cuk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držovat pitný rež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 opakovaných potížích v souvislosti s pohybem vždy konzultovat s lékařem případné upravení dávek inzulí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 léčbě inzulínem kontrolovat glykémii před i po cvičení a zejména tehdy, je-li PA prováděna po dlouhé době, déle než hodinu a nebo s nezvyklou intenzit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5:50:55Z</dcterms:created>
  <dc:creator>koprivova</dc:creator>
  <dc:description/>
  <dc:language>en-US</dc:language>
  <cp:lastModifiedBy>koprivova</cp:lastModifiedBy>
  <dcterms:modified xsi:type="dcterms:W3CDTF">2010-12-21T12:29:21Z</dcterms:modified>
  <cp:revision>20</cp:revision>
  <dc:subject/>
  <dc:title>Diabetes Mellitus </dc:title>
</cp:coreProperties>
</file>