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A23-DC49-4FFA-926C-B264E72E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1A0-9B52-4401-90A4-4DDDA11E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78AD-4DE4-45C1-826A-0769FEA7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88E3-DC5C-426E-9AAC-CBFDD8DE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E3E9-DAC2-44F3-B001-26F881D5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5CB1-1ADD-4059-AD77-D4FEC1BD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AFD-BFD5-4835-B3DD-8F783B85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7510-D424-4148-B837-F7377966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4174-0AC5-4891-B155-0EFBB263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24B5-4258-4DCE-ADC8-3FDA83B1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520A-1866-4E1B-B65C-7D0F59D5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E92-DE40-4FF6-B870-D23529C0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E16A-78D2-4CED-84C4-ACDA17C87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smyslov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HO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uchy ZR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frakční va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oruchy zrak.ostrosti) – krátkozrakost, dalekozrakost, astigmat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zorného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binokulárního vidě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upozrak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generativní onemocně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laukom, šedý zákal, odchlípení sítn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aktická slepota a zbytky zra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évní porucha sítn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ři hypertenz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barevného vid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sady pro cvičení a sport - Zr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orová ori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vnováhové schopnosti, bezpečnost chů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ílit taktilní a zvukové vním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kontraindika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koky, tvrdé doskoky,prudké pohyby hlavou, kontaktní pohyb. hry, statické silové prv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uchy SLUCHU a POLOHOCI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řevod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ubínek, sluchové kůstky) – vlivem častých zánětů středou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rcepč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orucha nervových drah nebo korového cent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míšen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viz výš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estibulárního apar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rucha rovnováhy (polohoci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přízrak závrat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- vestibulární habituační trénink (procvičovat změny poloh, pohyby hlavou – otáčení(pozor na provázanost rovnovážného, zrakového a útrobního systém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Menierů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yndrom – zmnožením tekutiny ve vnitřním uchu (snížení až ztráta sluchu, hučení v uších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V a sport (SLUC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oj smyslového vnímání, prostorové ori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it rovnováhov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enské začlenění (navazování kontakt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cviky na nářadí, rychlé střídání poloh těla, otřesy a prudké pohyby hlavou, cvičení hlavou do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! vizuální ukázka doplněná taktilními a kinestetickými informacemi,  artikul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9:01:05Z</dcterms:created>
  <dc:creator>kopřivovi</dc:creator>
  <dc:description/>
  <dc:language>en-US</dc:language>
  <cp:lastModifiedBy>koprivova</cp:lastModifiedBy>
  <dcterms:modified xsi:type="dcterms:W3CDTF">2010-12-21T12:53:43Z</dcterms:modified>
  <cp:revision>4</cp:revision>
  <dc:subject/>
  <dc:title>Oslabení smyslová</dc:title>
</cp:coreProperties>
</file>