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054-06AE-463A-9ECC-A3348CA4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BC3-356B-4081-A2AB-20ED8B1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978-DDFB-42C7-98F6-67914449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0A0-E20F-41D2-A4FA-7F3FC99D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9FC-8DB0-4B85-83DD-53335E45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2C3-2110-4F04-9E75-0941121B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1A7-2F9F-4977-A3AA-D4233B15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712-2643-4972-BF03-BADDEEEF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9A0-5AA1-485C-AAE4-5520ECE5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12F-F56B-4625-9E91-7E933FC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BA0-691F-4943-BF4F-C9845A32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BDF-796F-4090-B3EB-5557F54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5568-1299-4CCD-8144-205900366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kardiovaskulárn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ce a kontraindikac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Ži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emocně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arix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riziko vzniku žilního uzávěru, ucpání plicní cévy – embo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ásady pro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horizontální poloze – imitace chůze, jízdy na 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dážování 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prava životosprávy, ne statické polohy, nenosit břemena s velkou hmot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cévního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st a poruchy citlivosti konč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vné a tepelné změny k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ýživy tkáně (bércové vředy, gangré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F max = 220 – vě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otonik – 70/min (palpace na radiální tep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gotonik  -   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mpatikotonik – 80/min (zrychlená H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rtovec – 40-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ální TK                12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ý TK          nad 150/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ý TK           pod 100/60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srdeční fun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p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W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cévních funk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ové, podvazové, tepelné a chladové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 testem 30 min. klid, potom v sedě Hf1 (1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řepů (45s)- ihned poté H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ne si a po 1 min opět HF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výkonnosti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f1+Hf2+Hf3 -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ně než 0       výbo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5                     dob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-10                průměr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1-15              slab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 – více        nedostatečn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stupínku: 50cm/M, 40cm/Ž, 20-30cm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tupovat rychlostí 30x/1min po dobu 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ukončení sed a měří se Hf (30s)vždy v první polovině druhé (T1), třetí (T2) a čtvrté (T3) min. zo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ba vystupování v s. 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1+T2+T3) 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 55        velmi slab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-64          slabý 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-79          průmě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0 a více     velmi zda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časového průběh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ak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e charakteru →  funkční (lze uprav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cká (mož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hrožení živ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urocirkulační ste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/slabost(nervozita, dušnost, nespavost nekoncentrovatelnost) lze ji medikamentozně a vhodným pohybem upr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Hyperkinetický syndr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rychlení HF (tachykardie) vhodnost PA (AE charak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gulační poruchy krevního obě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 klidu, emo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vzestup systol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ká 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CH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nedostatečné prokrvení srdeční svaloviny s nedostatečným přívodem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infarkt myoka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ická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činy: snížení cévního průsvitu (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TS (tepn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ateromatózní pláty – LDL chol., trom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srdečních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est na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uchy rytmu – bradykardie (zpoma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tachykardie (zrych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š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ky (edémy) - DK (při selhávání P 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Plicní otok ( při selhávání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š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šší než 150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/80 – zdraví jedinc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ár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95% - jsou neznámého pů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ární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onemocnění ledvin, srdce, žláz s vnitřní sekrecí, nervové cho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bi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x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dia 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íc změny na srdc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většení L komory), na ledvinách (bílkovina v moči), na očním pozadí (zúžení cé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ze 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víc orgánová poškoz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rdce (levostranné selhá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mozku (krvácení, měknu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čního pozadí (krvácení do sít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nze = hlavní rizikový faktor I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sady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PA je vhodná jen pro I a II. stádium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E, cyklický charakter – intervalová zátě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60-80% HFmax, 3-5x týdně 30 min.,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výsledků zátěžového tes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y DK a HK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zlepšení cirkulace k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a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bez st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roby periferních cé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en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závěrová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(náhlý uzávěr vmetkem, embo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ronická (pomalu vznikající následkem ATS, diabetu, tox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éčba: - far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ilování svalstva a zlepšování bočního oběhu – jen u prvních 2 stádií, ostatní L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7:01:41Z</dcterms:created>
  <dc:creator>kopřivovi</dc:creator>
  <dc:description/>
  <dc:language>en-US</dc:language>
  <cp:lastModifiedBy>koprivova</cp:lastModifiedBy>
  <dcterms:modified xsi:type="dcterms:W3CDTF">2010-12-20T15:32:53Z</dcterms:modified>
  <cp:revision>7</cp:revision>
  <dc:subject/>
  <dc:title>Oslabení kardiovaskulárního systému</dc:title>
</cp:coreProperties>
</file>