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12D-AC6F-409C-B4A0-82461F3F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BE56-050E-45E1-B475-AA120AB1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D0FE-1482-4289-847B-F8519F93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4D79-430F-47B1-BF9D-85E0AB19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57A0-E87B-45F4-A784-445F4995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1E46-1399-4ACC-99FB-21F6DC81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5A9C-5D0B-4AA6-8BB1-8A6BBA42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4C0E-00FF-492A-88D4-7E199D98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F376-EAA6-45CA-94A0-B2514F9C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9915-BFEF-4AC9-B8D0-6700E1B6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48A7-18AD-4253-9C24-DB8019B3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F47-6498-4EE6-BEAF-FCFC6598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ED19-EFB1-40AC-B6AE-9EB03BDF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5B23-5BA3-434D-BA6D-68FEADC8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0CDD-4983-4061-AE21-CB741AEC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CD37-AD17-4B6F-AD20-349C06C9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7EAB-C988-41E3-BD9E-5588289E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25F5-7995-4C83-8CB8-9AC973BC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BE9-0884-4F86-BE64-2AC7E31E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43AF-F7C5-4F8D-B03A-5D35BDE2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9E8B-3F1F-4BAE-BF0D-5597D73B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8F25-2CBD-468E-A802-53563B50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4CE4-A85F-4047-A2D9-66236149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8EF-F888-48AC-8BE7-BD505694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CF10-3D88-41C3-8DDE-322808148EF4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FD93-3E08-4C40-A0E8-A39BEEDABC0E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Historie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864 se konal první závod na 120 y,výška překážek byla 106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 OH  soutěží muži od roku 1896,ženy od roku 1932 – 8Om př,1972 – 1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působy přeběhu překážek (skrčný,klouzavý,turecký,kročný a běžecký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935 součastná konstrukce z T na 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r 12,80s Merritt, Čr.13,33s Svoboda,ženy 12,21s Donkovová, 12,92s Škrobá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ový bě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Verdana"/>
              </a:rPr>
              <a:t>Didaktický postu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žení a běh se štafetovým kolík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na místě ve dvojicích a čtveřicí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za chůze a mírného poklus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ve dvojicích v předávacím územ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chnika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Překážkový sta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olba přední nohy je závislá na zvoleném rytmu  (7 – 8) krok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stavení startovních bloků závisí na individuální úpravě krok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Náběh na první překáž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aximální zrychlení v prvních krocí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soké běžecké postave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élka kroku se zvyšuje až do předposledního kroku,poslední krok je kratší a dochází k aktivnějšímu došlapu chodidla na podložku jeho přední čá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Přeběh překáž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ísto odrazu je ve vzdálenosti 1.90- 2.30m od překáž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 je proveden z přední části chodid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érec švihové nohy se skládá aktivně pod steh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dokončuje odraz v plném nápon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je nad překážkou ohnuta v kolenním a hlezenním kloubu téměř do pravého úhlu,přičemž koleno je výše než chodid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kroková fáz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okrok je proveden na přední část chodidla na nataženou a v hlezenním kloubu zpevněnou no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ová noha je vedena   aktivně dopředu a vzhůr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fektivní přechod z překážkového kroku ke sprinterskému 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Běh mezi překážkam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Úsek mezi překážkami se běží na tři kro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je orientován frekvenčně na pohyb vpřed s vysokým zvadáním kolen a provádí se přední části chodi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klon trupu je zachován jako při hladkém běh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aže se pohybují u těla ve směru běh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běh do cí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ximální spurt až za cílovou pásk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padnutí do cíle s náklonem trupu a zapažením paž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Nejčastější chyb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obení kroků při ná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 blízko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soký přeskok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pomalení při doskoku za překážk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ěh po pat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koky mezi překážka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cc"/>
                </a:solidFill>
                <a:latin typeface="Arial"/>
              </a:rPr>
              <a:t>Didaktický postup při nácviku technik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ekážkářský rytmus (čáry,laťky.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švihové nohy vedle překážky( na místě,za chůze,v mírném běhu, v maximální rychlost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odrazové nohy vedle překážky (na místě ve dvojicích,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hůze mezi překážkami s jedním mezikro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tart a náběh na první překáž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mezi překážkami (tříkrokový rytmu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y –základní inform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100m – běží se v oddělených drahách, předávací je 20m,náběhové 10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400m – první úsek se běží ve vlastní dráze, ve druhém úseku se po 100m sbíhá k mantine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tafetový kolík má hmotnost do 50g, dlouhý je 30 cm a průměr má 4 cm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5:31:08Z</dcterms:created>
  <dc:creator>Josef Michálek</dc:creator>
  <dc:description/>
  <dc:language>en-US</dc:language>
  <cp:lastModifiedBy>240</cp:lastModifiedBy>
  <dcterms:modified xsi:type="dcterms:W3CDTF">2012-12-07T08:49:00Z</dcterms:modified>
  <cp:revision>46</cp:revision>
  <dc:subject/>
  <dc:title> Technika překážkového běh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