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1AE-86D6-471A-AA1D-18D8B5C5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758-A227-4813-8E9D-B5508568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9BF-8503-41F5-8CDD-23CD82ED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32AB-4E5B-4DF3-9073-96675B08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B1E4-7DF3-47DD-8B85-586F1129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A0C8-61DD-4D1F-BFDB-C4D0D9D4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47D4-C063-4089-8E3B-27D1591C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DA11-351E-4518-828A-041A716B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FB39-1579-4671-850F-96D0FAE3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6381-16BB-4C79-9195-52056FF7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E923-CCFD-4380-A383-9F155EEC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F1C-5BEF-48CA-8A81-A446E034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A571-865C-40C4-8CA5-09ACCA9E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AA73-EFD9-4D20-9686-9B5EE118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A47F-9AE7-48FE-AC3D-AE634508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6A39-71C9-45E9-9D01-372F4901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F580-AC3E-4423-B749-E7DDDD19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F97-0796-4E52-9CEF-3A169636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99E-24DA-4466-9B6B-293EAF33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910-A224-4EB2-B6C9-E1243255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557-D589-40EE-BD92-17F2AEF5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13A-EEAF-4B9F-9CBF-EDD0D43C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46B-A4B8-47CE-9B33-C0C57E29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750-938C-49D6-B401-4EF73A42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1C41-5F0E-4CB7-9B1F-E04F262895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2769-499C-4B68-980C-B2235A4EE2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sps.muni.cz/impact/atletika-3/" TargetMode="External"/><Relationship Id="rId2" Type="http://schemas.openxmlformats.org/officeDocument/2006/relationships/hyperlink" Target="http://www.fsps.muni.cz/impact/atletika-2/" TargetMode="External"/><Relationship Id="rId3" Type="http://schemas.openxmlformats.org/officeDocument/2006/relationships/hyperlink" Target="http://www.fsps.muni.cz/impact/didaktika-atletiky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 a metodických výstup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42440" y="364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979640" y="549360"/>
            <a:ext cx="5238720" cy="512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obecné             Výběr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979640" y="0"/>
            <a:ext cx="5238720" cy="507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– výchovné, vzdělá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979640" y="1125360"/>
            <a:ext cx="5238720" cy="50328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ástečné                   Etap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187280" y="1628640"/>
            <a:ext cx="186696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332000" y="2060640"/>
            <a:ext cx="153360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BSA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diční příp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ak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ore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1332000" y="3429000"/>
            <a:ext cx="1533600" cy="201600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2016000"/>
              <a:gd name="textAreaBottom" fmla="*/ 1941120 h 2016000"/>
            </a:gdLst>
            <a:ahLst/>
            <a:rect l="textAreaLeft" t="textAreaTop" r="textAreaRight" b="textAreaBottom"/>
            <a:pathLst>
              <a:path w="21600" h="28393">
                <a:moveTo>
                  <a:pt x="3600" y="0"/>
                </a:moveTo>
                <a:arcTo wR="3600" hR="3600" stAng="16200000" swAng="-5400000"/>
                <a:lnTo>
                  <a:pt x="0" y="24793"/>
                </a:lnTo>
                <a:arcTo wR="3600" hR="3600" stAng="10800000" swAng="-5400000"/>
                <a:lnTo>
                  <a:pt x="18000" y="283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STŘED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éninkové (cvičení-vlastní, soutěžní, speciální, všeobecn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generace sil, výživa, pitný rež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roly trénova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332000" y="5514840"/>
            <a:ext cx="1533600" cy="134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ODMÍN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Materiální, ekonomické, sociální, právní, pracov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3635280" y="1628640"/>
            <a:ext cx="393408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403280" y="1700280"/>
            <a:ext cx="140040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ál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3995640" y="1700280"/>
            <a:ext cx="252432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Operativ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708360" y="206064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INCIPY: (zásad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atičnosti, posloupnosti, cykličnosti, individualizace, specifičnosti, názornosti, přiměře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rcionality:  - Všestranné a specifické příprav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faktorů, určujících sportovní výk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3708360" y="314172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TOD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pohybovým schopnost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Nepřerušovaného zatížení: souvislá, rovnoměrná, střída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Přerušovaného zatížení:opakovaná, interval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Osvojování a zdokonalovaní dovedností (slovní, ukázkové, ideomotorické, praktické cvičení- opakování komplexní, analyticko-syntetick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Jiné (vedlejší úlohy, kontrastu, diagnostické metod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3708360" y="4724280"/>
            <a:ext cx="1655640" cy="213372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133720"/>
              <a:gd name="textAreaBottom" fmla="*/ 2053080 h 2133720"/>
            </a:gdLst>
            <a:ahLst/>
            <a:rect l="textAreaLeft" t="textAreaTop" r="textAreaRight" b="textAreaBottom"/>
            <a:pathLst>
              <a:path w="21600" h="27836">
                <a:moveTo>
                  <a:pt x="3600" y="0"/>
                </a:moveTo>
                <a:arcTo wR="3600" hR="3600" stAng="16200000" swAng="-5400000"/>
                <a:lnTo>
                  <a:pt x="0" y="24236"/>
                </a:lnTo>
                <a:arcTo wR="3600" hR="3600" stAng="10800000" swAng="-5400000"/>
                <a:lnTo>
                  <a:pt x="18000" y="27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FOR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ciálně- interakční (hromadná, skupinová, individuá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Tréninková jednotka (základní – v čase soustředění kontro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utěžní-závody, zápasy, doplň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>
            <a:off x="5435640" y="4724280"/>
            <a:ext cx="2089080" cy="213372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133720"/>
              <a:gd name="textAreaBottom" fmla="*/ 2031840 h 2133720"/>
            </a:gdLst>
            <a:ahLst/>
            <a:rect l="textAreaLeft" t="textAreaTop" r="textAreaRight" b="textAreaBottom"/>
            <a:pathLst>
              <a:path w="21600" h="22061">
                <a:moveTo>
                  <a:pt x="3600" y="0"/>
                </a:moveTo>
                <a:arcTo wR="3600" hR="3600" stAng="16200000" swAng="-5400000"/>
                <a:lnTo>
                  <a:pt x="0" y="18461"/>
                </a:lnTo>
                <a:arcTo wR="3600" hR="3600" stAng="10800000" swAng="-5400000"/>
                <a:lnTo>
                  <a:pt x="18000" y="220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ERIODIZ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- Střídání tr. zatížení a odpočin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Charakteru práce a odpočinku (všeob., spe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Druhy a složky  tr. zatížení (objem, intenzita, koordinační složitost, psych. náročno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elikost zatížení (malé, střední, velk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ps.muni.cz/impact/atletika-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sps.muni.cz/impact/atletika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sps.muni.cz/impact/didaktika-atletik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15-02-19T12:21:47Z</dcterms:modified>
  <cp:revision>30</cp:revision>
  <dc:subject/>
  <dc:title>ATLETIKA přednáška</dc:title>
</cp:coreProperties>
</file>