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383-7513-4F13-84B8-9411C29F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AED9-5666-4B22-A3DE-0AB74A51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8903-D3D5-47D3-A503-5195F974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B34-AC8F-48B8-9C66-2D92551A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FA08-B0C9-4790-810A-DACE3D0F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F55C-5C00-47AF-BAD9-9F332566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766-6CCB-412B-BFE0-A2E94786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A81-BDEB-45CD-A1BD-1BB8D915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190-740F-45E5-9AB4-F60DA4E5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F8C-5307-4EE8-83FA-62D062FD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ABB-FEBD-4763-9AC2-38664981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267-1BC8-4FD6-BA63-1ACA9165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3E88-952D-47AB-9716-A80F48ADFB7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.úroveň(ANP),střední 2-4,nízká 2m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ce intenzivní intervalová meto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0 sec. běh 50 m, 10 sec. odpočin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632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krétní příklad intervalového trénin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68724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999999"/>
                </a:solidFill>
                <a:latin typeface="Arial"/>
              </a:rPr>
              <a:t>Trénink pro běžce s osobními vý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 30m letmo 3,85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 800m 2:00 min. (100m – 15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T 1500m 4:00 min. (100m – 16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 5000m 15:00min. (100m – 18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h  ANP 12 km 40:00min. (100m - 20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 10km a více,hod. a dé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PC</cp:lastModifiedBy>
  <dcterms:modified xsi:type="dcterms:W3CDTF">2016-03-06T10:18:16Z</dcterms:modified>
  <cp:revision>32</cp:revision>
  <dc:subject/>
  <dc:title>Běhy na střední a dlouhé tratě</dc:title>
</cp:coreProperties>
</file>