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B59A-36DD-4D92-B6C0-85F3AEA7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21E0-4C3A-48F6-BDAA-8DC6EEDE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8170-15C3-48A2-BED8-76AC60CB5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81CB-8B9D-43DF-BAB0-F4D3CB33B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0A26-5C21-44A0-A5EE-E16D4DFF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82F8-A518-405B-9F05-68380238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6BCE-9D86-4F14-A484-BB94FAF4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8234-1C3F-4745-B676-17F50AEF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FA61-0946-4130-85EC-CA1C2E16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5622-CB8C-4E92-9A29-A5CCBA51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6653-C761-4AB9-853F-BD239CB8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ABA7-2804-4A2B-ADEB-7578F802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DD05-5D3E-4045-9FDA-FA99D879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C66A-A3BE-4307-A298-D9942C41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A769-1D42-4A9B-8F7B-3EDD7DC3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A64B-1581-4FEF-968E-3AC04901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4874-7D16-44F4-94B8-AC8E64F4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B00A-6B49-441E-89D7-3E2DD991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6A0C-7506-43C7-BD2F-E6186CD4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3A5E-075F-48F1-BE9A-A73D1A97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6E39-AAE4-425C-8673-BD63B990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F0AA-C35A-4802-B00B-CBC0AABD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52BF-2072-4A12-95F7-FB866E8C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286E-0C21-46C5-B646-027E67B3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B0D4-768A-48E1-B8D5-DFBA11AF76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C273-A84B-493B-BADC-9857DD0119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sps.muni.cz/impact/atletika-3/" TargetMode="External"/><Relationship Id="rId2" Type="http://schemas.openxmlformats.org/officeDocument/2006/relationships/hyperlink" Target="http://www.fsps.muni.cz/impact/atletika-2/" TargetMode="External"/><Relationship Id="rId3" Type="http://schemas.openxmlformats.org/officeDocument/2006/relationships/hyperlink" Target="http://www.fsps.muni.cz/impact/didaktika-atletiky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žadavky na ukončení studia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Ústní zkou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2.Praktické splnění vícebojů a metodických výstup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3.Splnění všech praktických zápočt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776 př.n.l.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rodobé OH  - Olympia - Pentatlon běh,dálka,disk,oštěp a zá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ovodobé  OH Řecko  -  Athény - Janda-Suk,Zátopek,Zátopková,Fikotová,Húbnerová, Daněk,Pribilinec,Změlík,Železný,Dvořák,Šebrle, Špotá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83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S Helsinki  Kratochvílová,Fibingerová,Bugár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34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E  Tur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7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aložen  Č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68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LOH Mexiko - tar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6"/>
          <p:cNvSpPr/>
          <p:nvPr/>
        </p:nvSpPr>
        <p:spPr>
          <a:xfrm>
            <a:off x="3348000" y="2060640"/>
            <a:ext cx="4686480" cy="17143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ALNÁ HROM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ČESKÉHO ATLETICKÉHO SV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7"/>
          <p:cNvSpPr/>
          <p:nvPr/>
        </p:nvSpPr>
        <p:spPr>
          <a:xfrm>
            <a:off x="730872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DOZORČÍ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572436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4 členové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2340000" y="4005360"/>
            <a:ext cx="2663640" cy="266364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9 členů výboru z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PŘEDSEDA 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Arial"/>
              </a:rPr>
              <a:t>MÍSTOPŘEDSEDA Č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826920" y="3357720"/>
            <a:ext cx="1600200" cy="4572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PŘEDSEDAJÍCÍ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SKRUTÁTOŘI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179280" y="2276640"/>
            <a:ext cx="2449800" cy="5047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MANDÁTOVÁ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VOLEBNÍ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851280" y="836640"/>
            <a:ext cx="172872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KRAJS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ATLETICKÉ SVA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3"/>
          <p:cNvSpPr/>
          <p:nvPr/>
        </p:nvSpPr>
        <p:spPr>
          <a:xfrm>
            <a:off x="5940360" y="836640"/>
            <a:ext cx="223200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ODDÍLY A KLU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 VÍCE NEŽ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EGISTROVANÝCH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ZÁVODNÍK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4"/>
          <p:cNvSpPr/>
          <p:nvPr/>
        </p:nvSpPr>
        <p:spPr>
          <a:xfrm>
            <a:off x="471636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5"/>
          <p:cNvSpPr/>
          <p:nvPr/>
        </p:nvSpPr>
        <p:spPr>
          <a:xfrm>
            <a:off x="709308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6"/>
          <p:cNvSpPr/>
          <p:nvPr/>
        </p:nvSpPr>
        <p:spPr>
          <a:xfrm>
            <a:off x="630072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7"/>
          <p:cNvSpPr/>
          <p:nvPr/>
        </p:nvSpPr>
        <p:spPr>
          <a:xfrm>
            <a:off x="759636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8"/>
          <p:cNvSpPr/>
          <p:nvPr/>
        </p:nvSpPr>
        <p:spPr>
          <a:xfrm>
            <a:off x="478800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9"/>
          <p:cNvSpPr/>
          <p:nvPr/>
        </p:nvSpPr>
        <p:spPr>
          <a:xfrm flipH="1">
            <a:off x="1403280" y="479736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0"/>
          <p:cNvSpPr/>
          <p:nvPr/>
        </p:nvSpPr>
        <p:spPr>
          <a:xfrm flipV="1">
            <a:off x="1403280" y="3789360"/>
            <a:ext cx="0" cy="102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1"/>
          <p:cNvSpPr/>
          <p:nvPr/>
        </p:nvSpPr>
        <p:spPr>
          <a:xfrm flipH="1">
            <a:off x="2627280" y="2565360"/>
            <a:ext cx="698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2"/>
          <p:cNvSpPr/>
          <p:nvPr/>
        </p:nvSpPr>
        <p:spPr>
          <a:xfrm>
            <a:off x="2700360" y="2276640"/>
            <a:ext cx="6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3"/>
          <p:cNvSpPr/>
          <p:nvPr/>
        </p:nvSpPr>
        <p:spPr>
          <a:xfrm>
            <a:off x="5219640" y="40053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4"/>
          <p:cNvSpPr/>
          <p:nvPr/>
        </p:nvSpPr>
        <p:spPr>
          <a:xfrm>
            <a:off x="6804000" y="393372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5"/>
          <p:cNvSpPr/>
          <p:nvPr/>
        </p:nvSpPr>
        <p:spPr>
          <a:xfrm>
            <a:off x="1476360" y="4365720"/>
            <a:ext cx="792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menu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6"/>
          <p:cNvSpPr/>
          <p:nvPr/>
        </p:nvSpPr>
        <p:spPr>
          <a:xfrm>
            <a:off x="4859280" y="1700280"/>
            <a:ext cx="217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ysílají delegá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457200" y="158760"/>
            <a:ext cx="822960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rganizační struktura Č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39640" y="1341360"/>
            <a:ext cx="331488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ÝB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971640" y="2421000"/>
            <a:ext cx="2663640" cy="34272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9 členů volených valnou hromad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826920" y="3213000"/>
            <a:ext cx="2808360" cy="57636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2 členové, tj. šéftrenér ČAS a ředit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68360" y="4724280"/>
            <a:ext cx="182880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84360" y="4724280"/>
            <a:ext cx="194328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A DALŠÍ 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DISCIPLINÁR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ZDRAVOT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ARCHI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TRENÉRSKÁ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485928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3 členové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4 členové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jmenováni           volení VH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ýbor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694836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DOZOR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3851280" y="1700280"/>
            <a:ext cx="1028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1187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2843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2124000" y="27813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3854160" y="12675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1479240" y="4075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2198520" y="2851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jmen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572436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0"/>
          <p:cNvSpPr/>
          <p:nvPr/>
        </p:nvSpPr>
        <p:spPr>
          <a:xfrm>
            <a:off x="788508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6510600" y="2997360"/>
            <a:ext cx="157068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stitu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Oval 5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64328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3142440" y="3645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É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7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0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1979640" y="549360"/>
            <a:ext cx="5238720" cy="5126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šeobecné             Výběr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1979640" y="0"/>
            <a:ext cx="5238720" cy="507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íle – výchovné, vzdělá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1979640" y="1125360"/>
            <a:ext cx="5238720" cy="503280"/>
          </a:xfrm>
          <a:prstGeom prst="rect">
            <a:avLst/>
          </a:prstGeom>
          <a:solidFill>
            <a:srgbClr val="a3a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Částečné                   Etap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1187280" y="1628640"/>
            <a:ext cx="1866960" cy="52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8"/>
          <p:cNvSpPr/>
          <p:nvPr/>
        </p:nvSpPr>
        <p:spPr>
          <a:xfrm>
            <a:off x="1332000" y="2060640"/>
            <a:ext cx="1533600" cy="1224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OBSAH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ondiční přípra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echn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akt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sych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eoret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1332000" y="3429000"/>
            <a:ext cx="1533600" cy="2016000"/>
          </a:xfrm>
          <a:custGeom>
            <a:avLst/>
            <a:gdLst>
              <a:gd name="textAreaLeft" fmla="*/ 74880 w 1533600"/>
              <a:gd name="textAreaRight" fmla="*/ 1458720 w 1533600"/>
              <a:gd name="textAreaTop" fmla="*/ 74880 h 2016000"/>
              <a:gd name="textAreaBottom" fmla="*/ 1941120 h 2016000"/>
            </a:gdLst>
            <a:ahLst/>
            <a:rect l="textAreaLeft" t="textAreaTop" r="textAreaRight" b="textAreaBottom"/>
            <a:pathLst>
              <a:path w="21600" h="28393">
                <a:moveTo>
                  <a:pt x="3600" y="0"/>
                </a:moveTo>
                <a:arcTo wR="3600" hR="3600" stAng="16200000" swAng="-5400000"/>
                <a:lnTo>
                  <a:pt x="0" y="24793"/>
                </a:lnTo>
                <a:arcTo wR="3600" hR="3600" stAng="10800000" swAng="-5400000"/>
                <a:lnTo>
                  <a:pt x="18000" y="283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ROSTŘEDK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réninkové (cvičení-vlastní, soutěžní, speciální, všeobecné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egenerace sil, výživa, pitný reži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ontroly trénovano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8"/>
          <p:cNvSpPr/>
          <p:nvPr/>
        </p:nvSpPr>
        <p:spPr>
          <a:xfrm>
            <a:off x="1332000" y="5514840"/>
            <a:ext cx="1533600" cy="134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PODMÍNK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Materiální, ekonomické, sociální, právní, pracovn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9"/>
          <p:cNvSpPr/>
          <p:nvPr/>
        </p:nvSpPr>
        <p:spPr>
          <a:xfrm>
            <a:off x="3635280" y="1628640"/>
            <a:ext cx="3934080" cy="52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0"/>
          <p:cNvSpPr/>
          <p:nvPr/>
        </p:nvSpPr>
        <p:spPr>
          <a:xfrm>
            <a:off x="1403280" y="1700280"/>
            <a:ext cx="1400400" cy="2667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iální prv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3995640" y="1700280"/>
            <a:ext cx="2524320" cy="2667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Operativní prv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2"/>
          <p:cNvSpPr/>
          <p:nvPr/>
        </p:nvSpPr>
        <p:spPr>
          <a:xfrm>
            <a:off x="3708360" y="2060640"/>
            <a:ext cx="3816360" cy="1008000"/>
          </a:xfrm>
          <a:prstGeom prst="roundRect">
            <a:avLst>
              <a:gd name="adj" fmla="val 16667"/>
            </a:avLst>
          </a:pr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RINCIPY: (zásad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ystematičnosti, posloupnosti, cykličnosti, individualizace, specifičnosti, názornosti, přiměřeno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roporcionality:  - Všestranné a specifické příprav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Rozvoj faktorů, určujících sportovní výk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4"/>
          <p:cNvSpPr/>
          <p:nvPr/>
        </p:nvSpPr>
        <p:spPr>
          <a:xfrm>
            <a:off x="3708360" y="3141720"/>
            <a:ext cx="3816360" cy="1511280"/>
          </a:xfrm>
          <a:prstGeom prst="roundRect">
            <a:avLst>
              <a:gd name="adj" fmla="val 16667"/>
            </a:avLst>
          </a:pr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ETOD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Rozvoj pohybovým schopnost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Nepřerušovaného zatížení: souvislá, rovnoměrná, střída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Přerušovaného zatížení:opakovaná, interval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Osvojování a zdokonalovaní dovedností (slovní, ukázkové, ideomotorické, praktické cvičení- opakování komplexní, analyticko-syntetick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Jiné (vedlejší úlohy, kontrastu, diagnostické metody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26"/>
          <p:cNvSpPr/>
          <p:nvPr/>
        </p:nvSpPr>
        <p:spPr>
          <a:xfrm>
            <a:off x="3708360" y="4724280"/>
            <a:ext cx="1655640" cy="2133720"/>
          </a:xfrm>
          <a:custGeom>
            <a:avLst/>
            <a:gdLst>
              <a:gd name="textAreaLeft" fmla="*/ 80640 w 1655640"/>
              <a:gd name="textAreaRight" fmla="*/ 1575000 w 1655640"/>
              <a:gd name="textAreaTop" fmla="*/ 80640 h 2133720"/>
              <a:gd name="textAreaBottom" fmla="*/ 2053080 h 2133720"/>
            </a:gdLst>
            <a:ahLst/>
            <a:rect l="textAreaLeft" t="textAreaTop" r="textAreaRight" b="textAreaBottom"/>
            <a:pathLst>
              <a:path w="21600" h="27836">
                <a:moveTo>
                  <a:pt x="3600" y="0"/>
                </a:moveTo>
                <a:arcTo wR="3600" hR="3600" stAng="16200000" swAng="-5400000"/>
                <a:lnTo>
                  <a:pt x="0" y="24236"/>
                </a:lnTo>
                <a:arcTo wR="3600" hR="3600" stAng="10800000" swAng="-5400000"/>
                <a:lnTo>
                  <a:pt x="18000" y="278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FORM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Sociálně- interakční (hromadná, skupinová, individuální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Tréninková jednotka (základní – v čase soustředění kontrolní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Soutěžní-závody, zápasy, doplň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8"/>
          <p:cNvSpPr/>
          <p:nvPr/>
        </p:nvSpPr>
        <p:spPr>
          <a:xfrm>
            <a:off x="5435640" y="4724280"/>
            <a:ext cx="2089080" cy="2133720"/>
          </a:xfrm>
          <a:custGeom>
            <a:avLst/>
            <a:gdLst>
              <a:gd name="textAreaLeft" fmla="*/ 101880 w 2089080"/>
              <a:gd name="textAreaRight" fmla="*/ 1987200 w 2089080"/>
              <a:gd name="textAreaTop" fmla="*/ 101880 h 2133720"/>
              <a:gd name="textAreaBottom" fmla="*/ 2031840 h 2133720"/>
            </a:gdLst>
            <a:ahLst/>
            <a:rect l="textAreaLeft" t="textAreaTop" r="textAreaRight" b="textAreaBottom"/>
            <a:pathLst>
              <a:path w="21600" h="22061">
                <a:moveTo>
                  <a:pt x="3600" y="0"/>
                </a:moveTo>
                <a:arcTo wR="3600" hR="3600" stAng="16200000" swAng="-5400000"/>
                <a:lnTo>
                  <a:pt x="0" y="18461"/>
                </a:lnTo>
                <a:arcTo wR="3600" hR="3600" stAng="10800000" swAng="-5400000"/>
                <a:lnTo>
                  <a:pt x="18000" y="220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PERIODIZA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- Střídání tr. zatížení a odpočink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Charakteru práce a odpočinku (všeob., spec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Druhy a složky  tr. zatížení (objem, intenzita, koordinační složitost, psych. náročnos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Velikost zatížení (malé, střední, velké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něnický a kol.: Technika atletických disciplín,SPN,19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stál a kol.: Didaktika školní atletiky,SPN,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límová a kol.: Didaktika Atletických disciplín,MU Brno,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idla atletiky,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sps.muni.cz/impact/atletika-3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sps.muni.cz/impact/atletika-2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fsps.muni.cz/impact/didaktika-atletik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12:41:19Z</dcterms:created>
  <dc:creator>Michálek</dc:creator>
  <dc:description/>
  <dc:language>en-US</dc:language>
  <cp:lastModifiedBy>Josef Michálek</cp:lastModifiedBy>
  <dcterms:modified xsi:type="dcterms:W3CDTF">2015-02-19T12:21:47Z</dcterms:modified>
  <cp:revision>30</cp:revision>
  <dc:subject/>
  <dc:title>ATLETIKA přednáška</dc:title>
</cp:coreProperties>
</file>