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2BBD-46C8-44E3-A751-6D124943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4CB-4102-42BD-8331-C64634A5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7E3-F415-46B9-A1F6-84925CCD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670-5D06-4589-8CCC-AF88777D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714F-BE9C-4842-A3FA-F183E9C1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B4B0-252C-41FC-B70D-0D2C3255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F3A0-8676-4F3B-95FC-ED3AB819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3CBE-641E-48FB-8F67-88399467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B77A-CF34-4509-8D44-3B708EB7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478A-7B8D-4C43-AEAA-6FC3F860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0811-53F5-4D28-B71B-52DB1643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23D-12C7-446F-97D3-90CFC14E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B990-55AF-4629-A14C-692118AA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F4A7-086D-4D29-9CEA-0A267B4F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9FCD-4602-459B-AA0A-710DF8D6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A015-3008-42F2-8F1B-B45AD2A4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D9B2-3223-4C27-89DD-E75EA920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26A-B570-45AD-852C-ACC026F8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5A2-8E3C-4245-82EE-F644251C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B36A-CE04-4AD0-B4B8-A2A00713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6CF-0401-44EB-B54E-293A9D99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2EDF-104E-465F-BE7B-33D8CDE8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26B-A751-4636-A108-CA5170FA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FD2-736E-49F8-8CF6-10614D0E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3C9D-BA15-4201-A5FA-57F343F070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906A-24B8-4C42-A248-E486B8F5FB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sps.muni.cz/impact/atletika-3/" TargetMode="External"/><Relationship Id="rId2" Type="http://schemas.openxmlformats.org/officeDocument/2006/relationships/hyperlink" Target="http://www.fsps.muni.cz/impact/atletika-2/" TargetMode="External"/><Relationship Id="rId3" Type="http://schemas.openxmlformats.org/officeDocument/2006/relationships/hyperlink" Target="http://www.fsps.muni.cz/impact/didaktika-atletiky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 a metodických výstup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42440" y="3645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É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979640" y="549360"/>
            <a:ext cx="5238720" cy="512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obecné             Výběr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979640" y="0"/>
            <a:ext cx="5238720" cy="507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e – výchovné, vzdělá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979640" y="1125360"/>
            <a:ext cx="5238720" cy="50328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ástečné                   Etap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187280" y="1628640"/>
            <a:ext cx="186696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1332000" y="2060640"/>
            <a:ext cx="1533600" cy="1224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BSAH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diční příp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chn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ak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ore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1332000" y="3429000"/>
            <a:ext cx="1533600" cy="2016000"/>
          </a:xfrm>
          <a:custGeom>
            <a:avLst/>
            <a:gdLst>
              <a:gd name="textAreaLeft" fmla="*/ 74880 w 1533600"/>
              <a:gd name="textAreaRight" fmla="*/ 1458720 w 1533600"/>
              <a:gd name="textAreaTop" fmla="*/ 74880 h 2016000"/>
              <a:gd name="textAreaBottom" fmla="*/ 1941120 h 2016000"/>
            </a:gdLst>
            <a:ahLst/>
            <a:rect l="textAreaLeft" t="textAreaTop" r="textAreaRight" b="textAreaBottom"/>
            <a:pathLst>
              <a:path w="21600" h="28393">
                <a:moveTo>
                  <a:pt x="3600" y="0"/>
                </a:moveTo>
                <a:arcTo wR="3600" hR="3600" stAng="16200000" swAng="-5400000"/>
                <a:lnTo>
                  <a:pt x="0" y="24793"/>
                </a:lnTo>
                <a:arcTo wR="3600" hR="3600" stAng="10800000" swAng="-5400000"/>
                <a:lnTo>
                  <a:pt x="18000" y="283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STŘED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éninkové (cvičení-vlastní, soutěžní, speciální, všeobecn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generace sil, výživa, pitný rež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roly trénova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1332000" y="5514840"/>
            <a:ext cx="1533600" cy="134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ODMÍN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Materiální, ekonomické, sociální, právní, pracov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3635280" y="1628640"/>
            <a:ext cx="393408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1403280" y="1700280"/>
            <a:ext cx="140040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ál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3995640" y="1700280"/>
            <a:ext cx="252432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Operativ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3708360" y="2060640"/>
            <a:ext cx="3816360" cy="100800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INCIPY: (zásad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atičnosti, posloupnosti, cykličnosti, individualizace, specifičnosti, názornosti, přiměře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rcionality:  - Všestranné a specifické příprav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faktorů, určujících sportovní výk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>
            <a:off x="3708360" y="3141720"/>
            <a:ext cx="3816360" cy="151128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TOD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pohybovým schopnost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Nepřerušovaného zatížení: souvislá, rovnoměrná, střída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Přerušovaného zatížení:opakovaná, interval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Osvojování a zdokonalovaní dovedností (slovní, ukázkové, ideomotorické, praktické cvičení- opakování komplexní, analyticko-syntetick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Jiné (vedlejší úlohy, kontrastu, diagnostické metody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3708360" y="4724280"/>
            <a:ext cx="1655640" cy="213372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133720"/>
              <a:gd name="textAreaBottom" fmla="*/ 2053080 h 2133720"/>
            </a:gdLst>
            <a:ahLst/>
            <a:rect l="textAreaLeft" t="textAreaTop" r="textAreaRight" b="textAreaBottom"/>
            <a:pathLst>
              <a:path w="21600" h="27836">
                <a:moveTo>
                  <a:pt x="3600" y="0"/>
                </a:moveTo>
                <a:arcTo wR="3600" hR="3600" stAng="16200000" swAng="-5400000"/>
                <a:lnTo>
                  <a:pt x="0" y="24236"/>
                </a:lnTo>
                <a:arcTo wR="3600" hR="3600" stAng="10800000" swAng="-5400000"/>
                <a:lnTo>
                  <a:pt x="18000" y="27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FOR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ciálně- interakční (hromadná, skupinová, individuá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Tréninková jednotka (základní – v čase soustředění kontro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utěžní-závody, zápasy, doplň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>
            <a:off x="5435640" y="4724280"/>
            <a:ext cx="2089080" cy="213372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133720"/>
              <a:gd name="textAreaBottom" fmla="*/ 2031840 h 2133720"/>
            </a:gdLst>
            <a:ahLst/>
            <a:rect l="textAreaLeft" t="textAreaTop" r="textAreaRight" b="textAreaBottom"/>
            <a:pathLst>
              <a:path w="21600" h="22061">
                <a:moveTo>
                  <a:pt x="3600" y="0"/>
                </a:moveTo>
                <a:arcTo wR="3600" hR="3600" stAng="16200000" swAng="-5400000"/>
                <a:lnTo>
                  <a:pt x="0" y="18461"/>
                </a:lnTo>
                <a:arcTo wR="3600" hR="3600" stAng="10800000" swAng="-5400000"/>
                <a:lnTo>
                  <a:pt x="18000" y="220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ERIODIZA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- Střídání tr. zatížení a odpočink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Charakteru práce a odpočinku (všeob., spe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Druhy a složky  tr. zatížení (objem, intenzita, koordinační složitost, psych. náročnos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elikost zatížení (malé, střední, velk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sps.muni.cz/impact/atletika-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sps.muni.cz/impact/atletika-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sps.muni.cz/impact/didaktika-atletik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15-02-19T12:21:47Z</dcterms:modified>
  <cp:revision>30</cp:revision>
  <dc:subject/>
  <dc:title>ATLETIKA přednáška</dc:title>
</cp:coreProperties>
</file>