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80D-ED72-4F34-9A69-CB106828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8D1-E03C-4640-9FD8-68A4B09B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E23-22B2-4863-8B11-1B2A4244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88B-E54C-43BE-A919-B6EA24E5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558-5681-4175-82FF-8A213B0F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12B-4A88-40B3-BE8D-D361A7DD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42C-18EB-4C22-8745-2A922C2D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19E-55F9-4244-82C0-CFD12D42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69A-8361-49EC-8E67-0DF5277F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A17-6467-494D-A46F-52F74FB2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37C-9EE4-4CB3-AB38-D5BA62BB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474-AFC2-458E-BD0A-21B5C8E5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EFBE-76C7-4FC3-A801-B064F665939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úroveň(ANP),střední 2-4,nízká 2m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ce intenzivní intervalová meto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0 sec. běh 50 m, 10 sec. odpoči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krétní příklad intervalového tréni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68724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999999"/>
                </a:solidFill>
                <a:latin typeface="Arial"/>
              </a:rPr>
              <a:t>Trénink pro běžce s osobními vý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 30m letmo 3,8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 800m 2:00 min. (100m – 15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T 1500m 4:00 min. (100m – 16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 5000m 15:00min. (100m – 18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h  ANP 12 km 40:00min. (100m - 20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 10km a více,hod. a dé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PC</cp:lastModifiedBy>
  <dcterms:modified xsi:type="dcterms:W3CDTF">2016-03-06T10:18:16Z</dcterms:modified>
  <cp:revision>32</cp:revision>
  <dc:subject/>
  <dc:title>Běhy na střední a dlouhé tratě</dc:title>
</cp:coreProperties>
</file>