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6854-7DA6-46EC-91A1-D2BD19134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A32C-2329-4664-91AF-62DF3E84F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94C7-67EA-4141-A6F0-010AF2248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608C-F38D-4CAD-8B26-5C66DB727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989FA-3A63-4B87-9FA3-AAB35B95F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E5A33-A373-4A85-8612-7B1249CC7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F1671-3654-43D2-B0FF-1A067E0FC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54F85-5AAB-447C-86C2-FA484EEAC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60292-E100-4104-B019-324EBCA53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189D2-3A88-4A36-A5A4-27097D24D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50787-D810-4524-B7F7-F18D73296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31B3-B217-4856-AFB0-57CE856FD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F0B55-9511-48BB-B832-3B50D589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61872-DCDA-4A37-815B-8EE5C5EF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56926-3E83-43F9-9755-86C8B3919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25403-D9F3-403E-8E0A-77557BB2C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E69C2-DB74-4F6B-AD03-317034475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2AC2-7681-41B6-BF57-66234E08E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BDEB-B567-4944-8745-E1CCBC160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23B5-3A04-4E80-B1FF-56B8CA827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DB91-C7E2-4B17-9CE8-44DFAA596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35A6-BC0D-4DBB-8356-46B0DF61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C6E0-829A-4DB8-8E4C-FFBC23C81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4035-A7AA-40DD-B9F3-5C047A1B7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0AA9B-9936-4E93-869C-49F34F131417}" type="slidenum">
              <a:rPr b="0" lang="cs-CZ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>
                <a:gd name="textAreaLeft" fmla="*/ 0 w 6264360"/>
                <a:gd name="textAreaRight" fmla="*/ 6264720 w 6264360"/>
                <a:gd name="textAreaTop" fmla="*/ 0 h 2388960"/>
                <a:gd name="textAreaBottom" fmla="*/ 2389320 h 2388960"/>
              </a:gdLst>
              <a:ahLst/>
              <a:rect l="textAreaLeft" t="textAreaTop" r="textAreaRight" b="textAreaBottom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>
                <a:gd name="textAreaLeft" fmla="*/ 0 w 2751120"/>
                <a:gd name="textAreaRight" fmla="*/ 2751480 w 27511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>
                <a:gd name="textAreaLeft" fmla="*/ 0 w 8854920"/>
                <a:gd name="textAreaRight" fmla="*/ 8855280 w 8854920"/>
                <a:gd name="textAreaTop" fmla="*/ 0 h 5472000"/>
                <a:gd name="textAreaBottom" fmla="*/ 5472360 h 5472000"/>
              </a:gdLst>
              <a:ahLst/>
              <a:rect l="textAreaLeft" t="textAreaTop" r="textAreaRight" b="textAreaBottom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3330360"/>
                <a:gd name="textAreaBottom" fmla="*/ 3330720 h 3330360"/>
              </a:gdLst>
              <a:ahLst/>
              <a:rect l="textAreaLeft" t="textAreaTop" r="textAreaRight" b="textAreaBottom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2008080"/>
                <a:gd name="textAreaBottom" fmla="*/ 2008440 h 2008080"/>
              </a:gdLst>
              <a:ahLst/>
              <a:rect l="textAreaLeft" t="textAreaTop" r="textAreaRight" b="textAreaBottom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>
                <a:gd name="textAreaLeft" fmla="*/ 0 w 7475400"/>
                <a:gd name="textAreaRight" fmla="*/ 7475760 w 7475400"/>
                <a:gd name="textAreaTop" fmla="*/ 0 h 4605480"/>
                <a:gd name="textAreaBottom" fmla="*/ 4605840 h 4605480"/>
              </a:gdLst>
              <a:ahLst/>
              <a:rect l="textAreaLeft" t="textAreaTop" r="textAreaRight" b="textAreaBottom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>
                <a:gd name="textAreaLeft" fmla="*/ 0 w 5989680"/>
                <a:gd name="textAreaRight" fmla="*/ 5990040 w 5989680"/>
                <a:gd name="textAreaTop" fmla="*/ 0 h 3740040"/>
                <a:gd name="textAreaBottom" fmla="*/ 3740400 h 3740040"/>
              </a:gdLst>
              <a:ahLst/>
              <a:rect l="textAreaLeft" t="textAreaTop" r="textAreaRight" b="textAreaBottom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>
                <a:gd name="textAreaLeft" fmla="*/ 0 w 4656240"/>
                <a:gd name="textAreaRight" fmla="*/ 4656600 w 4656240"/>
                <a:gd name="textAreaTop" fmla="*/ 0 h 2930400"/>
                <a:gd name="textAreaBottom" fmla="*/ 2930400 h 2930400"/>
              </a:gdLst>
              <a:ahLst/>
              <a:rect l="textAreaLeft" t="textAreaTop" r="textAreaRight" b="textAreaBottom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>
                <a:gd name="textAreaLeft" fmla="*/ 0 w 2369880"/>
                <a:gd name="textAreaRight" fmla="*/ 2370240 w 23698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>
                  <a:gd name="textAreaLeft" fmla="*/ 0 w 1990440"/>
                  <a:gd name="textAreaRight" fmla="*/ 1990800 w 199044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>
                  <a:gd name="textAreaLeft" fmla="*/ 0 w 236520"/>
                  <a:gd name="textAreaRight" fmla="*/ 236880 w 236520"/>
                  <a:gd name="textAreaTop" fmla="*/ 0 h 664920"/>
                  <a:gd name="textAreaBottom" fmla="*/ 665280 h 664920"/>
                </a:gdLst>
                <a:ahLst/>
                <a:rect l="textAreaLeft" t="textAreaTop" r="textAreaRight" b="textAreaBottom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>
                  <a:gd name="textAreaLeft" fmla="*/ 0 w 179640"/>
                  <a:gd name="textAreaRight" fmla="*/ 180000 w 1796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>
                  <a:gd name="textAreaLeft" fmla="*/ 0 w 255600"/>
                  <a:gd name="textAreaRight" fmla="*/ 255600 w 255600"/>
                  <a:gd name="textAreaTop" fmla="*/ 0 h 284040"/>
                  <a:gd name="textAreaBottom" fmla="*/ 284400 h 284040"/>
                </a:gdLst>
                <a:ahLst/>
                <a:rect l="textAreaLeft" t="textAreaTop" r="textAreaRight" b="textAreaBottom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>
                  <a:gd name="textAreaLeft" fmla="*/ 0 w 75960"/>
                  <a:gd name="textAreaRight" fmla="*/ 76320 w 75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171720"/>
                  <a:gd name="textAreaBottom" fmla="*/ 171720 h 171720"/>
                </a:gdLst>
                <a:ahLst/>
                <a:rect l="textAreaLeft" t="textAreaTop" r="textAreaRight" b="textAreaBottom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>
                  <a:gd name="textAreaLeft" fmla="*/ 0 w 122400"/>
                  <a:gd name="textAreaRight" fmla="*/ 122760 w 1224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>
                  <a:gd name="textAreaLeft" fmla="*/ 0 w 341280"/>
                  <a:gd name="textAreaRight" fmla="*/ 341640 w 34128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>
                  <a:gd name="textAreaLeft" fmla="*/ 0 w 336240"/>
                  <a:gd name="textAreaRight" fmla="*/ 336240 w 336240"/>
                  <a:gd name="textAreaTop" fmla="*/ 0 h 284400"/>
                  <a:gd name="textAreaBottom" fmla="*/ 284760 h 284400"/>
                </a:gdLst>
                <a:ahLst/>
                <a:rect l="textAreaLeft" t="textAreaTop" r="textAreaRight" b="textAreaBottom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25280"/>
                  <a:gd name="textAreaBottom" fmla="*/ 125280 h 125280"/>
                </a:gdLst>
                <a:ahLst/>
                <a:rect l="textAreaLeft" t="textAreaTop" r="textAreaRight" b="textAreaBottom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28680"/>
                  <a:gd name="textAreaBottom" fmla="*/ 329040 h 328680"/>
                </a:gdLst>
                <a:ahLst/>
                <a:rect l="textAreaLeft" t="textAreaTop" r="textAreaRight" b="textAreaBottom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0D683-786D-4456-9C39-B955FF9FC761}" type="slidenum">
              <a:rPr b="0" lang="cs-CZ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Historie překážkového běhu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1864 se konal první závod na 120 y,výška překážek byla 106 c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Na OH  soutěží muži od roku 1896,ženy od roku 1932 – 8Om př,1972 – 1OO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Způsoby přeběhu překážek (skrčný,klouzavý,turecký,kročný a běžecký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1935 součastná konstrukce z T na 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Sr 12,80s Merritt, Čr.13,33s Svoboda,ženy 12,21s Donkovová, 12,92s Škrobákov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cc"/>
                </a:solidFill>
                <a:latin typeface="Arial"/>
              </a:rPr>
              <a:t>Štafetový běh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cc"/>
                </a:solidFill>
                <a:latin typeface="Verdana"/>
              </a:rPr>
              <a:t>Didaktický postup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Držení a běh se štafetovým kolíke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ředávání štafetového kolíku na místě ve dvojicích a čtveřicíc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ředávání štafetového kolíku za chůze a mírného poklus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ředávání štafetového kolíku ve dvojicích v předávacím územ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echnika překážkového běhu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cc"/>
                </a:solidFill>
                <a:latin typeface="Verdana"/>
              </a:rPr>
              <a:t>Překážkový star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Volba přední nohy je závislá na zvoleném rytmu  (7 – 8) kroků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Postavení startovních bloků závisí na individuální úpravě kroků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cc"/>
                </a:solidFill>
                <a:latin typeface="Verdana"/>
              </a:rPr>
              <a:t>Náběh na první překážk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Maximální zrychlení v prvních krocíc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Vysoké běžecké postavení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Délka kroku se zvyšuje až do předposledního kroku,poslední krok je kratší a dochází k aktivnějšímu došlapu chodidla na podložku jeho přední část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cc"/>
                </a:solidFill>
                <a:latin typeface="Arial"/>
              </a:rPr>
              <a:t>Přeběh překážk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Místo odrazu je ve vzdálenosti 1.90- 2.30m od překážk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Odraz je proveden z přední části chodidl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Bérec švihové nohy se skládá aktivně pod stehn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Odrazová noha dokončuje odraz v plném nápon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Odrazová noha je nad překážkou ohnuta v kolenním a hlezenním kloubu téměř do pravého úhlu,přičemž koleno je výše než chodidl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cc"/>
                </a:solidFill>
                <a:latin typeface="Arial"/>
              </a:rPr>
              <a:t>Dokroková fáz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Dokrok je proveden na přední část chodidla na nataženou a v hlezenním kloubu zpevněnou noh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Odrazová noha je vedena   aktivně dopředu a vzhůr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Efektivní přechod z překážkového kroku ke sprinterskému běh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cc"/>
                </a:solidFill>
                <a:latin typeface="Arial"/>
              </a:rPr>
              <a:t>Běh mezi překážkami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Úsek mezi překážkami se běží na tři krok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Běh je orientován frekvenčně na pohyb vpřed s vysokým zvadáním kolen a provádí se přední části chodid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Sklon trupu je zachován jako při hladkém běh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aže se pohybují u těla ve směru běhu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cc"/>
                </a:solidFill>
                <a:latin typeface="Arial"/>
              </a:rPr>
              <a:t>Doběh do cíl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Maximální spurt až za cílovou pásk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Vpadnutí do cíle s náklonem trupu a zapažením paž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cc"/>
                </a:solidFill>
                <a:latin typeface="Arial"/>
              </a:rPr>
              <a:t>Nejčastější chyb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Drobení kroků při náběh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Odraz blízko překážk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Vysoký přeskok překážk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Zpomalení při doskoku za překážko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Běh po patác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Skoky mezi překážkam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cc"/>
                </a:solidFill>
                <a:latin typeface="Arial"/>
              </a:rPr>
              <a:t>Didaktický postup při nácviku techniky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řekážkářský rytmus (čáry,laťky..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Imitační cvičení švihové nohy vedle překážky( na místě,za chůze,v mírném běhu, v maximální rychlosti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Imitační cvičení odrazové nohy vedle překážky (na místě ve dvojicích,…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Chůze mezi překážkami s jedním mezikroke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Start a náběh na první překážk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Běh mezi překážkami (tříkrokový rytmus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cc"/>
                </a:solidFill>
                <a:latin typeface="Arial"/>
              </a:rPr>
              <a:t>Štafety –základní informac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4x100m – běží se v oddělených drahách, předávací je 20m,náběhové 10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4x400m – první úsek se běží ve vlastní dráze, ve druhém úseku se po 100m sbíhá k mantinel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Štafetový kolík má hmotnost do 50g, dlouhý je 30 cm a průměr má 4 cm,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0T15:31:08Z</dcterms:created>
  <dc:creator>Josef Michálek</dc:creator>
  <dc:description/>
  <dc:language>en-US</dc:language>
  <cp:lastModifiedBy>240</cp:lastModifiedBy>
  <dcterms:modified xsi:type="dcterms:W3CDTF">2012-12-07T08:49:00Z</dcterms:modified>
  <cp:revision>46</cp:revision>
  <dc:subject/>
  <dc:title> Technika překážkového běhu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