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299-2828-4AD2-80D7-098D9154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386-CD5A-46C7-AFB7-D67DB9BB9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01D-4C21-418A-926C-9DECF9F3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DF7-FC42-473D-90E9-926B23DCD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BCDD-433D-42A2-B69F-DAA5F91D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B12E-A78B-479E-9D2B-428783F9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2DB5-AEA6-40A9-98FF-837ED697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3099-E5C7-48BF-BED8-4FC92947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DBBD-E01E-4E61-84FD-B518B29B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3632-7208-4A06-8B89-1AA74A87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3253-0DA6-473A-9598-66CA71F2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3309-6152-4282-B1E2-1E0D0334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4832-8796-4B89-A159-2B9C1C34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E276-36B4-4699-ADE4-A40C6A62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CFAC-7B40-41FA-A977-FEDDE5436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090F-3B72-4F40-9DAE-B3A7D6E30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1EBE-611C-45F2-8A55-896D2735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2F8C-0F1B-45CC-B3D9-60E1B5F3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B60A-5AEF-4763-8BE6-B17EA540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DCE-A6FD-4558-B959-1805C985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839-922B-4E50-8436-CC1B7412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140-4860-451E-8F8A-EE9D86D9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DD0-DF7A-4DA1-B53E-B5A61108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6FE-DBC4-47EC-A77D-43846691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845C-2B38-408A-994D-07991569E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D0A2-1C84-400D-BB4E-B0489D8B6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sps.muni.cz/impact/atletika-3/" TargetMode="External"/><Relationship Id="rId2" Type="http://schemas.openxmlformats.org/officeDocument/2006/relationships/hyperlink" Target="http://www.fsps.muni.cz/impact/atletika-2/" TargetMode="External"/><Relationship Id="rId3" Type="http://schemas.openxmlformats.org/officeDocument/2006/relationships/hyperlink" Target="http://www.fsps.muni.cz/impact/didaktika-atletiky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 a metodických výstup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42440" y="364500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É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979640" y="549360"/>
            <a:ext cx="5238720" cy="51264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šeobecné             Výběr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979640" y="0"/>
            <a:ext cx="5238720" cy="507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Cíle – výchovné, vzdělá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1979640" y="1125360"/>
            <a:ext cx="5238720" cy="503280"/>
          </a:xfrm>
          <a:prstGeom prst="rect">
            <a:avLst/>
          </a:prstGeom>
          <a:solidFill>
            <a:srgbClr val="a3a3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Částečné                   Etap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187280" y="1628640"/>
            <a:ext cx="186696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1332000" y="2060640"/>
            <a:ext cx="1533600" cy="122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OBSAH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diční přípra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chn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ak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sych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eoretick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1332000" y="3429000"/>
            <a:ext cx="1533600" cy="201600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2016000"/>
              <a:gd name="textAreaBottom" fmla="*/ 1941120 h 2016000"/>
            </a:gdLst>
            <a:ahLst/>
            <a:rect l="textAreaLeft" t="textAreaTop" r="textAreaRight" b="textAreaBottom"/>
            <a:pathLst>
              <a:path w="21600" h="28393">
                <a:moveTo>
                  <a:pt x="3600" y="0"/>
                </a:moveTo>
                <a:arcTo wR="3600" hR="3600" stAng="16200000" swAng="-5400000"/>
                <a:lnTo>
                  <a:pt x="0" y="24793"/>
                </a:lnTo>
                <a:arcTo wR="3600" hR="3600" stAng="10800000" swAng="-5400000"/>
                <a:lnTo>
                  <a:pt x="18000" y="283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STŘED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réninkové (cvičení-vlastní, soutěžní, speciální, všeobecn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egenerace sil, výživa, pitný reži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ontroly trénova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8"/>
          <p:cNvSpPr/>
          <p:nvPr/>
        </p:nvSpPr>
        <p:spPr>
          <a:xfrm>
            <a:off x="1332000" y="5514840"/>
            <a:ext cx="1533600" cy="1343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ODMÍNK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Materiální, ekonomické, sociální, právní, pracov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9"/>
          <p:cNvSpPr/>
          <p:nvPr/>
        </p:nvSpPr>
        <p:spPr>
          <a:xfrm>
            <a:off x="3635280" y="1628640"/>
            <a:ext cx="393408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>
            <a:off x="1403280" y="1700280"/>
            <a:ext cx="140040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Materiál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3995640" y="1700280"/>
            <a:ext cx="2524320" cy="2667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Operativní prv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2"/>
          <p:cNvSpPr/>
          <p:nvPr/>
        </p:nvSpPr>
        <p:spPr>
          <a:xfrm>
            <a:off x="3708360" y="2060640"/>
            <a:ext cx="3816360" cy="100800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INCIPY: (zásad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atičnosti, posloupnosti, cykličnosti, individualizace, specifičnosti, názornosti, přiměřenos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rcionality:  - Všestranné a specifické příprav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faktorů, určujících sportovní výk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4"/>
          <p:cNvSpPr/>
          <p:nvPr/>
        </p:nvSpPr>
        <p:spPr>
          <a:xfrm>
            <a:off x="3708360" y="3141720"/>
            <a:ext cx="3816360" cy="1511280"/>
          </a:xfrm>
          <a:prstGeom prst="roundRect">
            <a:avLst>
              <a:gd name="adj" fmla="val 16667"/>
            </a:avLst>
          </a:pr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ETODY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Rozvoj pohybovým schopnost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Nepřerušovaného zatížení: souvislá, rovnoměrná, střída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Přerušovaného zatížení:opakovaná, interval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Osvojování a zdokonalovaní dovedností (slovní, ukázkové, ideomotorické, praktické cvičení- opakování komplexní, analyticko-syntetick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Calibri"/>
              </a:rPr>
              <a:t>Jiné (vedlejší úlohy, kontrastu, diagnostické metody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3708360" y="4724280"/>
            <a:ext cx="1655640" cy="2133720"/>
          </a:xfrm>
          <a:custGeom>
            <a:avLst/>
            <a:gdLst>
              <a:gd name="textAreaLeft" fmla="*/ 80640 w 1655640"/>
              <a:gd name="textAreaRight" fmla="*/ 1575000 w 1655640"/>
              <a:gd name="textAreaTop" fmla="*/ 80640 h 2133720"/>
              <a:gd name="textAreaBottom" fmla="*/ 2053080 h 2133720"/>
            </a:gdLst>
            <a:ahLst/>
            <a:rect l="textAreaLeft" t="textAreaTop" r="textAreaRight" b="textAreaBottom"/>
            <a:pathLst>
              <a:path w="21600" h="27836">
                <a:moveTo>
                  <a:pt x="3600" y="0"/>
                </a:moveTo>
                <a:arcTo wR="3600" hR="3600" stAng="16200000" swAng="-5400000"/>
                <a:lnTo>
                  <a:pt x="0" y="24236"/>
                </a:lnTo>
                <a:arcTo wR="3600" hR="3600" stAng="10800000" swAng="-5400000"/>
                <a:lnTo>
                  <a:pt x="18000" y="278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FORM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ciálně- interakční (hromadná, skupinová, individuá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Tréninková jednotka (základní – v čase soustředění kontrolní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Soutěžní-závody, zápasy, doplň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>
            <a:off x="5435640" y="4724280"/>
            <a:ext cx="2089080" cy="213372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2133720"/>
              <a:gd name="textAreaBottom" fmla="*/ 2031840 h 2133720"/>
            </a:gdLst>
            <a:ahLst/>
            <a:rect l="textAreaLeft" t="textAreaTop" r="textAreaRight" b="textAreaBottom"/>
            <a:pathLst>
              <a:path w="21600" h="22061">
                <a:moveTo>
                  <a:pt x="3600" y="0"/>
                </a:moveTo>
                <a:arcTo wR="3600" hR="3600" stAng="16200000" swAng="-5400000"/>
                <a:lnTo>
                  <a:pt x="0" y="18461"/>
                </a:lnTo>
                <a:arcTo wR="3600" hR="3600" stAng="10800000" swAng="-5400000"/>
                <a:lnTo>
                  <a:pt x="18000" y="2206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2cf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Calibri"/>
              </a:rPr>
              <a:t>PERIODIZA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- Střídání tr. zatížení a odpočink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Charakteru práce a odpočinku (všeob., spec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Druhy a složky  tr. zatížení (objem, intenzita, koordinační složitost, psych. náročno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Velikost zatížení (malé, střední, velké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sps.muni.cz/impact/atletika-3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sps.muni.cz/impact/atletika-2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fsps.muni.cz/impact/didaktika-atletik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15-02-19T12:21:47Z</dcterms:modified>
  <cp:revision>30</cp:revision>
  <dc:subject/>
  <dc:title>ATLETIKA přednáška</dc:title>
</cp:coreProperties>
</file>