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377-B7C3-443B-B186-C0842165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80CD-DE10-46CC-A9DE-D5AA21CF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D9A-A8B7-44A6-B650-F24599F5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8F79-9EF9-4AD7-B84F-410634073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3A7C-E3AE-4B48-B97D-9448DB8F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F36-D4FB-4148-A666-FE25D307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CB0E-3467-440A-8D6F-8C4BDD39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0235-DF32-4833-8EB0-8EC7615E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6F2-F97B-475E-B1F3-2E97F355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913B-DAB0-47C1-A850-CACE538A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50DB-E592-471C-8D30-81960F30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7AED-AB3B-407B-B267-8F00765B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372D-357D-4D03-851D-CA4555624A0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.úroveň(ANP),střední 2-4,nízká 2m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oce intenzivní intervalová metod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0 sec. běh 50 m, 10 sec. odpočin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63272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krétní příklad intervalového trénin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00000" y="2565000"/>
            <a:ext cx="687240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999999"/>
                </a:solidFill>
                <a:latin typeface="Arial"/>
              </a:rPr>
              <a:t>Trénink pro běžce s osobními výk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R 30m letmo 3,85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R 800m 2:00 min. (100m – 15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T 1500m 4:00 min. (100m – 16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 5000m 15:00min. (100m – 18 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ěh  ANP 12 km 40:00min. (100m - 20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 10km a více,hod. a dé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PC</cp:lastModifiedBy>
  <dcterms:modified xsi:type="dcterms:W3CDTF">2016-03-06T10:18:16Z</dcterms:modified>
  <cp:revision>32</cp:revision>
  <dc:subject/>
  <dc:title>Běhy na střední a dlouhé tratě</dc:title>
</cp:coreProperties>
</file>