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B521-9DBB-4055-B9F6-BA53485A7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D974-AF9E-4431-AA6F-D8071DC8A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25A0-78B6-4AED-AED7-741718244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E982-CE4B-4326-9D71-8FA86ABDA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B1431-2E38-480D-98DA-5EE715128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1CD06-C0CC-4705-8B1E-0E61630F5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01003-DCE8-440C-8390-CA5423CB5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4D4CD-2260-4A29-B1B4-34ACC00B8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94C46-74B2-4F6A-8566-B6E76FF10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16BBF-E1ED-4C3D-A664-944422ED5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3202C-2D22-4B56-8FBC-16D6C2484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D634-AFBF-4492-8718-4FAD4150F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A9C87-5171-4912-8230-46C7A0AF1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A98E3-5522-422E-B04D-D52047164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D533A-05F5-49BD-A84C-E89ACD4CB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698AC-DF46-45F7-9097-AF2384DAE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F7ABC-8FAF-4FE8-AAA5-C6EBC41D9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A97D-B2F4-4D8D-8080-D50ABE41F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8757-5B92-4C25-A732-D6AB0D45D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DADF-7A1C-4371-8939-71ECA17F6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E2A6-4AD6-4E61-B921-26A334B57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5FFE-B5EB-474C-BF23-DFA26D5B5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2308-D550-417C-8E1B-7C332F060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1E3F-A0A7-4D2A-9AC9-F6565ECC6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>
                <a:gd name="textAreaLeft" fmla="*/ 0 w 6264360"/>
                <a:gd name="textAreaRight" fmla="*/ 6264720 w 6264360"/>
                <a:gd name="textAreaTop" fmla="*/ 0 h 2388960"/>
                <a:gd name="textAreaBottom" fmla="*/ 2389320 h 2388960"/>
              </a:gdLst>
              <a:ahLst/>
              <a:rect l="textAreaLeft" t="textAreaTop" r="textAreaRight" b="textAreaBottom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>
                <a:gd name="textAreaLeft" fmla="*/ 0 w 2751120"/>
                <a:gd name="textAreaRight" fmla="*/ 2751480 w 2751120"/>
                <a:gd name="textAreaTop" fmla="*/ 0 h 1093680"/>
                <a:gd name="textAreaBottom" fmla="*/ 1094040 h 1093680"/>
              </a:gdLst>
              <a:ahLst/>
              <a:rect l="textAreaLeft" t="textAreaTop" r="textAreaRight" b="textAreaBottom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>
                <a:gd name="textAreaLeft" fmla="*/ 0 w 8854920"/>
                <a:gd name="textAreaRight" fmla="*/ 8855280 w 8854920"/>
                <a:gd name="textAreaTop" fmla="*/ 0 h 5472000"/>
                <a:gd name="textAreaBottom" fmla="*/ 5472360 h 5472000"/>
              </a:gdLst>
              <a:ahLst/>
              <a:rect l="textAreaLeft" t="textAreaTop" r="textAreaRight" b="textAreaBottom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3330360"/>
                <a:gd name="textAreaBottom" fmla="*/ 3330720 h 3330360"/>
              </a:gdLst>
              <a:ahLst/>
              <a:rect l="textAreaLeft" t="textAreaTop" r="textAreaRight" b="textAreaBottom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>
                <a:gd name="textAreaLeft" fmla="*/ 0 w 3112920"/>
                <a:gd name="textAreaRight" fmla="*/ 3113280 w 3112920"/>
                <a:gd name="textAreaTop" fmla="*/ 0 h 2008080"/>
                <a:gd name="textAreaBottom" fmla="*/ 2008440 h 2008080"/>
              </a:gdLst>
              <a:ahLst/>
              <a:rect l="textAreaLeft" t="textAreaTop" r="textAreaRight" b="textAreaBottom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>
                <a:gd name="textAreaLeft" fmla="*/ 0 w 7475400"/>
                <a:gd name="textAreaRight" fmla="*/ 7475760 w 7475400"/>
                <a:gd name="textAreaTop" fmla="*/ 0 h 4605480"/>
                <a:gd name="textAreaBottom" fmla="*/ 4605840 h 4605480"/>
              </a:gdLst>
              <a:ahLst/>
              <a:rect l="textAreaLeft" t="textAreaTop" r="textAreaRight" b="textAreaBottom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>
                <a:gd name="textAreaLeft" fmla="*/ 0 w 5989680"/>
                <a:gd name="textAreaRight" fmla="*/ 5990040 w 5989680"/>
                <a:gd name="textAreaTop" fmla="*/ 0 h 3740040"/>
                <a:gd name="textAreaBottom" fmla="*/ 3740400 h 3740040"/>
              </a:gdLst>
              <a:ahLst/>
              <a:rect l="textAreaLeft" t="textAreaTop" r="textAreaRight" b="textAreaBottom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>
                <a:gd name="textAreaLeft" fmla="*/ 0 w 4656240"/>
                <a:gd name="textAreaRight" fmla="*/ 4656600 w 4656240"/>
                <a:gd name="textAreaTop" fmla="*/ 0 h 2930400"/>
                <a:gd name="textAreaBottom" fmla="*/ 2930400 h 2930400"/>
              </a:gdLst>
              <a:ahLst/>
              <a:rect l="textAreaLeft" t="textAreaTop" r="textAreaRight" b="textAreaBottom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>
                <a:gd name="textAreaLeft" fmla="*/ 0 w 2369880"/>
                <a:gd name="textAreaRight" fmla="*/ 2370240 w 236988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>
                  <a:gd name="textAreaLeft" fmla="*/ 0 w 1990440"/>
                  <a:gd name="textAreaRight" fmla="*/ 1990800 w 1990440"/>
                  <a:gd name="textAreaTop" fmla="*/ 0 h 1465200"/>
                  <a:gd name="textAreaBottom" fmla="*/ 1465200 h 1465200"/>
                </a:gdLst>
                <a:ahLst/>
                <a:rect l="textAreaLeft" t="textAreaTop" r="textAreaRight" b="textAreaBottom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>
                  <a:gd name="textAreaLeft" fmla="*/ 0 w 236520"/>
                  <a:gd name="textAreaRight" fmla="*/ 236880 w 236520"/>
                  <a:gd name="textAreaTop" fmla="*/ 0 h 664920"/>
                  <a:gd name="textAreaBottom" fmla="*/ 665280 h 664920"/>
                </a:gdLst>
                <a:ahLst/>
                <a:rect l="textAreaLeft" t="textAreaTop" r="textAreaRight" b="textAreaBottom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>
                  <a:gd name="textAreaLeft" fmla="*/ 0 w 265320"/>
                  <a:gd name="textAreaRight" fmla="*/ 265680 w 265320"/>
                  <a:gd name="textAreaTop" fmla="*/ 0 h 219240"/>
                  <a:gd name="textAreaBottom" fmla="*/ 219600 h 219240"/>
                </a:gdLst>
                <a:ahLst/>
                <a:rect l="textAreaLeft" t="textAreaTop" r="textAreaRight" b="textAreaBottom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>
                  <a:gd name="textAreaLeft" fmla="*/ 0 w 179640"/>
                  <a:gd name="textAreaRight" fmla="*/ 180000 w 17964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>
                  <a:gd name="textAreaLeft" fmla="*/ 0 w 255600"/>
                  <a:gd name="textAreaRight" fmla="*/ 255600 w 255600"/>
                  <a:gd name="textAreaTop" fmla="*/ 0 h 284040"/>
                  <a:gd name="textAreaBottom" fmla="*/ 284400 h 284040"/>
                </a:gdLst>
                <a:ahLst/>
                <a:rect l="textAreaLeft" t="textAreaTop" r="textAreaRight" b="textAreaBottom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171720"/>
                  <a:gd name="textAreaBottom" fmla="*/ 171720 h 171720"/>
                </a:gdLst>
                <a:ahLst/>
                <a:rect l="textAreaLeft" t="textAreaTop" r="textAreaRight" b="textAreaBottom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>
                  <a:gd name="textAreaLeft" fmla="*/ 0 w 122400"/>
                  <a:gd name="textAreaRight" fmla="*/ 122760 w 12240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>
                  <a:gd name="textAreaLeft" fmla="*/ 0 w 336240"/>
                  <a:gd name="textAreaRight" fmla="*/ 336240 w 336240"/>
                  <a:gd name="textAreaTop" fmla="*/ 0 h 284400"/>
                  <a:gd name="textAreaBottom" fmla="*/ 284760 h 284400"/>
                </a:gdLst>
                <a:ahLst/>
                <a:rect l="textAreaLeft" t="textAreaTop" r="textAreaRight" b="textAreaBottom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125280"/>
                  <a:gd name="textAreaBottom" fmla="*/ 125280 h 125280"/>
                </a:gdLst>
                <a:ahLst/>
                <a:rect l="textAreaLeft" t="textAreaTop" r="textAreaRight" b="textAreaBottom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>
                  <a:gd name="textAreaLeft" fmla="*/ 0 w 217440"/>
                  <a:gd name="textAreaRight" fmla="*/ 217800 w 217440"/>
                  <a:gd name="textAreaTop" fmla="*/ 0 h 328680"/>
                  <a:gd name="textAreaBottom" fmla="*/ 329040 h 328680"/>
                </a:gdLst>
                <a:ahLst/>
                <a:rect l="textAreaLeft" t="textAreaTop" r="textAreaRight" b="textAreaBottom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352440"/>
                  <a:gd name="textAreaBottom" fmla="*/ 352800 h 352440"/>
                </a:gdLst>
                <a:ahLst/>
                <a:rect l="textAreaLeft" t="textAreaTop" r="textAreaRight" b="textAreaBottom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5BDE4-D3D7-4778-9EA1-5791A01A4C21}" type="slidenum">
              <a:rPr b="0" lang="cs-CZ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>
                <a:gd name="textAreaLeft" fmla="*/ 0 w 6264360"/>
                <a:gd name="textAreaRight" fmla="*/ 6264720 w 6264360"/>
                <a:gd name="textAreaTop" fmla="*/ 0 h 2388960"/>
                <a:gd name="textAreaBottom" fmla="*/ 2389320 h 2388960"/>
              </a:gdLst>
              <a:ahLst/>
              <a:rect l="textAreaLeft" t="textAreaTop" r="textAreaRight" b="textAreaBottom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>
                <a:gd name="textAreaLeft" fmla="*/ 0 w 2751120"/>
                <a:gd name="textAreaRight" fmla="*/ 2751480 w 2751120"/>
                <a:gd name="textAreaTop" fmla="*/ 0 h 1093680"/>
                <a:gd name="textAreaBottom" fmla="*/ 1094040 h 1093680"/>
              </a:gdLst>
              <a:ahLst/>
              <a:rect l="textAreaLeft" t="textAreaTop" r="textAreaRight" b="textAreaBottom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>
                <a:gd name="textAreaLeft" fmla="*/ 0 w 8854920"/>
                <a:gd name="textAreaRight" fmla="*/ 8855280 w 8854920"/>
                <a:gd name="textAreaTop" fmla="*/ 0 h 5472000"/>
                <a:gd name="textAreaBottom" fmla="*/ 5472360 h 5472000"/>
              </a:gdLst>
              <a:ahLst/>
              <a:rect l="textAreaLeft" t="textAreaTop" r="textAreaRight" b="textAreaBottom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3330360"/>
                <a:gd name="textAreaBottom" fmla="*/ 3330720 h 3330360"/>
              </a:gdLst>
              <a:ahLst/>
              <a:rect l="textAreaLeft" t="textAreaTop" r="textAreaRight" b="textAreaBottom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>
                <a:gd name="textAreaLeft" fmla="*/ 0 w 3112920"/>
                <a:gd name="textAreaRight" fmla="*/ 3113280 w 3112920"/>
                <a:gd name="textAreaTop" fmla="*/ 0 h 2008080"/>
                <a:gd name="textAreaBottom" fmla="*/ 2008440 h 2008080"/>
              </a:gdLst>
              <a:ahLst/>
              <a:rect l="textAreaLeft" t="textAreaTop" r="textAreaRight" b="textAreaBottom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>
                <a:gd name="textAreaLeft" fmla="*/ 0 w 7475400"/>
                <a:gd name="textAreaRight" fmla="*/ 7475760 w 7475400"/>
                <a:gd name="textAreaTop" fmla="*/ 0 h 4605480"/>
                <a:gd name="textAreaBottom" fmla="*/ 4605840 h 4605480"/>
              </a:gdLst>
              <a:ahLst/>
              <a:rect l="textAreaLeft" t="textAreaTop" r="textAreaRight" b="textAreaBottom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>
                <a:gd name="textAreaLeft" fmla="*/ 0 w 5989680"/>
                <a:gd name="textAreaRight" fmla="*/ 5990040 w 5989680"/>
                <a:gd name="textAreaTop" fmla="*/ 0 h 3740040"/>
                <a:gd name="textAreaBottom" fmla="*/ 3740400 h 3740040"/>
              </a:gdLst>
              <a:ahLst/>
              <a:rect l="textAreaLeft" t="textAreaTop" r="textAreaRight" b="textAreaBottom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>
                <a:gd name="textAreaLeft" fmla="*/ 0 w 4656240"/>
                <a:gd name="textAreaRight" fmla="*/ 4656600 w 4656240"/>
                <a:gd name="textAreaTop" fmla="*/ 0 h 2930400"/>
                <a:gd name="textAreaBottom" fmla="*/ 2930400 h 2930400"/>
              </a:gdLst>
              <a:ahLst/>
              <a:rect l="textAreaLeft" t="textAreaTop" r="textAreaRight" b="textAreaBottom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>
                <a:gd name="textAreaLeft" fmla="*/ 0 w 2369880"/>
                <a:gd name="textAreaRight" fmla="*/ 2370240 w 236988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9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>
                  <a:gd name="textAreaLeft" fmla="*/ 0 w 1990440"/>
                  <a:gd name="textAreaRight" fmla="*/ 1990800 w 1990440"/>
                  <a:gd name="textAreaTop" fmla="*/ 0 h 1465200"/>
                  <a:gd name="textAreaBottom" fmla="*/ 1465200 h 1465200"/>
                </a:gdLst>
                <a:ahLst/>
                <a:rect l="textAreaLeft" t="textAreaTop" r="textAreaRight" b="textAreaBottom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>
                  <a:gd name="textAreaLeft" fmla="*/ 0 w 236520"/>
                  <a:gd name="textAreaRight" fmla="*/ 236880 w 236520"/>
                  <a:gd name="textAreaTop" fmla="*/ 0 h 664920"/>
                  <a:gd name="textAreaBottom" fmla="*/ 665280 h 664920"/>
                </a:gdLst>
                <a:ahLst/>
                <a:rect l="textAreaLeft" t="textAreaTop" r="textAreaRight" b="textAreaBottom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>
                  <a:gd name="textAreaLeft" fmla="*/ 0 w 265320"/>
                  <a:gd name="textAreaRight" fmla="*/ 265680 w 265320"/>
                  <a:gd name="textAreaTop" fmla="*/ 0 h 219240"/>
                  <a:gd name="textAreaBottom" fmla="*/ 219600 h 219240"/>
                </a:gdLst>
                <a:ahLst/>
                <a:rect l="textAreaLeft" t="textAreaTop" r="textAreaRight" b="textAreaBottom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>
                  <a:gd name="textAreaLeft" fmla="*/ 0 w 179640"/>
                  <a:gd name="textAreaRight" fmla="*/ 180000 w 17964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>
                  <a:gd name="textAreaLeft" fmla="*/ 0 w 255600"/>
                  <a:gd name="textAreaRight" fmla="*/ 255600 w 255600"/>
                  <a:gd name="textAreaTop" fmla="*/ 0 h 284040"/>
                  <a:gd name="textAreaBottom" fmla="*/ 284400 h 284040"/>
                </a:gdLst>
                <a:ahLst/>
                <a:rect l="textAreaLeft" t="textAreaTop" r="textAreaRight" b="textAreaBottom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171720"/>
                  <a:gd name="textAreaBottom" fmla="*/ 171720 h 171720"/>
                </a:gdLst>
                <a:ahLst/>
                <a:rect l="textAreaLeft" t="textAreaTop" r="textAreaRight" b="textAreaBottom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>
                  <a:gd name="textAreaLeft" fmla="*/ 0 w 122400"/>
                  <a:gd name="textAreaRight" fmla="*/ 122760 w 12240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>
                  <a:gd name="textAreaLeft" fmla="*/ 0 w 336240"/>
                  <a:gd name="textAreaRight" fmla="*/ 336240 w 336240"/>
                  <a:gd name="textAreaTop" fmla="*/ 0 h 284400"/>
                  <a:gd name="textAreaBottom" fmla="*/ 284760 h 284400"/>
                </a:gdLst>
                <a:ahLst/>
                <a:rect l="textAreaLeft" t="textAreaTop" r="textAreaRight" b="textAreaBottom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125280"/>
                  <a:gd name="textAreaBottom" fmla="*/ 125280 h 125280"/>
                </a:gdLst>
                <a:ahLst/>
                <a:rect l="textAreaLeft" t="textAreaTop" r="textAreaRight" b="textAreaBottom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>
                  <a:gd name="textAreaLeft" fmla="*/ 0 w 217440"/>
                  <a:gd name="textAreaRight" fmla="*/ 217800 w 217440"/>
                  <a:gd name="textAreaTop" fmla="*/ 0 h 328680"/>
                  <a:gd name="textAreaBottom" fmla="*/ 329040 h 328680"/>
                </a:gdLst>
                <a:ahLst/>
                <a:rect l="textAreaLeft" t="textAreaTop" r="textAreaRight" b="textAreaBottom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352440"/>
                  <a:gd name="textAreaBottom" fmla="*/ 352800 h 352440"/>
                </a:gdLst>
                <a:ahLst/>
                <a:rect l="textAreaLeft" t="textAreaTop" r="textAreaRight" b="textAreaBottom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B3EA8-1BC7-427C-BCA5-7CC6319F3BDF}" type="slidenum">
              <a:rPr b="0" lang="cs-CZ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99"/>
                </a:solidFill>
                <a:latin typeface="Arial"/>
              </a:rPr>
              <a:t>Historie překážkového běhu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1864 se konal první závod na 120 y,výška překážek byla 106 c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Na OH  soutěží muži od roku 1896,ženy od roku 1932 – 8Om př,1972 – 1OO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Způsoby přeběhu překážek (skrčný,klouzavý,turecký,kročný a běžecký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1935 součastná konstrukce z T na 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Sr 12,80s Merritt, Čr.13,33s Svoboda,ženy 12,21s Donkovová, 12,92s Škrobáková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cc"/>
                </a:solidFill>
                <a:latin typeface="Arial"/>
              </a:rPr>
              <a:t>Štafetový běh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cc"/>
                </a:solidFill>
                <a:latin typeface="Verdana"/>
              </a:rPr>
              <a:t>Didaktický postup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Držení a běh se štafetovým kolíke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Předávání štafetového kolíku na místě ve dvojicích a čtveřicích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Předávání štafetového kolíku za chůze a mírného poklusu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Předávání štafetového kolíku ve dvojicích v předávacím územ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Technika překážkového běhu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cc"/>
                </a:solidFill>
                <a:latin typeface="Verdana"/>
              </a:rPr>
              <a:t>Překážkový star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Volba přední nohy je závislá na zvoleném rytmu  (7 – 8) kroků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Postavení startovních bloků závisí na individuální úpravě kroků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cc"/>
                </a:solidFill>
                <a:latin typeface="Verdana"/>
              </a:rPr>
              <a:t>Náběh na první překážku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Maximální zrychlení v prvních krocích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Vysoké běžecké postavení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Délka kroku se zvyšuje až do předposledního kroku,poslední krok je kratší a dochází k aktivnějšímu došlapu chodidla na podložku jeho přední části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cc"/>
                </a:solidFill>
                <a:latin typeface="Arial"/>
              </a:rPr>
              <a:t>Přeběh překážky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Místo odrazu je ve vzdálenosti 1.90- 2.30m od překážk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Odraz je proveden z přední části chodidl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Bérec švihové nohy se skládá aktivně pod stehn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Odrazová noha dokončuje odraz v plném náponu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Odrazová noha je nad překážkou ohnuta v kolenním a hlezenním kloubu téměř do pravého úhlu,přičemž koleno je výše než chodidl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cc"/>
                </a:solidFill>
                <a:latin typeface="Arial"/>
              </a:rPr>
              <a:t>Dokroková fáz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Dokrok je proveden na přední část chodidla na nataženou a v hlezenním kloubu zpevněnou nohu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Odrazová noha je vedena   aktivně dopředu a vzhůru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Efektivní přechod z překážkového kroku ke sprinterskému běhu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cc"/>
                </a:solidFill>
                <a:latin typeface="Arial"/>
              </a:rPr>
              <a:t>Běh mezi překážkami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Úsek mezi překážkami se běží na tři krok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Běh je orientován frekvenčně na pohyb vpřed s vysokým zvadáním kolen a provádí se přední části chodid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Sklon trupu je zachován jako při hladkém běhu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Paže se pohybují u těla ve směru běhu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cc"/>
                </a:solidFill>
                <a:latin typeface="Arial"/>
              </a:rPr>
              <a:t>Doběh do cíl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Maximální spurt až za cílovou pásku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Vpadnutí do cíle s náklonem trupu a zapažením paž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cc"/>
                </a:solidFill>
                <a:latin typeface="Arial"/>
              </a:rPr>
              <a:t>Nejčastější chyby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Drobení kroků při náběhu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Odraz blízko překážk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Vysoký přeskok překážk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Zpomalení při doskoku za překážkou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Běh po patách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Skoky mezi překážkam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cc"/>
                </a:solidFill>
                <a:latin typeface="Arial"/>
              </a:rPr>
              <a:t>Didaktický postup při nácviku techniky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Překážkářský rytmus (čáry,laťky..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Imitační cvičení švihové nohy vedle překážky( na místě,za chůze,v mírném běhu, v maximální rychlosti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Imitační cvičení odrazové nohy vedle překážky (na místě ve dvojicích,…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Chůze mezi překážkami s jedním mezikroke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Start a náběh na první překážku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Běh mezi překážkami (tříkrokový rytmus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cc"/>
                </a:solidFill>
                <a:latin typeface="Arial"/>
              </a:rPr>
              <a:t>Štafety –základní informac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4x100m – běží se v oddělených drahách, předávací je 20m,náběhové 10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4x400m – první úsek se běží ve vlastní dráze, ve druhém úseku se po 100m sbíhá k mantinelu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Štafetový kolík má hmotnost do 50g, dlouhý je 30 cm a průměr má 4 cm,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0T15:31:08Z</dcterms:created>
  <dc:creator>Josef Michálek</dc:creator>
  <dc:description/>
  <dc:language>en-US</dc:language>
  <cp:lastModifiedBy>240</cp:lastModifiedBy>
  <dcterms:modified xsi:type="dcterms:W3CDTF">2012-12-07T08:49:00Z</dcterms:modified>
  <cp:revision>46</cp:revision>
  <dc:subject/>
  <dc:title> Technika překážkového běhu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