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12B2-C812-44D1-AA07-4CCA468EA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7770-B946-4EF4-ACB9-E592DC2F1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A4AD-9B03-44A8-A8C4-40EB2C81E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08FC-7BEC-45EE-8AC2-94B0B26F8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6BAA3-D633-481A-9ACB-0BE9227AC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1AC98-4B92-4DE8-AC56-8A5F91E13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07092-D1C1-41E6-84A3-1128603FE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A005F-3D2F-473F-B10F-EBB2DC9F3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F4C19-2F8E-4C3B-92F6-61384E14E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DA8E4-8AC8-4A86-9712-60CCB10D9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9AFEC-0381-48C9-B62F-D49AFC97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2382-0C90-4C8C-8D11-465BB7E0C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BC141-0023-4DB0-BA3E-6888DE060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75EB1-2DBA-405A-99A4-34BD2B3A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6524E-2A40-497C-9571-F344DC8D6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407D6-5D33-406C-99F9-FF354FB88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CE3CE-B659-4A6A-81EC-C257AD6E1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E39E-7DD9-401F-9F5C-49BB84AE3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DCAD-A8B1-4BB0-9B8F-5F7B37EE9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4EE3-0D70-4D95-B310-CA0D8CA12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9D9D-1A57-404E-867E-F1378D37A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AF37-8117-4F37-8960-A3778E2D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B834-0446-4E90-812C-FF126BBA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6A22-23DC-4BAF-99DE-6625A1CF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B02D0-1A9F-4F7A-A749-60AC443F2AF6}" type="slidenum">
              <a:rPr b="0" lang="cs-CZ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7D8C3-4FE4-47D9-93F6-721CEB34E6D7}" type="slidenum">
              <a:rPr b="0" lang="cs-CZ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Historie překážkového běhu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1864 se konal první závod na 120 y,výška překážek byla 106 c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Na OH  soutěží muži od roku 1896,ženy od roku 1932 – 8Om př,1972 – 1OO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Způsoby přeběhu překážek (skrčný,klouzavý,turecký,kročný a běžecký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1935 součastná konstrukce z T na 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Sr 12,80s Merritt, Čr.13,33s Svoboda,ženy 12,21s Donkovová, 12,92s Škrobákov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Štafetový běh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cc"/>
                </a:solidFill>
                <a:latin typeface="Verdana"/>
              </a:rPr>
              <a:t>Didaktický postup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Držení a běh se štafetovým kolík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ředávání štafetového kolíku na místě ve dvojicích a čtveřicí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ředávání štafetového kolíku za chůze a mírného poklus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ředávání štafetového kolíku ve dvojicích v předávacím územ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echnika překážkového běhu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cc"/>
                </a:solidFill>
                <a:latin typeface="Verdana"/>
              </a:rPr>
              <a:t>Překážkový star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Volba přední nohy je závislá na zvoleném rytmu  (7 – 8) kroků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ostavení startovních bloků závisí na individuální úpravě kroků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cc"/>
                </a:solidFill>
                <a:latin typeface="Verdana"/>
              </a:rPr>
              <a:t>Náběh na první překážk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Maximální zrychlení v prvních krocíc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Vysoké běžecké postaven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Délka kroku se zvyšuje až do předposledního kroku,poslední krok je kratší a dochází k aktivnějšímu došlapu chodidla na podložku jeho přední část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Přeběh překážk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Místo odrazu je ve vzdálenosti 1.90- 2.30m od překážk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Odraz je proveden z přední části chodidl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Bérec švihové nohy se skládá aktivně pod stehn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Odrazová noha dokončuje odraz v plném nápon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Odrazová noha je nad překážkou ohnuta v kolenním a hlezenním kloubu téměř do pravého úhlu,přičemž koleno je výše než chodidl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Dokroková fáz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Dokrok je proveden na přední část chodidla na nataženou a v hlezenním kloubu zpevněnou noh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Odrazová noha je vedena   aktivně dopředu a vzhůr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Efektivní přechod z překážkového kroku ke sprinterskému běh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Běh mezi překážkami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Úsek mezi překážkami se běží na tři krok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Běh je orientován frekvenčně na pohyb vpřed s vysokým zvadáním kolen a provádí se přední části chodid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Sklon trupu je zachován jako při hladkém běh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aže se pohybují u těla ve směru běhu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Doběh do cíl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Maximální spurt až za cílovou pásk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padnutí do cíle s náklonem trupu a zapažením paž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Nejčastější chyb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Drobení kroků při náběh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Odraz blízko překážk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ysoký přeskok překážk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Zpomalení při doskoku za překážko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Běh po patá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Skoky mezi překážkam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cc"/>
                </a:solidFill>
                <a:latin typeface="Arial"/>
              </a:rPr>
              <a:t>Didaktický postup při nácviku techniky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řekážkářský rytmus (čáry,laťky..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Imitační cvičení švihové nohy vedle překážky( na místě,za chůze,v mírném běhu, v maximální rychlosti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Imitační cvičení odrazové nohy vedle překážky (na místě ve dvojicích,…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Chůze mezi překážkami s jedním mezikroke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Start a náběh na první překážk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Běh mezi překážkami (tříkrokový rytmu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Štafety –základní informac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4x100m – běží se v oddělených drahách, předávací je 20m,náběhové 10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4x400m – první úsek se běží ve vlastní dráze, ve druhém úseku se po 100m sbíhá k mantinel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Štafetový kolík má hmotnost do 50g, dlouhý je 30 cm a průměr má 4 cm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0T15:31:08Z</dcterms:created>
  <dc:creator>Josef Michálek</dc:creator>
  <dc:description/>
  <dc:language>en-US</dc:language>
  <cp:lastModifiedBy>240</cp:lastModifiedBy>
  <dcterms:modified xsi:type="dcterms:W3CDTF">2012-12-07T08:49:00Z</dcterms:modified>
  <cp:revision>46</cp:revision>
  <dc:subject/>
  <dc:title> Technika překážkového běhu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