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674-B757-4AA1-8241-D7CEFFED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BAE-75DF-4076-BFE4-7F5110FF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F08-6CEA-4CAF-9DD3-9FEC4283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AA57-1848-4D4A-9CDA-B426C060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2624-FAD6-4FB4-9421-C0536ACB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BAF9-0BA5-4A08-A192-05495B70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81AB-D5FF-43B6-96B3-F5C8C291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0BA8-2AC0-43B1-A78D-5251184D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868A-CE9F-4CF9-8705-84FBEDFE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B91B-82B3-4EDF-B90B-23B5D257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537F-EF66-4F70-AF43-FDA4CFB3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5529-2A61-4F44-87F0-0C6FBEEC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D671-6D6A-482C-A9B0-55F6C6E3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C1A3-8D9C-49C6-87CC-1A11894C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2B1E-78E1-4602-A84F-A3F12D32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7B29-FE8E-4403-8618-72E1A42A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BAA9-2426-4680-A11E-71C7BF30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448-B43C-41FF-9646-D4B50E14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159-E56D-425C-8B68-9D964407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A715-13D2-4656-A7C1-3DEA3460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10B6-1A12-45C6-8874-EFA346B2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499-4468-4D60-95AF-F0944E76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65CD-4893-4D21-92BE-B5672A41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9B9-9705-43A3-8A0E-117997EC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4E2D-EF39-4DEB-B251-E47E603389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9414-A7AF-4E02-B3CA-24D0355E7E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sps.muni.cz/impact/atletika-3/" TargetMode="External"/><Relationship Id="rId2" Type="http://schemas.openxmlformats.org/officeDocument/2006/relationships/hyperlink" Target="http://www.fsps.muni.cz/impact/atletika-2/" TargetMode="External"/><Relationship Id="rId3" Type="http://schemas.openxmlformats.org/officeDocument/2006/relationships/hyperlink" Target="http://www.fsps.muni.cz/impact/didaktika-atletiky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 a metodických výstup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42440" y="3645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É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979640" y="549360"/>
            <a:ext cx="5238720" cy="512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šeobecné             Výběr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979640" y="0"/>
            <a:ext cx="5238720" cy="507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íle – výchovné, vzdělá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979640" y="1125360"/>
            <a:ext cx="5238720" cy="503280"/>
          </a:xfrm>
          <a:prstGeom prst="rect">
            <a:avLst/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ástečné                   Etap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187280" y="1628640"/>
            <a:ext cx="186696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1332000" y="2060640"/>
            <a:ext cx="1533600" cy="1224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BSAH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diční příp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chn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ak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ore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1332000" y="3429000"/>
            <a:ext cx="1533600" cy="2016000"/>
          </a:xfrm>
          <a:custGeom>
            <a:avLst/>
            <a:gdLst>
              <a:gd name="textAreaLeft" fmla="*/ 74880 w 1533600"/>
              <a:gd name="textAreaRight" fmla="*/ 1458720 w 1533600"/>
              <a:gd name="textAreaTop" fmla="*/ 74880 h 2016000"/>
              <a:gd name="textAreaBottom" fmla="*/ 1941120 h 2016000"/>
            </a:gdLst>
            <a:ahLst/>
            <a:rect l="textAreaLeft" t="textAreaTop" r="textAreaRight" b="textAreaBottom"/>
            <a:pathLst>
              <a:path w="21600" h="28393">
                <a:moveTo>
                  <a:pt x="3600" y="0"/>
                </a:moveTo>
                <a:arcTo wR="3600" hR="3600" stAng="16200000" swAng="-5400000"/>
                <a:lnTo>
                  <a:pt x="0" y="24793"/>
                </a:lnTo>
                <a:arcTo wR="3600" hR="3600" stAng="10800000" swAng="-5400000"/>
                <a:lnTo>
                  <a:pt x="18000" y="283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OSTŘED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réninkové (cvičení-vlastní, soutěžní, speciální, všeobecn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egenerace sil, výživa, pitný rež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troly trénova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1332000" y="5514840"/>
            <a:ext cx="1533600" cy="134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ODMÍN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Materiální, ekonomické, sociální, právní, pracov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3635280" y="1628640"/>
            <a:ext cx="393408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0"/>
          <p:cNvSpPr/>
          <p:nvPr/>
        </p:nvSpPr>
        <p:spPr>
          <a:xfrm>
            <a:off x="1403280" y="1700280"/>
            <a:ext cx="140040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ál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3995640" y="1700280"/>
            <a:ext cx="252432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Operativ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3708360" y="2060640"/>
            <a:ext cx="3816360" cy="100800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INCIPY: (zásad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ystematičnosti, posloupnosti, cykličnosti, individualizace, specifičnosti, názornosti, přiměře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porcionality:  - Všestranné a specifické příprav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faktorů, určujících sportovní výk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>
            <a:off x="3708360" y="3141720"/>
            <a:ext cx="3816360" cy="151128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ETOD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pohybovým schopnost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Nepřerušovaného zatížení: souvislá, rovnoměrná, střída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Přerušovaného zatížení:opakovaná, interval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Osvojování a zdokonalovaní dovedností (slovní, ukázkové, ideomotorické, praktické cvičení- opakování komplexní, analyticko-syntetick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Jiné (vedlejší úlohy, kontrastu, diagnostické metody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3708360" y="4724280"/>
            <a:ext cx="1655640" cy="213372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133720"/>
              <a:gd name="textAreaBottom" fmla="*/ 2053080 h 2133720"/>
            </a:gdLst>
            <a:ahLst/>
            <a:rect l="textAreaLeft" t="textAreaTop" r="textAreaRight" b="textAreaBottom"/>
            <a:pathLst>
              <a:path w="21600" h="27836">
                <a:moveTo>
                  <a:pt x="3600" y="0"/>
                </a:moveTo>
                <a:arcTo wR="3600" hR="3600" stAng="16200000" swAng="-5400000"/>
                <a:lnTo>
                  <a:pt x="0" y="24236"/>
                </a:lnTo>
                <a:arcTo wR="3600" hR="3600" stAng="10800000" swAng="-5400000"/>
                <a:lnTo>
                  <a:pt x="18000" y="27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FOR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ciálně- interakční (hromadná, skupinová, individuá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Tréninková jednotka (základní – v čase soustředění kontro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utěžní-závody, zápasy, doplň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8"/>
          <p:cNvSpPr/>
          <p:nvPr/>
        </p:nvSpPr>
        <p:spPr>
          <a:xfrm>
            <a:off x="5435640" y="4724280"/>
            <a:ext cx="2089080" cy="213372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2133720"/>
              <a:gd name="textAreaBottom" fmla="*/ 2031840 h 2133720"/>
            </a:gdLst>
            <a:ahLst/>
            <a:rect l="textAreaLeft" t="textAreaTop" r="textAreaRight" b="textAreaBottom"/>
            <a:pathLst>
              <a:path w="21600" h="22061">
                <a:moveTo>
                  <a:pt x="3600" y="0"/>
                </a:moveTo>
                <a:arcTo wR="3600" hR="3600" stAng="16200000" swAng="-5400000"/>
                <a:lnTo>
                  <a:pt x="0" y="18461"/>
                </a:lnTo>
                <a:arcTo wR="3600" hR="3600" stAng="10800000" swAng="-5400000"/>
                <a:lnTo>
                  <a:pt x="18000" y="220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ERIODIZA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- Střídání tr. zatížení a odpočink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Charakteru práce a odpočinku (všeob., spe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Druhy a složky  tr. zatížení (objem, intenzita, koordinační složitost, psych. náročnos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Velikost zatížení (malé, střední, velk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sps.muni.cz/impact/atletika-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sps.muni.cz/impact/atletika-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sps.muni.cz/impact/didaktika-atletik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15-02-19T12:21:47Z</dcterms:modified>
  <cp:revision>30</cp:revision>
  <dc:subject/>
  <dc:title>ATLETIKA přednáška</dc:title>
</cp:coreProperties>
</file>