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2499-41FB-4EF1-AB3A-088AEF28C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CDE5-10B9-485E-BB10-076944F8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397F-FEE2-46ED-9174-366A3D974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7209-2378-4A64-88CB-04D15CEB9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49DA-EB46-4D05-9D92-2732AC138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178C-AFF2-42F7-B004-D7193AA6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9BAF-D955-4387-98CB-2C90DF25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2EF8-A1C3-43F2-885A-F35ED76E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226A-9AA1-4B7B-859B-49FE952C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4EE4-33A6-4628-8622-A6F4416A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C003-4245-49F6-B59D-7A26311E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7788-BACF-4DFF-AB81-0C02E74A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88BD-511F-45C6-A29B-09401F36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F875-074B-4296-8EE2-E592C20B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59B0-EE42-4FF2-A737-B2A89C31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66B3-19E3-4F33-BBE6-CC3A0189D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B8AE-799F-42CD-9BD6-527ED1877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396B-3FB8-47B9-A2DF-F66C0D9D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E7DD-C107-49F4-BE1C-A184E353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0CE6-B641-4A2F-91CC-2D6109DD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2B4C-72B7-4C66-B19F-FFC1D1B5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5F00-C9FF-44B9-ACB1-B095C920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E126-79FC-421B-BB9A-F1B11C01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9911-1219-4EBD-98ED-1854C23A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60A8-1318-4F3B-8A37-F4F2D5E609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4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6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5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3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A917-9402-4A81-877B-16CD6BDCBC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sps.muni.cz/impact/atletika-3/" TargetMode="External"/><Relationship Id="rId2" Type="http://schemas.openxmlformats.org/officeDocument/2006/relationships/hyperlink" Target="http://www.fsps.muni.cz/impact/atletika-2/" TargetMode="External"/><Relationship Id="rId3" Type="http://schemas.openxmlformats.org/officeDocument/2006/relationships/hyperlink" Target="http://www.fsps.muni.cz/impact/didaktika-atletiky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vsichni"/>
          <p:cNvPicPr/>
          <p:nvPr/>
        </p:nvPicPr>
        <p:blipFill>
          <a:blip r:embed="rId1"/>
          <a:stretch/>
        </p:blipFill>
        <p:spPr>
          <a:xfrm>
            <a:off x="0" y="0"/>
            <a:ext cx="9144000" cy="7839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4508280"/>
            <a:ext cx="453708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Arial"/>
              </a:rPr>
              <a:t>ATLETIK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žadavky na ukončení studia atle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Ústní zkou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2.Praktické splnění vícebojů a metodických výstup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3.Splnění všech praktických zápočt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istorie atle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776 př.n.l.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rodobé OH  - Olympia - Pentatlon běh,dálka,disk,oštěp a zá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96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ovodobé  OH Řecko  -  Athény - Janda-Suk,Zátopek,Zátopková,Fikotová,Húbnerová, Daněk,Pribilinec,Změlík,Železný,Dvořák,Šebrle, Špotá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83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S Helsinki  Kratochvílová,Fibingerová,Bugár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34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E  Tur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97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aložen  Č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68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LOH Mexiko - tar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6"/>
          <p:cNvSpPr/>
          <p:nvPr/>
        </p:nvSpPr>
        <p:spPr>
          <a:xfrm>
            <a:off x="3348000" y="2060640"/>
            <a:ext cx="4686480" cy="171432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ALNÁ HROMA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ČESKÉHO ATLETICKÉHO SV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7"/>
          <p:cNvSpPr/>
          <p:nvPr/>
        </p:nvSpPr>
        <p:spPr>
          <a:xfrm>
            <a:off x="7308720" y="4365720"/>
            <a:ext cx="1371600" cy="6858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7 členů z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DOZORČÍ 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8"/>
          <p:cNvSpPr/>
          <p:nvPr/>
        </p:nvSpPr>
        <p:spPr>
          <a:xfrm>
            <a:off x="5724360" y="4365720"/>
            <a:ext cx="1371600" cy="6858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4 členové z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33399"/>
                </a:solidFill>
                <a:latin typeface="Arial"/>
              </a:rPr>
              <a:t>ARBITRÁŽNÍ 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2340000" y="4005360"/>
            <a:ext cx="2663640" cy="266364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9 členů výboru z 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PŘEDSEDA 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99"/>
                </a:solidFill>
                <a:latin typeface="Arial"/>
              </a:rPr>
              <a:t>MÍSTOPŘEDSEDA Č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EKONO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TOD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ZINÁROD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ORGANIZAČ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RO KLUBY A ODDÍ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OZHODČÍ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OUTĚŽ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0"/>
          <p:cNvSpPr/>
          <p:nvPr/>
        </p:nvSpPr>
        <p:spPr>
          <a:xfrm>
            <a:off x="826920" y="3357720"/>
            <a:ext cx="1600200" cy="4572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PŘEDSEDAJÍCÍ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SKRUTÁTOŘI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179280" y="2276640"/>
            <a:ext cx="2449800" cy="50472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MANDÁTOVÁ KOMISE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VOLEBNÍ KOMISE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851280" y="836640"/>
            <a:ext cx="1728720" cy="7920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KRAJS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ATLETICKÉ SVAZ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3"/>
          <p:cNvSpPr/>
          <p:nvPr/>
        </p:nvSpPr>
        <p:spPr>
          <a:xfrm>
            <a:off x="5940360" y="836640"/>
            <a:ext cx="2232000" cy="7920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ODDÍLY A KLU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 VÍCE NEŽ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EGISTROVANÝCH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ZÁVODNÍK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4"/>
          <p:cNvSpPr/>
          <p:nvPr/>
        </p:nvSpPr>
        <p:spPr>
          <a:xfrm>
            <a:off x="4716360" y="1628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5"/>
          <p:cNvSpPr/>
          <p:nvPr/>
        </p:nvSpPr>
        <p:spPr>
          <a:xfrm>
            <a:off x="7093080" y="1628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6"/>
          <p:cNvSpPr/>
          <p:nvPr/>
        </p:nvSpPr>
        <p:spPr>
          <a:xfrm>
            <a:off x="630072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7"/>
          <p:cNvSpPr/>
          <p:nvPr/>
        </p:nvSpPr>
        <p:spPr>
          <a:xfrm>
            <a:off x="759636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8"/>
          <p:cNvSpPr/>
          <p:nvPr/>
        </p:nvSpPr>
        <p:spPr>
          <a:xfrm>
            <a:off x="478800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9"/>
          <p:cNvSpPr/>
          <p:nvPr/>
        </p:nvSpPr>
        <p:spPr>
          <a:xfrm flipH="1">
            <a:off x="1403280" y="479736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40"/>
          <p:cNvSpPr/>
          <p:nvPr/>
        </p:nvSpPr>
        <p:spPr>
          <a:xfrm flipV="1">
            <a:off x="1403280" y="3789360"/>
            <a:ext cx="0" cy="102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1"/>
          <p:cNvSpPr/>
          <p:nvPr/>
        </p:nvSpPr>
        <p:spPr>
          <a:xfrm flipH="1">
            <a:off x="2627280" y="2565360"/>
            <a:ext cx="698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2"/>
          <p:cNvSpPr/>
          <p:nvPr/>
        </p:nvSpPr>
        <p:spPr>
          <a:xfrm>
            <a:off x="2700360" y="2276640"/>
            <a:ext cx="61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3"/>
          <p:cNvSpPr/>
          <p:nvPr/>
        </p:nvSpPr>
        <p:spPr>
          <a:xfrm>
            <a:off x="5219640" y="400536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4"/>
          <p:cNvSpPr/>
          <p:nvPr/>
        </p:nvSpPr>
        <p:spPr>
          <a:xfrm>
            <a:off x="6804000" y="393372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5"/>
          <p:cNvSpPr/>
          <p:nvPr/>
        </p:nvSpPr>
        <p:spPr>
          <a:xfrm>
            <a:off x="1476360" y="4365720"/>
            <a:ext cx="792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menu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6"/>
          <p:cNvSpPr/>
          <p:nvPr/>
        </p:nvSpPr>
        <p:spPr>
          <a:xfrm>
            <a:off x="4859280" y="1700280"/>
            <a:ext cx="217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ysílají delegá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457200" y="158760"/>
            <a:ext cx="822960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rganizační struktura Č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39640" y="1341360"/>
            <a:ext cx="331488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ÝB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971640" y="2421000"/>
            <a:ext cx="2663640" cy="342720"/>
          </a:xfrm>
          <a:prstGeom prst="rect">
            <a:avLst/>
          </a:prstGeom>
          <a:solidFill>
            <a:srgbClr val="ffda9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9 členů volených valnou hromad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826920" y="3213000"/>
            <a:ext cx="2808360" cy="576360"/>
          </a:xfrm>
          <a:prstGeom prst="rect">
            <a:avLst/>
          </a:prstGeom>
          <a:solidFill>
            <a:srgbClr val="ffda9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2 členové, tj. šéftrenér ČAS a ředit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468360" y="4724280"/>
            <a:ext cx="1828800" cy="18288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ČLEN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EKONO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TOD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ZINÁROD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ORGANIZAČ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RO KLUBY A ODDÍ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OZHODČÍ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OUTĚŽ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84360" y="4724280"/>
            <a:ext cx="1943280" cy="18288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OVÉ A DALŠÍ ČLEN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DISCIPLINÁR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ZDRAVOT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ARCHIV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TRENÉRSKÁ 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4859280" y="1268280"/>
            <a:ext cx="182880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3 členové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4 členové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jmenováni           volení VH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ýbor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ARBITRÁŽNÍ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A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ÍSTOPŘEDSEDA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6948360" y="1268280"/>
            <a:ext cx="182880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7 člen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DOZORČ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A 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ÍSTOPŘEDSEDA 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2"/>
          <p:cNvSpPr/>
          <p:nvPr/>
        </p:nvSpPr>
        <p:spPr>
          <a:xfrm>
            <a:off x="3851280" y="1700280"/>
            <a:ext cx="1028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3"/>
          <p:cNvSpPr/>
          <p:nvPr/>
        </p:nvSpPr>
        <p:spPr>
          <a:xfrm>
            <a:off x="1187280" y="3860640"/>
            <a:ext cx="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>
            <a:off x="2843280" y="3860640"/>
            <a:ext cx="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5"/>
          <p:cNvSpPr/>
          <p:nvPr/>
        </p:nvSpPr>
        <p:spPr>
          <a:xfrm>
            <a:off x="2124000" y="27813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3854160" y="12675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1479240" y="40759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8"/>
          <p:cNvSpPr/>
          <p:nvPr/>
        </p:nvSpPr>
        <p:spPr>
          <a:xfrm>
            <a:off x="2198520" y="28519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jmenu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9"/>
          <p:cNvSpPr/>
          <p:nvPr/>
        </p:nvSpPr>
        <p:spPr>
          <a:xfrm>
            <a:off x="5724360" y="29973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0"/>
          <p:cNvSpPr/>
          <p:nvPr/>
        </p:nvSpPr>
        <p:spPr>
          <a:xfrm>
            <a:off x="7885080" y="29973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atletického výko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5"/>
          <p:cNvSpPr/>
          <p:nvPr/>
        </p:nvSpPr>
        <p:spPr>
          <a:xfrm>
            <a:off x="3348000" y="2492280"/>
            <a:ext cx="1944720" cy="187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3276720" y="3068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5813280" y="126360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odní a trénin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 flipH="1">
            <a:off x="5003280" y="1989000"/>
            <a:ext cx="79236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05360" y="126828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eriálně-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0"/>
          <p:cNvSpPr/>
          <p:nvPr/>
        </p:nvSpPr>
        <p:spPr>
          <a:xfrm>
            <a:off x="2916360" y="1989000"/>
            <a:ext cx="71892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395280" y="3141720"/>
            <a:ext cx="1657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3"/>
          <p:cNvSpPr/>
          <p:nvPr/>
        </p:nvSpPr>
        <p:spPr>
          <a:xfrm flipH="1">
            <a:off x="2050560" y="350028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6510600" y="2997360"/>
            <a:ext cx="157068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stitu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6808680" y="5013360"/>
            <a:ext cx="142416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di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3966120" y="5013360"/>
            <a:ext cx="156924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a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250920" y="5013360"/>
            <a:ext cx="230508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o-takt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 flipH="1" flipV="1">
            <a:off x="5148000" y="3933360"/>
            <a:ext cx="16556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0"/>
          <p:cNvSpPr/>
          <p:nvPr/>
        </p:nvSpPr>
        <p:spPr>
          <a:xfrm flipH="1" flipV="1">
            <a:off x="4500720" y="4365360"/>
            <a:ext cx="14256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1"/>
          <p:cNvSpPr/>
          <p:nvPr/>
        </p:nvSpPr>
        <p:spPr>
          <a:xfrm flipH="1">
            <a:off x="2050560" y="4076640"/>
            <a:ext cx="1584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 flipH="1">
            <a:off x="5292720" y="342900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Oval 5"/>
          <p:cNvSpPr/>
          <p:nvPr/>
        </p:nvSpPr>
        <p:spPr>
          <a:xfrm>
            <a:off x="1619280" y="981000"/>
            <a:ext cx="5905440" cy="568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atletické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2627280" y="1989000"/>
            <a:ext cx="3889440" cy="374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7"/>
          <p:cNvSpPr/>
          <p:nvPr/>
        </p:nvSpPr>
        <p:spPr>
          <a:xfrm>
            <a:off x="1979640" y="2421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313200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 rot="16200000">
            <a:off x="1131840" y="3700080"/>
            <a:ext cx="200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 rot="16200000">
            <a:off x="5652360" y="3788280"/>
            <a:ext cx="23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492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2"/>
          <p:cNvSpPr/>
          <p:nvPr/>
        </p:nvSpPr>
        <p:spPr>
          <a:xfrm>
            <a:off x="291636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64328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3142440" y="3645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ENÉ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4643280" y="371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3635280" y="2349360"/>
            <a:ext cx="1800360" cy="825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PŘÍ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7"/>
          <p:cNvSpPr/>
          <p:nvPr/>
        </p:nvSpPr>
        <p:spPr>
          <a:xfrm>
            <a:off x="3635280" y="4869000"/>
            <a:ext cx="1873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8"/>
          <p:cNvSpPr/>
          <p:nvPr/>
        </p:nvSpPr>
        <p:spPr>
          <a:xfrm flipH="1">
            <a:off x="2411280" y="5157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9"/>
          <p:cNvSpPr/>
          <p:nvPr/>
        </p:nvSpPr>
        <p:spPr>
          <a:xfrm>
            <a:off x="5867280" y="5229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0"/>
          <p:cNvSpPr/>
          <p:nvPr/>
        </p:nvSpPr>
        <p:spPr>
          <a:xfrm flipV="1">
            <a:off x="6012000" y="1916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1979640" y="549360"/>
            <a:ext cx="5238720" cy="5126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šeobecné             Výběr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1979640" y="0"/>
            <a:ext cx="5238720" cy="507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Cíle – výchovné, vzděláv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1979640" y="1125360"/>
            <a:ext cx="5238720" cy="503280"/>
          </a:xfrm>
          <a:prstGeom prst="rect">
            <a:avLst/>
          </a:prstGeom>
          <a:solidFill>
            <a:srgbClr val="a3a3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Částečné                   Etap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1187280" y="1628640"/>
            <a:ext cx="1866960" cy="522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8"/>
          <p:cNvSpPr/>
          <p:nvPr/>
        </p:nvSpPr>
        <p:spPr>
          <a:xfrm>
            <a:off x="1332000" y="2060640"/>
            <a:ext cx="1533600" cy="1224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OBSAH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ondiční přípra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echn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akt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Psych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eoret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0"/>
          <p:cNvSpPr/>
          <p:nvPr/>
        </p:nvSpPr>
        <p:spPr>
          <a:xfrm>
            <a:off x="1332000" y="3429000"/>
            <a:ext cx="1533600" cy="2016000"/>
          </a:xfrm>
          <a:custGeom>
            <a:avLst/>
            <a:gdLst>
              <a:gd name="textAreaLeft" fmla="*/ 74880 w 1533600"/>
              <a:gd name="textAreaRight" fmla="*/ 1458720 w 1533600"/>
              <a:gd name="textAreaTop" fmla="*/ 74880 h 2016000"/>
              <a:gd name="textAreaBottom" fmla="*/ 1941120 h 2016000"/>
            </a:gdLst>
            <a:ahLst/>
            <a:rect l="textAreaLeft" t="textAreaTop" r="textAreaRight" b="textAreaBottom"/>
            <a:pathLst>
              <a:path w="21600" h="28393">
                <a:moveTo>
                  <a:pt x="3600" y="0"/>
                </a:moveTo>
                <a:arcTo wR="3600" hR="3600" stAng="16200000" swAng="-5400000"/>
                <a:lnTo>
                  <a:pt x="0" y="24793"/>
                </a:lnTo>
                <a:arcTo wR="3600" hR="3600" stAng="10800000" swAng="-5400000"/>
                <a:lnTo>
                  <a:pt x="18000" y="283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ROSTŘEDK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réninkové (cvičení-vlastní, soutěžní, speciální, všeobecné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egenerace sil, výživa, pitný reži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ontroly trénovanos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8"/>
          <p:cNvSpPr/>
          <p:nvPr/>
        </p:nvSpPr>
        <p:spPr>
          <a:xfrm>
            <a:off x="1332000" y="5514840"/>
            <a:ext cx="1533600" cy="1343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</a:rPr>
              <a:t>PODMÍNK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Materiální, ekonomické, sociální, právní, pracovn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9"/>
          <p:cNvSpPr/>
          <p:nvPr/>
        </p:nvSpPr>
        <p:spPr>
          <a:xfrm>
            <a:off x="3635280" y="1628640"/>
            <a:ext cx="3934080" cy="522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0"/>
          <p:cNvSpPr/>
          <p:nvPr/>
        </p:nvSpPr>
        <p:spPr>
          <a:xfrm>
            <a:off x="1403280" y="1700280"/>
            <a:ext cx="1400400" cy="2667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Materiální prvk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1"/>
          <p:cNvSpPr/>
          <p:nvPr/>
        </p:nvSpPr>
        <p:spPr>
          <a:xfrm>
            <a:off x="3995640" y="1700280"/>
            <a:ext cx="2524320" cy="2667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Operativní prvk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2"/>
          <p:cNvSpPr/>
          <p:nvPr/>
        </p:nvSpPr>
        <p:spPr>
          <a:xfrm>
            <a:off x="3708360" y="2060640"/>
            <a:ext cx="3816360" cy="1008000"/>
          </a:xfrm>
          <a:prstGeom prst="roundRect">
            <a:avLst>
              <a:gd name="adj" fmla="val 16667"/>
            </a:avLst>
          </a:pr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RINCIPY: (zásady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ystematičnosti, posloupnosti, cykličnosti, individualizace, specifičnosti, názornosti, přiměřenos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Proporcionality:  - Všestranné a specifické příprav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Rozvoj faktorů, určujících sportovní výk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24"/>
          <p:cNvSpPr/>
          <p:nvPr/>
        </p:nvSpPr>
        <p:spPr>
          <a:xfrm>
            <a:off x="3708360" y="3141720"/>
            <a:ext cx="3816360" cy="1511280"/>
          </a:xfrm>
          <a:prstGeom prst="roundRect">
            <a:avLst>
              <a:gd name="adj" fmla="val 16667"/>
            </a:avLst>
          </a:pr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METOD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Rozvoj pohybovým schopnost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Nepřerušovaného zatížení: souvislá, rovnoměrná, střída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Přerušovaného zatížení:opakovaná, interval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Osvojování a zdokonalovaní dovedností (slovní, ukázkové, ideomotorické, praktické cvičení- opakování komplexní, analyticko-syntetick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Jiné (vedlejší úlohy, kontrastu, diagnostické metody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26"/>
          <p:cNvSpPr/>
          <p:nvPr/>
        </p:nvSpPr>
        <p:spPr>
          <a:xfrm>
            <a:off x="3708360" y="4724280"/>
            <a:ext cx="1655640" cy="2133720"/>
          </a:xfrm>
          <a:custGeom>
            <a:avLst/>
            <a:gdLst>
              <a:gd name="textAreaLeft" fmla="*/ 80640 w 1655640"/>
              <a:gd name="textAreaRight" fmla="*/ 1575000 w 1655640"/>
              <a:gd name="textAreaTop" fmla="*/ 80640 h 2133720"/>
              <a:gd name="textAreaBottom" fmla="*/ 2053080 h 2133720"/>
            </a:gdLst>
            <a:ahLst/>
            <a:rect l="textAreaLeft" t="textAreaTop" r="textAreaRight" b="textAreaBottom"/>
            <a:pathLst>
              <a:path w="21600" h="27836">
                <a:moveTo>
                  <a:pt x="3600" y="0"/>
                </a:moveTo>
                <a:arcTo wR="3600" hR="3600" stAng="16200000" swAng="-5400000"/>
                <a:lnTo>
                  <a:pt x="0" y="24236"/>
                </a:lnTo>
                <a:arcTo wR="3600" hR="3600" stAng="10800000" swAng="-5400000"/>
                <a:lnTo>
                  <a:pt x="18000" y="278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</a:rPr>
              <a:t>FORM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Sociálně- interakční (hromadná, skupinová, individuální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Tréninková jednotka (základní – v čase soustředění kontrolní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Soutěžní-závody, zápasy, doplň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8"/>
          <p:cNvSpPr/>
          <p:nvPr/>
        </p:nvSpPr>
        <p:spPr>
          <a:xfrm>
            <a:off x="5435640" y="4724280"/>
            <a:ext cx="2089080" cy="2133720"/>
          </a:xfrm>
          <a:custGeom>
            <a:avLst/>
            <a:gdLst>
              <a:gd name="textAreaLeft" fmla="*/ 101880 w 2089080"/>
              <a:gd name="textAreaRight" fmla="*/ 1987200 w 2089080"/>
              <a:gd name="textAreaTop" fmla="*/ 101880 h 2133720"/>
              <a:gd name="textAreaBottom" fmla="*/ 2031840 h 2133720"/>
            </a:gdLst>
            <a:ahLst/>
            <a:rect l="textAreaLeft" t="textAreaTop" r="textAreaRight" b="textAreaBottom"/>
            <a:pathLst>
              <a:path w="21600" h="22061">
                <a:moveTo>
                  <a:pt x="3600" y="0"/>
                </a:moveTo>
                <a:arcTo wR="3600" hR="3600" stAng="16200000" swAng="-5400000"/>
                <a:lnTo>
                  <a:pt x="0" y="18461"/>
                </a:lnTo>
                <a:arcTo wR="3600" hR="3600" stAng="10800000" swAng="-5400000"/>
                <a:lnTo>
                  <a:pt x="18000" y="220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</a:rPr>
              <a:t>PERIODIZA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- Střídání tr. zatížení a odpočink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Charakteru práce a odpočinku (všeob., spec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Druhy a složky  tr. zatížení (objem, intenzita, koordinační složitost, psych. náročnos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Velikost zatížení (malé, střední, velké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něnický a kol.: Technika atletických disciplín,SPN,19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stál a kol.: Didaktika školní atletiky,SPN,1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límová a kol.: Didaktika Atletických disciplín,MU Brno,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vidla atletiky,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sps.muni.cz/impact/atletika-3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sps.muni.cz/impact/atletika-2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fsps.muni.cz/impact/didaktika-atletiky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12:41:19Z</dcterms:created>
  <dc:creator>Michálek</dc:creator>
  <dc:description/>
  <dc:language>en-US</dc:language>
  <cp:lastModifiedBy>Josef Michálek</cp:lastModifiedBy>
  <dcterms:modified xsi:type="dcterms:W3CDTF">2015-02-19T12:21:47Z</dcterms:modified>
  <cp:revision>30</cp:revision>
  <dc:subject/>
  <dc:title>ATLETIKA přednáška</dc:title>
</cp:coreProperties>
</file>