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B20A-A2ED-457B-85B4-EB207A8E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B027-E176-43AD-802C-B4837530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6CC-83D0-4907-B4FF-EB62A163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937-0A15-4C21-8A8C-CD7C2F98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0B45-C504-4182-8751-25F644BC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049C-A8CC-4267-9E14-6E1F4D64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C1CC-B15C-44CC-93CE-B3D80C00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2B78-DBB6-466F-80AA-3EB567F0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1D3A-A5DD-4D70-BA48-A6876D3C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AFC6-2A80-404F-B08E-4ED3CD9D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888A-9B63-4813-A61D-41E0A8AE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F484-5D3E-4FC2-8316-894122E4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9C5C-58E1-4218-AE5E-6708CD7D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F94C-3843-4451-93E5-EB6E6FF1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404F-B11F-4484-AAD9-C2ED5574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02F7-5A01-4241-ADEF-258D910E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2667-72BA-4864-AB47-2862B167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29E-6780-432C-B784-0A7324D5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DE23-375A-47D3-891F-14A99D86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B1D-6E40-48CF-B3DC-6A82E6CC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977C-832C-465E-B26D-2699672A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C3FE-A9C7-44F2-87AC-1D853F51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9803-8328-425E-AF65-8713396D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6FB-D6EE-4533-84B0-5A080833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48EF-A28B-4C57-BF86-D6ACEF73E2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88D8-E626-40A9-A459-F764605F28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sps.muni.cz/impact/atletika-3/" TargetMode="External"/><Relationship Id="rId2" Type="http://schemas.openxmlformats.org/officeDocument/2006/relationships/hyperlink" Target="http://www.fsps.muni.cz/impact/atletika-2/" TargetMode="External"/><Relationship Id="rId3" Type="http://schemas.openxmlformats.org/officeDocument/2006/relationships/hyperlink" Target="http://www.fsps.muni.cz/impact/didaktika-atletiky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 a metodických výstup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42440" y="3645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É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979640" y="549360"/>
            <a:ext cx="5238720" cy="512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šeobecné             Výběr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979640" y="0"/>
            <a:ext cx="5238720" cy="507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íle – výchovné, vzdělá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979640" y="1125360"/>
            <a:ext cx="5238720" cy="503280"/>
          </a:xfrm>
          <a:prstGeom prst="rect">
            <a:avLst/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Částečné                   Etap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187280" y="1628640"/>
            <a:ext cx="186696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1332000" y="2060640"/>
            <a:ext cx="1533600" cy="1224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BSAH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diční příp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chn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ak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ore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1332000" y="3429000"/>
            <a:ext cx="1533600" cy="2016000"/>
          </a:xfrm>
          <a:custGeom>
            <a:avLst/>
            <a:gdLst>
              <a:gd name="textAreaLeft" fmla="*/ 74880 w 1533600"/>
              <a:gd name="textAreaRight" fmla="*/ 1458720 w 1533600"/>
              <a:gd name="textAreaTop" fmla="*/ 74880 h 2016000"/>
              <a:gd name="textAreaBottom" fmla="*/ 1941120 h 2016000"/>
            </a:gdLst>
            <a:ahLst/>
            <a:rect l="textAreaLeft" t="textAreaTop" r="textAreaRight" b="textAreaBottom"/>
            <a:pathLst>
              <a:path w="21600" h="28393">
                <a:moveTo>
                  <a:pt x="3600" y="0"/>
                </a:moveTo>
                <a:arcTo wR="3600" hR="3600" stAng="16200000" swAng="-5400000"/>
                <a:lnTo>
                  <a:pt x="0" y="24793"/>
                </a:lnTo>
                <a:arcTo wR="3600" hR="3600" stAng="10800000" swAng="-5400000"/>
                <a:lnTo>
                  <a:pt x="18000" y="283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OSTŘED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réninkové (cvičení-vlastní, soutěžní, speciální, všeobecn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egenerace sil, výživa, pitný rež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troly trénova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1332000" y="5514840"/>
            <a:ext cx="1533600" cy="134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ODMÍN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Materiální, ekonomické, sociální, právní, pracov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3635280" y="1628640"/>
            <a:ext cx="393408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0"/>
          <p:cNvSpPr/>
          <p:nvPr/>
        </p:nvSpPr>
        <p:spPr>
          <a:xfrm>
            <a:off x="1403280" y="1700280"/>
            <a:ext cx="140040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ál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3995640" y="1700280"/>
            <a:ext cx="252432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Operativ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2"/>
          <p:cNvSpPr/>
          <p:nvPr/>
        </p:nvSpPr>
        <p:spPr>
          <a:xfrm>
            <a:off x="3708360" y="2060640"/>
            <a:ext cx="3816360" cy="100800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INCIPY: (zásad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ystematičnosti, posloupnosti, cykličnosti, individualizace, specifičnosti, názornosti, přiměře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porcionality:  - Všestranné a specifické příprav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faktorů, určujících sportovní výk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>
            <a:off x="3708360" y="3141720"/>
            <a:ext cx="3816360" cy="151128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ETOD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pohybovým schopnost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Nepřerušovaného zatížení: souvislá, rovnoměrná, střída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Přerušovaného zatížení:opakovaná, interval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Osvojování a zdokonalovaní dovedností (slovní, ukázkové, ideomotorické, praktické cvičení- opakování komplexní, analyticko-syntetick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Jiné (vedlejší úlohy, kontrastu, diagnostické metody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3708360" y="4724280"/>
            <a:ext cx="1655640" cy="213372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133720"/>
              <a:gd name="textAreaBottom" fmla="*/ 2053080 h 2133720"/>
            </a:gdLst>
            <a:ahLst/>
            <a:rect l="textAreaLeft" t="textAreaTop" r="textAreaRight" b="textAreaBottom"/>
            <a:pathLst>
              <a:path w="21600" h="27836">
                <a:moveTo>
                  <a:pt x="3600" y="0"/>
                </a:moveTo>
                <a:arcTo wR="3600" hR="3600" stAng="16200000" swAng="-5400000"/>
                <a:lnTo>
                  <a:pt x="0" y="24236"/>
                </a:lnTo>
                <a:arcTo wR="3600" hR="3600" stAng="10800000" swAng="-5400000"/>
                <a:lnTo>
                  <a:pt x="18000" y="27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FOR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ciálně- interakční (hromadná, skupinová, individuá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Tréninková jednotka (základní – v čase soustředění kontro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utěžní-závody, zápasy, doplň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8"/>
          <p:cNvSpPr/>
          <p:nvPr/>
        </p:nvSpPr>
        <p:spPr>
          <a:xfrm>
            <a:off x="5435640" y="4724280"/>
            <a:ext cx="2089080" cy="213372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2133720"/>
              <a:gd name="textAreaBottom" fmla="*/ 2031840 h 2133720"/>
            </a:gdLst>
            <a:ahLst/>
            <a:rect l="textAreaLeft" t="textAreaTop" r="textAreaRight" b="textAreaBottom"/>
            <a:pathLst>
              <a:path w="21600" h="22061">
                <a:moveTo>
                  <a:pt x="3600" y="0"/>
                </a:moveTo>
                <a:arcTo wR="3600" hR="3600" stAng="16200000" swAng="-5400000"/>
                <a:lnTo>
                  <a:pt x="0" y="18461"/>
                </a:lnTo>
                <a:arcTo wR="3600" hR="3600" stAng="10800000" swAng="-5400000"/>
                <a:lnTo>
                  <a:pt x="18000" y="220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ERIODIZA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- Střídání tr. zatížení a odpočink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Charakteru práce a odpočinku (všeob., spe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Druhy a složky  tr. zatížení (objem, intenzita, koordinační složitost, psych. náročnos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Velikost zatížení (malé, střední, velk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sps.muni.cz/impact/atletika-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sps.muni.cz/impact/atletika-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sps.muni.cz/impact/didaktika-atletik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15-02-19T12:21:47Z</dcterms:modified>
  <cp:revision>30</cp:revision>
  <dc:subject/>
  <dc:title>ATLETIKA přednáška</dc:title>
</cp:coreProperties>
</file>