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C84A-872A-4FD9-BBBE-8E08DBC9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A21A-DED0-42BA-945F-65F410AE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E46A-D5E1-4642-ACFC-4BBBE360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2F70-C000-4AAE-9D8D-5A9C7B89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6533-F909-4611-8C81-B54EBB54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EB59-23CF-480A-8A8A-5D9ABAA1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CB73-8415-48CA-9EE3-695FEAC9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3A56-4DD9-4AD4-8391-E165F53D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CE29-827B-4263-BD9F-1AAB4B48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5D21-7377-4E09-8CA4-6FFCFEEA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6C7D-F993-4F04-AB2D-421E11E0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8EF6-53D3-418E-BC1D-0536F31E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1F28-87AE-434E-86FD-2DCB95AB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4468-7FC5-4F37-97C0-0C500E73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4074-3FFF-4608-A566-6C172952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2C85-92E3-4CEE-8905-CD23932E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5E7B-FDCB-4F0C-9DE6-031BE5D8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C9F9-1879-4FB8-99F2-8EBEC07C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0B44-A057-4D82-AFC2-1417567C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BB1-704D-484C-B6FC-001AFD0C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D8F3-0A4A-41CB-99E0-A9FEA772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D08B-1462-4FC4-94E4-DC40E482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0574-55FF-4342-A21C-B3E11DB0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047A-F0BC-483C-B204-234F4B90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91FE-69FA-4E1E-991D-19FFFD35DCA0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49AC-B1DD-4D17-B90B-AF7686890CE4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Historie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864 se konal první závod na 120 y,výška překážek byla 106 c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a OH  soutěží muži od roku 1896,ženy od roku 1932 – 8Om př,1972 – 1O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působy přeběhu překážek (skrčný,klouzavý,turecký,kročný a běžecký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935 součastná konstrukce z T na 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r 12,80s Merritt, Čr.13,33s Svoboda,ženy 12,21s Donkovová, 12,92s Škrobák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ový bě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Verdana"/>
              </a:rPr>
              <a:t>Didaktický postup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žení a běh se štafetovým kolík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na místě ve dvojicích a čtveřicí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za chůze a mírného poklus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ve dvojicích v předávacím územ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chnika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Překážkový sta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olba přední nohy je závislá na zvoleném rytmu  (7 – 8) krok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stavení startovních bloků závisí na individuální úpravě krok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Náběh na první překáž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aximální zrychlení v prvních krocí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ysoké běžecké postave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élka kroku se zvyšuje až do předposledního kroku,poslední krok je kratší a dochází k aktivnějšímu došlapu chodidla na podložku jeho přední čá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Přeběh překážk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ísto odrazu je ve vzdálenosti 1.90- 2.30m od překáž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 je proveden z přední části chodid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érec švihové nohy se skládá aktivně pod steh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dokončuje odraz v plném nápon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je nad překážkou ohnuta v kolenním a hlezenním kloubu téměř do pravého úhlu,přičemž koleno je výše než chodid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kroková fáz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okrok je proveden na přední část chodidla na nataženou a v hlezenním kloubu zpevněnou no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ová noha je vedena   aktivně dopředu a vzhůr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fektivní přechod z překážkového kroku ke sprinterskému 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Běh mezi překážkam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Úsek mezi překážkami se běží na tři kro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je orientován frekvenčně na pohyb vpřed s vysokým zvadáním kolen a provádí se přední části chodi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klon trupu je zachován jako při hladkém běh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aže se pohybují u těla ve směru běh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běh do cí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ximální spurt až za cílovou pásk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padnutí do cíle s náklonem trupu a zapažením paž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Nejčastější chyb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obení kroků při ná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 blízko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ysoký přeskok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pomalení při doskoku za překážk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ěh po pat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koky mezi překážkam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cc"/>
                </a:solidFill>
                <a:latin typeface="Arial"/>
              </a:rPr>
              <a:t>Didaktický postup při nácviku technik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ekážkářský rytmus (čáry,laťky.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švihové nohy vedle překážky( na místě,za chůze,v mírném běhu, v maximální rychlost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odrazové nohy vedle překážky (na místě ve dvojicích,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hůze mezi překážkami s jedním mezikrok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tart a náběh na první překážk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mezi překážkami (tříkrokový rytmu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y –základní inform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100m – běží se v oddělených drahách, předávací je 20m,náběhové 10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400m – první úsek se běží ve vlastní dráze, ve druhém úseku se po 100m sbíhá k mantinel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tafetový kolík má hmotnost do 50g, dlouhý je 30 cm a průměr má 4 cm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5:31:08Z</dcterms:created>
  <dc:creator>Josef Michálek</dc:creator>
  <dc:description/>
  <dc:language>en-US</dc:language>
  <cp:lastModifiedBy>240</cp:lastModifiedBy>
  <dcterms:modified xsi:type="dcterms:W3CDTF">2012-12-07T08:49:00Z</dcterms:modified>
  <cp:revision>46</cp:revision>
  <dc:subject/>
  <dc:title> Technika překážkového běh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