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4467-9B66-4E97-B32B-495D128B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C4DE-E0A4-4614-8823-0FD8A65C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7D09-08F4-4674-9337-06C54413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F04C-A254-4BD3-A6DD-9C058846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4C94-3403-41EA-9C0D-391B0CFC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64D0-DBD1-45E9-BE81-FA712ABB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88E6-D33F-4DFB-9F99-E30BE0C2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A362-B316-4C87-BB06-78D31669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911C-C2EE-4765-92E5-8F6C327B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8A15-9C9A-4B20-A591-8F6F62F2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EEFB-1764-4FF0-A4AF-10A48D47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1749-7870-41C8-B727-2061BC82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9D49-D4A5-473E-9A35-6528D782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97CF-81D3-42FC-BDCA-DAFA1F64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1FF4-5089-459C-B36C-E31B12EB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1E97-9416-4B31-8000-0C246137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E6EE-CEF6-4DFB-B090-4F4C784C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0A08-3CB0-4F54-8322-850D083E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3F2A-B0A7-430D-B930-CF904D1B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86CB-3FD1-413C-ADDB-E8693283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E3C4-B88F-4612-AA37-E19F1D20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61CC-5CE1-42A2-AE62-5F44E25C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D4AA-4BB6-4122-90B1-59DCED19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2A78-46C3-497C-93BB-7D45178C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5B62-525E-4B44-92B0-30BDB7FFC6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C4A0-44EC-4C65-98FB-3665B741E6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sps.muni.cz/impact/atletika-3/" TargetMode="External"/><Relationship Id="rId2" Type="http://schemas.openxmlformats.org/officeDocument/2006/relationships/hyperlink" Target="http://www.fsps.muni.cz/impact/atletika-2/" TargetMode="External"/><Relationship Id="rId3" Type="http://schemas.openxmlformats.org/officeDocument/2006/relationships/hyperlink" Target="http://www.fsps.muni.cz/impact/didaktika-atletiky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žadavky na ukončení studia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Ústní zkou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2.Praktické splnění vícebojů a metodických výstup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3.Splnění všech praktických zápočt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776 př.n.l.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rodobé OH  - Olympia - Pentatlon běh,dálka,disk,oštěp a zá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ovodobé  OH Řecko  -  Athény - Janda-Suk,Zátopek,Zátopková,Fikotová,Húbnerová, Daněk,Pribilinec,Změlík,Železný,Dvořák,Šebrle, Špot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8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S Helsinki  Kratochvílová,Fibingerová,Bugár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34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E  Tur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7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aložen 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68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LOH Mexiko - tar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6"/>
          <p:cNvSpPr/>
          <p:nvPr/>
        </p:nvSpPr>
        <p:spPr>
          <a:xfrm>
            <a:off x="3348000" y="2060640"/>
            <a:ext cx="4686480" cy="17143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ALNÁ HROM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ČESKÉHO ATLETICKÉHO SV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730872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DOZORČÍ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72436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4 členové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2340000" y="4005360"/>
            <a:ext cx="2663640" cy="266364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9 členů výboru z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ŘEDSEDA 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MÍSTOPŘEDSEDA Č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826920" y="3357720"/>
            <a:ext cx="1600200" cy="4572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PŘEDSEDAJÍCÍ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SKRUTÁTOŘI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179280" y="2276640"/>
            <a:ext cx="2449800" cy="5047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MANDÁTOVÁ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VOLEBNÍ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851280" y="836640"/>
            <a:ext cx="172872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KRAJS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ATLETICKÉ SV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940360" y="836640"/>
            <a:ext cx="223200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ODDÍLY A KLU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 VÍCE NE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EGISTROVANÝCH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ZÁVODNÍK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471636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709308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6"/>
          <p:cNvSpPr/>
          <p:nvPr/>
        </p:nvSpPr>
        <p:spPr>
          <a:xfrm>
            <a:off x="630072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759636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>
            <a:off x="478800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 flipH="1">
            <a:off x="1403280" y="47973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 flipV="1">
            <a:off x="1403280" y="3789360"/>
            <a:ext cx="0" cy="10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 flipH="1">
            <a:off x="2627280" y="2565360"/>
            <a:ext cx="698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2700360" y="227664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5219640" y="40053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4"/>
          <p:cNvSpPr/>
          <p:nvPr/>
        </p:nvSpPr>
        <p:spPr>
          <a:xfrm>
            <a:off x="6804000" y="3933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5"/>
          <p:cNvSpPr/>
          <p:nvPr/>
        </p:nvSpPr>
        <p:spPr>
          <a:xfrm>
            <a:off x="1476360" y="4365720"/>
            <a:ext cx="792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menu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"/>
          <p:cNvSpPr/>
          <p:nvPr/>
        </p:nvSpPr>
        <p:spPr>
          <a:xfrm>
            <a:off x="4859280" y="1700280"/>
            <a:ext cx="217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ysílají delegá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15876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rganizační struktura Č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39640" y="1341360"/>
            <a:ext cx="331488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ÝB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71640" y="2421000"/>
            <a:ext cx="2663640" cy="34272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9 členů volených valnou hromad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6920" y="3213000"/>
            <a:ext cx="2808360" cy="57636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2 členové, tj. šéftrenér ČAS a ředi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68360" y="4724280"/>
            <a:ext cx="182880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84360" y="4724280"/>
            <a:ext cx="194328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A DALŠÍ 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DISCIPLINÁR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ZDRAVO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ARCHI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TRENÉRSKÁ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85928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3 členové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4 členové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jmenováni           volení VH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ýbor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94836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DOZOR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3851280" y="1700280"/>
            <a:ext cx="1028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187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843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2124000" y="27813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854160" y="1267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1479240" y="4075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2198520" y="2851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men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72436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788508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510600" y="2997360"/>
            <a:ext cx="157068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itu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val 5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64328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142440" y="3645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É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979640" y="549360"/>
            <a:ext cx="5238720" cy="5126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šeobecné             Výběr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979640" y="0"/>
            <a:ext cx="5238720" cy="507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íle – výchovné, vzdělá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979640" y="1125360"/>
            <a:ext cx="5238720" cy="503280"/>
          </a:xfrm>
          <a:prstGeom prst="rect">
            <a:avLst/>
          </a:prstGeom>
          <a:solidFill>
            <a:srgbClr val="a3a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Částečné                   Etap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1187280" y="1628640"/>
            <a:ext cx="186696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8"/>
          <p:cNvSpPr/>
          <p:nvPr/>
        </p:nvSpPr>
        <p:spPr>
          <a:xfrm>
            <a:off x="1332000" y="2060640"/>
            <a:ext cx="1533600" cy="1224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OBSAH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ondiční přípra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echn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akt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sych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eoret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1332000" y="3429000"/>
            <a:ext cx="1533600" cy="2016000"/>
          </a:xfrm>
          <a:custGeom>
            <a:avLst/>
            <a:gdLst>
              <a:gd name="textAreaLeft" fmla="*/ 74880 w 1533600"/>
              <a:gd name="textAreaRight" fmla="*/ 1458720 w 1533600"/>
              <a:gd name="textAreaTop" fmla="*/ 74880 h 2016000"/>
              <a:gd name="textAreaBottom" fmla="*/ 1941120 h 2016000"/>
            </a:gdLst>
            <a:ahLst/>
            <a:rect l="textAreaLeft" t="textAreaTop" r="textAreaRight" b="textAreaBottom"/>
            <a:pathLst>
              <a:path w="21600" h="28393">
                <a:moveTo>
                  <a:pt x="3600" y="0"/>
                </a:moveTo>
                <a:arcTo wR="3600" hR="3600" stAng="16200000" swAng="-5400000"/>
                <a:lnTo>
                  <a:pt x="0" y="24793"/>
                </a:lnTo>
                <a:arcTo wR="3600" hR="3600" stAng="10800000" swAng="-5400000"/>
                <a:lnTo>
                  <a:pt x="18000" y="283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OSTŘEDK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réninkové (cvičení-vlastní, soutěžní, speciální, všeobecné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egenerace sil, výživa, pitný reži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ontroly trénovano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8"/>
          <p:cNvSpPr/>
          <p:nvPr/>
        </p:nvSpPr>
        <p:spPr>
          <a:xfrm>
            <a:off x="1332000" y="5514840"/>
            <a:ext cx="1533600" cy="134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PODMÍNK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Materiální, ekonomické, sociální, právní, pracov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3635280" y="1628640"/>
            <a:ext cx="393408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0"/>
          <p:cNvSpPr/>
          <p:nvPr/>
        </p:nvSpPr>
        <p:spPr>
          <a:xfrm>
            <a:off x="1403280" y="1700280"/>
            <a:ext cx="1400400" cy="266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ální prv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3995640" y="1700280"/>
            <a:ext cx="2524320" cy="266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Operativní prv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2"/>
          <p:cNvSpPr/>
          <p:nvPr/>
        </p:nvSpPr>
        <p:spPr>
          <a:xfrm>
            <a:off x="3708360" y="2060640"/>
            <a:ext cx="3816360" cy="1008000"/>
          </a:xfrm>
          <a:prstGeom prst="roundRect">
            <a:avLst>
              <a:gd name="adj" fmla="val 16667"/>
            </a:avLst>
          </a:pr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INCIPY: (zásad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ystematičnosti, posloupnosti, cykličnosti, individualizace, specifičnosti, názornosti, přiměřeno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porcionality:  - Všestranné a specifické příprav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Rozvoj faktorů, určujících sportovní výk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4"/>
          <p:cNvSpPr/>
          <p:nvPr/>
        </p:nvSpPr>
        <p:spPr>
          <a:xfrm>
            <a:off x="3708360" y="3141720"/>
            <a:ext cx="3816360" cy="1511280"/>
          </a:xfrm>
          <a:prstGeom prst="roundRect">
            <a:avLst>
              <a:gd name="adj" fmla="val 16667"/>
            </a:avLst>
          </a:pr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ETOD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Rozvoj pohybovým schopnost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Nepřerušovaného zatížení: souvislá, rovnoměrná, střída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Přerušovaného zatížení:opakovaná, interval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Osvojování a zdokonalovaní dovedností (slovní, ukázkové, ideomotorické, praktické cvičení- opakování komplexní, analyticko-syntetick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Jiné (vedlejší úlohy, kontrastu, diagnostické metody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6"/>
          <p:cNvSpPr/>
          <p:nvPr/>
        </p:nvSpPr>
        <p:spPr>
          <a:xfrm>
            <a:off x="3708360" y="4724280"/>
            <a:ext cx="1655640" cy="2133720"/>
          </a:xfrm>
          <a:custGeom>
            <a:avLst/>
            <a:gdLst>
              <a:gd name="textAreaLeft" fmla="*/ 80640 w 1655640"/>
              <a:gd name="textAreaRight" fmla="*/ 1575000 w 1655640"/>
              <a:gd name="textAreaTop" fmla="*/ 80640 h 2133720"/>
              <a:gd name="textAreaBottom" fmla="*/ 2053080 h 2133720"/>
            </a:gdLst>
            <a:ahLst/>
            <a:rect l="textAreaLeft" t="textAreaTop" r="textAreaRight" b="textAreaBottom"/>
            <a:pathLst>
              <a:path w="21600" h="27836">
                <a:moveTo>
                  <a:pt x="3600" y="0"/>
                </a:moveTo>
                <a:arcTo wR="3600" hR="3600" stAng="16200000" swAng="-5400000"/>
                <a:lnTo>
                  <a:pt x="0" y="24236"/>
                </a:lnTo>
                <a:arcTo wR="3600" hR="3600" stAng="10800000" swAng="-5400000"/>
                <a:lnTo>
                  <a:pt x="18000" y="278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FORM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Sociálně- interakční (hromadná, skupinová, individuální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Tréninková jednotka (základní – v čase soustředění kontrolní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Soutěžní-závody, zápasy, doplň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8"/>
          <p:cNvSpPr/>
          <p:nvPr/>
        </p:nvSpPr>
        <p:spPr>
          <a:xfrm>
            <a:off x="5435640" y="4724280"/>
            <a:ext cx="2089080" cy="2133720"/>
          </a:xfrm>
          <a:custGeom>
            <a:avLst/>
            <a:gdLst>
              <a:gd name="textAreaLeft" fmla="*/ 101880 w 2089080"/>
              <a:gd name="textAreaRight" fmla="*/ 1987200 w 2089080"/>
              <a:gd name="textAreaTop" fmla="*/ 101880 h 2133720"/>
              <a:gd name="textAreaBottom" fmla="*/ 2031840 h 2133720"/>
            </a:gdLst>
            <a:ahLst/>
            <a:rect l="textAreaLeft" t="textAreaTop" r="textAreaRight" b="textAreaBottom"/>
            <a:pathLst>
              <a:path w="21600" h="22061">
                <a:moveTo>
                  <a:pt x="3600" y="0"/>
                </a:moveTo>
                <a:arcTo wR="3600" hR="3600" stAng="16200000" swAng="-5400000"/>
                <a:lnTo>
                  <a:pt x="0" y="18461"/>
                </a:lnTo>
                <a:arcTo wR="3600" hR="3600" stAng="10800000" swAng="-5400000"/>
                <a:lnTo>
                  <a:pt x="18000" y="220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PERIODIZA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- Střídání tr. zatížení a odpočink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Charakteru práce a odpočinku (všeob., spec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Druhy a složky  tr. zatížení (objem, intenzita, koordinační složitost, psych. náročnos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Velikost zatížení (malé, střední, velké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ěnický a kol.: Technika atletických disciplín,SPN,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tál a kol.: Didaktika školní atletiky,SPN,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límová a kol.: Didaktika Atletických disciplín,MU Brno,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la atletiky,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sps.muni.cz/impact/atletika-3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sps.muni.cz/impact/atletika-2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sps.muni.cz/impact/didaktika-atletik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2:41:19Z</dcterms:created>
  <dc:creator>Michálek</dc:creator>
  <dc:description/>
  <dc:language>en-US</dc:language>
  <cp:lastModifiedBy>Josef Michálek</cp:lastModifiedBy>
  <dcterms:modified xsi:type="dcterms:W3CDTF">2015-02-19T12:21:47Z</dcterms:modified>
  <cp:revision>30</cp:revision>
  <dc:subject/>
  <dc:title>ATLETIKA přednáška</dc:title>
</cp:coreProperties>
</file>