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1AB-5831-47FC-B38D-FF19ABF6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DAA-89AF-4280-A35A-DC522B42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263-97A6-4A18-8149-C6570950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019-DFB0-4FE5-BC45-1825BFE2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B427-38AB-42F7-A274-3C4022DB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37AF-4A71-4DDF-9855-4C77737C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4009-C24B-4C41-902F-4953FCDB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2830-C4A1-4EFE-B2CB-104ED27F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8A64-1EF6-4969-B522-6DA0986A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D6B8-F501-4A4E-8D16-D638DB52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4DDF-4B4A-48AE-9E3F-79B1B4D0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A23-9DBE-4E1B-8F72-8693D42C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5FD5-9EDA-4E68-AC01-075A90B6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1C85-B4B5-40F8-9334-2B509B3E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B82D-282D-477F-A31B-D9C68194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5A4B-C6C7-4E6C-8D6F-C48AD6F3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2166-850B-4536-9A21-E15B8007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E01-C91B-4D0B-9A9D-C953BCE8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18B-EF56-4FB8-AA44-99EBD51F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8D7-160B-4B91-A413-7F45A45F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A0A-C3BF-45CD-9D76-89FB5F70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3C5-26C7-408B-84B3-3577C8A7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40D-21E5-4E26-BFFF-101B3416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099-679D-4E11-9A91-12C38DB8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2596-188A-4B40-AE9F-CB83920C07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94B0-EC61-42AE-AC29-F9B797A90E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sps.muni.cz/impact/atletika-3/" TargetMode="External"/><Relationship Id="rId2" Type="http://schemas.openxmlformats.org/officeDocument/2006/relationships/hyperlink" Target="http://www.fsps.muni.cz/impact/atletika-2/" TargetMode="External"/><Relationship Id="rId3" Type="http://schemas.openxmlformats.org/officeDocument/2006/relationships/hyperlink" Target="http://www.fsps.muni.cz/impact/didaktika-atletiky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 a metodických výstup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42440" y="364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979640" y="549360"/>
            <a:ext cx="5238720" cy="512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obecné             Výběr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979640" y="0"/>
            <a:ext cx="5238720" cy="507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– výchovné, vzdělá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979640" y="1125360"/>
            <a:ext cx="5238720" cy="50328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ástečné                   Etap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187280" y="1628640"/>
            <a:ext cx="186696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332000" y="2060640"/>
            <a:ext cx="153360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BSA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diční příp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ak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ore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1332000" y="3429000"/>
            <a:ext cx="1533600" cy="201600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2016000"/>
              <a:gd name="textAreaBottom" fmla="*/ 1941120 h 2016000"/>
            </a:gdLst>
            <a:ahLst/>
            <a:rect l="textAreaLeft" t="textAreaTop" r="textAreaRight" b="textAreaBottom"/>
            <a:pathLst>
              <a:path w="21600" h="28393">
                <a:moveTo>
                  <a:pt x="3600" y="0"/>
                </a:moveTo>
                <a:arcTo wR="3600" hR="3600" stAng="16200000" swAng="-5400000"/>
                <a:lnTo>
                  <a:pt x="0" y="24793"/>
                </a:lnTo>
                <a:arcTo wR="3600" hR="3600" stAng="10800000" swAng="-5400000"/>
                <a:lnTo>
                  <a:pt x="18000" y="283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STŘED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éninkové (cvičení-vlastní, soutěžní, speciální, všeobecn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generace sil, výživa, pitný rež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roly trénova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332000" y="5514840"/>
            <a:ext cx="1533600" cy="134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ODMÍN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Materiální, ekonomické, sociální, právní, pracov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3635280" y="1628640"/>
            <a:ext cx="393408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403280" y="1700280"/>
            <a:ext cx="140040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ál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3995640" y="1700280"/>
            <a:ext cx="252432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Operativ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708360" y="206064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INCIPY: (zásad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atičnosti, posloupnosti, cykličnosti, individualizace, specifičnosti, názornosti, přiměře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rcionality:  - Všestranné a specifické příprav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faktorů, určujících sportovní výk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3708360" y="314172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TOD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pohybovým schopnost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Nepřerušovaného zatížení: souvislá, rovnoměrná, střída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Přerušovaného zatížení:opakovaná, interval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Osvojování a zdokonalovaní dovedností (slovní, ukázkové, ideomotorické, praktické cvičení- opakování komplexní, analyticko-syntetick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Jiné (vedlejší úlohy, kontrastu, diagnostické metod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3708360" y="4724280"/>
            <a:ext cx="1655640" cy="213372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133720"/>
              <a:gd name="textAreaBottom" fmla="*/ 2053080 h 2133720"/>
            </a:gdLst>
            <a:ahLst/>
            <a:rect l="textAreaLeft" t="textAreaTop" r="textAreaRight" b="textAreaBottom"/>
            <a:pathLst>
              <a:path w="21600" h="27836">
                <a:moveTo>
                  <a:pt x="3600" y="0"/>
                </a:moveTo>
                <a:arcTo wR="3600" hR="3600" stAng="16200000" swAng="-5400000"/>
                <a:lnTo>
                  <a:pt x="0" y="24236"/>
                </a:lnTo>
                <a:arcTo wR="3600" hR="3600" stAng="10800000" swAng="-5400000"/>
                <a:lnTo>
                  <a:pt x="18000" y="27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FOR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ciálně- interakční (hromadná, skupinová, individuá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Tréninková jednotka (základní – v čase soustředění kontro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utěžní-závody, zápasy, doplň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>
            <a:off x="5435640" y="4724280"/>
            <a:ext cx="2089080" cy="213372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133720"/>
              <a:gd name="textAreaBottom" fmla="*/ 2031840 h 2133720"/>
            </a:gdLst>
            <a:ahLst/>
            <a:rect l="textAreaLeft" t="textAreaTop" r="textAreaRight" b="textAreaBottom"/>
            <a:pathLst>
              <a:path w="21600" h="22061">
                <a:moveTo>
                  <a:pt x="3600" y="0"/>
                </a:moveTo>
                <a:arcTo wR="3600" hR="3600" stAng="16200000" swAng="-5400000"/>
                <a:lnTo>
                  <a:pt x="0" y="18461"/>
                </a:lnTo>
                <a:arcTo wR="3600" hR="3600" stAng="10800000" swAng="-5400000"/>
                <a:lnTo>
                  <a:pt x="18000" y="220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ERIODIZ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- Střídání tr. zatížení a odpočin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Charakteru práce a odpočinku (všeob., spe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Druhy a složky  tr. zatížení (objem, intenzita, koordinační složitost, psych. náročno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elikost zatížení (malé, střední, velk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ps.muni.cz/impact/atletika-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sps.muni.cz/impact/atletika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sps.muni.cz/impact/didaktika-atletik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15-02-19T12:21:47Z</dcterms:modified>
  <cp:revision>30</cp:revision>
  <dc:subject/>
  <dc:title>ATLETIKA přednáška</dc:title>
</cp:coreProperties>
</file>