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8FF-D4F0-43E2-A5EF-87AA9689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978-2FAB-4E74-B772-2BB7BC65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0DD5-5259-427E-A182-4A45B416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69C5-1411-4359-9551-309CBF2D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9093-5875-47C4-9FD0-01D60A3B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154A-7896-4ED0-AD1F-DBB8124A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897A-23D9-4400-92E6-92A4B82E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EE15-E199-4AC4-BF6F-264DB03E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CAB2-7FF7-4763-88C0-E2C82A50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8DCC-6012-499D-8288-79E3C4A6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DCF7-5532-4438-A839-83E4D3C4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549-2360-4304-A95C-B28CAE04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521E-4045-4DF1-B211-18FBEC59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B677-18A5-43D0-AE26-D064F981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837A-A817-4EE3-A113-33171304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BA20-08A9-4B8D-8629-3A2F6B1A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CA30-7C5E-45E4-B54B-C5A3C961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65D3-24B1-4912-A9F1-7A5CE45B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3D2-6F42-4D61-9739-7D8AB6D0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3AF9-C5CE-4F52-AEBF-0F8AECE3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6A52-16C3-4E73-9E8C-58B25740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8617-DD19-4C60-9825-1DABCB41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10D-AEA5-4E02-B08F-76C8E662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352-8823-4C8E-ACA7-462E3AA9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5D68-2F63-456A-86F0-B87BB81EF0E7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08F3-AD40-41ED-9C7B-B40D9E7581B0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Historie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864 se konal první závod na 120 y,výška překážek byla 106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 OH  soutěží muži od roku 1896,ženy od roku 1932 – 8Om př,1972 – 1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působy přeběhu překážek (skrčný,klouzavý,turecký,kročný a běžecký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935 součastná konstrukce z T na 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r 12,80s Merritt, Čr.13,33s Svoboda,ženy 12,21s Donkovová, 12,92s Škrobá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ový bě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Verdana"/>
              </a:rPr>
              <a:t>Didaktický postu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žení a běh se štafetovým kolík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na místě ve dvojicích a čtveřicí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za chůze a mírného poklus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ve dvojicích v předávacím územ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chnika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Překážkový sta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olba přední nohy je závislá na zvoleném rytmu  (7 – 8) krok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stavení startovních bloků závisí na individuální úpravě krok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Náběh na první překáž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aximální zrychlení v prvních krocí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soké běžecké postave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élka kroku se zvyšuje až do předposledního kroku,poslední krok je kratší a dochází k aktivnějšímu došlapu chodidla na podložku jeho přední čá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Přeběh překáž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ísto odrazu je ve vzdálenosti 1.90- 2.30m od překáž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 je proveden z přední části chodid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érec švihové nohy se skládá aktivně pod steh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dokončuje odraz v plném nápon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je nad překážkou ohnuta v kolenním a hlezenním kloubu téměř do pravého úhlu,přičemž koleno je výše než chodid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kroková fáz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okrok je proveden na přední část chodidla na nataženou a v hlezenním kloubu zpevněnou no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ová noha je vedena   aktivně dopředu a vzhůr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fektivní přechod z překážkového kroku ke sprinterskému 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Běh mezi překážkam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Úsek mezi překážkami se běží na tři kro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je orientován frekvenčně na pohyb vpřed s vysokým zvadáním kolen a provádí se přední části chodi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klon trupu je zachován jako při hladkém běh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aže se pohybují u těla ve směru běh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běh do cí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ximální spurt až za cílovou pásk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padnutí do cíle s náklonem trupu a zapažením paž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Nejčastější chyb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obení kroků při ná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 blízko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soký přeskok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pomalení při doskoku za překážk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ěh po pat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koky mezi překážka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cc"/>
                </a:solidFill>
                <a:latin typeface="Arial"/>
              </a:rPr>
              <a:t>Didaktický postup při nácviku technik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ekážkářský rytmus (čáry,laťky.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švihové nohy vedle překážky( na místě,za chůze,v mírném běhu, v maximální rychlost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odrazové nohy vedle překážky (na místě ve dvojicích,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hůze mezi překážkami s jedním mezikro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tart a náběh na první překáž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mezi překážkami (tříkrokový rytmu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y –základní inform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100m – běží se v oddělených drahách, předávací je 20m,náběhové 10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400m – první úsek se běží ve vlastní dráze, ve druhém úseku se po 100m sbíhá k mantine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tafetový kolík má hmotnost do 50g, dlouhý je 30 cm a průměr má 4 cm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5:31:08Z</dcterms:created>
  <dc:creator>Josef Michálek</dc:creator>
  <dc:description/>
  <dc:language>en-US</dc:language>
  <cp:lastModifiedBy>240</cp:lastModifiedBy>
  <dcterms:modified xsi:type="dcterms:W3CDTF">2012-12-07T08:49:00Z</dcterms:modified>
  <cp:revision>46</cp:revision>
  <dc:subject/>
  <dc:title> Technika překážkového běh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