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0DBB-ED18-40C3-B582-7E9C557A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249-7EE4-45F6-B615-D5DE958C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116-F3AC-4EE6-A03E-470C6DFD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FCE-B6A5-4006-B0CC-F239C19E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3C7A-9B45-4FBE-94F5-F784487C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298C-D661-457C-A4F0-B3CD0C80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CD06-308B-4E15-A5BF-8029E37A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46B7-8346-4DDB-9DED-D013BC56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4B10-9906-4A3E-AE61-D945F22A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7B31-136C-4000-8AB2-5FF1E0A2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3D77-8725-4CF0-93C3-DCFB93E2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C60-0D55-4FDB-9F14-8E5FE7CB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A090-4B5C-4639-8768-72E3DC30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83FA-9B5E-4D31-A941-CB25E769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3CD6-2D7F-4323-92AE-73715EA6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D1F9-144D-4908-9621-EC4BE7B6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82C4-6FD0-4E88-BB6F-D3C8F700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A53-1523-4569-9C37-75A20EE4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585-F846-4D1A-A357-12F9BF0F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D440-EF38-47A6-B5F8-6BF67135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92FF-9206-47AE-9556-A53AD32F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BF7-F48A-4B80-ABDB-4CF8E2C3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890-C952-4534-82AA-DDA83122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B4C-C19C-4AFB-B947-0271D1DA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9AA6-9E55-4C73-889A-BC08B7DC64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9D28-6E2A-4E63-B13A-C3322AB684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sps.muni.cz/impact/atletika-3/" TargetMode="External"/><Relationship Id="rId2" Type="http://schemas.openxmlformats.org/officeDocument/2006/relationships/hyperlink" Target="http://www.fsps.muni.cz/impact/atletika-2/" TargetMode="External"/><Relationship Id="rId3" Type="http://schemas.openxmlformats.org/officeDocument/2006/relationships/hyperlink" Target="http://www.fsps.muni.cz/impact/didaktika-atletiky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 a metodických výstup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42440" y="3645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É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979640" y="549360"/>
            <a:ext cx="5238720" cy="512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obecné             Výběr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979640" y="0"/>
            <a:ext cx="5238720" cy="507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e – výchovné, vzdělá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979640" y="1125360"/>
            <a:ext cx="5238720" cy="50328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ástečné                   Etap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187280" y="1628640"/>
            <a:ext cx="186696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1332000" y="2060640"/>
            <a:ext cx="1533600" cy="1224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BSAH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diční příp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chn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ak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ore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1332000" y="3429000"/>
            <a:ext cx="1533600" cy="2016000"/>
          </a:xfrm>
          <a:custGeom>
            <a:avLst/>
            <a:gdLst>
              <a:gd name="textAreaLeft" fmla="*/ 74880 w 1533600"/>
              <a:gd name="textAreaRight" fmla="*/ 1458720 w 1533600"/>
              <a:gd name="textAreaTop" fmla="*/ 74880 h 2016000"/>
              <a:gd name="textAreaBottom" fmla="*/ 1941120 h 2016000"/>
            </a:gdLst>
            <a:ahLst/>
            <a:rect l="textAreaLeft" t="textAreaTop" r="textAreaRight" b="textAreaBottom"/>
            <a:pathLst>
              <a:path w="21600" h="28393">
                <a:moveTo>
                  <a:pt x="3600" y="0"/>
                </a:moveTo>
                <a:arcTo wR="3600" hR="3600" stAng="16200000" swAng="-5400000"/>
                <a:lnTo>
                  <a:pt x="0" y="24793"/>
                </a:lnTo>
                <a:arcTo wR="3600" hR="3600" stAng="10800000" swAng="-5400000"/>
                <a:lnTo>
                  <a:pt x="18000" y="283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STŘED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éninkové (cvičení-vlastní, soutěžní, speciální, všeobecn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generace sil, výživa, pitný rež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roly trénova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1332000" y="5514840"/>
            <a:ext cx="1533600" cy="134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ODMÍN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Materiální, ekonomické, sociální, právní, pracov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3635280" y="1628640"/>
            <a:ext cx="393408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1403280" y="1700280"/>
            <a:ext cx="140040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ál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3995640" y="1700280"/>
            <a:ext cx="252432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Operativ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3708360" y="2060640"/>
            <a:ext cx="3816360" cy="100800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INCIPY: (zásad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atičnosti, posloupnosti, cykličnosti, individualizace, specifičnosti, názornosti, přiměře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rcionality:  - Všestranné a specifické příprav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faktorů, určujících sportovní výk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>
            <a:off x="3708360" y="3141720"/>
            <a:ext cx="3816360" cy="151128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TOD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pohybovým schopnost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Nepřerušovaného zatížení: souvislá, rovnoměrná, střída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Přerušovaného zatížení:opakovaná, interval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Osvojování a zdokonalovaní dovedností (slovní, ukázkové, ideomotorické, praktické cvičení- opakování komplexní, analyticko-syntetick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Jiné (vedlejší úlohy, kontrastu, diagnostické metody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3708360" y="4724280"/>
            <a:ext cx="1655640" cy="213372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133720"/>
              <a:gd name="textAreaBottom" fmla="*/ 2053080 h 2133720"/>
            </a:gdLst>
            <a:ahLst/>
            <a:rect l="textAreaLeft" t="textAreaTop" r="textAreaRight" b="textAreaBottom"/>
            <a:pathLst>
              <a:path w="21600" h="27836">
                <a:moveTo>
                  <a:pt x="3600" y="0"/>
                </a:moveTo>
                <a:arcTo wR="3600" hR="3600" stAng="16200000" swAng="-5400000"/>
                <a:lnTo>
                  <a:pt x="0" y="24236"/>
                </a:lnTo>
                <a:arcTo wR="3600" hR="3600" stAng="10800000" swAng="-5400000"/>
                <a:lnTo>
                  <a:pt x="18000" y="27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FOR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ciálně- interakční (hromadná, skupinová, individuá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Tréninková jednotka (základní – v čase soustředění kontro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utěžní-závody, zápasy, doplň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>
            <a:off x="5435640" y="4724280"/>
            <a:ext cx="2089080" cy="213372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133720"/>
              <a:gd name="textAreaBottom" fmla="*/ 2031840 h 2133720"/>
            </a:gdLst>
            <a:ahLst/>
            <a:rect l="textAreaLeft" t="textAreaTop" r="textAreaRight" b="textAreaBottom"/>
            <a:pathLst>
              <a:path w="21600" h="22061">
                <a:moveTo>
                  <a:pt x="3600" y="0"/>
                </a:moveTo>
                <a:arcTo wR="3600" hR="3600" stAng="16200000" swAng="-5400000"/>
                <a:lnTo>
                  <a:pt x="0" y="18461"/>
                </a:lnTo>
                <a:arcTo wR="3600" hR="3600" stAng="10800000" swAng="-5400000"/>
                <a:lnTo>
                  <a:pt x="18000" y="220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ERIODIZA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- Střídání tr. zatížení a odpočink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Charakteru práce a odpočinku (všeob., spe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Druhy a složky  tr. zatížení (objem, intenzita, koordinační složitost, psych. náročnos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elikost zatížení (malé, střední, velk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sps.muni.cz/impact/atletika-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sps.muni.cz/impact/atletika-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sps.muni.cz/impact/didaktika-atletik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15-02-19T12:21:47Z</dcterms:modified>
  <cp:revision>30</cp:revision>
  <dc:subject/>
  <dc:title>ATLETIKA přednáška</dc:title>
</cp:coreProperties>
</file>