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C03-66E5-4394-8C60-37794437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3C3-0D56-4C92-B3B5-E0978763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48C-DD74-444F-BEC4-69035FBB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B4A-152E-4375-80D0-48697D85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2A2-E96A-4313-A974-4B322F48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05A-5A3D-42C5-882E-78D3CB75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A6B-ACF9-4171-A7E5-D78C8A85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B12-628B-423B-BE7F-9877E5C1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DF9B-A155-4C55-973F-A9A011E1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87A-13E8-4828-B0B8-C90F6D4E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EAA5-640C-4749-B326-17C640AD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AAA-8D8E-4FE5-92EA-B8069652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04B3-F7FE-448D-ADC5-3A5E5F135A8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úroveň(ANP),střední 2-4,nízká 2m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ce intenzivní intervalová meto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0 sec. běh 50 m, 10 sec. odpoči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krétní příklad intervalového tréni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68724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999999"/>
                </a:solidFill>
                <a:latin typeface="Arial"/>
              </a:rPr>
              <a:t>Trénink pro běžce s osobními vý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 30m letmo 3,8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 800m 2:00 min. (100m – 15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T 1500m 4:00 min. (100m – 16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 5000m 15:00min. (100m – 18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h  ANP 12 km 40:00min. (100m - 20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 10km a více,hod. a dé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PC</cp:lastModifiedBy>
  <dcterms:modified xsi:type="dcterms:W3CDTF">2016-03-06T10:18:16Z</dcterms:modified>
  <cp:revision>32</cp:revision>
  <dc:subject/>
  <dc:title>Běhy na střední a dlouhé tratě</dc:title>
</cp:coreProperties>
</file>