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1699-BDB7-4179-9D85-DA757900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0DF3-1F8F-43B0-852F-A3AFB3B3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77B-758D-49A1-9E43-68A7F92B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923D-6461-48BD-B0C8-4BB3A1AD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15C6-DC94-40CF-ACE4-97B31C87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6EC7-9702-4429-A08E-3B9C1055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7102-BC58-4BE0-B820-A0E3211D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30F2-F4BA-4148-B961-9BA71B38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2F4E-FD24-4011-AE41-8FB8B72E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ADDA-831E-429E-B9C4-62AC2EEA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17B1-D88C-4314-A155-4F98B498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6DF4-665F-4C3D-A2AB-217B01ED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E63F-0895-4BC1-8E66-4F5EAA26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A8BE-53D1-4741-935A-A33DDC8F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ED78-FBCC-4F3D-8441-53599FE6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80CE-281B-44D1-9321-9FDA9150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78BB-31DE-4D3B-9499-38D8A91A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EA2-C838-4788-AE45-196BEDAC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D63-1D5A-4290-94DE-567C1735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06EA-8FB6-43CB-9434-46053871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038-7DA3-47C8-91CB-9C8E52F8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578-0498-4EDE-80F1-B77BBF30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E864-6C80-4730-9C41-F7AB73EA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BBF-ECDC-472D-A857-3F054243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D890-BF8C-40AC-9BCF-E41D3E4054C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4290-5E8D-4671-9195-45E12ECD0E0C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e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organizova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těžní</a:t>
            </a:r>
            <a:endParaRPr b="0" lang="en-US" sz="31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činno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Vit</cp:lastModifiedBy>
  <dcterms:modified xsi:type="dcterms:W3CDTF">2007-02-20T08:52:52Z</dcterms:modified>
  <cp:revision>12</cp:revision>
  <dc:subject/>
  <dc:title>Systematika úpolov</dc:title>
</cp:coreProperties>
</file>