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65302-D760-425F-A498-26E0C538C3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26E64-25C2-41A4-80A6-46CD9868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D7107-B7A9-4C88-83C3-E04E2DEB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B4044-9F13-42FC-B4E8-B88866D689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F5F2F-AB90-4115-BA47-9BE1FC18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4D9C0-1FF0-40DB-BBB7-1E5D5F41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CCE83-7487-4817-B3AE-4A7436AF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226E0-26AC-41BD-B004-D0D69F21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F5DE8-87F8-4B3C-9D3E-3310B19B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DF73B-D03E-4906-8CFF-C4BE1831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6C94E-A5B7-4D40-9DFB-AE24AFD6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F30AC-BB6B-451B-8CDD-91846E28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6E0A-AC0A-438A-BB02-FF9ED406C558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2F61-F90F-49AB-8891-0AEF7268D1F5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05419-1796-434F-A32A-2352852205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7E859-749F-4D48-A5C9-2FEA154BB5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DBF0-8E6D-438D-8EDB-56B5C7BEBA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2EEB6-388A-4742-9912-EF01DA58F2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6CCD9-742A-42EB-9E94-40B3C8200F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Vit</cp:lastModifiedBy>
  <cp:lastPrinted>2003-10-23T14:31:15Z</cp:lastPrinted>
  <dcterms:modified xsi:type="dcterms:W3CDTF">2007-02-20T09:04:13Z</dcterms:modified>
  <cp:revision>63</cp:revision>
  <dc:subject/>
  <dc:title>Selling an Idea or a Product</dc:title>
</cp:coreProperties>
</file>