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E8AFA-16A5-4631-B422-C4A33F030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E8BD4-FADE-4013-B3B9-BFD5D35FF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F8D7C-CC8B-407A-BE37-31F190704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B66A2-DF30-43E2-831C-EC2B6A8A8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489E7-0871-4C8E-9568-7C4907065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5E6AB-5342-49D7-921B-5FC066DB7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548ED-5ABB-4632-BE6E-A634B0F9B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87819-90D8-4FD0-927A-114E8F49F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A7F44-3EAF-457E-8524-90D1BC9C2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7FC50-428A-48E1-BA80-C60939901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AD1D3-A0E8-4201-87E6-AB3C98F80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B9534-0EBE-420F-80AC-E5A015702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FDC71-6C03-46A5-A81C-193CF0AC1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B2B2B-6CA6-48E5-AFE9-5777CF75A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066BC-89D1-4A55-AB6D-EBF687089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759C7-3938-4C45-BEB0-1AF2ED6DC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E570C-AAB0-45DE-A420-6906653EE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C1E3E-0886-430D-BBEC-A0C7AF5D5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E00AD-5ACD-4A36-97CA-BBC818646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384F5-21C4-4C82-867F-F2BF406D6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8F10D-43A2-4AD5-9C7B-E2918D699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DD8AA-445D-4EFF-B3C4-0F52E7DBA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4ECDF-B2A8-42C7-857A-86AE36A76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A08BD-FE78-40B3-80A1-E1FA4A984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839080" cy="6858000"/>
            <a:chOff x="0" y="0"/>
            <a:chExt cx="883908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5105160" cy="4876560"/>
              <a:chOff x="0" y="0"/>
              <a:chExt cx="5105160" cy="487656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5105160" cy="487656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18320" y="420120"/>
                <a:ext cx="4268160" cy="40356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837000" y="840600"/>
                <a:ext cx="3431160" cy="319464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1255320" y="1261080"/>
                <a:ext cx="2594520" cy="23544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590120" y="1597680"/>
                <a:ext cx="1924560" cy="16812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3200400" y="3200400"/>
              <a:ext cx="3886200" cy="3657600"/>
              <a:chOff x="3200400" y="3200400"/>
              <a:chExt cx="3886200" cy="3657600"/>
            </a:xfrm>
          </p:grpSpPr>
          <p:sp>
            <p:nvSpPr>
              <p:cNvPr id="8" name=""/>
              <p:cNvSpPr/>
              <p:nvPr/>
            </p:nvSpPr>
            <p:spPr>
              <a:xfrm>
                <a:off x="3200400" y="3200400"/>
                <a:ext cx="3886200" cy="36576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518640" y="3515400"/>
                <a:ext cx="3249000" cy="30268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3837240" y="3830760"/>
                <a:ext cx="2611800" cy="239616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155840" y="4146120"/>
                <a:ext cx="1974960" cy="1765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4410720" y="4398480"/>
                <a:ext cx="1464840" cy="12610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4495680" y="152280"/>
              <a:ext cx="4343400" cy="4114800"/>
              <a:chOff x="4495680" y="152280"/>
              <a:chExt cx="4343400" cy="4114800"/>
            </a:xfrm>
          </p:grpSpPr>
          <p:sp>
            <p:nvSpPr>
              <p:cNvPr id="14" name=""/>
              <p:cNvSpPr/>
              <p:nvPr/>
            </p:nvSpPr>
            <p:spPr>
              <a:xfrm>
                <a:off x="4495680" y="152280"/>
                <a:ext cx="4343400" cy="4114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4851360" y="506880"/>
                <a:ext cx="3630960" cy="340524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207760" y="861480"/>
                <a:ext cx="2918880" cy="26956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563440" y="1216080"/>
                <a:ext cx="2207160" cy="19864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5848560" y="1500120"/>
                <a:ext cx="1637280" cy="14184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66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22BE3-83FE-40A1-8C03-9D5334235EA4}" type="slidenum">
              <a:rPr b="1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-360" y="0"/>
            <a:ext cx="9144360" cy="6858000"/>
            <a:chOff x="-360" y="0"/>
            <a:chExt cx="9144360" cy="6858000"/>
          </a:xfrm>
        </p:grpSpPr>
        <p:grpSp>
          <p:nvGrpSpPr>
            <p:cNvPr id="61" name=""/>
            <p:cNvGrpSpPr/>
            <p:nvPr/>
          </p:nvGrpSpPr>
          <p:grpSpPr>
            <a:xfrm>
              <a:off x="0" y="0"/>
              <a:ext cx="8839080" cy="6858000"/>
              <a:chOff x="0" y="0"/>
              <a:chExt cx="8839080" cy="6858000"/>
            </a:xfrm>
          </p:grpSpPr>
          <p:grpSp>
            <p:nvGrpSpPr>
              <p:cNvPr id="62" name=""/>
              <p:cNvGrpSpPr/>
              <p:nvPr/>
            </p:nvGrpSpPr>
            <p:grpSpPr>
              <a:xfrm>
                <a:off x="0" y="0"/>
                <a:ext cx="5105160" cy="4876560"/>
                <a:chOff x="0" y="0"/>
                <a:chExt cx="5105160" cy="4876560"/>
              </a:xfrm>
            </p:grpSpPr>
            <p:sp>
              <p:nvSpPr>
                <p:cNvPr id="63" name=""/>
                <p:cNvSpPr/>
                <p:nvPr/>
              </p:nvSpPr>
              <p:spPr>
                <a:xfrm>
                  <a:off x="0" y="0"/>
                  <a:ext cx="5105160" cy="487656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418320" y="420120"/>
                  <a:ext cx="4268160" cy="40356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837000" y="840600"/>
                  <a:ext cx="3431160" cy="319464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"/>
                <p:cNvSpPr/>
                <p:nvPr/>
              </p:nvSpPr>
              <p:spPr>
                <a:xfrm>
                  <a:off x="1255320" y="1261080"/>
                  <a:ext cx="2594520" cy="23544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"/>
                <p:cNvSpPr/>
                <p:nvPr/>
              </p:nvSpPr>
              <p:spPr>
                <a:xfrm>
                  <a:off x="1590120" y="1597680"/>
                  <a:ext cx="1924560" cy="16812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" name=""/>
              <p:cNvGrpSpPr/>
              <p:nvPr/>
            </p:nvGrpSpPr>
            <p:grpSpPr>
              <a:xfrm>
                <a:off x="3200400" y="3200400"/>
                <a:ext cx="3886200" cy="3657600"/>
                <a:chOff x="3200400" y="3200400"/>
                <a:chExt cx="3886200" cy="3657600"/>
              </a:xfrm>
            </p:grpSpPr>
            <p:sp>
              <p:nvSpPr>
                <p:cNvPr id="69" name=""/>
                <p:cNvSpPr/>
                <p:nvPr/>
              </p:nvSpPr>
              <p:spPr>
                <a:xfrm>
                  <a:off x="3200400" y="3200400"/>
                  <a:ext cx="3886200" cy="36576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>
                  <a:off x="3518640" y="3515400"/>
                  <a:ext cx="3249000" cy="30268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3837240" y="3830760"/>
                  <a:ext cx="2611800" cy="239616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4155840" y="4146120"/>
                  <a:ext cx="1974960" cy="1765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"/>
                <p:cNvSpPr/>
                <p:nvPr/>
              </p:nvSpPr>
              <p:spPr>
                <a:xfrm>
                  <a:off x="4410720" y="4398480"/>
                  <a:ext cx="1464840" cy="12610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" name=""/>
              <p:cNvGrpSpPr/>
              <p:nvPr/>
            </p:nvGrpSpPr>
            <p:grpSpPr>
              <a:xfrm>
                <a:off x="4495680" y="152280"/>
                <a:ext cx="4343400" cy="4114800"/>
                <a:chOff x="4495680" y="152280"/>
                <a:chExt cx="4343400" cy="4114800"/>
              </a:xfrm>
            </p:grpSpPr>
            <p:sp>
              <p:nvSpPr>
                <p:cNvPr id="75" name=""/>
                <p:cNvSpPr/>
                <p:nvPr/>
              </p:nvSpPr>
              <p:spPr>
                <a:xfrm>
                  <a:off x="4495680" y="152280"/>
                  <a:ext cx="4343400" cy="4114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>
                  <a:off x="4851360" y="506880"/>
                  <a:ext cx="3630960" cy="340524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5207760" y="861480"/>
                  <a:ext cx="2918880" cy="26956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5563440" y="1216080"/>
                  <a:ext cx="2207160" cy="19864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>
                  <a:off x="5848560" y="1500120"/>
                  <a:ext cx="1637280" cy="14184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0" name=""/>
            <p:cNvSpPr/>
            <p:nvPr/>
          </p:nvSpPr>
          <p:spPr>
            <a:xfrm flipH="1">
              <a:off x="-360" y="2438280"/>
              <a:ext cx="2514600" cy="3429000"/>
            </a:xfrm>
            <a:prstGeom prst="line">
              <a:avLst/>
            </a:prstGeom>
            <a:ln w="9360">
              <a:solidFill>
                <a:srgbClr val="00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629400" y="2209680"/>
              <a:ext cx="2514600" cy="2743200"/>
            </a:xfrm>
            <a:prstGeom prst="line">
              <a:avLst/>
            </a:prstGeom>
            <a:ln w="9360">
              <a:solidFill>
                <a:srgbClr val="00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 flipV="1">
              <a:off x="5105520" y="0"/>
              <a:ext cx="380880" cy="4952880"/>
            </a:xfrm>
            <a:prstGeom prst="line">
              <a:avLst/>
            </a:prstGeom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54863-9D8F-40A8-A47B-FC19BA970588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996600"/>
              </a:buClr>
              <a:buSzPct val="110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ff"/>
                </a:solidFill>
                <a:latin typeface="Times New Roman"/>
              </a:rPr>
              <a:t>Základní úpolová technik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raty těl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Rotace kolem podélné osy těla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aeaea"/>
                </a:solidFill>
                <a:latin typeface="Times New Roman"/>
              </a:rPr>
              <a:t>Vertikální stabilita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aeaea"/>
                </a:solidFill>
                <a:latin typeface="Times New Roman"/>
              </a:rPr>
              <a:t>Provázání s pohyby nohou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aeaea"/>
                </a:solidFill>
                <a:latin typeface="Times New Roman"/>
              </a:rPr>
              <a:t>Využití – úhyby, přemístění, hody..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řemístění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</a:rPr>
              <a:t>V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e vztahu k partnerovi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-32220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k partnerovi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-32220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</a:rPr>
              <a:t>o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d partner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-32220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řed partner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-32220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za partner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-32220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</a:rPr>
              <a:t>p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římo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-32220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s obratem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ff"/>
                </a:solidFill>
                <a:latin typeface="Times New Roman"/>
              </a:rPr>
              <a:t>Přemístění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řemístění skokem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63880" indent="-26388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         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řískoky 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63880" indent="-26388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         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odskok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638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638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</a:rPr>
              <a:t>Chůze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63880" indent="-26388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řekročením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63880" indent="-26388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sunem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638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638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eaeaea"/>
                </a:solidFill>
                <a:latin typeface="Times New Roman"/>
              </a:rPr>
              <a:t>Pohyb začíná noha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63880" indent="-26388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zadní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63880" indent="-26388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řední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ff"/>
                </a:solidFill>
                <a:latin typeface="Times New Roman"/>
              </a:rPr>
              <a:t>Přemístění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inimalizování vertikálního pohybu těžiště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Neustálý kontakt s podložkou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Vertikální stabilita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Jednota pohybu těla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vázání kontaktu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Kontakt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horními končetinami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dolními končetinami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t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rupem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h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lavou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vázání kontaktu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Způsob kontaktu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dotykem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úchopem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objetím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vedání, nošení a spouštění živého břemen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těžiště obou cvičenců m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jí být co nejblíž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b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řemeno zvedáme silou z pokrčených nohou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z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áda jsou narovnaná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zachování stability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ádová technik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odle směru pádu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653760" indent="-25128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vpřed,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653760" indent="-25128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vzad,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653760" indent="-25128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stranou,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653760" indent="-25128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</a:rPr>
              <a:t>k</a:t>
            </a: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ombinované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01680" indent="-30168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odle otočení kolem příčné osy těla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653760" indent="-25128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s převratem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653760" indent="-25128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bez převratu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01680" indent="-30168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odle způsobu tlumení pádu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653760" indent="-25128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bez zaražení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653760" indent="-25128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se zaražením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ádová technik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436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odle letové fáze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586800" indent="-22572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bez letové fáze,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586800" indent="-22572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s letovou fází,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270720" indent="-27072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odle úrovně ve které pád začíná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586800" indent="-22572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z postoje,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586800" indent="-22572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ze snížených poloh,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270720" indent="-27072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odle provádějícího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586800" indent="-22572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</a:rPr>
              <a:t>n</a:t>
            </a: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echtěné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586800" indent="-22572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cílené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270720" indent="-27072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odle partnera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586800" indent="-22572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neúmyslné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586800" indent="-22572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úmyslné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ff"/>
                </a:solidFill>
                <a:latin typeface="Times New Roman"/>
              </a:rPr>
              <a:t>Průpravné úpol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růpravná cvičení pro jednotlivé úpolové sporty</a:t>
            </a:r>
            <a:r>
              <a:rPr b="1" i="1" lang="sk-SK" sz="2800" spc="-1" strike="noStrike">
                <a:solidFill>
                  <a:srgbClr val="eaeaea"/>
                </a:solidFill>
                <a:latin typeface="Times New Roman"/>
              </a:rPr>
              <a:t>, sebeobranu a tělesnou výchovu a sport</a:t>
            </a:r>
            <a:r>
              <a:rPr b="1" i="1" lang="sk-SK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Rozvíjejí úpolové předpoklady pro nácvik úpolových sportů a sebeobrany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aeaea"/>
                </a:solidFill>
                <a:latin typeface="Times New Roman"/>
              </a:rPr>
              <a:t>Rozdělení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eaeaea"/>
                </a:solidFill>
                <a:latin typeface="Times New Roman"/>
              </a:rPr>
              <a:t>Základní úpolová technik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eaeaea"/>
                </a:solidFill>
                <a:latin typeface="Times New Roman"/>
              </a:rPr>
              <a:t>Základní úpol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ff"/>
                </a:solidFill>
                <a:latin typeface="Times New Roman"/>
              </a:rPr>
              <a:t>Základní úpolová technik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Courier New"/>
                <a:ea typeface="Times New Roman"/>
              </a:rPr>
              <a:t>o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       poloh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94840" indent="-29484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Courier New"/>
                <a:ea typeface="Times New Roman"/>
              </a:rPr>
              <a:t>o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       přechody (mezi polohami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94840" indent="-29484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Courier New"/>
                <a:ea typeface="Times New Roman"/>
              </a:rPr>
              <a:t>o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       pohyby paží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94840" indent="-29484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Courier New"/>
                <a:ea typeface="Times New Roman"/>
              </a:rPr>
              <a:t>o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       pohyby nohou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94840" indent="-29484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Courier New"/>
                <a:ea typeface="Times New Roman"/>
              </a:rPr>
              <a:t>o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       obraty těl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94840" indent="-29484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Courier New"/>
                <a:ea typeface="Times New Roman"/>
              </a:rPr>
              <a:t>o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       přemístění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94840" indent="-29484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Courier New"/>
                <a:ea typeface="Times New Roman"/>
              </a:rPr>
              <a:t>o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       navázání kontaktu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94840" indent="-29484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Courier New"/>
                <a:ea typeface="Times New Roman"/>
              </a:rPr>
              <a:t>o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       zvedání, nošení a spouštění živého břemen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948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           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(partnera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94840" indent="-29484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Courier New"/>
                <a:ea typeface="Times New Roman"/>
              </a:rPr>
              <a:t>o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       pád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ff"/>
                </a:solidFill>
                <a:latin typeface="Times New Roman"/>
              </a:rPr>
              <a:t>Poloh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aeaea"/>
                </a:solidFill>
                <a:latin typeface="Times New Roman"/>
              </a:rPr>
              <a:t>Střeh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ravý střeh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levý střeh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aeaea"/>
                </a:solidFill>
                <a:latin typeface="Times New Roman"/>
              </a:rPr>
              <a:t>Úroveň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spodní střeh (od pásu dolů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střední střeh (v úrovni trupu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</a:rPr>
              <a:t>h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orní střeh (v úrovni krku a hlavy)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ff"/>
                </a:solidFill>
                <a:latin typeface="Times New Roman"/>
              </a:rPr>
              <a:t>Poloh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99ccff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střehový postoj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99ccff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střehový klek (na jednom, nebo na obou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kolenech, případně ve vzporu, či podporu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klečmo – vysoký a nízký parter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99ccff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střehový sed (s oporou, nebo bez opory o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aži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99ccff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střehový leh (za zádech, na boku a na břichu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ff"/>
                </a:solidFill>
                <a:latin typeface="Times New Roman"/>
              </a:rPr>
              <a:t>Biomechanické faktory stabilit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velikost plochy opory (čím je plocha opory větší, tím je poloha stabilnější),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výška těžiště nad plochou opory (čím je těžiště níž, tím je poloha stabilnější),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velikost úhlu stability (polohou těžiště nad plochou opory, čím ostřejší je úhel stability, tím je poloha stabilnější)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řechod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aeaea"/>
                </a:solidFill>
                <a:latin typeface="Times New Roman"/>
              </a:rPr>
              <a:t>Z vyšší polohy do nižší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aeaea"/>
                </a:solidFill>
                <a:latin typeface="Times New Roman"/>
              </a:rPr>
              <a:t>Z nižší polohy do vyšší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hyby paží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aeaea"/>
                </a:solidFill>
                <a:latin typeface="Times New Roman"/>
              </a:rPr>
              <a:t>Základní pohybové vzorc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aeaea"/>
                </a:solidFill>
                <a:latin typeface="Times New Roman"/>
              </a:rPr>
              <a:t>Navázání kontaktu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aeaea"/>
                </a:solidFill>
                <a:latin typeface="Times New Roman"/>
              </a:rPr>
              <a:t>Všechny úder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aeaea"/>
                </a:solidFill>
                <a:latin typeface="Times New Roman"/>
              </a:rPr>
              <a:t>Provázání pohybu těla s pohybem paží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hyby nohou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aeaea"/>
                </a:solidFill>
                <a:latin typeface="Times New Roman"/>
              </a:rPr>
              <a:t>Kop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aeaea"/>
                </a:solidFill>
                <a:latin typeface="Times New Roman"/>
              </a:rPr>
              <a:t>Základní krok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1T20:54:38Z</dcterms:created>
  <dc:creator>Home</dc:creator>
  <dc:description/>
  <dc:language>en-US</dc:language>
  <cp:lastModifiedBy>Vit</cp:lastModifiedBy>
  <dcterms:modified xsi:type="dcterms:W3CDTF">2007-02-20T08:48:50Z</dcterms:modified>
  <cp:revision>7</cp:revision>
  <dc:subject/>
  <dc:title>Základní úpolová technika</dc:title>
</cp:coreProperties>
</file>