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5F0A-79D8-4339-B0A6-2CC995F1C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447A-F77B-45AA-ACD5-2A42FE25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94C8-DC73-46EE-AFDA-66D2BB1B2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F1E4-2567-4201-909A-7039295F0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3E11F-11ED-4ED9-BE6F-D08C0D8D4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1B33-FE90-4243-B5E8-0937F105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1DA9-8EB6-4DBC-9004-885802F4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268B-CCC8-4C67-AC2E-CC7B6189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2FAF-5326-45F6-8E64-7F7CDEEE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8692-E831-4780-83EC-09234654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A47E-9576-4749-9149-72502B4E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AFCA-D7C6-42E0-A22B-E208EDCD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D57A7-36CA-4751-835C-6CCB0A1E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B5F25-49A9-4845-BB79-AEA9E5F0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758A-DE94-4D50-B5C8-31D703F3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E01E-9078-450D-87D0-AEFEC08AC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7465-84C3-4F02-A9E6-C3C120A02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8A51-EB44-479A-A66D-32B64B80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6091-CA11-479A-B356-F9EB8976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F54D-E6D4-4918-8F14-19653C0E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2BDF-7B60-42B6-BDFB-73608CB0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952A-F964-485D-B6F8-3C73C423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111D-46E5-40E5-AF4A-ED67EA6F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7F29-3A7E-418A-A9EA-5528AC4E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B07B-597E-4BFE-9007-B854BCE3B8D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D873-3C87-43F6-AF06-C2FD5D54598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Úpoly na našich územích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2. Světová vál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Centralizace zájmové činnost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úpolových sportů – nástroj propagan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Osobnosti v perzekuci/v bojí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ocialistický spor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Výrazná orientace na soutě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pagace režimu, boj mezi kapitalizmem a socializm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Centralizace sportu (Národní front – ČSSTV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mládež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vrcholového sport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Oddíly a jejich členové 1957-197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85800" y="2209680"/>
            <a:ext cx="7225920" cy="4572000"/>
            <a:chOff x="685800" y="2209680"/>
            <a:chExt cx="7225920" cy="4572000"/>
          </a:xfrm>
        </p:grpSpPr>
        <p:grpSp>
          <p:nvGrpSpPr>
            <p:cNvPr id="146" name=""/>
            <p:cNvGrpSpPr/>
            <p:nvPr/>
          </p:nvGrpSpPr>
          <p:grpSpPr>
            <a:xfrm>
              <a:off x="690840" y="2212920"/>
              <a:ext cx="7215120" cy="4564440"/>
              <a:chOff x="690840" y="2212920"/>
              <a:chExt cx="7215120" cy="456444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690840" y="2212920"/>
                <a:ext cx="1651320" cy="639000"/>
                <a:chOff x="690840" y="2212920"/>
                <a:chExt cx="1651320" cy="63900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64640" y="2212920"/>
                  <a:ext cx="150408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Rok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</a:rPr>
                    <a:t>S</a:t>
                  </a: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por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90840" y="2212920"/>
                  <a:ext cx="165132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2342520" y="2212920"/>
                <a:ext cx="926640" cy="639000"/>
                <a:chOff x="2342520" y="2212920"/>
                <a:chExt cx="926640" cy="6390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241632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34252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269880" y="2212920"/>
                <a:ext cx="927000" cy="639000"/>
                <a:chOff x="3269880" y="2212920"/>
                <a:chExt cx="927000" cy="6390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343680" y="2212920"/>
                  <a:ext cx="77904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269880" y="2212920"/>
                  <a:ext cx="92700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4197240" y="2212920"/>
                <a:ext cx="926640" cy="639000"/>
                <a:chOff x="4197240" y="2212920"/>
                <a:chExt cx="926640" cy="6390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27068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724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5124600" y="2212920"/>
                <a:ext cx="926640" cy="639000"/>
                <a:chOff x="5124600" y="2212920"/>
                <a:chExt cx="926640" cy="6390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519840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12460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6051600" y="2212920"/>
                <a:ext cx="926640" cy="639000"/>
                <a:chOff x="6051600" y="2212920"/>
                <a:chExt cx="926640" cy="6390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612540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7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05160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978960" y="2212920"/>
                <a:ext cx="927000" cy="639000"/>
                <a:chOff x="6978960" y="2212920"/>
                <a:chExt cx="927000" cy="6390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7052760" y="2212920"/>
                  <a:ext cx="77904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7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978960" y="2212920"/>
                  <a:ext cx="92700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690840" y="2851920"/>
                <a:ext cx="1651320" cy="981360"/>
                <a:chOff x="690840" y="2851920"/>
                <a:chExt cx="1651320" cy="98136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764640" y="2851920"/>
                  <a:ext cx="1504080" cy="9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Box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90840" y="2851920"/>
                  <a:ext cx="1651320" cy="981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342520" y="2851920"/>
                <a:ext cx="926640" cy="490680"/>
                <a:chOff x="2342520" y="2851920"/>
                <a:chExt cx="926640" cy="4906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41632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34252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269880" y="2851920"/>
                <a:ext cx="927000" cy="490680"/>
                <a:chOff x="3269880" y="2851920"/>
                <a:chExt cx="927000" cy="4906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343680" y="285192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269880" y="285192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197240" y="2851920"/>
                <a:ext cx="926640" cy="490680"/>
                <a:chOff x="4197240" y="2851920"/>
                <a:chExt cx="926640" cy="4906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427068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9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19724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5124600" y="2851920"/>
                <a:ext cx="926640" cy="490680"/>
                <a:chOff x="5124600" y="2851920"/>
                <a:chExt cx="926640" cy="4906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519840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5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12460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6051600" y="2851920"/>
                <a:ext cx="926640" cy="490680"/>
                <a:chOff x="6051600" y="2851920"/>
                <a:chExt cx="926640" cy="4906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12540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05160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6978960" y="2851920"/>
                <a:ext cx="927000" cy="490680"/>
                <a:chOff x="6978960" y="2851920"/>
                <a:chExt cx="927000" cy="4906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7052760" y="285192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978960" y="285192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2342520" y="3342960"/>
                <a:ext cx="926640" cy="490320"/>
                <a:chOff x="2342520" y="3342960"/>
                <a:chExt cx="926640" cy="4903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241632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77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34252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3269880" y="3342960"/>
                <a:ext cx="927000" cy="490320"/>
                <a:chOff x="3269880" y="3342960"/>
                <a:chExt cx="927000" cy="4903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343680" y="3342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5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269880" y="3342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197240" y="3342960"/>
                <a:ext cx="926640" cy="490320"/>
                <a:chOff x="4197240" y="3342960"/>
                <a:chExt cx="926640" cy="49032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27068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8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19724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5124600" y="3342960"/>
                <a:ext cx="926640" cy="490320"/>
                <a:chOff x="5124600" y="3342960"/>
                <a:chExt cx="926640" cy="49032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9840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86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12460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6051600" y="3342960"/>
                <a:ext cx="926640" cy="490320"/>
                <a:chOff x="6051600" y="3342960"/>
                <a:chExt cx="926640" cy="4903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12540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83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05160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6978960" y="3342960"/>
                <a:ext cx="927000" cy="490320"/>
                <a:chOff x="6978960" y="3342960"/>
                <a:chExt cx="927000" cy="4903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7052760" y="3342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1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978960" y="3342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90840" y="3833280"/>
                <a:ext cx="1651320" cy="981000"/>
                <a:chOff x="690840" y="3833280"/>
                <a:chExt cx="1651320" cy="9810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64640" y="3833280"/>
                  <a:ext cx="150408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Džúdó a karate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90840" y="3833280"/>
                  <a:ext cx="1651320" cy="981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2342520" y="3833280"/>
                <a:ext cx="926640" cy="490320"/>
                <a:chOff x="2342520" y="3833280"/>
                <a:chExt cx="926640" cy="4903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241632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34252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3269880" y="3833280"/>
                <a:ext cx="927000" cy="490320"/>
                <a:chOff x="3269880" y="3833280"/>
                <a:chExt cx="927000" cy="4903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3343680" y="38332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269880" y="38332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4197240" y="3833280"/>
                <a:ext cx="926640" cy="490320"/>
                <a:chOff x="4197240" y="3833280"/>
                <a:chExt cx="926640" cy="4903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427068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19724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5124600" y="3833280"/>
                <a:ext cx="926640" cy="490320"/>
                <a:chOff x="5124600" y="3833280"/>
                <a:chExt cx="926640" cy="4903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519840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12460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051600" y="3833280"/>
                <a:ext cx="926640" cy="490320"/>
                <a:chOff x="6051600" y="3833280"/>
                <a:chExt cx="926640" cy="4903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12540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05160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6978960" y="3833280"/>
                <a:ext cx="927000" cy="490320"/>
                <a:chOff x="6978960" y="3833280"/>
                <a:chExt cx="927000" cy="4903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052760" y="38332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3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978960" y="38332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2342520" y="4323960"/>
                <a:ext cx="926640" cy="490320"/>
                <a:chOff x="2342520" y="4323960"/>
                <a:chExt cx="926640" cy="4903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41632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5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34252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269880" y="4323960"/>
                <a:ext cx="927000" cy="490320"/>
                <a:chOff x="3269880" y="4323960"/>
                <a:chExt cx="927000" cy="4903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343680" y="4323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15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269880" y="4323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4197240" y="4323960"/>
                <a:ext cx="926640" cy="490320"/>
                <a:chOff x="4197240" y="4323960"/>
                <a:chExt cx="926640" cy="49032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27068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90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19724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5124600" y="4323960"/>
                <a:ext cx="926640" cy="490320"/>
                <a:chOff x="5124600" y="4323960"/>
                <a:chExt cx="926640" cy="4903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19840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96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12460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051600" y="4323960"/>
                <a:ext cx="926640" cy="490320"/>
                <a:chOff x="6051600" y="4323960"/>
                <a:chExt cx="926640" cy="4903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612540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9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05160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6978960" y="4323960"/>
                <a:ext cx="927000" cy="490320"/>
                <a:chOff x="6978960" y="4323960"/>
                <a:chExt cx="927000" cy="49032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7052760" y="4323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53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978960" y="4323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690840" y="4814640"/>
                <a:ext cx="1651320" cy="981360"/>
                <a:chOff x="690840" y="4814640"/>
                <a:chExt cx="1651320" cy="9813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764640" y="4814640"/>
                  <a:ext cx="1504080" cy="9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Šerm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90840" y="4814640"/>
                  <a:ext cx="1651320" cy="981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2342520" y="4814640"/>
                <a:ext cx="926640" cy="490680"/>
                <a:chOff x="2342520" y="4814640"/>
                <a:chExt cx="926640" cy="49068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241632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34252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3269880" y="4814640"/>
                <a:ext cx="927000" cy="490680"/>
                <a:chOff x="3269880" y="4814640"/>
                <a:chExt cx="927000" cy="49068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3343680" y="481464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269880" y="481464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4197240" y="4814640"/>
                <a:ext cx="926640" cy="490680"/>
                <a:chOff x="4197240" y="4814640"/>
                <a:chExt cx="926640" cy="4906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427068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19724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5124600" y="4814640"/>
                <a:ext cx="926640" cy="490680"/>
                <a:chOff x="5124600" y="4814640"/>
                <a:chExt cx="926640" cy="4906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519840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12460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6051600" y="4814640"/>
                <a:ext cx="926640" cy="490680"/>
                <a:chOff x="6051600" y="4814640"/>
                <a:chExt cx="926640" cy="4906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612540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05160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6978960" y="4814640"/>
                <a:ext cx="927000" cy="490680"/>
                <a:chOff x="6978960" y="4814640"/>
                <a:chExt cx="927000" cy="4906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7052760" y="481464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978960" y="481464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2342520" y="5305680"/>
                <a:ext cx="926640" cy="490320"/>
                <a:chOff x="2342520" y="5305680"/>
                <a:chExt cx="926640" cy="4903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241632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34252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3269880" y="5305680"/>
                <a:ext cx="927000" cy="490320"/>
                <a:chOff x="3269880" y="5305680"/>
                <a:chExt cx="927000" cy="4903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3343680" y="53056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06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269880" y="53056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4197240" y="5305680"/>
                <a:ext cx="926640" cy="490320"/>
                <a:chOff x="4197240" y="5305680"/>
                <a:chExt cx="926640" cy="49032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427068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78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19724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5124600" y="5305680"/>
                <a:ext cx="926640" cy="490320"/>
                <a:chOff x="5124600" y="5305680"/>
                <a:chExt cx="926640" cy="49032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19840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10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12460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6051600" y="5305680"/>
                <a:ext cx="926640" cy="490320"/>
                <a:chOff x="6051600" y="5305680"/>
                <a:chExt cx="926640" cy="4903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612540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85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05160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978960" y="5305680"/>
                <a:ext cx="927000" cy="490320"/>
                <a:chOff x="6978960" y="5305680"/>
                <a:chExt cx="927000" cy="49032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7052760" y="53056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00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978960" y="53056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690840" y="5796360"/>
                <a:ext cx="1651320" cy="981000"/>
                <a:chOff x="690840" y="5796360"/>
                <a:chExt cx="1651320" cy="98100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764640" y="5796360"/>
                  <a:ext cx="150408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Zápa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690840" y="5796360"/>
                  <a:ext cx="1651320" cy="981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342520" y="5796360"/>
                <a:ext cx="926640" cy="490320"/>
                <a:chOff x="2342520" y="5796360"/>
                <a:chExt cx="926640" cy="4903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41632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34252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3269880" y="5796360"/>
                <a:ext cx="927000" cy="490320"/>
                <a:chOff x="3269880" y="5796360"/>
                <a:chExt cx="927000" cy="4903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3343680" y="57963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269880" y="57963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4197240" y="5796360"/>
                <a:ext cx="926640" cy="490320"/>
                <a:chOff x="4197240" y="5796360"/>
                <a:chExt cx="926640" cy="4903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27068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19724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124600" y="5796360"/>
                <a:ext cx="926640" cy="490320"/>
                <a:chOff x="5124600" y="5796360"/>
                <a:chExt cx="926640" cy="4903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19840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12460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6051600" y="5796360"/>
                <a:ext cx="926640" cy="490320"/>
                <a:chOff x="6051600" y="5796360"/>
                <a:chExt cx="926640" cy="4903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612540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5160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6978960" y="5796360"/>
                <a:ext cx="927000" cy="490320"/>
                <a:chOff x="6978960" y="5796360"/>
                <a:chExt cx="927000" cy="4903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7052760" y="57963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978960" y="57963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2342520" y="6287040"/>
                <a:ext cx="926640" cy="490320"/>
                <a:chOff x="2342520" y="6287040"/>
                <a:chExt cx="926640" cy="4903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241632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85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34252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3269880" y="6287040"/>
                <a:ext cx="927000" cy="490320"/>
                <a:chOff x="3269880" y="6287040"/>
                <a:chExt cx="927000" cy="4903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3343680" y="628704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06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269880" y="628704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4197240" y="6287040"/>
                <a:ext cx="926640" cy="490320"/>
                <a:chOff x="4197240" y="6287040"/>
                <a:chExt cx="926640" cy="4903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427068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28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419724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5124600" y="6287040"/>
                <a:ext cx="926640" cy="490320"/>
                <a:chOff x="5124600" y="6287040"/>
                <a:chExt cx="926640" cy="4903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19840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44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12460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051600" y="6287040"/>
                <a:ext cx="926640" cy="490320"/>
                <a:chOff x="6051600" y="6287040"/>
                <a:chExt cx="926640" cy="4903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12540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91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05160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6978960" y="6287040"/>
                <a:ext cx="927000" cy="490320"/>
                <a:chOff x="6978960" y="6287040"/>
                <a:chExt cx="927000" cy="4903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7052760" y="628704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09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978960" y="628704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4" name=""/>
            <p:cNvSpPr/>
            <p:nvPr/>
          </p:nvSpPr>
          <p:spPr>
            <a:xfrm>
              <a:off x="685800" y="2209680"/>
              <a:ext cx="7225920" cy="457200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o roce 198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nížená podpora stát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Vícezdrojové financová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voj nových úpolových sport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ecentralizace sportovního hnut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taří Slované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5. – 6. stol.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Různé samostatné rod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Neměli stálé vojsk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Upřednostňování partyzánského vedení válk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tředověk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Úpolové činnosti v rytířské kultuř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Měšťanská kultur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I úpolové h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Vztah ke každodennímu život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ostupná institucionalizac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659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aložena Královská česká zemská stavovská šermírn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Městské šermírn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etkávání různých společenských skup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Tělovýchovné ústavy v Česk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30 byl Hirschův ústav v Praz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3 Steffanyho (později přejmenován na Stegmayerův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5 Segenů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8 Schmidtův-Malypetrů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1862 - Sok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Úpoly na Slovenskom území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2 I. T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ocvičný ústav pr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rešovské kol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iu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4 šermířská a tělocvičná škola F. Martineng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73 I. B. Zocha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rátk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</a:rPr>
              <a:t>y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návod k vyučovaniu telocviku hlavne pre školy národni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Tělocvičná soustava Sokolská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82087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.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čení bez nářadí a bez pomoci nebo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odporu jiných cvičenců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 Cvičení nářaďová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 Cvičení se skupině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V.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y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Rozvoj sport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Šer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ápas a box (přelom 19. – 20. stol.) – těžká atletik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Amatéř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fesionálov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žúdžucu (191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rvní Československá republi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voj úpolů, stejně jako všeho v nové republi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ákon o branné výchově 1. 7. 1937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odpora tělovýchovných aktiv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výšený zájem o úpolové činnost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Spojení s branností a vlastenectví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3:40:49Z</dcterms:created>
  <dc:creator>Home</dc:creator>
  <dc:description/>
  <dc:language>en-US</dc:language>
  <cp:lastModifiedBy>Vit</cp:lastModifiedBy>
  <dcterms:modified xsi:type="dcterms:W3CDTF">2007-02-20T09:35:00Z</dcterms:modified>
  <cp:revision>5</cp:revision>
  <dc:subject/>
  <dc:title>Úpoly na našich územích</dc:title>
</cp:coreProperties>
</file>