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439A-E3ED-45A6-8CD8-2971AF1B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F0FB-4717-4D18-AE69-B7DC8D4E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1D77-3DB7-4F0E-A4A0-18C4F339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A39F-8080-4545-A5B3-8726FEFC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B06C-C834-4EB7-B876-6DB0C5CE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CD87-7D68-4434-A522-99EEC023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561B-0967-40D2-8316-3A16F01A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56E5-6E1B-4869-88B6-74D84AE0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C8D2-FF1B-410C-9E31-DCE2873E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67F6-D72C-47BE-B749-6EF80F5F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DFFA-A839-4C6E-9DA0-CC03A909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9678-029B-4319-8C12-ACEF3A33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45A2-F490-48AB-92C4-2AB5906C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E211-AEDC-4BAD-98C0-C8689113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A458-AD9C-4014-85DD-4CBD43A2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F7D4-365E-462A-A2E9-E9E553449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EF08-0557-4757-99CD-90C080F4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4391-40AD-4795-BD52-7CF6C196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BF9F-E49E-46EF-8C5B-EDB794F3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DFF9-681B-46EF-8A0A-81A749B0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9443-A432-4D43-95E0-3F66EE00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FD89-D7D2-43AA-A889-5DB20B1F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310F-5FD2-4E4C-A447-1BE9DD09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3E34-725C-4253-98AA-80B9358F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25D6-080F-421A-9B50-A52472A2B6E7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269E-42E3-4929-A7CA-52183271671A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Úpolové spor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Znaky úpolových sportů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Arial Narrow"/>
              </a:rPr>
              <a:t>Úroveň úpolových systémů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ázev (aikidó, zápas, karate, džúdó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vývoj (každý se zrodil v jistých historických souvislostech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prostředky (technické, taktické, materální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členskou základnu a  její vnitřní hierarchii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zastřešující organizaci a systém národních a regionálních organizací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metody a formy výcviku, vzdělávání a výchovy (vzájemně více, či méně odlišné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 sporty i systém soutěží a pravidel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 sporty systém zkoušek, titulů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a hodností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zaměření úpolov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ých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sport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</a:rPr>
              <a:t>s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outěž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ystém soutěží a příprava na 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ebeobran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zaměření na aplikaci úpolového sportu pro potřeby sebeobrany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mplexně rozvíjejíc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celoživotní rozměr a mnohodimenzionální rozvoj člověka v oblasti tělesné, duševní, sociální i spirituáln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vztah k soutěži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</a:t>
            </a: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pořádají soutěže, většinou na různých úrovníc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1" lang="sk-SK" sz="32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nepořádají soutěže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technických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rostředk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zbra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kendó, iaidó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kontakt částmi těla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úderů a kopů (box, karate, tae kwon do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hodů a znehybnění</a:t>
            </a:r>
            <a:r>
              <a:rPr b="0" lang="sk-SK" sz="2800" spc="-1" strike="noStrike">
                <a:solidFill>
                  <a:srgbClr val="eae8e2"/>
                </a:solidFill>
                <a:latin typeface="Arial"/>
                <a:ea typeface="Times New Roman"/>
              </a:rPr>
              <a:t> (džúdó, zápas, sumó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 kulturních konotací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evrop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zápas, savate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meric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wrestling, karate kempo, 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Gracie džúdžucu, capoeira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zij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čínské (tchai ťi, pakua, hunggar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korejské (taekwondo, hwarangdo, hapkido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japonské (aikidó, džúdó, sumó, kendó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indické (vadžrámušti, kalaripajattu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hajské (muai thai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09:01Z</dcterms:created>
  <dc:creator>Home</dc:creator>
  <dc:description/>
  <dc:language>en-US</dc:language>
  <cp:lastModifiedBy>Vit</cp:lastModifiedBy>
  <dcterms:modified xsi:type="dcterms:W3CDTF">2007-02-20T08:56:00Z</dcterms:modified>
  <cp:revision>5</cp:revision>
  <dc:subject/>
  <dc:title>Úpoloo</dc:title>
</cp:coreProperties>
</file>