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246-6C3C-4D5B-924B-46856F24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6B3-B31F-47A3-9B3B-EE0CDF5D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8512-84D4-44CC-8DE6-47FE7688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B51-561E-46DE-AEE5-2461C9CB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C1B4-769E-406B-A1FF-F09876FE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F9CA-ADAB-4AFD-9754-55F406CB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2710-4153-4B84-A1D0-1160A072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9AD4-F753-43EF-890D-049D570C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873C-69C5-4C13-BA9B-4887A87D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4797-18AA-40D7-988A-D95E2364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2CFB-4317-4555-90C2-605D1CCD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2346-802F-4229-9091-07244307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D2AD-3676-459F-9C28-BD863722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B878-7904-441E-866F-8FB4AE46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7504-7871-475A-BBD2-6AC7C40F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C3CB-895E-4331-92C8-007A3381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F7B3-1BEE-4DC1-B036-6A61FF34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B4CC-0232-4535-831E-ACFD384A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E30-42A1-42B8-BCDB-D85AE053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735F-E90E-4906-BC11-676F95C5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B8D9-F1A9-46D4-9D48-62C95710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D839-012E-4A4C-AA48-59DC8455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EDD3-A9C6-42F4-9D80-D74C513D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822-E3F7-44C2-9C27-B31FE5B8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1769-F741-446C-B35E-365E057682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E818-28CF-4464-ADC6-E250D7FE97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á na vrcholný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  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u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       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Vit</cp:lastModifiedBy>
  <dcterms:modified xsi:type="dcterms:W3CDTF">2007-02-20T08:33:39Z</dcterms:modified>
  <cp:revision>7</cp:revision>
  <dc:subject/>
  <dc:title>Úpoly ve sportu</dc:title>
</cp:coreProperties>
</file>