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41C8-843E-445D-A782-F14A41022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233A-EB99-4C2F-9B27-B20011899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177C-D53A-4571-BC2E-31B692571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200C-432C-4166-9289-63B13000D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4973D-19A1-4EEF-99AA-7DAD737F1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CF4B7-093D-4CD8-B702-4FF5E1E77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8BA33-6CAC-40BE-9122-55807EF44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77A07-20AC-44C5-8E43-BC80DCF44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0E63D-6B25-4F8E-B672-96F3A0EF3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EDB55-AFE9-4D40-80F5-FDDDC8223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7D220-8F52-4579-ACE6-8FCF0750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D1B9-34FB-4070-BE7B-98ED0E284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47540-FF46-4145-808A-41B7BBCA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65CF3-F8B6-4078-945D-A866FA9D8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8EBA7-9897-49D5-80D2-151E7B252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9E8C7-4ED3-436D-AD59-6405D577C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EC361-8A9F-41D4-86C9-1AA596D30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EE95-3F6E-4134-9CBB-7D2F8A2B2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72EA-0499-47F4-8CE8-AA1415D21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745E-EA05-4E5E-898D-27F264C78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EA31-944A-4C6F-AD92-CE9AF6DE0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6F8C-F8DB-4C11-A6A4-5AC206CF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E91C-338A-4546-853A-1AF6437CA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4F55-1B0F-4961-AE57-3BF3C692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6488D-D7BA-450A-B17A-585B7C1656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0A929-94DB-4AFD-B8F3-DD01C00FD8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6600" spc="-1" strike="noStrike">
                <a:solidFill>
                  <a:srgbClr val="ccffff"/>
                </a:solidFill>
                <a:latin typeface="Tahoma"/>
              </a:rPr>
              <a:t>Determinanty didaktiky úpolů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Obecné determinant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Fylogeneze lidst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Ontogeneze pohyb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Sociální fak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sychologické fak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Fylogeneze lidstv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Úpoly byly na počátku existence člově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Úpolové aktivity člověka doprovázely v kritických obdobích vývo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Zachovaly se archetypy hrdinů – jsou často spojeny s úpolovými aktivitam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Kontaktní překonání člověka je hluboko v podvědomí, je součástí vnitřní výbavy zdravého jednotliv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Ontogeneze pohybu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otyk je prvním komunikačním prostředkem dítě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ěti spontánně jednají úpolově – v kontaktu (nemají jiné prostředky aktivní obran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Spontánní aktivity dětí v různých obdobích pohybového vývoje zahrnují úpolové ak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ro didaktiku úpolů je kritické období 8 – 9 let, dítě začíná chápat vztah mezi příčinou a důsledk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Sociální faktor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Úpoly nelze (dlouhodobě) provádět osamot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Budují se sociální vazby (silněji v bojových uměních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Cvičenci úpolových sportů působí na společnost a opačn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Cvičení úpolů musí být spojeno s přísným dodržováním spoločenských norem (etiket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Psychologické faktor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Ztráta vědomé sebekontroly po dobu cvič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ráce s fyzickou (totální) porážkou, nebo vítězstv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ráce s bolest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Agresivita ano, ale konstruktivní (benigní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2T19:05:35Z</dcterms:created>
  <dc:creator>Home</dc:creator>
  <dc:description/>
  <dc:language>en-US</dc:language>
  <cp:lastModifiedBy>Vit</cp:lastModifiedBy>
  <dcterms:modified xsi:type="dcterms:W3CDTF">2007-02-20T09:06:03Z</dcterms:modified>
  <cp:revision>4</cp:revision>
  <dc:subject/>
  <dc:title>Determinanty didaktiky úpolů</dc:title>
</cp:coreProperties>
</file>