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5AC6-54D8-4B34-B98A-8408B6AD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414F-9C0F-4119-94E0-22A96A1F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8725-EDE1-4587-9CA2-A618B2DE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DA21-1ADC-456A-A8DB-AD2D8565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1B35-EA80-423D-B427-5ACDED0B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C89E-3E55-4952-81BE-FB03784C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2646-C1AE-4E9F-9EE8-22E4B197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E3B2-4913-42A7-BE16-5DF83F49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145C-59F0-41B1-ACA9-5DCEEE3B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8A75-1DB4-4E1B-B7A4-6FD51BF4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6E97-17DF-42DE-B1E4-C6735C7A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8F43-52F9-475B-A8D0-A40A71FE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F15D-C277-491C-A4F8-7957284C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4AD6-6836-45CB-BAAB-242BFFC0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096F-EEE2-4321-B5F3-98517CB0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FC3B-1F09-48F5-814D-3F280083C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25E3-2CD5-4EAB-9151-736CAE13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30E8-3ADF-4145-A17B-741F6E63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9E3D-2A5B-4BC8-ADDC-1FA905A9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8359-E14F-450A-AC20-A247CC21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CC31-0BD7-4111-906C-1FD11A82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D190-85B8-453E-B43A-BE83F127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1A6A-AD97-4FF1-9234-2258A9AB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30AF-753D-45D1-B10A-85565BA8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27A3-81DF-49D5-A985-B3333830CB73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6C21-42EC-4FBF-BA9B-0EAC5F191C6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ty tě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tace kolem podélné osy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s pohyby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yužití – úhyby, přemístění, hody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 vztahu k partnerovi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 partnerov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ím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obrate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místění skokem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ískoky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dskok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Chů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kročení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unem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Pohyb začíná noh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imalizování vertikálního pohybu těžišt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ustálý kontakt s podložk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ednota pohybu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ntakt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or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l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u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avou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působ kontaktu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tyk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cho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bjetí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vedání, nošení a spouštění živého břem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ěžiště obou cvičenců 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í být co nejblíž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emeno zvedáme silou z pokrčených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áda jsou narovnan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chování stabilit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směru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pře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za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ranou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mbinova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otočení kolem příčné osy těl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převra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převratu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způsobu tlumení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zaražen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e zaražení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letové fá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letové fáz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letovou fází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úrovně ve které pád začíná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 postoj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e snížených poloh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rovádějícího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chtě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íle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artner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loh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chody (mezi poloham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paž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noh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obraty tě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místě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navázání kontakt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zvedání, nošení a spouštění živého břeme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partner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á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Stře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avý stře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evý střeh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Úrove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podní střeh (od pásu dolů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dní střeh (v úrovni trup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rní střeh (v úrovni krku a hlavy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postoj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klek (na jednom, nebo na ob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lenech, případně ve vzporu, či podpor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lečmo – vysoký a nízký parte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sed (s oporou, nebo bez opory 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až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leh (za zádech, na boku a na břich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Biomechanické faktory sta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plochy opory (čím je plocha opory větší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ýška těžiště nad plochou opory (čím je těžiště níž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úhlu stability (polohou těžiště nad plochou opory, čím ostřejší je úhel stability, tím je poloha stabilnější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cho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vyšší polohy do niž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nižší polohy do vyš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paž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pohybové vzo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Navázání kontakt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šechny úd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pohybu těla s pohybem paž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noho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Kop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krok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0:54:38Z</dcterms:created>
  <dc:creator>Home</dc:creator>
  <dc:description/>
  <dc:language>en-US</dc:language>
  <cp:lastModifiedBy>Vit</cp:lastModifiedBy>
  <dcterms:modified xsi:type="dcterms:W3CDTF">2007-02-20T08:48:50Z</dcterms:modified>
  <cp:revision>7</cp:revision>
  <dc:subject/>
  <dc:title>Základní úpolová technika</dc:title>
</cp:coreProperties>
</file>