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BF2D-DB52-4262-A37E-C5B1E8EA5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BFE8-80E7-4E66-B911-97298D37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B8E5-5D9B-4434-BB15-CC575D68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F70C-637D-409D-B647-38564FBAA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8BA0-C181-4545-A0B2-B41B54C3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539B-A103-4718-A705-D1C18977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3FC7-692F-433B-A145-21D661E2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57A2-8B5A-435C-8AFF-0A449792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137E-59C9-465A-BB01-55B96D9C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B040-8B94-4058-84D4-4A679F4F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C53E-95E0-4DC6-AF9F-0B0C12CA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F3A4-F45C-4EA8-BD2D-5AAF57AE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D890-243E-49D3-9C81-356554D6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EE38-625A-4AB5-AE45-64F1D0D1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EB37-E78B-4929-88A7-293B6AA1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1589-2E14-421E-B018-30060A236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67F8-C738-4BCC-A3AC-1F5B9184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ABE5-7C5C-4FDF-AB09-E03C9222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F529-0331-4FBA-872B-4919D1D2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7032-337B-4DDC-B405-F2C1DD04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284B-22BD-452B-9CA3-B3C8AA9D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3EDF-500E-4DD0-A5D5-C4893F2B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3C7A-F16E-4F96-9A8A-FE22E301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706B-E243-4E8C-82C6-38838E29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7E7B-551C-451A-88B5-C66527B8C6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2871-8041-47EE-827C-E5DF7445EE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ff00"/>
                </a:solidFill>
                <a:latin typeface="Times New Roman"/>
              </a:rPr>
              <a:t>Úpolové sporty v Olympijském hnutí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Uznané IOC, ale nezařazené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World Karate Federation, WKF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Tug of War International Federation, TWI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Sumó Federation, IS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Wušu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Wushu Federa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, IWF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81280" y="1285920"/>
            <a:ext cx="53118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95480" y="1365120"/>
            <a:ext cx="686124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131840"/>
            <a:ext cx="7704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uš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168560"/>
            <a:ext cx="676944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Paralympijské úpolové spor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vozíčkářů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60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pro zrakově postižené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88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ympijské hnutí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zinárodní olympijský výbor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ční výbory olympijských 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árodní olympijs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ýb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zinárodní fed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rodní organ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u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ot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í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tovc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V programu O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Zápas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Box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190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96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aekwondo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2000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Úpolové sporty na novodobých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ympijských hrách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915840"/>
          <a:ext cx="7521840" cy="594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5840"/>
                    <a:ext cx="752184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Š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28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Záp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8200" y="1227240"/>
            <a:ext cx="79214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2360" y="1251000"/>
            <a:ext cx="561636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28560" y="1243080"/>
            <a:ext cx="79041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žúd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87400" y="1231920"/>
            <a:ext cx="71406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27:32Z</dcterms:created>
  <dc:creator>Home</dc:creator>
  <dc:description/>
  <dc:language>en-US</dc:language>
  <cp:lastModifiedBy>Vit</cp:lastModifiedBy>
  <dcterms:modified xsi:type="dcterms:W3CDTF">2007-02-20T08:58:53Z</dcterms:modified>
  <cp:revision>7</cp:revision>
  <dc:subject/>
  <dc:title>Úpolové sporty uznané IOC</dc:title>
</cp:coreProperties>
</file>