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0398-9D48-4C71-A706-6CFF36AEF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97E6-8C5B-4B21-8267-EEEB2F6CD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B703-1380-494B-9E9C-2E9771352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A655-AF2D-4FA7-BDDF-286645AE2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7E600-6F94-4B22-AC94-6EA1770F1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40E1C-88DB-4CF7-9DFE-2A2173D3A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14F98-FDD8-4A2B-A6D5-042742D19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AADD5-8488-4D39-9A92-487993879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96537-9631-44BB-B7B7-ADE0F8B20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F56E0-9447-469B-A0BA-868ECA51E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AD7F0-CECE-4BC2-8D50-C36BE1CB2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B593-9042-45D3-9162-F834B4CBF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DE9FF-0319-4B42-BA2D-43FE3E844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C842D-54F1-4CC6-8FD8-A2400C021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BCB27-D13F-46A0-B084-1EE2A10B4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78208-706A-497C-B35E-686B881D8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9A22F-C175-46E0-9CFB-3BED590BE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11B1-614E-4FEB-85A2-96A5427A8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807B-AF51-4EF2-8727-87E2292F9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E956-3654-498E-9E62-F136D1058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4E5F-D3FE-42C5-A76C-119303653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801D-84CE-4C70-8F47-C5BCD1934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F12D-8AB0-4179-9098-54DCC50D7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9710-2393-423D-B7F4-04016DA36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1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CEEC4-FA76-429D-841A-EEC09F6E51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52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9502E-5E63-4390-AA41-7EE677D442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120" y="20570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300" spc="-1" strike="noStrike">
                <a:solidFill>
                  <a:srgbClr val="ffcc66"/>
                </a:solidFill>
                <a:latin typeface="Times New Roman"/>
              </a:rPr>
              <a:t>Úpolové sporty na světových hrách</a:t>
            </a:r>
            <a:endParaRPr b="0" lang="en-US" sz="43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Formy úpolových sportů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880" y="1641240"/>
            <a:ext cx="838224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ividuální souboj dvou soupeřů s využitím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technik hodů, držení apod. v boji v postoji i na zemi (džůdó, zápas, sumó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technik úderů/kopů (box, karate (kumite), taekwondo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technik úderů/kopů a hodů, držení atd. (wušu (sanšou), džúdžucu (fighting systém)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technik se zbraněmi (šerm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kupinový souboj dvou družstev (přetahování lanem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kázky technik úpolového sportu se zbraněmi nebo beze zbraní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individuální (karate (kata), wušu (taolu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skupinové (aikidó, karate, wušu, džúdžucu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Původ úpolových sportů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98984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evropské (přetahování lanem, še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euroamerické (box, zápa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sijské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aponské (aikidó, džůdó, džůdžucu, karate, sumó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orejské (taekwondo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čínské (wušu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Světové hry – předsíň OH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aždé 4 roky, rok po OH (2005, Duisburg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ganizuje Mezinárodní sdružení světových her (International World Games Association, IWG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d patronátem Mezinárodního olympijského výboru (IOC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 současnosti 32 sport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Úpolové sporty v programu W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Aikidó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Džúdžuc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Kar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Přetahování lan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Sumó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Aikidó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477800" y="1546200"/>
            <a:ext cx="6046920" cy="51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Džúdžucu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700360" y="906480"/>
            <a:ext cx="3940200" cy="58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Karat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428920" y="1523880"/>
            <a:ext cx="3655800" cy="50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Přetahování lanem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826920" y="1521000"/>
            <a:ext cx="6948720" cy="50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Sumó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11280" y="1469880"/>
            <a:ext cx="791352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Percentuální podíl úpolových sportů na olympijských a světových hrách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457200" y="2438280"/>
          <a:ext cx="8077320" cy="2971800"/>
        </p:xfrm>
        <a:graphic>
          <a:graphicData uri="http://schemas.openxmlformats.org/drawingml/2006/table">
            <a:tbl>
              <a:tblPr/>
              <a:tblGrid>
                <a:gridCol w="2666880"/>
                <a:gridCol w="1981440"/>
                <a:gridCol w="1981080"/>
                <a:gridCol w="1447920"/>
              </a:tblGrid>
              <a:tr h="106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cc66"/>
                      </a:solidFill>
                    </a:lnR>
                    <a:lnT>
                      <a:noFill/>
                    </a:lnT>
                    <a:lnB w="1368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elke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portů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cc66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cc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Z toh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úpolovýc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cc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% podí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cc66"/>
                      </a:solidFill>
                    </a:lnR>
                    <a:lnT w="13680">
                      <a:solidFill>
                        <a:srgbClr val="ffcc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90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letní) Olympijské hr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cc66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cc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7,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cc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větové hr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cc66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cc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cc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1T22:42:32Z</dcterms:created>
  <dc:creator>Home</dc:creator>
  <dc:description/>
  <dc:language>en-US</dc:language>
  <cp:lastModifiedBy>Vit</cp:lastModifiedBy>
  <dcterms:modified xsi:type="dcterms:W3CDTF">2007-02-20T09:02:29Z</dcterms:modified>
  <cp:revision>5</cp:revision>
  <dc:subject/>
  <dc:title>Úpolové sporty na světových hrách</dc:title>
</cp:coreProperties>
</file>