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84E9-3784-4204-A778-90C96346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43C5-F4DF-4B3C-8CEF-42BC61DB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9B3F-9933-435D-98B4-E314A105F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A1A6-DAE7-451E-8B49-9293225A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F1B1-2C28-4B0B-BFEF-56C35BB89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BF6D-98F6-485F-BF6B-D9970B97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013D-EAFE-4481-B5ED-A91AB723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0E30-B70D-4EFB-9DE8-805F84E3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E755-5DB4-49F2-B8F5-1CCD93A5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F7E8-22BF-4CE3-BE4B-08C8D80B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0B2C-566D-409A-BF2A-16AF8308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7B8F-8614-42AB-A111-2098E8DC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CC82-8CD9-4659-A0CE-E1510A14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2056-6E7D-4DB9-B338-48F590E4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CDB9-EE0C-4C9C-8A59-0AC4BBC2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029E-2D81-4DE5-8C7D-E33FEBA3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F6A1-720F-4964-B9D2-7B422A052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B497-6E3D-4A19-ADFC-44202838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7871-7CEE-4D7A-B0FC-3C8F3346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16DB-E7AF-40C8-AA99-3F5671D4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5D1D-6CD9-4AD3-A1BF-7B9335E1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719B-D300-4FD5-B812-6600B48F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2AE9-8D02-4067-AB9B-7CE1F41D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F1CD-1B01-45E7-94D8-D62F0454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B250-3BA1-4D38-A286-855D59E307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E220-2B3C-409C-BD59-39F6973964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ff00"/>
                </a:solidFill>
                <a:latin typeface="Times New Roman"/>
              </a:rPr>
              <a:t>Úpolové sporty v Olympijském hnutí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Uznané IOC, ale nezařazené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World Karate Federation, WKF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Tug of War International Federation, TWI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Sumó Federation, IS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Wušu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Wushu Federa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, IWF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81280" y="1285920"/>
            <a:ext cx="53118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95480" y="1365120"/>
            <a:ext cx="686124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131840"/>
            <a:ext cx="7704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uš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168560"/>
            <a:ext cx="676944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Paralympijské úpolové spor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vozíčkářů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60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pro zrakově postižené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88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ympijské hnutí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zinárodní olympijský výbor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ční výbory olympijských 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árodní olympijs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ýb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zinárodní fed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rodní organ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u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ot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í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tovc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V programu O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Zápas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Box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190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96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aekwondo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2000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Úpolové sporty na novodobých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ympijských hrách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915840"/>
          <a:ext cx="7521840" cy="594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5840"/>
                    <a:ext cx="752184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Š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28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Záp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8200" y="1227240"/>
            <a:ext cx="79214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2360" y="1251000"/>
            <a:ext cx="561636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28560" y="1243080"/>
            <a:ext cx="79041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žúd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87400" y="1231920"/>
            <a:ext cx="71406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27:32Z</dcterms:created>
  <dc:creator>Home</dc:creator>
  <dc:description/>
  <dc:language>en-US</dc:language>
  <cp:lastModifiedBy>Vit</cp:lastModifiedBy>
  <dcterms:modified xsi:type="dcterms:W3CDTF">2007-02-20T08:58:53Z</dcterms:modified>
  <cp:revision>7</cp:revision>
  <dc:subject/>
  <dc:title>Úpolové sporty uznané IOC</dc:title>
</cp:coreProperties>
</file>