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6CAE-9DA1-48C0-8C9F-26CC72E9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D35F-E610-4758-BE6A-00B6799E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9308-7722-4332-BD4C-DFF97C4D5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5BB6-60AE-47F7-A4C2-EE033D94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3F64-245A-4EEB-945E-94A05C4DB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8BB7-8001-4C47-866A-6602F372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AD1B-8DD0-448F-BFB6-1B61E946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F8BC-15B6-4F20-992E-7DF37D2E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0920-591A-4B68-BEA5-F920F403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51D4-0AE1-4CD4-A393-24BB51DD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5A7C-7270-4634-B593-A57D74E7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D53C-8BB9-430D-93DB-0CBA8B2D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3044-091A-4C9C-B9BA-2E8C7518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78A9-342A-4E7D-A023-9E8EAC6B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CBDF-1A2F-4D1C-9606-5FC17FF1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6EDD-AE85-4E14-A502-862288B2E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A7D9-5D56-4FE6-9899-A0CB0DD8C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B65C-15B5-48CC-BDAF-F0970A22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D97D-33EF-4534-B84A-C3586C0D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159D-E40D-4468-9B79-587B4190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FA5B-4274-4B31-B52D-8A9AD00F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E48C-A0D4-4E96-83C0-79A99A9F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379C-4692-4807-816F-F5FB46A6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79F0-BBF9-4A66-826D-D9AAE017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387F-A8BF-418F-924B-5EBA92144D46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7876-BCCB-4D6B-B522-4B544FEE74B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ty tě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tace kolem podélné osy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s pohyby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yužití – úhyby, přemístění, hody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 vztahu k partnerovi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 partnerov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ím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obrate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místění skokem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ískoky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dskok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Chů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kročení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unem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Pohyb začíná noh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imalizování vertikálního pohybu těžišt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ustálý kontakt s podložk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ednota pohybu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ntakt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or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l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u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avou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působ kontaktu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tyk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cho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bjetí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vedání, nošení a spouštění živého břem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ěžiště obou cvičenců 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í být co nejblíž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emeno zvedáme silou z pokrčených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áda jsou narovnan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chování stabilit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směru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pře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za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ranou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mbinova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otočení kolem příčné osy těl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převra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převratu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způsobu tlumení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zaražen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e zaražení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letové fá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letové fáz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letovou fází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úrovně ve které pád začíná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 postoj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e snížených poloh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rovádějícího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chtě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íle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artner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loh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chody (mezi poloham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paž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noh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obraty tě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místě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navázání kontakt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zvedání, nošení a spouštění živého břeme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partner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á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Stře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avý stře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evý střeh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Úrove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podní střeh (od pásu dolů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dní střeh (v úrovni trup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rní střeh (v úrovni krku a hlavy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postoj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klek (na jednom, nebo na ob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lenech, případně ve vzporu, či podpor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lečmo – vysoký a nízký parte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sed (s oporou, nebo bez opory 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až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leh (za zádech, na boku a na břich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Biomechanické faktory sta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plochy opory (čím je plocha opory větší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ýška těžiště nad plochou opory (čím je těžiště níž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úhlu stability (polohou těžiště nad plochou opory, čím ostřejší je úhel stability, tím je poloha stabilnější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cho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vyšší polohy do niž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nižší polohy do vyš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paž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pohybové vzo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Navázání kontakt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šechny úd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pohybu těla s pohybem paž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noho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Kop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krok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0:54:38Z</dcterms:created>
  <dc:creator>Home</dc:creator>
  <dc:description/>
  <dc:language>en-US</dc:language>
  <cp:lastModifiedBy>Vit</cp:lastModifiedBy>
  <dcterms:modified xsi:type="dcterms:W3CDTF">2007-02-20T08:48:50Z</dcterms:modified>
  <cp:revision>7</cp:revision>
  <dc:subject/>
  <dc:title>Základní úpolová technika</dc:title>
</cp:coreProperties>
</file>