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AAD4-2B18-4287-B24D-084185E89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55F1-B315-4135-9683-D15A271B5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16A1-4C3A-4CC0-8433-2765C2471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AF9C-C7BE-4CFF-9733-19E10E904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7CF3A-FF8F-4838-9774-2537DF62D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19639-8A24-457B-B66F-84250C8E1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0D705-8817-43A4-A276-D25F121BD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874FB-2654-4827-9BE3-A1055743B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744ED-F445-4CA7-A64C-BA71AABDF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218E7-F4A8-46F7-A43A-348AC64B6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BBADF-842D-41D8-9A7F-DF1BF6C3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8ED9-8A6E-4062-ABEA-75C30EA89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0058F-C7FD-47EB-88F5-075425736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8EFAD-C7A6-4B30-BB07-1184CDF56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CB72C-1716-4E27-A7B6-1581DDB76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06C73-6288-4901-BBCA-03EE005DB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407CE-6CC9-42C1-8EA8-290E75D86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D7BA-D41D-4744-86F8-D9B5CD65D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6F4A-F177-4C3A-B247-B0101E9A4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B04E-83F0-4340-879F-1F9299850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CFA8-1B5D-412F-B8A4-54C5CCBBB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3B7F-98B0-476D-9A88-4018C836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E094-02D9-4923-A8ED-5F8ED143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EA12-B6B0-4DF0-B2AA-0468597F3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BA4ED-0D53-4C7A-B9B9-C52C8F60A2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321D9-9E9B-4CD5-8D2D-4E534290E9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6600" spc="-1" strike="noStrike">
                <a:solidFill>
                  <a:srgbClr val="ccffff"/>
                </a:solidFill>
                <a:latin typeface="Tahoma"/>
              </a:rPr>
              <a:t>Determinanty didaktiky úpolů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Obecné determinant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Fylogeneze lidst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Ontogeneze pohyb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Sociální fak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sychologické fak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Fylogeneze lidstv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Úpoly byly na počátku existence člově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Úpolové aktivity člověka doprovázely v kritických obdobích vývo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Zachovaly se archetypy hrdinů – jsou často spojeny s úpolovými aktivitam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Kontaktní překonání člověka je hluboko v podvědomí, je součástí vnitřní výbavy zdravého jednotliv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Ontogeneze pohybu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otyk je prvním komunikačním prostředkem dítě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ěti spontánně jednají úpolově – v kontaktu (nemají jiné prostředky aktivní obran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Spontánní aktivity dětí v různých obdobích pohybového vývoje zahrnují úpolové ak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ro didaktiku úpolů je kritické období 8 – 9 let, dítě začíná chápat vztah mezi příčinou a důsledk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Sociální faktor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Úpoly nelze (dlouhodobě) provádět osamot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Budují se sociální vazby (silněji v bojových uměních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Cvičenci úpolových sportů působí na společnost a opačn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Cvičení úpolů musí být spojeno s přísným dodržováním spoločenských norem (etiket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Psychologické faktor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Ztráta vědomé sebekontroly po dobu cvič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ráce s fyzickou (totální) porážkou, nebo vítězstv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ráce s bolest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Agresivita ano, ale konstruktivní (benigní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2T19:05:35Z</dcterms:created>
  <dc:creator>Home</dc:creator>
  <dc:description/>
  <dc:language>en-US</dc:language>
  <cp:lastModifiedBy>Vit</cp:lastModifiedBy>
  <dcterms:modified xsi:type="dcterms:W3CDTF">2007-02-20T09:06:03Z</dcterms:modified>
  <cp:revision>4</cp:revision>
  <dc:subject/>
  <dc:title>Determinanty didaktiky úpolů</dc:title>
</cp:coreProperties>
</file>