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4673-93C1-44C1-A0E5-27471F744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3A25-8E96-4A34-91DB-D82127A00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DFF6-B44E-41FF-A1D9-98896E2F4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7217-71EE-4169-B0B2-18E3D404E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1A261-DB76-4E99-9DEC-90BB384CE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9CCDA-4509-4BFC-95E6-880EEB31E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91353-C31C-4870-A8FF-2FE925642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99183-5BE1-4F1D-A6F6-98D9A018A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BB6BE-A387-4201-B550-8065EAB96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F420B-A7DA-45C8-AE0E-83A745EF6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11072-BDE8-4A94-A9DC-67C9CB542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ABA4-0127-4A56-9410-97F3FD29F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9BF38-2A48-4BCB-B140-71D2B1EC4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77952-CE21-4B4B-94FB-046B69749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AF774-8630-4FD1-A482-FF400F3EB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89348-EA6F-47B8-8679-3A435743D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44D08-01D6-47F7-889B-7CBC9A319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33DD-CE99-4E89-9CE7-AC6041885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1BFB-888A-4486-AB41-CF776840A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9C52-98CE-4163-99FD-DB683865F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A2A4-F92E-4F93-8835-CAAE602C5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6596-445D-421E-9F31-B86E802E8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CCC5-24A6-4F17-B540-DEF0ECCA5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3053-4F6E-47D5-A988-89A7231F2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1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0F998-8EF1-4706-901F-E97BDE6C74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52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B32C6-ED81-4B6D-85CD-5CD182DBA8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120" y="20570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300" spc="-1" strike="noStrike">
                <a:solidFill>
                  <a:srgbClr val="ffcc66"/>
                </a:solidFill>
                <a:latin typeface="Times New Roman"/>
              </a:rPr>
              <a:t>Úpolové sporty na světových hrách</a:t>
            </a:r>
            <a:endParaRPr b="0" lang="en-US" sz="43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Formy úpolových sportů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880" y="1641240"/>
            <a:ext cx="838224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ividuální souboj dvou soupeřů s využitím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technik hodů, držení apod. v boji v postoji i na zemi (džůdó, zápas, sumó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technik úderů/kopů (box, karate (kumite), taekwondo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technik úderů/kopů a hodů, držení atd. (wušu (sanšou), džúdžucu (fighting systém)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technik se zbraněmi (šerm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kupinový souboj dvou družstev (přetahování lanem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kázky technik úpolového sportu se zbraněmi nebo beze zbraní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individuální (karate (kata), wušu (taolu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skupinové (aikidó, karate, wušu, džúdžucu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Původ úpolových sportů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98984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evropské (přetahování lanem, še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euroamerické (box, zápa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sijské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aponské (aikidó, džůdó, džůdžucu, karate, sumó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orejské (taekwondo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čínské (wušu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Světové hry – předsíň OH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aždé 4 roky, rok po OH (2005, Duisburg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ganizuje Mezinárodní sdružení světových her (International World Games Association, IWG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d patronátem Mezinárodního olympijského výboru (IOC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 současnosti 32 sport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Úpolové sporty v programu W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Aikidó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Džúdžuc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Kar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Přetahování lan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Sumó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Aikidó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477800" y="1546200"/>
            <a:ext cx="6046920" cy="51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Džúdžucu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700360" y="906480"/>
            <a:ext cx="3940200" cy="58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Karat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428920" y="1523880"/>
            <a:ext cx="3655800" cy="50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Přetahování lanem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826920" y="1521000"/>
            <a:ext cx="6948720" cy="50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Sumó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11280" y="1469880"/>
            <a:ext cx="791352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Percentuální podíl úpolových sportů na olympijských a světových hrách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457200" y="2438280"/>
          <a:ext cx="8077320" cy="2971800"/>
        </p:xfrm>
        <a:graphic>
          <a:graphicData uri="http://schemas.openxmlformats.org/drawingml/2006/table">
            <a:tbl>
              <a:tblPr/>
              <a:tblGrid>
                <a:gridCol w="2666880"/>
                <a:gridCol w="1981440"/>
                <a:gridCol w="1981080"/>
                <a:gridCol w="1447920"/>
              </a:tblGrid>
              <a:tr h="106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cc66"/>
                      </a:solidFill>
                    </a:lnR>
                    <a:lnT>
                      <a:noFill/>
                    </a:lnT>
                    <a:lnB w="1368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elke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portů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cc66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cc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Z toh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úpolovýc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cc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% podí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cc66"/>
                      </a:solidFill>
                    </a:lnR>
                    <a:lnT w="13680">
                      <a:solidFill>
                        <a:srgbClr val="ffcc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90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letní) Olympijské hr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cc66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cc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7,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cc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větové hr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cc66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cc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cc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1T22:42:32Z</dcterms:created>
  <dc:creator>Home</dc:creator>
  <dc:description/>
  <dc:language>en-US</dc:language>
  <cp:lastModifiedBy>Vit</cp:lastModifiedBy>
  <dcterms:modified xsi:type="dcterms:W3CDTF">2007-02-20T09:02:29Z</dcterms:modified>
  <cp:revision>5</cp:revision>
  <dc:subject/>
  <dc:title>Úpolové sporty na světových hrách</dc:title>
</cp:coreProperties>
</file>