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3F15-6A46-4437-9EB8-87121BDC9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B100-52C2-40B3-82D0-71C3570B8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6977-ED28-4811-A117-416C8134B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D0E6-5097-452F-975A-CEF678414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541A3-27D5-46DB-B799-416B8B535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64749-CB2B-4432-B648-6B8D350F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39126-C8BA-49EA-82C6-4F7A8857D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1587C-0548-4BE7-AD0B-BC95FD43E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C8E80-A4F4-4D30-A230-3C1E07C36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82A6-A936-43D1-902D-414910DE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9EB9-DA94-42BC-82C5-B8B8CBBA0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95194-6F70-472D-A3C5-3C8386A3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249E2-8D5E-46EE-83C2-DD50E29F3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7FB22-3395-453B-B0CF-152B5BC0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AFDF-3276-4D69-827A-B6E47F59E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3C91-EE74-4065-B9A1-259B110CC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D689-627D-4297-B8B9-6CDC38393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917F-1505-459C-8BD1-970298CDA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E0BE-D75C-49D7-AB08-5A237C951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B3A7-413A-45E6-B0A9-E19FBD3E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1EC3-527F-449F-8CD5-4736F39D8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8A38-0A51-4580-B5CF-D684F40CA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0168-CDC9-4DEE-95ED-D513267FC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0F70-92C1-442F-B5C1-61A5CC54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B5846-D0B8-4450-BFEB-3B83C85397CA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C22D1-32DF-4A4C-B7D4-251B433F7F93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našich územích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2. Světová vál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zájmové čin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úpolových sportů – nástroj propagan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Osobnosti v perzekuci/v bojích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ocialistický spor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ýrazná orientace na soutěž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pagace režimu, boj mezi kapitalizmem a socializm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Centralizace sportu (Národní front – ČSST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mláde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Podpora vrcholového spor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Oddíly a jejich členové 1957-197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685800" y="2209680"/>
            <a:ext cx="7225920" cy="4572000"/>
            <a:chOff x="685800" y="2209680"/>
            <a:chExt cx="7225920" cy="4572000"/>
          </a:xfrm>
        </p:grpSpPr>
        <p:grpSp>
          <p:nvGrpSpPr>
            <p:cNvPr id="146" name=""/>
            <p:cNvGrpSpPr/>
            <p:nvPr/>
          </p:nvGrpSpPr>
          <p:grpSpPr>
            <a:xfrm>
              <a:off x="690840" y="2212920"/>
              <a:ext cx="7215120" cy="4564440"/>
              <a:chOff x="690840" y="2212920"/>
              <a:chExt cx="7215120" cy="4564440"/>
            </a:xfrm>
          </p:grpSpPr>
          <p:grpSp>
            <p:nvGrpSpPr>
              <p:cNvPr id="147" name=""/>
              <p:cNvGrpSpPr/>
              <p:nvPr/>
            </p:nvGrpSpPr>
            <p:grpSpPr>
              <a:xfrm>
                <a:off x="690840" y="2212920"/>
                <a:ext cx="1651320" cy="639000"/>
                <a:chOff x="690840" y="2212920"/>
                <a:chExt cx="1651320" cy="63900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764640" y="2212920"/>
                  <a:ext cx="150408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Rok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</a:rPr>
                    <a:t>S</a:t>
                  </a: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port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90840" y="2212920"/>
                  <a:ext cx="165132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2342520" y="2212920"/>
                <a:ext cx="926640" cy="639000"/>
                <a:chOff x="2342520" y="2212920"/>
                <a:chExt cx="926640" cy="63900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241632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234252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69880" y="2212920"/>
                <a:ext cx="927000" cy="639000"/>
                <a:chOff x="3269880" y="2212920"/>
                <a:chExt cx="927000" cy="6390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368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6988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197240" y="2212920"/>
                <a:ext cx="926640" cy="639000"/>
                <a:chOff x="4197240" y="2212920"/>
                <a:chExt cx="926640" cy="63900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27068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724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5124600" y="2212920"/>
                <a:ext cx="926640" cy="639000"/>
                <a:chOff x="5124600" y="2212920"/>
                <a:chExt cx="926640" cy="639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198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124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6051600" y="2212920"/>
                <a:ext cx="926640" cy="639000"/>
                <a:chOff x="6051600" y="2212920"/>
                <a:chExt cx="926640" cy="63900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6125400" y="2212920"/>
                  <a:ext cx="77940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6051600" y="2212920"/>
                  <a:ext cx="92664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6978960" y="2212920"/>
                <a:ext cx="927000" cy="639000"/>
                <a:chOff x="6978960" y="2212920"/>
                <a:chExt cx="927000" cy="63900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7052760" y="2212920"/>
                  <a:ext cx="779040" cy="63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7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6978960" y="2212920"/>
                  <a:ext cx="927000" cy="639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690840" y="2851920"/>
                <a:ext cx="1651320" cy="981360"/>
                <a:chOff x="690840" y="2851920"/>
                <a:chExt cx="1651320" cy="981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764640" y="285192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Box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690840" y="285192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342520" y="2851920"/>
                <a:ext cx="926640" cy="490680"/>
                <a:chOff x="2342520" y="2851920"/>
                <a:chExt cx="926640" cy="4906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41632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34252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69880" y="2851920"/>
                <a:ext cx="927000" cy="490680"/>
                <a:chOff x="3269880" y="2851920"/>
                <a:chExt cx="927000" cy="4906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34368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6988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4197240" y="2851920"/>
                <a:ext cx="926640" cy="490680"/>
                <a:chOff x="4197240" y="2851920"/>
                <a:chExt cx="926640" cy="490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427068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9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19724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5124600" y="2851920"/>
                <a:ext cx="926640" cy="490680"/>
                <a:chOff x="5124600" y="2851920"/>
                <a:chExt cx="926640" cy="490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5198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5124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6051600" y="2851920"/>
                <a:ext cx="926640" cy="490680"/>
                <a:chOff x="6051600" y="2851920"/>
                <a:chExt cx="926640" cy="490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125400" y="285192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051600" y="285192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978960" y="2851920"/>
                <a:ext cx="927000" cy="490680"/>
                <a:chOff x="6978960" y="2851920"/>
                <a:chExt cx="927000" cy="490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7052760" y="285192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978960" y="285192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2342520" y="3342960"/>
                <a:ext cx="926640" cy="490320"/>
                <a:chOff x="2342520" y="3342960"/>
                <a:chExt cx="926640" cy="4903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241632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7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234252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3269880" y="3342960"/>
                <a:ext cx="927000" cy="490320"/>
                <a:chOff x="3269880" y="3342960"/>
                <a:chExt cx="927000" cy="4903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334368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5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326988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4197240" y="3342960"/>
                <a:ext cx="926640" cy="490320"/>
                <a:chOff x="4197240" y="3342960"/>
                <a:chExt cx="926640" cy="4903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427068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8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19724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5124600" y="3342960"/>
                <a:ext cx="926640" cy="490320"/>
                <a:chOff x="5124600" y="3342960"/>
                <a:chExt cx="926640" cy="4903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98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6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124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051600" y="3342960"/>
                <a:ext cx="926640" cy="490320"/>
                <a:chOff x="6051600" y="3342960"/>
                <a:chExt cx="926640" cy="4903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125400" y="3342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83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51600" y="3342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978960" y="3342960"/>
                <a:ext cx="927000" cy="490320"/>
                <a:chOff x="6978960" y="3342960"/>
                <a:chExt cx="927000" cy="4903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7052760" y="3342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978960" y="3342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90840" y="3833280"/>
                <a:ext cx="1651320" cy="981000"/>
                <a:chOff x="690840" y="3833280"/>
                <a:chExt cx="1651320" cy="98100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764640" y="383328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Džúdó a karate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690840" y="383328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2342520" y="3833280"/>
                <a:ext cx="926640" cy="490320"/>
                <a:chOff x="2342520" y="3833280"/>
                <a:chExt cx="926640" cy="4903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241632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234252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269880" y="3833280"/>
                <a:ext cx="927000" cy="490320"/>
                <a:chOff x="3269880" y="3833280"/>
                <a:chExt cx="927000" cy="490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34368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26988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4197240" y="3833280"/>
                <a:ext cx="926640" cy="490320"/>
                <a:chOff x="4197240" y="3833280"/>
                <a:chExt cx="926640" cy="490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427068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419724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5124600" y="3833280"/>
                <a:ext cx="926640" cy="490320"/>
                <a:chOff x="5124600" y="3833280"/>
                <a:chExt cx="926640" cy="490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198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124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051600" y="3833280"/>
                <a:ext cx="926640" cy="490320"/>
                <a:chOff x="6051600" y="3833280"/>
                <a:chExt cx="926640" cy="490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125400" y="38332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051600" y="38332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6978960" y="3833280"/>
                <a:ext cx="927000" cy="490320"/>
                <a:chOff x="6978960" y="3833280"/>
                <a:chExt cx="927000" cy="4903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7052760" y="38332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3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978960" y="38332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342520" y="4323960"/>
                <a:ext cx="926640" cy="490320"/>
                <a:chOff x="2342520" y="4323960"/>
                <a:chExt cx="926640" cy="4903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41632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5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34252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69880" y="4323960"/>
                <a:ext cx="927000" cy="490320"/>
                <a:chOff x="3269880" y="4323960"/>
                <a:chExt cx="927000" cy="4903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368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15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6988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197240" y="4323960"/>
                <a:ext cx="926640" cy="490320"/>
                <a:chOff x="4197240" y="4323960"/>
                <a:chExt cx="926640" cy="49032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27068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0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19724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5124600" y="4323960"/>
                <a:ext cx="926640" cy="490320"/>
                <a:chOff x="5124600" y="4323960"/>
                <a:chExt cx="926640" cy="49032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198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96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124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051600" y="4323960"/>
                <a:ext cx="926640" cy="490320"/>
                <a:chOff x="6051600" y="4323960"/>
                <a:chExt cx="926640" cy="49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125400" y="43239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9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51600" y="43239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978960" y="4323960"/>
                <a:ext cx="927000" cy="490320"/>
                <a:chOff x="6978960" y="4323960"/>
                <a:chExt cx="927000" cy="49032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7052760" y="43239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53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6978960" y="43239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90840" y="4814640"/>
                <a:ext cx="1651320" cy="981360"/>
                <a:chOff x="690840" y="4814640"/>
                <a:chExt cx="1651320" cy="9813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764640" y="4814640"/>
                  <a:ext cx="1504080" cy="98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Šerm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90840" y="4814640"/>
                  <a:ext cx="1651320" cy="9813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2342520" y="4814640"/>
                <a:ext cx="926640" cy="490680"/>
                <a:chOff x="2342520" y="4814640"/>
                <a:chExt cx="926640" cy="4906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241632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34252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3269880" y="4814640"/>
                <a:ext cx="927000" cy="490680"/>
                <a:chOff x="3269880" y="4814640"/>
                <a:chExt cx="927000" cy="4906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334368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326988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197240" y="4814640"/>
                <a:ext cx="926640" cy="490680"/>
                <a:chOff x="4197240" y="4814640"/>
                <a:chExt cx="926640" cy="4906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27068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19724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5124600" y="4814640"/>
                <a:ext cx="926640" cy="490680"/>
                <a:chOff x="5124600" y="4814640"/>
                <a:chExt cx="926640" cy="4906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5198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6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5124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6051600" y="4814640"/>
                <a:ext cx="926640" cy="490680"/>
                <a:chOff x="6051600" y="4814640"/>
                <a:chExt cx="926640" cy="4906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6125400" y="4814640"/>
                  <a:ext cx="77940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7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51600" y="4814640"/>
                  <a:ext cx="92664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78960" y="4814640"/>
                <a:ext cx="927000" cy="490680"/>
                <a:chOff x="6978960" y="4814640"/>
                <a:chExt cx="927000" cy="4906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52760" y="4814640"/>
                  <a:ext cx="779040" cy="49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78960" y="4814640"/>
                  <a:ext cx="927000" cy="49068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2342520" y="5305680"/>
                <a:ext cx="926640" cy="490320"/>
                <a:chOff x="2342520" y="5305680"/>
                <a:chExt cx="926640" cy="4903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241632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8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234252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3269880" y="5305680"/>
                <a:ext cx="927000" cy="490320"/>
                <a:chOff x="3269880" y="5305680"/>
                <a:chExt cx="927000" cy="4903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34368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60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326988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197240" y="5305680"/>
                <a:ext cx="926640" cy="490320"/>
                <a:chOff x="4197240" y="5305680"/>
                <a:chExt cx="926640" cy="49032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27068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7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19724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5124600" y="5305680"/>
                <a:ext cx="926640" cy="490320"/>
                <a:chOff x="5124600" y="5305680"/>
                <a:chExt cx="926640" cy="49032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5198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10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5124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6051600" y="5305680"/>
                <a:ext cx="926640" cy="490320"/>
                <a:chOff x="6051600" y="5305680"/>
                <a:chExt cx="926640" cy="49032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6125400" y="530568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985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51600" y="530568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78960" y="5305680"/>
                <a:ext cx="927000" cy="490320"/>
                <a:chOff x="6978960" y="5305680"/>
                <a:chExt cx="927000" cy="49032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7052760" y="530568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2002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78960" y="530568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690840" y="5796360"/>
                <a:ext cx="1651320" cy="981000"/>
                <a:chOff x="690840" y="5796360"/>
                <a:chExt cx="1651320" cy="98100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764640" y="5796360"/>
                  <a:ext cx="1504080" cy="98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Zápas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90840" y="5796360"/>
                  <a:ext cx="1651320" cy="9810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342520" y="5796360"/>
                <a:ext cx="926640" cy="490320"/>
                <a:chOff x="2342520" y="5796360"/>
                <a:chExt cx="926640" cy="490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41632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34252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69880" y="5796360"/>
                <a:ext cx="927000" cy="490320"/>
                <a:chOff x="3269880" y="5796360"/>
                <a:chExt cx="927000" cy="490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368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1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6988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197240" y="5796360"/>
                <a:ext cx="926640" cy="490320"/>
                <a:chOff x="4197240" y="5796360"/>
                <a:chExt cx="926640" cy="490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27068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03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19724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5124600" y="5796360"/>
                <a:ext cx="926640" cy="490320"/>
                <a:chOff x="5124600" y="5796360"/>
                <a:chExt cx="926640" cy="49032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198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5124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6051600" y="5796360"/>
                <a:ext cx="926640" cy="490320"/>
                <a:chOff x="6051600" y="5796360"/>
                <a:chExt cx="926640" cy="49032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6125400" y="579636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7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051600" y="579636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6978960" y="5796360"/>
                <a:ext cx="927000" cy="490320"/>
                <a:chOff x="6978960" y="5796360"/>
                <a:chExt cx="927000" cy="49032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7052760" y="579636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81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978960" y="579636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2342520" y="6287040"/>
                <a:ext cx="926640" cy="490320"/>
                <a:chOff x="2342520" y="6287040"/>
                <a:chExt cx="926640" cy="49032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241632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185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234252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269880" y="6287040"/>
                <a:ext cx="927000" cy="490320"/>
                <a:chOff x="3269880" y="6287040"/>
                <a:chExt cx="927000" cy="49032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34368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068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26988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4197240" y="6287040"/>
                <a:ext cx="926640" cy="490320"/>
                <a:chOff x="4197240" y="6287040"/>
                <a:chExt cx="926640" cy="49032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427068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428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419724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5124600" y="6287040"/>
                <a:ext cx="926640" cy="490320"/>
                <a:chOff x="5124600" y="6287040"/>
                <a:chExt cx="926640" cy="49032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198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449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24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6051600" y="6287040"/>
                <a:ext cx="926640" cy="490320"/>
                <a:chOff x="6051600" y="6287040"/>
                <a:chExt cx="926640" cy="49032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6125400" y="6287040"/>
                  <a:ext cx="77940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3914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6051600" y="6287040"/>
                  <a:ext cx="92664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6978960" y="6287040"/>
                <a:ext cx="927000" cy="490320"/>
                <a:chOff x="6978960" y="6287040"/>
                <a:chExt cx="927000" cy="49032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7052760" y="6287040"/>
                  <a:ext cx="779040" cy="490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sk-SK" sz="1800" spc="-1" strike="noStrike">
                      <a:solidFill>
                        <a:srgbClr val="ffffcc"/>
                      </a:solidFill>
                      <a:latin typeface="Times New Roman"/>
                      <a:ea typeface="Times New Roman"/>
                    </a:rPr>
                    <a:t>5096</a:t>
                  </a: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6978960" y="6287040"/>
                  <a:ext cx="927000" cy="4903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4" name=""/>
            <p:cNvSpPr/>
            <p:nvPr/>
          </p:nvSpPr>
          <p:spPr>
            <a:xfrm>
              <a:off x="685800" y="2209680"/>
              <a:ext cx="7225920" cy="457200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 roce 198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nížená podpora stát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Vícezdrojové financov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nových úpolových sport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ecentralizace sportovního hnut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aří Slované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5. – 6. stol.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Různé samostatné r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Neměli stálé vojsko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Upřednostňování partyzánského vedení válk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Středověk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Úpolové činnosti v rytířské kultuř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Měšťanská kultur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I úpolové h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Vztah ke každodennímu životu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ostupná institucionaliza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659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založena Královská česká zemská stavovská šermír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ěstské šermírn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etkávání různých společenských skupin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výchovné ústavy v Česk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30 byl Hirschův ústav v Praz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3 Steffanyho (později přejmenován na Stegmayerův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5 Segen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8 Schmidtův-Malypetrův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1862 - Soko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Úpoly na Slovenskom území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2 I. T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locvičný ústav pr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Prešovské kol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gi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44 šermířská a tělocvičná škola F. Martineng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1873 I. B. Zocha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Krátk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i="1" lang="sk-SK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návod k vyučovaniu telocviku hlavne pre školy národni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Tělocvičná soustava Sokolská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24000" y="2060280"/>
            <a:ext cx="82087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vičení bez nářadí a bez pomoci nebo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     odporu jiných cvičenců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. Cvičení nářaďová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III. Cvičení se skupině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IV. 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Úpoly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Rozvoj sportu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Šer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pas a box (přelom 19. – 20. stol.) – těžká atle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Amatéř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rofesionálové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Džúdžucu (1910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sk-SK" sz="4400" spc="-1" strike="noStrike">
                <a:solidFill>
                  <a:srgbClr val="ffffcc"/>
                </a:solidFill>
                <a:latin typeface="Times New Roman"/>
              </a:rPr>
              <a:t>První Československá republika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Rozvoj úpolů, stejně jako všeho v nové republ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Times New Roman"/>
              </a:rPr>
              <a:t>Zákon o branné výchově 1. 7. 1937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Podpora tělovýchovných aktiv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Zvýšený zájem o úpolové činnost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Times New Roman"/>
              </a:rPr>
              <a:t>Spojení s branností a vlastenectví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3:40:49Z</dcterms:created>
  <dc:creator>Home</dc:creator>
  <dc:description/>
  <dc:language>en-US</dc:language>
  <cp:lastModifiedBy>Vit</cp:lastModifiedBy>
  <dcterms:modified xsi:type="dcterms:W3CDTF">2007-02-20T09:35:00Z</dcterms:modified>
  <cp:revision>5</cp:revision>
  <dc:subject/>
  <dc:title>Úpoly na našich územích</dc:title>
</cp:coreProperties>
</file>