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DBF6A-7B13-4C29-BEB8-E49E59BD1B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B6369-236F-4D51-B110-1F9177C76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021AB-7A70-4250-BE44-10F22CB64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89D64-1F54-4345-ABE9-1D1690A5C48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FF085-3F7F-4295-ABFB-689002DF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48912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762160" y="198072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2157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48912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762160" y="4030560"/>
            <a:ext cx="2164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B7EF2-799E-4748-83EC-38B6C2B5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568F52-8054-45DA-8464-01751882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E7BB-0340-4553-9219-16233915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914400" y="1204200"/>
            <a:ext cx="7315200" cy="23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A001A-D0A1-4789-8842-D1FD2A46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D58F6-1CF8-42A2-AED3-FE417D05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0920" y="403056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BC768-24FF-49F4-A0EC-814B4BCF0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0920" y="1980720"/>
            <a:ext cx="328068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215720" y="4030560"/>
            <a:ext cx="6723000" cy="18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C5B61-6AC8-4355-9520-AF066FB88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04292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244440" y="281160"/>
            <a:ext cx="8439120" cy="838332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14340000">
            <a:off x="2196720" y="819000"/>
            <a:ext cx="139680" cy="187200"/>
          </a:xfrm>
          <a:prstGeom prst="triangle">
            <a:avLst>
              <a:gd name="adj" fmla="val 49995"/>
            </a:avLst>
          </a:prstGeom>
          <a:solidFill>
            <a:srgbClr val="ffcc66"/>
          </a:solidFill>
          <a:ln cap="sq"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 flipH="1">
            <a:off x="-360" y="1052640"/>
            <a:ext cx="819000" cy="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20800" y="1041480"/>
            <a:ext cx="0" cy="55548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14320" y="1582560"/>
            <a:ext cx="5545080" cy="25560"/>
          </a:xfrm>
          <a:prstGeom prst="rect">
            <a:avLst/>
          </a:prstGeom>
          <a:gradFill rotWithShape="0">
            <a:gsLst>
              <a:gs pos="0">
                <a:srgbClr val="9933ff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-119160" y="6191280"/>
            <a:ext cx="9263160" cy="965160"/>
          </a:xfrm>
          <a:custGeom>
            <a:avLst/>
            <a:gdLst/>
            <a:ahLst/>
            <a:rect l="l" t="t" r="r" b="b"/>
            <a:pathLst>
              <a:path w="5835" h="608">
                <a:moveTo>
                  <a:pt x="0" y="241"/>
                </a:moveTo>
                <a:lnTo>
                  <a:pt x="3861" y="241"/>
                </a:lnTo>
                <a:lnTo>
                  <a:pt x="3861" y="202"/>
                </a:lnTo>
                <a:lnTo>
                  <a:pt x="3861" y="174"/>
                </a:lnTo>
                <a:lnTo>
                  <a:pt x="3861" y="145"/>
                </a:lnTo>
                <a:lnTo>
                  <a:pt x="3859" y="0"/>
                </a:lnTo>
                <a:lnTo>
                  <a:pt x="5834" y="0"/>
                </a:lnTo>
                <a:lnTo>
                  <a:pt x="5834" y="607"/>
                </a:lnTo>
                <a:lnTo>
                  <a:pt x="0" y="607"/>
                </a:lnTo>
                <a:lnTo>
                  <a:pt x="0" y="241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376440" y="6576840"/>
            <a:ext cx="26226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008760" y="6178680"/>
            <a:ext cx="15588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6008760" y="6191280"/>
            <a:ext cx="0" cy="388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5720" y="281160"/>
            <a:ext cx="847656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400" y="1447"/>
                </a:moveTo>
                <a:arcTo wR="10800" hR="10800" stAng="-7200000" swAng="11040000"/>
                <a:lnTo>
                  <a:pt x="10800" y="10800"/>
                </a:lnTo>
                <a:close/>
              </a:path>
              <a:path fill="none" w="21600" h="21600">
                <a:moveTo>
                  <a:pt x="5400" y="1447"/>
                </a:moveTo>
                <a:arcTo wR="10800" hR="10800" stAng="-7200000" swAng="1104000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body"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1400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80000"/>
              </a:lnSpc>
              <a:spcBef>
                <a:spcPts val="1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-6480" y="6526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8B223-4701-44D7-B948-F577907B71F2}" type="datetime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7154640" y="6526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lvl="4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D16C-1A0C-4098-85AC-A916EE2916D7}" type="slidenum">
              <a:rPr b="0" lang="en-US" sz="12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014480"/>
            <a:ext cx="1649520" cy="5629320"/>
          </a:xfrm>
          <a:custGeom>
            <a:avLst/>
            <a:gdLst/>
            <a:ahLst/>
            <a:rect l="l" t="t" r="r" b="b"/>
            <a:pathLst>
              <a:path w="1039" h="3546">
                <a:moveTo>
                  <a:pt x="0" y="0"/>
                </a:moveTo>
                <a:lnTo>
                  <a:pt x="528" y="0"/>
                </a:lnTo>
                <a:lnTo>
                  <a:pt x="510" y="0"/>
                </a:lnTo>
                <a:lnTo>
                  <a:pt x="510" y="341"/>
                </a:lnTo>
                <a:lnTo>
                  <a:pt x="1038" y="341"/>
                </a:lnTo>
                <a:lnTo>
                  <a:pt x="1038" y="3545"/>
                </a:lnTo>
                <a:lnTo>
                  <a:pt x="0" y="354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cc99"/>
              </a:gs>
              <a:gs pos="100000">
                <a:srgbClr val="0066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4440" y="298440"/>
            <a:ext cx="8439120" cy="8383680"/>
          </a:xfrm>
          <a:prstGeom prst="ellipse">
            <a:avLst/>
          </a:prstGeom>
          <a:gradFill rotWithShape="0">
            <a:gsLst>
              <a:gs pos="0">
                <a:srgbClr val="9933ff"/>
              </a:gs>
              <a:gs pos="100000">
                <a:srgbClr val="3333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168640"/>
            <a:ext cx="5553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-31680" y="2711520"/>
            <a:ext cx="9221760" cy="4309920"/>
          </a:xfrm>
          <a:custGeom>
            <a:avLst/>
            <a:gdLst/>
            <a:ahLst/>
            <a:rect l="l" t="t" r="r" b="b"/>
            <a:pathLst>
              <a:path w="5809" h="2715">
                <a:moveTo>
                  <a:pt x="5808" y="0"/>
                </a:moveTo>
                <a:lnTo>
                  <a:pt x="4322" y="0"/>
                </a:lnTo>
                <a:lnTo>
                  <a:pt x="4322" y="452"/>
                </a:lnTo>
                <a:lnTo>
                  <a:pt x="0" y="443"/>
                </a:lnTo>
                <a:lnTo>
                  <a:pt x="0" y="2714"/>
                </a:lnTo>
                <a:lnTo>
                  <a:pt x="3398" y="2713"/>
                </a:lnTo>
                <a:lnTo>
                  <a:pt x="4311" y="2713"/>
                </a:lnTo>
                <a:lnTo>
                  <a:pt x="5808" y="2713"/>
                </a:lnTo>
                <a:lnTo>
                  <a:pt x="5808" y="0"/>
                </a:lnTo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66840" y="3429000"/>
            <a:ext cx="464832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13720" y="2695680"/>
            <a:ext cx="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26320" y="2695680"/>
            <a:ext cx="8348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200" y="281160"/>
            <a:ext cx="8394840" cy="84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2" y="5753"/>
                </a:moveTo>
                <a:arcTo wR="10800" hR="10800" stAng="-9128530" swAng="12968530"/>
                <a:lnTo>
                  <a:pt x="10800" y="10800"/>
                </a:lnTo>
                <a:close/>
              </a:path>
              <a:path fill="none" w="21600" h="21600">
                <a:moveTo>
                  <a:pt x="1252" y="5753"/>
                </a:moveTo>
                <a:arcTo wR="10800" hR="10800" stAng="-9128530" swAng="12968530"/>
              </a:path>
            </a:pathLst>
          </a:custGeom>
          <a:noFill/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747720" y="2476080"/>
            <a:ext cx="409680" cy="1800"/>
          </a:xfrm>
          <a:prstGeom prst="line">
            <a:avLst/>
          </a:prstGeom>
          <a:ln cap="sq"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1152000" y="2374560"/>
            <a:ext cx="171360" cy="171720"/>
          </a:xfrm>
          <a:prstGeom prst="triangle">
            <a:avLst>
              <a:gd name="adj" fmla="val 49995"/>
            </a:avLst>
          </a:prstGeom>
          <a:solidFill>
            <a:srgbClr val="ffcc00"/>
          </a:solidFill>
          <a:ln cap="sq"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lnSpc>
                <a:spcPct val="85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876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788"/>
              </a:spcBef>
              <a:buClr>
                <a:srgbClr val="ff3300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700"/>
              </a:spcBef>
              <a:buClr>
                <a:srgbClr val="ffcc00"/>
              </a:buClr>
              <a:buSzPct val="4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SzPct val="4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2828a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2168640"/>
            <a:ext cx="58212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92160" bIns="9216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k-SK" sz="4800" spc="-1" strike="noStrike">
                <a:solidFill>
                  <a:srgbClr val="ffffff"/>
                </a:solidFill>
                <a:latin typeface="Arial"/>
              </a:rPr>
              <a:t>Funkce bojových umění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201680" y="3940200"/>
            <a:ext cx="55958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med"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Historick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vyhnutelnost boje – rozvoj bojových dovednost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L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049"/>
              </a:spcBef>
              <a:buClr>
                <a:srgbClr val="ff33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Obr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ít se znamená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lečenské rozdí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4572000" y="3276720"/>
          <a:ext cx="4237200" cy="286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3276720"/>
                    <a:ext cx="4237200" cy="28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8C946-7351-410F-9969-263D546D33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Současné hledisk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oj tváří v tvář není nevyhnuteln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ransformace 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7720" y="3505320"/>
            <a:ext cx="19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outěžní spo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126480" y="42670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Sebeobra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8760" y="6095880"/>
            <a:ext cx="241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Komplexní rozvo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8120" y="3276720"/>
            <a:ext cx="2971800" cy="29718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DA65BC-E64C-4AB5-863E-ECD10FD879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696600"/>
            <a:ext cx="7315200" cy="101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Čtyřdimenzionální rozvoj (funkce)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34816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b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74796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oci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533412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sych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16765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o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5" name=""/>
          <p:cNvCxnSpPr/>
          <p:nvPr/>
        </p:nvCxnSpPr>
        <p:spPr>
          <a:xfrm>
            <a:off x="2057040" y="5256360"/>
            <a:ext cx="38869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2057400" y="4191120"/>
            <a:ext cx="3962520" cy="10666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057400" y="2133720"/>
            <a:ext cx="3962520" cy="31240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8480" y="2133720"/>
            <a:ext cx="0" cy="2057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3577-EF2E-4F4C-9902-FB434D55986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Funkc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6080" y="1980720"/>
            <a:ext cx="4194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zdravý, funkční organizmus a umět ho použí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Být integrovanou lidskou bytos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dobré sociální vztah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11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Mít smysl živo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5410080" y="2438280"/>
            <a:ext cx="3581640" cy="2706840"/>
            <a:chOff x="5410080" y="2438280"/>
            <a:chExt cx="3581640" cy="2706840"/>
          </a:xfrm>
        </p:grpSpPr>
        <p:sp>
          <p:nvSpPr>
            <p:cNvPr id="122" name=""/>
            <p:cNvSpPr/>
            <p:nvPr/>
          </p:nvSpPr>
          <p:spPr>
            <a:xfrm>
              <a:off x="5410080" y="4868640"/>
              <a:ext cx="1222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b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263000" y="3809880"/>
              <a:ext cx="126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soci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42440" y="486108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psych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79840" y="2438280"/>
              <a:ext cx="109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k-SK" sz="1200" spc="-1" strike="noStrike">
                  <a:solidFill>
                    <a:srgbClr val="ffffff"/>
                  </a:solidFill>
                  <a:latin typeface="Arial"/>
                </a:rPr>
                <a:t>noospher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/>
            <p:nvPr/>
          </p:nvCxnSpPr>
          <p:spPr>
            <a:xfrm>
              <a:off x="6083640" y="4806720"/>
              <a:ext cx="2149560" cy="1440"/>
            </a:xfrm>
            <a:prstGeom prst="straightConnector1">
              <a:avLst/>
            </a:prstGeom>
            <a:ln w="9360">
              <a:solidFill>
                <a:srgbClr val="ffffff"/>
              </a:solidFill>
              <a:miter/>
            </a:ln>
          </p:spPr>
        </p:cxnSp>
        <p:sp>
          <p:nvSpPr>
            <p:cNvPr id="127" name=""/>
            <p:cNvSpPr/>
            <p:nvPr/>
          </p:nvSpPr>
          <p:spPr>
            <a:xfrm>
              <a:off x="6084000" y="4101840"/>
              <a:ext cx="2190960" cy="70560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084000" y="2740680"/>
              <a:ext cx="2190960" cy="206676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179840" y="2740680"/>
              <a:ext cx="0" cy="1361160"/>
            </a:xfrm>
            <a:prstGeom prst="line">
              <a:avLst/>
            </a:prstGeom>
            <a:ln w="936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8DBBD-B8C2-436C-A923-EEE1A5F3CE2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1204200"/>
            <a:ext cx="7315200" cy="5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ts val="4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Biodromalní charakte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15720" y="1980720"/>
            <a:ext cx="6723000" cy="39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Rozvoj těla, duše, společnosti a ducha by měl bý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kontinuáln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nekončíc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267080" y="3886200"/>
            <a:ext cx="609840" cy="1371600"/>
          </a:xfrm>
          <a:prstGeom prst="downArrow">
            <a:avLst>
              <a:gd name="adj1" fmla="val 50000"/>
              <a:gd name="adj2" fmla="val 56228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5181480"/>
            <a:ext cx="259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eloživotní ces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62508-6D6E-4968-939F-43D177EEE3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3T07:30:00Z</dcterms:created>
  <dc:creator>Mala Liyanage</dc:creator>
  <dc:description/>
  <dc:language>en-US</dc:language>
  <cp:lastModifiedBy>Vit</cp:lastModifiedBy>
  <cp:lastPrinted>2003-10-23T14:31:15Z</cp:lastPrinted>
  <dcterms:modified xsi:type="dcterms:W3CDTF">2007-02-20T09:04:13Z</dcterms:modified>
  <cp:revision>63</cp:revision>
  <dc:subject/>
  <dc:title>Selling an Idea or a Product</dc:title>
</cp:coreProperties>
</file>