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223-D119-4A80-B2CE-64BEB4F8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96E25-5CB7-41D0-A682-3C38F44B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126B-834C-4CCB-986D-9A3825F5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7E4-8E8D-41C6-B890-8678F4E16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F50D3-76A0-4603-A69E-B2AEE2BF8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E3190-4195-45D7-A906-5EB2E460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DDCC-6F77-4D85-9804-07B097657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50F0-D0AF-4C3A-BB50-2E35390B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94D5-91D0-4BD9-B94D-2B26ED0A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6CD7-66DA-4D96-BAE5-F24354E89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DBF3-3E7C-4525-814E-79FCAD4C8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A29-021E-4783-BC0A-83E3999CA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CD1D-B326-4E0E-BA86-C2E62951A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B7BB-CBE0-4E22-8F60-98B406709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2CDDC-F4EF-4F06-AE19-F6093C24B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1F47-89B0-43D6-AFCA-13D91E5E5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6DBF-A5F2-45FF-BEDD-0C5573D03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57EA-B03B-4757-BC98-0BCEACAFA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83B7-E4D4-4396-A60E-2D89D2B7F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1FC7-BE40-40FA-A35B-1E5DB5306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FBC1-1484-4BAA-B7CD-556ACD02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4924-A364-48D7-B8DF-7B9577B7E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6E0C-AA7F-453A-BED5-4585EA387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B9A6-4EA9-425A-90F2-AD533D838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CAC41-EBC7-4102-A044-8FCEA8677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96A6-89BE-4B98-9A1A-0FB2D29166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6600" spc="-1" strike="noStrike">
                <a:solidFill>
                  <a:srgbClr val="ccffff"/>
                </a:solidFill>
                <a:latin typeface="Tahoma"/>
              </a:rPr>
              <a:t>Determinanty didaktiky úpolů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becné determinan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Fylogeneze lidst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Ontogeneze pohyb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Sociální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sychologické fakto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Fylogeneze lidstv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y byly na počátku existence člověk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Úpolové aktivity člověka doprovázely v kritických obdobích vývoj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achovaly se archetypy hrdinů – jsou často spojeny s úpolovými aktivitam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Kontaktní překonání člověka je hluboko v podvědomí, je součástí vnitřní výbavy zdravého jednotliv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Ontogeneze pohybu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otyk je prvním komunikačním prostředkem dítě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Děti spontánně jednají úpolově – v kontaktu (nemají jiné prostředky aktivní obran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Spontánní aktivity dětí v různých obdobích pohybového vývoje zahrnují úpolové ak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Pro didaktiku úpolů je kritické období 8 – 9 let, dítě začíná chápat vztah mezi příčinou a důsledk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Sociální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Úpoly nelze (dlouhodobě) provádět osamot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Budují se sociální vazby (silněji v bojových uměních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ci úpolových sportů působí na společnost a opačn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ffffff"/>
                </a:solidFill>
                <a:latin typeface="Tahoma"/>
              </a:rPr>
              <a:t>Cvičení úpolů musí být spojeno s přísným dodržováním spoločenských norem (etiket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400" spc="-1" strike="noStrike">
                <a:solidFill>
                  <a:srgbClr val="ccffff"/>
                </a:solidFill>
                <a:latin typeface="Tahoma"/>
              </a:rPr>
              <a:t>Psychologické faktor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Ztráta vědomé sebekontroly po dobu cvičen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fyzickou (totální) porážkou, nebo vítězství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Práce s bolestí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ffffff"/>
                </a:solidFill>
                <a:latin typeface="Tahoma"/>
              </a:rPr>
              <a:t>Agresivita ano, ale konstruktivní (benigní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19:05:35Z</dcterms:created>
  <dc:creator>Home</dc:creator>
  <dc:description/>
  <dc:language>en-US</dc:language>
  <cp:lastModifiedBy>Vit</cp:lastModifiedBy>
  <dcterms:modified xsi:type="dcterms:W3CDTF">2007-02-20T09:06:03Z</dcterms:modified>
  <cp:revision>4</cp:revision>
  <dc:subject/>
  <dc:title>Determinanty didaktiky úpolů</dc:title>
</cp:coreProperties>
</file>