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49D7-0B0B-42E3-8D2B-2FEF10B77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EA10-3E44-404C-8D83-455737B75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C9EB-98AE-4C48-BCEB-2474D59FD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2D2E-FE7A-44F4-9E5F-3478776AB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FE28-D635-431B-99D5-D1501F021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33B4-0BB2-4797-80A9-5BE7F3986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ECAE3-EBFD-4B4D-A83F-02CBF502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1AC91-32F1-4DAF-91BF-9B92B6E26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4C52F-787F-4040-A5A0-647215D83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EDEC-2AD2-4B46-A9E1-B3381A23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92237-295B-4325-9D25-D70081BDF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D0A1-3E5D-4A7D-8204-FD3E8562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E5E7-00B7-43F5-B0DC-663D1A8A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1208B-91CD-483D-8570-60314771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3EEAC-A3B9-4C48-8034-677137F4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DC35F-09A3-4C16-942D-6B5BDDB69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09D61-1C40-45B0-BEEC-450CBCC8C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FE19-90A6-4E58-8779-797E5ABFE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7438-5D26-4B28-B663-81BC10F75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C0BE-BF8A-4C6A-A002-17C56ED7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E8BF-6BF1-4E48-8375-32847CAD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0E3C-8275-438C-943D-0334977D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E1B15-2737-4C7D-B76A-E4B9E620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4AEA-6DF8-493B-9958-E051C4A97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4000" cy="1905120"/>
            </a:xfrm>
            <a:prstGeom prst="rect">
              <a:avLst/>
            </a:prstGeom>
            <a:gradFill rotWithShape="0">
              <a:gsLst>
                <a:gs pos="0">
                  <a:srgbClr val="a38d77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rcRect l="0" t="66688" r="0" b="0"/>
            <a:stretch/>
          </p:blipFill>
          <p:spPr>
            <a:xfrm>
              <a:off x="0" y="0"/>
              <a:ext cx="9144000" cy="30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SzPct val="11704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eae8e2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0CDA6-F3C5-4B88-AC4E-930FB13885E8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"/>
            <p:cNvSpPr/>
            <p:nvPr/>
          </p:nvSpPr>
          <p:spPr>
            <a:xfrm>
              <a:off x="0" y="1143000"/>
              <a:ext cx="9144000" cy="137160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6477120"/>
              <a:ext cx="9144000" cy="380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8e2"/>
                </a:solidFill>
                <a:latin typeface="Arial Narrow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rcRect l="5827" t="8501" r="35924" b="0"/>
            <a:stretch/>
          </p:blipFill>
          <p:spPr>
            <a:xfrm>
              <a:off x="0" y="0"/>
              <a:ext cx="9144000" cy="143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8e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0B40-DBBB-4D05-BB61-AE098DC04089}" type="slidenum">
              <a:rPr b="0" lang="en-US" sz="1400" spc="-1" strike="noStrike">
                <a:solidFill>
                  <a:srgbClr val="eae8e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8e2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8e2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eae8e2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8e2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a7c1cb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eae8e2"/>
              </a:buClr>
              <a:buSzPct val="115000"/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Úpolové sporty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dbc03"/>
                </a:solidFill>
                <a:latin typeface="Impact"/>
              </a:rPr>
              <a:t>Znaky úpolových sportů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Arial Narrow"/>
              </a:rPr>
              <a:t>Úroveň úpolových systémů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ázev (aikidó, zápas, karate, džúdó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vývoj (každý se zrodil v jistých historických souvislostech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prostředky (technické, taktické, materální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členskou základnu a  její vnitřní hierarchii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zastřešující organizaci a systém národních a regionálních organizací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metody a formy výcviku, vzdělávání a výchovy (vzájemně více, či méně odlišné)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 sporty i systém soutěží a pravidel,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eae8e2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 sporty systém zkoušek, titulů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  <a:p>
            <a:pPr lvl="2" marL="108576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eae8e2"/>
                </a:solidFill>
                <a:latin typeface="Arial"/>
                <a:ea typeface="Times New Roman"/>
              </a:rPr>
              <a:t>	</a:t>
            </a:r>
            <a:r>
              <a:rPr b="0" lang="sk-SK" sz="2000" spc="-1" strike="noStrike">
                <a:solidFill>
                  <a:srgbClr val="eae8e2"/>
                </a:solidFill>
                <a:latin typeface="Verdana"/>
                <a:ea typeface="Times New Roman"/>
              </a:rPr>
              <a:t>a hodností</a:t>
            </a:r>
            <a:r>
              <a:rPr b="0" lang="en-US" sz="2000" spc="-1" strike="noStrike">
                <a:solidFill>
                  <a:srgbClr val="eae8e2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zaměření úpolov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ých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sport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</a:rPr>
              <a:t>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</a:rPr>
              <a:t>s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outěž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(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ystém soutěží a příprava na 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ebeobranné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zaměření na aplikaci úpolového sportu pro potřeby sebeobrany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komplexně rozvíjejíc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 (celoživotní rozměr a mnohodimenzionální rozvoj člověka v oblasti tělesné, duševní, sociální i spirituální</a:t>
            </a:r>
            <a:r>
              <a:rPr b="0" lang="sk-SK" sz="2800" spc="-1" strike="noStrike">
                <a:solidFill>
                  <a:srgbClr val="eae8e2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vztah k soutěži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soutěžní</a:t>
            </a: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pořádají soutěže, většinou na různých úrovních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nesoutěžn</a:t>
            </a:r>
            <a:r>
              <a:rPr b="1" lang="sk-SK" sz="3200" spc="-1" strike="noStrike">
                <a:solidFill>
                  <a:srgbClr val="eae8e2"/>
                </a:solidFill>
                <a:latin typeface="Arial"/>
                <a:ea typeface="Times New Roman"/>
              </a:rPr>
              <a:t>í</a:t>
            </a:r>
            <a:r>
              <a:rPr b="0" lang="sk-SK" sz="3200" spc="-1" strike="noStrike">
                <a:solidFill>
                  <a:srgbClr val="eae8e2"/>
                </a:solidFill>
                <a:latin typeface="Verdana"/>
                <a:ea typeface="Times New Roman"/>
              </a:rPr>
              <a:t> úpolové sporty, ve kterých se nepořádají soutěže </a:t>
            </a:r>
            <a:endParaRPr b="0" lang="en-US" sz="32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technických</a:t>
            </a:r>
            <a:r>
              <a:rPr b="0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 </a:t>
            </a: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rostředků</a:t>
            </a:r>
            <a:r>
              <a:rPr b="0" lang="en-US" sz="4400" spc="-1" strike="noStrike">
                <a:solidFill>
                  <a:srgbClr val="fdbc03"/>
                </a:solidFill>
                <a:latin typeface="Impact"/>
              </a:rPr>
              <a:t> 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zbraně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kendó, iaidó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 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úpolové sporty, </a:t>
            </a:r>
            <a:r>
              <a:rPr b="1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používající zejména kontakt částmi těla</a:t>
            </a: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úderů a kopů (box, karate, tae kwon do),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7c1cb"/>
              </a:buClr>
              <a:buSzPct val="80000"/>
              <a:buFont typeface="Wingdings" charset="2"/>
              <a:buChar char="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8e2"/>
                </a:solidFill>
                <a:latin typeface="Verdana"/>
                <a:ea typeface="Times New Roman"/>
              </a:rPr>
              <a:t>s použitím zejména hodů a znehybnění</a:t>
            </a:r>
            <a:r>
              <a:rPr b="0" lang="sk-SK" sz="2800" spc="-1" strike="noStrike">
                <a:solidFill>
                  <a:srgbClr val="eae8e2"/>
                </a:solidFill>
                <a:latin typeface="Arial"/>
                <a:ea typeface="Times New Roman"/>
              </a:rPr>
              <a:t> (džúdó, zápas, sumó)</a:t>
            </a:r>
            <a:endParaRPr b="0" lang="en-US" sz="28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f5f5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4400" spc="-1" strike="noStrike">
                <a:solidFill>
                  <a:srgbClr val="fdbc03"/>
                </a:solidFill>
                <a:latin typeface="Impact"/>
                <a:ea typeface="Times New Roman"/>
              </a:rPr>
              <a:t>podle kulturních konotací</a:t>
            </a:r>
            <a:endParaRPr b="0" lang="en-US" sz="4400" spc="-1" strike="noStrike">
              <a:solidFill>
                <a:srgbClr val="fdbc03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evrop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šerm, zápas, savate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meric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 (wrestling, karate kempo, 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	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Gracie džúdžucu, capoeira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azijské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: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čínské (tchai ťi, pakua, hunggar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korejské (taekwondo, hwarangdo, hapkido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japonské (aikidó, džúdó, sumó, kendó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indické (vadžrámušti, kalaripajattu…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8e2"/>
                </a:solidFill>
                <a:latin typeface="Symbol"/>
                <a:ea typeface="Symbol"/>
              </a:rPr>
              <a:t></a:t>
            </a:r>
            <a:r>
              <a:rPr b="0" lang="cs-CZ" sz="2400" spc="-1" strike="noStrike">
                <a:solidFill>
                  <a:srgbClr val="eae8e2"/>
                </a:solidFill>
                <a:latin typeface="Times New Roman"/>
                <a:ea typeface="Times New Roman"/>
              </a:rPr>
              <a:t> </a:t>
            </a:r>
            <a:r>
              <a:rPr b="0" lang="cs-CZ" sz="2400" spc="-1" strike="noStrike">
                <a:solidFill>
                  <a:srgbClr val="eae8e2"/>
                </a:solidFill>
                <a:latin typeface="Verdana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eae8e2"/>
                </a:solidFill>
                <a:latin typeface="Arial Narrow"/>
                <a:ea typeface="Times New Roman"/>
              </a:rPr>
              <a:t>hajské (muai thai)</a:t>
            </a:r>
            <a:endParaRPr b="0" lang="en-US" sz="2400" spc="-1" strike="noStrike">
              <a:solidFill>
                <a:srgbClr val="eae8e2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2:09:01Z</dcterms:created>
  <dc:creator>Home</dc:creator>
  <dc:description/>
  <dc:language>en-US</dc:language>
  <cp:lastModifiedBy>Vit</cp:lastModifiedBy>
  <dcterms:modified xsi:type="dcterms:W3CDTF">2007-02-20T08:56:00Z</dcterms:modified>
  <cp:revision>5</cp:revision>
  <dc:subject/>
  <dc:title>Úpoloo</dc:title>
</cp:coreProperties>
</file>