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0A85-B223-48B4-A518-498EF2BC6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05F4-AE2D-46ED-BCFA-BA348223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E59F-DC03-4B30-83ED-A3AE7616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B560-F2C3-424C-9F04-B510806C4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B95E-85B6-4AC3-83D4-100FC57D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FA867-79DE-476A-91C4-039E49BF0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2D0A1-9DB5-4A3E-B3CB-D3B67AFEE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E624-25B4-456C-B7D2-E0B7A0F8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0E6B-9878-4935-93D2-464F684B9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11536-8DE4-4E0F-BDC0-ABFA8C6AF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95353-DE48-49BD-9E98-F00940903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64CE-7A20-4120-A6C5-34294531A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FFBB7-AC64-417F-A9BD-19D94931E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4C57-AC89-4172-9D42-CB05D9416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109E9-C638-4F42-BE27-17DC155E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93B8-C17A-42AA-BDAA-2CEF7989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DF888-2C98-4796-A432-E2DD42BCD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3BC1-C753-423D-897C-5F4ACC10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4639-BEA2-4293-8F47-B1411C2EE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123A-1668-4AB3-B036-91ECD406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CC18E-C3DA-4231-903A-4FAA1D435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2CE3-A1BF-44E0-96EC-08602723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8CF8-0449-42FB-98DF-DB164CF4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6E73-A565-4744-8ADF-10DE03C0C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A5191-0B89-4BB8-8448-586EB78FBF8C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795241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6363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2231-15C7-42E8-8D61-998942C5A4FA}" type="slidenum">
              <a:rPr b="0" lang="en-US" sz="1400" spc="-1" strike="noStrike">
                <a:solidFill>
                  <a:srgbClr val="46363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46363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6363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63634"/>
              </a:buClr>
              <a:buSzPct val="6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3634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152352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Rozvoj úpolových pohybových dovednost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580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časového omezení (cvičení se končí splněním úpolového úkol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asovým omezením (cvičení se končí po uplynutí určeného času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b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ez prostorového omezení (cvičenci využívají všechen dostup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s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orovým omezením (cvičenci mohou využívat jen omezený prostor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D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ynamizac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e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cvičení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ezení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m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rostoru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ů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rostředky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omezení prostředků (cvičenec může použít na splnění úkolu jakýkoliv pohybový prostředek v souladu s druhem cvičen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omezením prostředků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Způsoby rozvoje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Nácvik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463634"/>
                </a:solidFill>
                <a:latin typeface="Times New Roman"/>
              </a:rPr>
              <a:t>Výkon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Nácvik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učení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 pohybovým dovednostem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určení obránce a útočníka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určením dopředu dohodnutých technik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volným použitím technik (nebo skupiny technik)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000" spc="-1" strike="noStrike">
                <a:solidFill>
                  <a:srgbClr val="795241"/>
                </a:solidFill>
                <a:latin typeface="Times New Roman"/>
              </a:rPr>
              <a:t>Výkon úpolových pohybových dovedností</a:t>
            </a:r>
            <a:endParaRPr b="0" i="1" lang="en-US" sz="40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Je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zaměřen na 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rojev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hybov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h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dovednost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í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portov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podle soutěžního nebo jiného (např. zkušebního) řádu (i verbálně formulovaného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ebeobranný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, ve skutečné krizové situaci, vyžadující konat v mezích nutné obrany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úkol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čtu účastní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zaměření na jednotliv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é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ásti těla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í nářadí a náči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času cvičen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použitých technických prostředků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podle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 prostoru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rozdělení úkol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rozeznáváme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cviče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rozdělením úkolů (na obránce a útočníka, jeden z cvičenců je po dobu jednoho cvičení vždy jen obráncem nebo jen útočníkem, jejich pohybové (úpolové) úkoly se liší)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rozdělení úkolů (cvičenci jsou současně obránci i útočníky, úkoly zúčastněných jsou zpravidla stejné)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odle počtu účastníků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(mohou mít rozdílné nebo stejné úkoly) rozdělujeme cvičení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dvojic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15360" indent="-315360" algn="just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kupin (za skupinu považujeme již triádu a každý další větší celek)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aždý proti každému – každý člen skupiny bojuje proti všem ostatním sám za sebe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</a:rPr>
              <a:t>s</a:t>
            </a: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kupina proti skupině – cvičenci bojují společně, rozdělení ve skupinách, členové každé skupiny navzájem kooperují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  <a:p>
            <a:pPr lvl="1" marL="683280" indent="-262800" algn="just">
              <a:lnSpc>
                <a:spcPct val="90000"/>
              </a:lnSpc>
              <a:spcBef>
                <a:spcPts val="601"/>
              </a:spcBef>
              <a:buClr>
                <a:srgbClr val="46363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jednotlivec proti skupině – cvičenec bojuje proti skupině jako celku, nebo postupně proti jednotlivcům ze skupiny</a:t>
            </a:r>
            <a:r>
              <a:rPr b="0" lang="en-US" sz="24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463634"/>
                </a:solidFill>
                <a:latin typeface="Times New Roman"/>
              </a:rPr>
              <a:t>Podle </a:t>
            </a:r>
            <a:r>
              <a:rPr b="1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části těla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jako cvičení: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paží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oho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trupu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hlavy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  <a:p>
            <a:pPr marL="339480" indent="-339480" algn="just">
              <a:spcBef>
                <a:spcPts val="799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63634"/>
                </a:solidFill>
                <a:latin typeface="Times New Roman"/>
              </a:rPr>
              <a:t>k</a:t>
            </a:r>
            <a:r>
              <a:rPr b="0" lang="cs-CZ" sz="32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mbinované</a:t>
            </a:r>
            <a:r>
              <a:rPr b="0" lang="en-US" sz="32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4400" spc="-1" strike="noStrike">
                <a:solidFill>
                  <a:srgbClr val="795241"/>
                </a:solidFill>
                <a:latin typeface="Times New Roman"/>
              </a:rPr>
              <a:t>Didaktická omezení cvičení</a:t>
            </a:r>
            <a:endParaRPr b="0" i="1" lang="en-US" sz="4400" spc="-1" strike="noStrike">
              <a:solidFill>
                <a:srgbClr val="795241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řad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řad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na nářadí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P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odle použ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</a:rPr>
              <a:t>it</a:t>
            </a:r>
            <a:r>
              <a:rPr b="1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í náčiní</a:t>
            </a:r>
            <a:r>
              <a:rPr b="0" lang="cs-CZ" sz="2800" spc="-1" strike="noStrike">
                <a:solidFill>
                  <a:srgbClr val="463634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bez náčiní,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795241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s náčiním</a:t>
            </a:r>
            <a:r>
              <a:rPr b="0" lang="en-US" sz="2800" spc="-1" strike="noStrike">
                <a:solidFill>
                  <a:srgbClr val="463634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6363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21:10:25Z</dcterms:created>
  <dc:creator>Home</dc:creator>
  <dc:description/>
  <dc:language>en-US</dc:language>
  <cp:lastModifiedBy>Vit</cp:lastModifiedBy>
  <dcterms:modified xsi:type="dcterms:W3CDTF">2007-02-20T09:07:17Z</dcterms:modified>
  <cp:revision>7</cp:revision>
  <dc:subject/>
  <dc:title>Rozvoj pohybových dovedností</dc:title>
</cp:coreProperties>
</file>