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12C2-0426-45A7-B6AA-E34EC503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32D8-5E01-40EB-AA6A-DE6147E6A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6EB9-3CBB-48D0-AE0F-57530250E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37DF-B227-4BE3-BA37-15C833DEA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47F8D-EF9F-4F81-80F0-4DBEA16C1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333A5-0204-4F51-AB77-9068576B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5DF6E-A7EC-450A-B44D-F470F2EE4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6BA3A-38FE-4D42-9F06-513D382FB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54EB-B045-4DCA-9A6A-B6F138EF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DEEE-282D-4E29-B084-77AC624C3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800F-97EE-4B58-BE67-376DF4EB8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2882-67F7-471A-930F-2699A4BAD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455E-339D-4C5B-B08F-5BAB6A77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6500-1000-4A79-B5FC-C232921F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1C06F-194A-4663-A955-2D78A06C4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031F-7EFC-4B56-9D01-A80FF20DF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CAB3-5183-496B-B9C7-CAB2C5AA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7B6-4E61-4C48-B612-CC5B1BF1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9034-B63C-4F06-9366-748A8F8B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537-58AD-44AD-A6D2-5C20E28A8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05ED-8386-47B2-B6ED-4B355CAB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047E5-1FBF-4896-8B8C-4B2C879E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9986-F398-413A-B0B2-6830BA849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C503-351C-442F-8B63-37AEC407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1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FE8D3-0730-4CE5-A748-31F7C3CF00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-9360" y="-20520"/>
            <a:ext cx="9153360" cy="6878520"/>
            <a:chOff x="-9360" y="-20520"/>
            <a:chExt cx="9153360" cy="6878520"/>
          </a:xfrm>
        </p:grpSpPr>
        <p:sp>
          <p:nvSpPr>
            <p:cNvPr id="52" name=""/>
            <p:cNvSpPr/>
            <p:nvPr/>
          </p:nvSpPr>
          <p:spPr>
            <a:xfrm>
              <a:off x="8809200" y="0"/>
              <a:ext cx="334800" cy="68580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3366ff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-9360" y="4489560"/>
              <a:ext cx="5754600" cy="2368440"/>
            </a:xfrm>
            <a:custGeom>
              <a:avLst/>
              <a:gdLst/>
              <a:ahLst/>
              <a:rect l="l" t="t" r="r" b="b"/>
              <a:pathLst>
                <a:path w="3625" h="1492">
                  <a:moveTo>
                    <a:pt x="0" y="1491"/>
                  </a:moveTo>
                  <a:lnTo>
                    <a:pt x="0" y="0"/>
                  </a:lnTo>
                  <a:lnTo>
                    <a:pt x="171" y="3"/>
                  </a:lnTo>
                  <a:lnTo>
                    <a:pt x="355" y="9"/>
                  </a:lnTo>
                  <a:lnTo>
                    <a:pt x="499" y="21"/>
                  </a:lnTo>
                  <a:lnTo>
                    <a:pt x="650" y="36"/>
                  </a:lnTo>
                  <a:lnTo>
                    <a:pt x="809" y="54"/>
                  </a:lnTo>
                  <a:lnTo>
                    <a:pt x="957" y="78"/>
                  </a:lnTo>
                  <a:lnTo>
                    <a:pt x="1119" y="105"/>
                  </a:lnTo>
                  <a:lnTo>
                    <a:pt x="1261" y="133"/>
                  </a:lnTo>
                  <a:lnTo>
                    <a:pt x="1441" y="175"/>
                  </a:lnTo>
                  <a:lnTo>
                    <a:pt x="1598" y="217"/>
                  </a:lnTo>
                  <a:lnTo>
                    <a:pt x="1763" y="269"/>
                  </a:lnTo>
                  <a:lnTo>
                    <a:pt x="1887" y="308"/>
                  </a:lnTo>
                  <a:lnTo>
                    <a:pt x="2085" y="384"/>
                  </a:lnTo>
                  <a:lnTo>
                    <a:pt x="2230" y="444"/>
                  </a:lnTo>
                  <a:lnTo>
                    <a:pt x="2456" y="547"/>
                  </a:lnTo>
                  <a:lnTo>
                    <a:pt x="2666" y="662"/>
                  </a:lnTo>
                  <a:lnTo>
                    <a:pt x="2859" y="786"/>
                  </a:lnTo>
                  <a:lnTo>
                    <a:pt x="3046" y="920"/>
                  </a:lnTo>
                  <a:lnTo>
                    <a:pt x="3193" y="1038"/>
                  </a:lnTo>
                  <a:lnTo>
                    <a:pt x="3332" y="1168"/>
                  </a:lnTo>
                  <a:lnTo>
                    <a:pt x="3440" y="1280"/>
                  </a:lnTo>
                  <a:lnTo>
                    <a:pt x="3524" y="1380"/>
                  </a:lnTo>
                  <a:lnTo>
                    <a:pt x="3624" y="1491"/>
                  </a:lnTo>
                  <a:lnTo>
                    <a:pt x="3608" y="1491"/>
                  </a:lnTo>
                  <a:lnTo>
                    <a:pt x="0" y="1491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3817800"/>
              <a:ext cx="8164440" cy="3019680"/>
            </a:xfrm>
            <a:custGeom>
              <a:avLst/>
              <a:gdLst/>
              <a:ahLst/>
              <a:rect l="l" t="t" r="r" b="b"/>
              <a:pathLst>
                <a:path w="5143" h="1902">
                  <a:moveTo>
                    <a:pt x="2718" y="405"/>
                  </a:moveTo>
                  <a:lnTo>
                    <a:pt x="2466" y="333"/>
                  </a:lnTo>
                  <a:lnTo>
                    <a:pt x="2202" y="261"/>
                  </a:lnTo>
                  <a:lnTo>
                    <a:pt x="1929" y="198"/>
                  </a:lnTo>
                  <a:lnTo>
                    <a:pt x="1695" y="153"/>
                  </a:lnTo>
                  <a:lnTo>
                    <a:pt x="1434" y="111"/>
                  </a:lnTo>
                  <a:lnTo>
                    <a:pt x="1188" y="75"/>
                  </a:lnTo>
                  <a:lnTo>
                    <a:pt x="957" y="48"/>
                  </a:lnTo>
                  <a:lnTo>
                    <a:pt x="747" y="30"/>
                  </a:lnTo>
                  <a:lnTo>
                    <a:pt x="501" y="15"/>
                  </a:lnTo>
                  <a:lnTo>
                    <a:pt x="246" y="3"/>
                  </a:lnTo>
                  <a:lnTo>
                    <a:pt x="0" y="0"/>
                  </a:lnTo>
                  <a:lnTo>
                    <a:pt x="0" y="275"/>
                  </a:lnTo>
                  <a:lnTo>
                    <a:pt x="0" y="345"/>
                  </a:lnTo>
                  <a:lnTo>
                    <a:pt x="0" y="275"/>
                  </a:lnTo>
                  <a:lnTo>
                    <a:pt x="0" y="342"/>
                  </a:lnTo>
                  <a:lnTo>
                    <a:pt x="339" y="351"/>
                  </a:lnTo>
                  <a:lnTo>
                    <a:pt x="606" y="372"/>
                  </a:lnTo>
                  <a:lnTo>
                    <a:pt x="852" y="399"/>
                  </a:lnTo>
                  <a:lnTo>
                    <a:pt x="1068" y="435"/>
                  </a:lnTo>
                  <a:lnTo>
                    <a:pt x="1275" y="474"/>
                  </a:lnTo>
                  <a:lnTo>
                    <a:pt x="1545" y="540"/>
                  </a:lnTo>
                  <a:lnTo>
                    <a:pt x="1761" y="603"/>
                  </a:lnTo>
                  <a:lnTo>
                    <a:pt x="1971" y="678"/>
                  </a:lnTo>
                  <a:lnTo>
                    <a:pt x="2166" y="747"/>
                  </a:lnTo>
                  <a:lnTo>
                    <a:pt x="2397" y="852"/>
                  </a:lnTo>
                  <a:lnTo>
                    <a:pt x="2613" y="960"/>
                  </a:lnTo>
                  <a:lnTo>
                    <a:pt x="2832" y="1095"/>
                  </a:lnTo>
                  <a:lnTo>
                    <a:pt x="3012" y="1212"/>
                  </a:lnTo>
                  <a:lnTo>
                    <a:pt x="3186" y="1347"/>
                  </a:lnTo>
                  <a:lnTo>
                    <a:pt x="3351" y="1497"/>
                  </a:lnTo>
                  <a:lnTo>
                    <a:pt x="3480" y="1629"/>
                  </a:lnTo>
                  <a:lnTo>
                    <a:pt x="3612" y="1785"/>
                  </a:lnTo>
                  <a:lnTo>
                    <a:pt x="3699" y="1901"/>
                  </a:lnTo>
                  <a:lnTo>
                    <a:pt x="5142" y="1901"/>
                  </a:lnTo>
                  <a:lnTo>
                    <a:pt x="5076" y="1827"/>
                  </a:lnTo>
                  <a:lnTo>
                    <a:pt x="4968" y="1707"/>
                  </a:lnTo>
                  <a:lnTo>
                    <a:pt x="4797" y="1539"/>
                  </a:lnTo>
                  <a:lnTo>
                    <a:pt x="4617" y="1383"/>
                  </a:lnTo>
                  <a:lnTo>
                    <a:pt x="4410" y="1221"/>
                  </a:lnTo>
                  <a:lnTo>
                    <a:pt x="4185" y="1071"/>
                  </a:lnTo>
                  <a:lnTo>
                    <a:pt x="3960" y="939"/>
                  </a:lnTo>
                  <a:lnTo>
                    <a:pt x="3708" y="801"/>
                  </a:lnTo>
                  <a:lnTo>
                    <a:pt x="3492" y="702"/>
                  </a:lnTo>
                  <a:lnTo>
                    <a:pt x="3231" y="588"/>
                  </a:lnTo>
                  <a:lnTo>
                    <a:pt x="2964" y="489"/>
                  </a:lnTo>
                  <a:lnTo>
                    <a:pt x="2718" y="405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146400"/>
              <a:ext cx="9144000" cy="3691080"/>
            </a:xfrm>
            <a:custGeom>
              <a:avLst/>
              <a:gdLst/>
              <a:ahLst/>
              <a:rect l="l" t="t" r="r" b="b"/>
              <a:pathLst>
                <a:path w="5760" h="2325">
                  <a:moveTo>
                    <a:pt x="0" y="0"/>
                  </a:moveTo>
                  <a:lnTo>
                    <a:pt x="0" y="339"/>
                  </a:lnTo>
                  <a:lnTo>
                    <a:pt x="558" y="357"/>
                  </a:lnTo>
                  <a:lnTo>
                    <a:pt x="807" y="375"/>
                  </a:lnTo>
                  <a:lnTo>
                    <a:pt x="1056" y="399"/>
                  </a:lnTo>
                  <a:lnTo>
                    <a:pt x="1272" y="426"/>
                  </a:lnTo>
                  <a:lnTo>
                    <a:pt x="1539" y="465"/>
                  </a:lnTo>
                  <a:lnTo>
                    <a:pt x="1791" y="510"/>
                  </a:lnTo>
                  <a:lnTo>
                    <a:pt x="2076" y="570"/>
                  </a:lnTo>
                  <a:lnTo>
                    <a:pt x="2334" y="630"/>
                  </a:lnTo>
                  <a:lnTo>
                    <a:pt x="2544" y="687"/>
                  </a:lnTo>
                  <a:lnTo>
                    <a:pt x="2775" y="759"/>
                  </a:lnTo>
                  <a:lnTo>
                    <a:pt x="3003" y="837"/>
                  </a:lnTo>
                  <a:lnTo>
                    <a:pt x="3231" y="924"/>
                  </a:lnTo>
                  <a:lnTo>
                    <a:pt x="3438" y="1005"/>
                  </a:lnTo>
                  <a:lnTo>
                    <a:pt x="3663" y="1110"/>
                  </a:lnTo>
                  <a:lnTo>
                    <a:pt x="3903" y="1233"/>
                  </a:lnTo>
                  <a:lnTo>
                    <a:pt x="4149" y="1374"/>
                  </a:lnTo>
                  <a:lnTo>
                    <a:pt x="4353" y="1506"/>
                  </a:lnTo>
                  <a:lnTo>
                    <a:pt x="4491" y="1602"/>
                  </a:lnTo>
                  <a:lnTo>
                    <a:pt x="4668" y="1740"/>
                  </a:lnTo>
                  <a:lnTo>
                    <a:pt x="4824" y="1875"/>
                  </a:lnTo>
                  <a:lnTo>
                    <a:pt x="4968" y="2016"/>
                  </a:lnTo>
                  <a:lnTo>
                    <a:pt x="5100" y="2154"/>
                  </a:lnTo>
                  <a:lnTo>
                    <a:pt x="5238" y="2324"/>
                  </a:lnTo>
                  <a:lnTo>
                    <a:pt x="5759" y="2324"/>
                  </a:lnTo>
                  <a:lnTo>
                    <a:pt x="5759" y="1245"/>
                  </a:lnTo>
                  <a:lnTo>
                    <a:pt x="5580" y="1119"/>
                  </a:lnTo>
                  <a:lnTo>
                    <a:pt x="5400" y="1020"/>
                  </a:lnTo>
                  <a:lnTo>
                    <a:pt x="5205" y="918"/>
                  </a:lnTo>
                  <a:lnTo>
                    <a:pt x="5031" y="837"/>
                  </a:lnTo>
                  <a:lnTo>
                    <a:pt x="4866" y="771"/>
                  </a:lnTo>
                  <a:lnTo>
                    <a:pt x="4710" y="711"/>
                  </a:lnTo>
                  <a:lnTo>
                    <a:pt x="4545" y="651"/>
                  </a:lnTo>
                  <a:lnTo>
                    <a:pt x="4386" y="600"/>
                  </a:lnTo>
                  <a:lnTo>
                    <a:pt x="4248" y="552"/>
                  </a:lnTo>
                  <a:lnTo>
                    <a:pt x="3993" y="483"/>
                  </a:lnTo>
                  <a:lnTo>
                    <a:pt x="3777" y="423"/>
                  </a:lnTo>
                  <a:lnTo>
                    <a:pt x="3564" y="375"/>
                  </a:lnTo>
                  <a:lnTo>
                    <a:pt x="3282" y="312"/>
                  </a:lnTo>
                  <a:lnTo>
                    <a:pt x="3003" y="261"/>
                  </a:lnTo>
                  <a:lnTo>
                    <a:pt x="2733" y="213"/>
                  </a:lnTo>
                  <a:lnTo>
                    <a:pt x="2451" y="171"/>
                  </a:lnTo>
                  <a:lnTo>
                    <a:pt x="2211" y="138"/>
                  </a:lnTo>
                  <a:lnTo>
                    <a:pt x="1974" y="108"/>
                  </a:lnTo>
                  <a:lnTo>
                    <a:pt x="1665" y="81"/>
                  </a:lnTo>
                  <a:lnTo>
                    <a:pt x="1437" y="60"/>
                  </a:lnTo>
                  <a:lnTo>
                    <a:pt x="1125" y="36"/>
                  </a:lnTo>
                  <a:lnTo>
                    <a:pt x="828" y="21"/>
                  </a:lnTo>
                  <a:lnTo>
                    <a:pt x="558" y="12"/>
                  </a:lnTo>
                  <a:lnTo>
                    <a:pt x="282" y="3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2460600"/>
              <a:ext cx="9144000" cy="2497320"/>
            </a:xfrm>
            <a:custGeom>
              <a:avLst/>
              <a:gdLst/>
              <a:ahLst/>
              <a:rect l="l" t="t" r="r" b="b"/>
              <a:pathLst>
                <a:path w="5760" h="1573">
                  <a:moveTo>
                    <a:pt x="0" y="0"/>
                  </a:moveTo>
                  <a:lnTo>
                    <a:pt x="0" y="351"/>
                  </a:lnTo>
                  <a:lnTo>
                    <a:pt x="282" y="357"/>
                  </a:lnTo>
                  <a:lnTo>
                    <a:pt x="627" y="363"/>
                  </a:lnTo>
                  <a:lnTo>
                    <a:pt x="960" y="375"/>
                  </a:lnTo>
                  <a:lnTo>
                    <a:pt x="1218" y="393"/>
                  </a:lnTo>
                  <a:lnTo>
                    <a:pt x="1470" y="411"/>
                  </a:lnTo>
                  <a:lnTo>
                    <a:pt x="1746" y="435"/>
                  </a:lnTo>
                  <a:lnTo>
                    <a:pt x="2022" y="462"/>
                  </a:lnTo>
                  <a:lnTo>
                    <a:pt x="2340" y="504"/>
                  </a:lnTo>
                  <a:lnTo>
                    <a:pt x="2664" y="549"/>
                  </a:lnTo>
                  <a:lnTo>
                    <a:pt x="2952" y="597"/>
                  </a:lnTo>
                  <a:lnTo>
                    <a:pt x="3225" y="648"/>
                  </a:lnTo>
                  <a:lnTo>
                    <a:pt x="3513" y="708"/>
                  </a:lnTo>
                  <a:lnTo>
                    <a:pt x="3693" y="750"/>
                  </a:lnTo>
                  <a:lnTo>
                    <a:pt x="3936" y="810"/>
                  </a:lnTo>
                  <a:lnTo>
                    <a:pt x="4095" y="855"/>
                  </a:lnTo>
                  <a:lnTo>
                    <a:pt x="4281" y="909"/>
                  </a:lnTo>
                  <a:lnTo>
                    <a:pt x="4503" y="981"/>
                  </a:lnTo>
                  <a:lnTo>
                    <a:pt x="4704" y="1053"/>
                  </a:lnTo>
                  <a:lnTo>
                    <a:pt x="4911" y="1131"/>
                  </a:lnTo>
                  <a:lnTo>
                    <a:pt x="5073" y="1197"/>
                  </a:lnTo>
                  <a:lnTo>
                    <a:pt x="5256" y="1281"/>
                  </a:lnTo>
                  <a:lnTo>
                    <a:pt x="5475" y="1401"/>
                  </a:lnTo>
                  <a:lnTo>
                    <a:pt x="5628" y="1482"/>
                  </a:lnTo>
                  <a:lnTo>
                    <a:pt x="5759" y="1572"/>
                  </a:lnTo>
                  <a:lnTo>
                    <a:pt x="5759" y="633"/>
                  </a:lnTo>
                  <a:lnTo>
                    <a:pt x="5493" y="570"/>
                  </a:lnTo>
                  <a:lnTo>
                    <a:pt x="5214" y="501"/>
                  </a:lnTo>
                  <a:lnTo>
                    <a:pt x="4950" y="444"/>
                  </a:lnTo>
                  <a:lnTo>
                    <a:pt x="4701" y="396"/>
                  </a:lnTo>
                  <a:lnTo>
                    <a:pt x="4425" y="348"/>
                  </a:lnTo>
                  <a:lnTo>
                    <a:pt x="4110" y="294"/>
                  </a:lnTo>
                  <a:lnTo>
                    <a:pt x="3813" y="252"/>
                  </a:lnTo>
                  <a:lnTo>
                    <a:pt x="3549" y="213"/>
                  </a:lnTo>
                  <a:lnTo>
                    <a:pt x="3261" y="183"/>
                  </a:lnTo>
                  <a:lnTo>
                    <a:pt x="3015" y="153"/>
                  </a:lnTo>
                  <a:lnTo>
                    <a:pt x="2757" y="129"/>
                  </a:lnTo>
                  <a:lnTo>
                    <a:pt x="2520" y="105"/>
                  </a:lnTo>
                  <a:lnTo>
                    <a:pt x="2301" y="87"/>
                  </a:lnTo>
                  <a:lnTo>
                    <a:pt x="2013" y="66"/>
                  </a:lnTo>
                  <a:lnTo>
                    <a:pt x="1731" y="48"/>
                  </a:lnTo>
                  <a:lnTo>
                    <a:pt x="1524" y="39"/>
                  </a:lnTo>
                  <a:lnTo>
                    <a:pt x="1260" y="27"/>
                  </a:lnTo>
                  <a:lnTo>
                    <a:pt x="966" y="15"/>
                  </a:lnTo>
                  <a:lnTo>
                    <a:pt x="714" y="12"/>
                  </a:lnTo>
                  <a:lnTo>
                    <a:pt x="510" y="6"/>
                  </a:lnTo>
                  <a:lnTo>
                    <a:pt x="24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1793880"/>
              <a:ext cx="9144000" cy="1539720"/>
            </a:xfrm>
            <a:custGeom>
              <a:avLst/>
              <a:gdLst/>
              <a:ahLst/>
              <a:rect l="l" t="t" r="r" b="b"/>
              <a:pathLst>
                <a:path w="5760" h="970">
                  <a:moveTo>
                    <a:pt x="0" y="0"/>
                  </a:moveTo>
                  <a:lnTo>
                    <a:pt x="0" y="339"/>
                  </a:lnTo>
                  <a:lnTo>
                    <a:pt x="318" y="342"/>
                  </a:lnTo>
                  <a:lnTo>
                    <a:pt x="591" y="348"/>
                  </a:lnTo>
                  <a:lnTo>
                    <a:pt x="846" y="354"/>
                  </a:lnTo>
                  <a:lnTo>
                    <a:pt x="1074" y="360"/>
                  </a:lnTo>
                  <a:lnTo>
                    <a:pt x="1314" y="366"/>
                  </a:lnTo>
                  <a:lnTo>
                    <a:pt x="1599" y="381"/>
                  </a:lnTo>
                  <a:lnTo>
                    <a:pt x="1911" y="399"/>
                  </a:lnTo>
                  <a:lnTo>
                    <a:pt x="2241" y="420"/>
                  </a:lnTo>
                  <a:lnTo>
                    <a:pt x="2619" y="453"/>
                  </a:lnTo>
                  <a:lnTo>
                    <a:pt x="2889" y="477"/>
                  </a:lnTo>
                  <a:lnTo>
                    <a:pt x="3177" y="507"/>
                  </a:lnTo>
                  <a:lnTo>
                    <a:pt x="3498" y="543"/>
                  </a:lnTo>
                  <a:lnTo>
                    <a:pt x="3813" y="585"/>
                  </a:lnTo>
                  <a:lnTo>
                    <a:pt x="4044" y="618"/>
                  </a:lnTo>
                  <a:lnTo>
                    <a:pt x="4365" y="669"/>
                  </a:lnTo>
                  <a:lnTo>
                    <a:pt x="4683" y="726"/>
                  </a:lnTo>
                  <a:lnTo>
                    <a:pt x="4980" y="786"/>
                  </a:lnTo>
                  <a:lnTo>
                    <a:pt x="5268" y="846"/>
                  </a:lnTo>
                  <a:lnTo>
                    <a:pt x="5646" y="942"/>
                  </a:lnTo>
                  <a:lnTo>
                    <a:pt x="5759" y="969"/>
                  </a:lnTo>
                  <a:lnTo>
                    <a:pt x="5759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-20520"/>
              <a:ext cx="9144000" cy="1682640"/>
            </a:xfrm>
            <a:custGeom>
              <a:avLst/>
              <a:gdLst/>
              <a:ahLst/>
              <a:rect l="l" t="t" r="r" b="b"/>
              <a:pathLst>
                <a:path w="5760" h="1060">
                  <a:moveTo>
                    <a:pt x="0" y="753"/>
                  </a:moveTo>
                  <a:lnTo>
                    <a:pt x="0" y="1059"/>
                  </a:lnTo>
                  <a:lnTo>
                    <a:pt x="5759" y="1059"/>
                  </a:lnTo>
                  <a:lnTo>
                    <a:pt x="5759" y="0"/>
                  </a:lnTo>
                  <a:lnTo>
                    <a:pt x="5430" y="0"/>
                  </a:lnTo>
                  <a:lnTo>
                    <a:pt x="5298" y="84"/>
                  </a:lnTo>
                  <a:lnTo>
                    <a:pt x="5136" y="159"/>
                  </a:lnTo>
                  <a:lnTo>
                    <a:pt x="4968" y="222"/>
                  </a:lnTo>
                  <a:lnTo>
                    <a:pt x="4812" y="267"/>
                  </a:lnTo>
                  <a:lnTo>
                    <a:pt x="4626" y="324"/>
                  </a:lnTo>
                  <a:lnTo>
                    <a:pt x="4440" y="366"/>
                  </a:lnTo>
                  <a:lnTo>
                    <a:pt x="4230" y="414"/>
                  </a:lnTo>
                  <a:lnTo>
                    <a:pt x="3939" y="468"/>
                  </a:lnTo>
                  <a:lnTo>
                    <a:pt x="3711" y="504"/>
                  </a:lnTo>
                  <a:lnTo>
                    <a:pt x="3441" y="543"/>
                  </a:lnTo>
                  <a:lnTo>
                    <a:pt x="3189" y="579"/>
                  </a:lnTo>
                  <a:lnTo>
                    <a:pt x="2925" y="606"/>
                  </a:lnTo>
                  <a:lnTo>
                    <a:pt x="2679" y="633"/>
                  </a:lnTo>
                  <a:lnTo>
                    <a:pt x="2418" y="654"/>
                  </a:lnTo>
                  <a:lnTo>
                    <a:pt x="2142" y="675"/>
                  </a:lnTo>
                  <a:lnTo>
                    <a:pt x="1896" y="693"/>
                  </a:lnTo>
                  <a:lnTo>
                    <a:pt x="1647" y="708"/>
                  </a:lnTo>
                  <a:lnTo>
                    <a:pt x="1404" y="720"/>
                  </a:lnTo>
                  <a:lnTo>
                    <a:pt x="1170" y="732"/>
                  </a:lnTo>
                  <a:lnTo>
                    <a:pt x="906" y="738"/>
                  </a:lnTo>
                  <a:lnTo>
                    <a:pt x="534" y="747"/>
                  </a:lnTo>
                  <a:lnTo>
                    <a:pt x="201" y="753"/>
                  </a:lnTo>
                  <a:lnTo>
                    <a:pt x="0" y="753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-20520"/>
              <a:ext cx="8388360" cy="1068120"/>
            </a:xfrm>
            <a:custGeom>
              <a:avLst/>
              <a:gdLst/>
              <a:ahLst/>
              <a:rect l="l" t="t" r="r" b="b"/>
              <a:pathLst>
                <a:path w="5284" h="673">
                  <a:moveTo>
                    <a:pt x="0" y="366"/>
                  </a:moveTo>
                  <a:lnTo>
                    <a:pt x="0" y="672"/>
                  </a:lnTo>
                  <a:lnTo>
                    <a:pt x="303" y="672"/>
                  </a:lnTo>
                  <a:lnTo>
                    <a:pt x="723" y="663"/>
                  </a:lnTo>
                  <a:lnTo>
                    <a:pt x="1020" y="654"/>
                  </a:lnTo>
                  <a:lnTo>
                    <a:pt x="1302" y="642"/>
                  </a:lnTo>
                  <a:lnTo>
                    <a:pt x="1554" y="630"/>
                  </a:lnTo>
                  <a:lnTo>
                    <a:pt x="1779" y="615"/>
                  </a:lnTo>
                  <a:lnTo>
                    <a:pt x="1962" y="606"/>
                  </a:lnTo>
                  <a:lnTo>
                    <a:pt x="2193" y="588"/>
                  </a:lnTo>
                  <a:lnTo>
                    <a:pt x="2448" y="570"/>
                  </a:lnTo>
                  <a:lnTo>
                    <a:pt x="2700" y="546"/>
                  </a:lnTo>
                  <a:lnTo>
                    <a:pt x="2904" y="528"/>
                  </a:lnTo>
                  <a:lnTo>
                    <a:pt x="3138" y="498"/>
                  </a:lnTo>
                  <a:lnTo>
                    <a:pt x="3324" y="474"/>
                  </a:lnTo>
                  <a:lnTo>
                    <a:pt x="3534" y="447"/>
                  </a:lnTo>
                  <a:lnTo>
                    <a:pt x="3735" y="420"/>
                  </a:lnTo>
                  <a:lnTo>
                    <a:pt x="3933" y="384"/>
                  </a:lnTo>
                  <a:lnTo>
                    <a:pt x="4116" y="351"/>
                  </a:lnTo>
                  <a:lnTo>
                    <a:pt x="4266" y="318"/>
                  </a:lnTo>
                  <a:lnTo>
                    <a:pt x="4446" y="279"/>
                  </a:lnTo>
                  <a:lnTo>
                    <a:pt x="4620" y="237"/>
                  </a:lnTo>
                  <a:lnTo>
                    <a:pt x="4779" y="192"/>
                  </a:lnTo>
                  <a:lnTo>
                    <a:pt x="4920" y="147"/>
                  </a:lnTo>
                  <a:lnTo>
                    <a:pt x="5085" y="90"/>
                  </a:lnTo>
                  <a:lnTo>
                    <a:pt x="5193" y="42"/>
                  </a:lnTo>
                  <a:lnTo>
                    <a:pt x="5283" y="0"/>
                  </a:lnTo>
                  <a:lnTo>
                    <a:pt x="3201" y="0"/>
                  </a:lnTo>
                  <a:lnTo>
                    <a:pt x="2982" y="57"/>
                  </a:lnTo>
                  <a:lnTo>
                    <a:pt x="2775" y="108"/>
                  </a:lnTo>
                  <a:lnTo>
                    <a:pt x="2562" y="150"/>
                  </a:lnTo>
                  <a:lnTo>
                    <a:pt x="2397" y="183"/>
                  </a:lnTo>
                  <a:lnTo>
                    <a:pt x="2205" y="213"/>
                  </a:lnTo>
                  <a:lnTo>
                    <a:pt x="2001" y="243"/>
                  </a:lnTo>
                  <a:lnTo>
                    <a:pt x="1776" y="273"/>
                  </a:lnTo>
                  <a:lnTo>
                    <a:pt x="1536" y="297"/>
                  </a:lnTo>
                  <a:lnTo>
                    <a:pt x="1344" y="312"/>
                  </a:lnTo>
                  <a:lnTo>
                    <a:pt x="1134" y="330"/>
                  </a:lnTo>
                  <a:lnTo>
                    <a:pt x="921" y="342"/>
                  </a:lnTo>
                  <a:lnTo>
                    <a:pt x="696" y="354"/>
                  </a:lnTo>
                  <a:lnTo>
                    <a:pt x="501" y="360"/>
                  </a:lnTo>
                  <a:lnTo>
                    <a:pt x="279" y="366"/>
                  </a:lnTo>
                  <a:lnTo>
                    <a:pt x="99" y="369"/>
                  </a:lnTo>
                  <a:lnTo>
                    <a:pt x="0" y="366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-20520"/>
              <a:ext cx="4578480" cy="453960"/>
            </a:xfrm>
            <a:custGeom>
              <a:avLst/>
              <a:gdLst/>
              <a:ahLst/>
              <a:rect l="l" t="t" r="r" b="b"/>
              <a:pathLst>
                <a:path w="2884" h="286">
                  <a:moveTo>
                    <a:pt x="0" y="0"/>
                  </a:moveTo>
                  <a:lnTo>
                    <a:pt x="0" y="285"/>
                  </a:lnTo>
                  <a:lnTo>
                    <a:pt x="192" y="285"/>
                  </a:lnTo>
                  <a:lnTo>
                    <a:pt x="384" y="282"/>
                  </a:lnTo>
                  <a:lnTo>
                    <a:pt x="579" y="276"/>
                  </a:lnTo>
                  <a:lnTo>
                    <a:pt x="789" y="267"/>
                  </a:lnTo>
                  <a:lnTo>
                    <a:pt x="999" y="258"/>
                  </a:lnTo>
                  <a:lnTo>
                    <a:pt x="1161" y="246"/>
                  </a:lnTo>
                  <a:lnTo>
                    <a:pt x="1302" y="234"/>
                  </a:lnTo>
                  <a:lnTo>
                    <a:pt x="1458" y="222"/>
                  </a:lnTo>
                  <a:lnTo>
                    <a:pt x="1665" y="201"/>
                  </a:lnTo>
                  <a:lnTo>
                    <a:pt x="1992" y="159"/>
                  </a:lnTo>
                  <a:lnTo>
                    <a:pt x="2301" y="117"/>
                  </a:lnTo>
                  <a:lnTo>
                    <a:pt x="2604" y="60"/>
                  </a:lnTo>
                  <a:lnTo>
                    <a:pt x="2883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8C55A-54FA-4DD8-9762-598BFAAE378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Základní úpol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laky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charakterem přetah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 charakterem přetlaků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stní odpory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  <a:ea typeface="Times New Roman"/>
              </a:rPr>
              <a:t>Prostorové vztahy základních úpol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219320" y="2036880"/>
          <a:ext cx="6781680" cy="459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036880"/>
                    <a:ext cx="6781680" cy="45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Přetahy, přetla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ah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tředivě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Symbol"/>
                <a:ea typeface="Symbol"/>
              </a:rPr>
              <a:t>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 přetlaků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koly (přetah za jednu paži)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peř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byl vychýlen do nerovnovážné poloh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olik, že musí změnit postoj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dotkl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teroukoliv částí těla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tahujícího cvič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   žádnou částí těla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se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dotýkal svého územ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</a:rPr>
              <a:t>-   </a:t>
            </a: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yl nucen paži napnou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Odp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ah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pory s charakterem přetlaků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lastní odpo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(vychýlit z rovnováhy)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měni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it předmět držený partner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žení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artnera (horizontálně i vertikálně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polohu určené části těla (končetiny, trup, hlava)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držet držený předmě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66"/>
                </a:solidFill>
                <a:latin typeface="Times New Roman"/>
              </a:rPr>
              <a:t>Úpolový cíl u odporů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tknout se nebo uchopit partnera (určenou část jeho těla), či předmětu, který drží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ění kontaktu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abránit dotyku nebo úchopu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1:45:10Z</dcterms:created>
  <dc:creator>Home</dc:creator>
  <dc:description/>
  <dc:language>en-US</dc:language>
  <cp:lastModifiedBy>Vit</cp:lastModifiedBy>
  <dcterms:modified xsi:type="dcterms:W3CDTF">2007-02-20T08:51:17Z</dcterms:modified>
  <cp:revision>2</cp:revision>
  <dc:subject/>
  <dc:title>Základní úpoly</dc:title>
</cp:coreProperties>
</file>