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9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1B7A-D9A8-4BB6-B21F-92D795739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A50F-DD0C-41AA-9BEE-62A7A5556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30DF-5F87-4C92-BB6E-12EE208F7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6F1-0B1B-4E87-ADB9-9AF30FD6E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43B49-27C6-44EA-8EBA-63736E3EF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7E1F5-B813-40EC-AE0F-63629BFD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3484-139B-4B37-BD08-9955CB456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B6D2-5E11-4287-A67D-0B5987C3D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4777-6B0F-4BD9-956E-61C3F34F3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60D64-9A31-4EBE-9ADA-E4E0EFD2F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13E8-2608-4475-9141-28027AE59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9901-A531-44CD-917F-C3EF67C3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B778B-EA53-4389-A9E3-BD940D84F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9CFF-5E88-4DE1-AFFB-26C5B493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B970-219C-4AE2-8172-73AB5396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6D6A1-EE81-4375-80AC-94A60068D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164124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3967920"/>
            <a:ext cx="250236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8E75-0D86-483A-9AFA-5E0DB5C6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5A5E-0D74-4CA5-8DEA-E6EBE059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E860-EBF7-47BF-A4C1-23AF7E53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AC49-9EA3-4CB2-9932-60D74C1B7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810-14D1-45AD-B100-A59F3E839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B9A8-C86D-48C5-B3E7-97226421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396792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78B0-41E0-4DFD-A4D1-F71EBB9A9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641240"/>
            <a:ext cx="37926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3967920"/>
            <a:ext cx="7772400" cy="21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807E-9C8E-44D2-973B-7062C5FFE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87E6-DA0B-440B-82DD-FBB9EB543E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396AB-7E9F-4E1F-958C-EFD8C2EEFC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14264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300" spc="-1" strike="noStrike">
                <a:solidFill>
                  <a:srgbClr val="ffff00"/>
                </a:solidFill>
                <a:latin typeface="Times New Roman"/>
              </a:rPr>
              <a:t>Úpolové sporty v Olympijském hnutí</a:t>
            </a:r>
            <a:endParaRPr b="0" lang="en-US" sz="43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Uznané IOC, ale nezařazené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Karate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World Karate Federation, WKF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Přetahování lane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Tug of War International Federation, TWI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Sum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Sumó Federation, ISF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Wušu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(International Wushu Federation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, IWF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Karat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781280" y="1285920"/>
            <a:ext cx="5311800" cy="53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Přetahování lane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095480" y="1365120"/>
            <a:ext cx="6861240" cy="48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Sum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1131840"/>
            <a:ext cx="7704000" cy="55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Wušu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168560"/>
            <a:ext cx="6769440" cy="54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Paralympijské úpolové sport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vozíčkářů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60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 pro zrakově postižené 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  <a:ea typeface="Times New Roman"/>
              </a:rPr>
              <a:t>1988</a:t>
            </a:r>
            <a:r>
              <a:rPr b="0" lang="sk-SK" sz="32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lympijské hnutí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zinárodní olympijský výbor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IOC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rganizační výbory olympijských 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árodní olympijsk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ýbo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zinárodní feder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árodní organiz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lub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otn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í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ortovci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00"/>
                </a:solidFill>
                <a:latin typeface="Times New Roman"/>
              </a:rPr>
              <a:t>V programu O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Šerm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Zápas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896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Box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190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Džúdó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1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964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Taekwondo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 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(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  <a:ea typeface="Times New Roman"/>
              </a:rPr>
              <a:t>2000</a:t>
            </a:r>
            <a:r>
              <a:rPr b="0" lang="sk-SK" sz="2800" spc="-1" strike="noStrike">
                <a:solidFill>
                  <a:srgbClr val="ffffff"/>
                </a:solidFill>
                <a:latin typeface="Verdana"/>
              </a:rPr>
              <a:t>)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Úpolové sporty na novodobých 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ympijských hrách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38080" y="915840"/>
          <a:ext cx="7521840" cy="594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15840"/>
                    <a:ext cx="7521840" cy="59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Šer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50920" y="1197000"/>
            <a:ext cx="8280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Zápa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38200" y="1227240"/>
            <a:ext cx="792144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92360" y="1251000"/>
            <a:ext cx="561636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Box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28560" y="1243080"/>
            <a:ext cx="790416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00"/>
                </a:solidFill>
                <a:latin typeface="Times New Roman"/>
              </a:rPr>
              <a:t>Džúdó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87400" y="1231920"/>
            <a:ext cx="7140600" cy="53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27:32Z</dcterms:created>
  <dc:creator>Home</dc:creator>
  <dc:description/>
  <dc:language>en-US</dc:language>
  <cp:lastModifiedBy>Vit</cp:lastModifiedBy>
  <dcterms:modified xsi:type="dcterms:W3CDTF">2007-02-20T08:58:53Z</dcterms:modified>
  <cp:revision>7</cp:revision>
  <dc:subject/>
  <dc:title>Úpolové sporty uznané IOC</dc:title>
</cp:coreProperties>
</file>