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CD3D-FB2D-482D-9207-37149E655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7756-29F8-464C-BFFA-B7458F54D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845F-4DA0-4853-88C2-FC41FA1B6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0B00D-7A09-47C0-AFF0-2ECE7A149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3E3D3-A7EF-483D-BE62-675D24FB4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46D6C-7A52-474E-A769-B56018929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F9F86-B5E8-4345-8D10-6C85959C9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B1A46-96F8-4E23-A030-BBF818F58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B31AE-0616-4FFE-ACDE-AFA1D5086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76732-7E7E-42AE-822D-D8474C7AE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98ABB-A3CE-43A4-AB62-66E88699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DC61-0C14-424D-8D4F-ACC4F6169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E085E-417D-4A13-B586-C9BB9F010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528EA-6DC0-4E24-93E2-D9B9C4238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8F944-56F5-4F37-9880-EE7865458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E039D-0DDD-4446-BC76-7C1ADCC1D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01DAD-9456-4559-9235-77B564F6B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79E95-396B-4019-9960-69BD9DEEE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CCDD-8D95-4CE2-A853-EB63EB906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C3DF-E435-47B3-BFB8-8CE52F6C7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7D29-B4F0-4F6C-A0A3-10D035999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8107-D39F-4FC9-BC76-026D7E9C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4B24-EE88-4A1E-A768-D92FEC3CE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ABBD-60A8-4305-BA10-121DB3206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66B93-804E-441B-A7A0-4D52B61C03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19E62-2647-4483-AE37-59AD82760F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e spor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Definice úpol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Definice úpolů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Cvičení, toliko za odporu jiného cvičence vykonatelné (Tyrš 186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Cvičení, při kterém přemáháme sílu jiného cvičence, který nám klade odpor, nebo s námi zápasí (Sokolská s. 193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Tělesná cvičení, jimiž se v přímém střetnutí s protivníkem usiluje o překonání jeho odporu či jeho přemožení (Fojtík 1980-9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Definice úpolů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Úpoly jsou pohybové aktivity zacílené na kontaktní fyzické překonání partner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o úpolů zařazujeme i specifická cvičení, která jsou přímou průpravou na kontaktní překonání partnera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Spor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Dvojí chápá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port jako činnost zaměřená na vrcholný výkon prezentovaný na soutěž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Sport jako jakákoliv zájmová pohybová činnost (Evropská charta sportu, 1992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1992 – Evropská charta sportu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„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všechny formy tělesné činnosti, které ať již prostřednictvím organizované účasti či nikoli, si kladou za cíl projevení či zdokonalení tělesné i psychické kondice, rozvoj společenských vztahů nebo dosažení výsledků v soutěžích na všech úrovních.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862 M. Tyr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vičení bez nářadí a bez pomoci nebo odporu jiných cvičenc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I. Cvičení nářaďová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        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III. Cvičení se skupin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</a:rPr>
              <a:t>IV. </a:t>
            </a:r>
            <a:r>
              <a:rPr b="0" lang="cs-C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Úpo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939 František Smotlach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Přirozená (biologická) cvičební sousta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8 skupin základních a speciálních cvik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VI. skupin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Počátky úbrany a boj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Úpoly: zápas, box, šerm, brana (džúdžucu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1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1945 Václav Fia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  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Základ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pohyby z 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ýkonné pohyby s p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d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Úpo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V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y a cviče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v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vod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y z 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 skluz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        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y z m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ta pomoc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rtov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níc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oprav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h pros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dk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anec a cvičen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rytmick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cvik prost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X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locvik na ná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d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X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hybové h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983 – Kody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heuristicko – individuál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 (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 úpoly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enzoricko – koncentra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izikové čin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steticko – koordina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 funk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ě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– mobilizač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činnosti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50560" y="198108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1985 Šprynar – Stráň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ndividuáln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porty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(atletika, gymnastika,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..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úpolov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porty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(zápas, box, šerm, vzp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írání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, 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-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rtov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ní h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technick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rt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st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ř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eleck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port</a:t>
            </a:r>
            <a:r>
              <a:rPr b="0" lang="sk-SK" sz="32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ffcc00"/>
                </a:solidFill>
                <a:latin typeface="Arial Black"/>
              </a:rPr>
              <a:t>Úpoly v soustavě TV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Arial"/>
              </a:rPr>
              <a:t>1997 J. Mus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.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ndividuáln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í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spor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tletick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Úpolov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I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Gymnastické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IX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.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 </a:t>
            </a:r>
            <a:r>
              <a:rPr b="1" lang="sk-SK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portov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</a:rPr>
              <a:t>ní</a:t>
            </a:r>
            <a:r>
              <a:rPr b="1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h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    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r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kové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I.</a:t>
            </a:r>
            <a:r>
              <a:rPr b="0" lang="sk-SK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    </a:t>
            </a:r>
            <a:r>
              <a:rPr b="0" lang="sk-SK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ojov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6T01:24:08Z</dcterms:created>
  <dc:creator>Home</dc:creator>
  <dc:description/>
  <dc:language>en-US</dc:language>
  <cp:lastModifiedBy>Vit</cp:lastModifiedBy>
  <dcterms:modified xsi:type="dcterms:W3CDTF">2007-02-20T08:33:39Z</dcterms:modified>
  <cp:revision>7</cp:revision>
  <dc:subject/>
  <dc:title>Úpoly ve sportu</dc:title>
</cp:coreProperties>
</file>