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7D4A-21B4-4F08-B01F-E360A567D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E47A8-E6AF-410B-9CB1-391E4AE3B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E1E5-6F1D-4FB6-9907-7439CBB4F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EDC0-59EF-4BF2-A7B6-A2C8E3A08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F9E37-6C6D-490A-B3E9-04A5F94D9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C4C92-413E-409F-91D8-355A4933D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893E2-3420-4B3B-84DE-2C6F20F25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D696B-C612-4703-8AFA-89BDB5541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2477E-D748-44CD-AC02-EDFEC728E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332D2-058D-4AD0-A5E9-C67786D22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D00D6-953C-4D7F-A933-23E8A4E4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5EF8-C7B5-4200-8098-1C2B84D26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AF227-E427-4920-A8B6-9DAD00AE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A8A6B-44C4-413E-B753-F0E7C487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EE480-8D27-4859-9CF9-4ED780711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F6578-BACB-4203-9617-F18C57F62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CBFE7-D873-4E5D-807D-11CF3DA4E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02E9-A95E-46C5-B933-CDC9A45CF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89CD-4439-447D-8EBD-C27895074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DE38-6D93-4DBC-9815-CE1597CCD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B251-D071-4FBE-82B2-1B35DA88B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6009-0691-425E-9AD6-62CC5D71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7B86-94AD-43D0-A6AD-DAB7C085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6583-D6B7-4D3E-A8E8-025172A6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D1928-71BA-425D-AB49-6225F22C2E9A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867F2-1F4E-481E-B804-AD750AC503D4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ff99"/>
                </a:solidFill>
                <a:latin typeface="Tahoma"/>
              </a:rPr>
              <a:t>Úpoly a pohybové hry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Úloha her v životě člověka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</a:rPr>
              <a:t>Napodobování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pracovní činnosti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společenské rol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životní situac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Poskytují</a:t>
            </a:r>
            <a:r>
              <a:rPr b="0" lang="cs-CZ" sz="2800" spc="-1" strike="noStrike">
                <a:solidFill>
                  <a:srgbClr val="f8f8f8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8f8f8"/>
                </a:solidFill>
                <a:latin typeface="Tahoma"/>
                <a:ea typeface="Times New Roman"/>
              </a:rPr>
              <a:t>způsob aktivního odpočinku s velkým kompenzačním a psychohygienickým účinkem</a:t>
            </a: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Definice h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000" y="1295280"/>
            <a:ext cx="8280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V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ýchovn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zam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ěřená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, uv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domel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e 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organizovan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á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kolekt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i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vn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í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s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outěžní</a:t>
            </a:r>
            <a:endParaRPr b="0" lang="en-US" sz="31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činnos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t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a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le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spoň dvo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u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str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a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n, vyplývaj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í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c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í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 z dop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ř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edu dohodnutého nám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tu a pravidel v účelný, s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ou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  <a:ea typeface="Times New Roman"/>
              </a:rPr>
              <a:t>vislý a uzav</a:t>
            </a:r>
            <a:r>
              <a:rPr b="0" lang="sk-SK" sz="3100" spc="-1" strike="noStrike">
                <a:solidFill>
                  <a:srgbClr val="f8f8f8"/>
                </a:solidFill>
                <a:latin typeface="Tahoma"/>
              </a:rPr>
              <a:t>řený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d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ě</a:t>
            </a:r>
            <a:r>
              <a:rPr b="0" lang="sk-SK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j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Rozdělení he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Společenské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8f8f8"/>
                </a:solidFill>
                <a:latin typeface="Tahoma"/>
              </a:rPr>
              <a:t>Tělovýchovné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8f8f8"/>
                </a:solidFill>
                <a:latin typeface="Tahoma"/>
              </a:rPr>
              <a:t>Pohybové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8f8f8"/>
                </a:solidFill>
                <a:latin typeface="Tahoma"/>
              </a:rPr>
              <a:t>I úpolové (překonávat odpor druhého hráče úpoly)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8f8f8"/>
                </a:solidFill>
                <a:latin typeface="Tahoma"/>
              </a:rPr>
              <a:t>Sportovní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15364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Pr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o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storové vz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t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ahy základn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íc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h úpol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</a:rPr>
              <a:t>ů</a:t>
            </a:r>
            <a:r>
              <a:rPr b="0" lang="sk-SK" sz="3600" spc="-1" strike="noStrike">
                <a:solidFill>
                  <a:srgbClr val="ffff99"/>
                </a:solidFill>
                <a:latin typeface="Tahoma"/>
                <a:ea typeface="Times New Roman"/>
              </a:rPr>
              <a:t> a pohybových her</a:t>
            </a:r>
            <a:r>
              <a:rPr b="0" lang="en-US" sz="2500" spc="-1" strike="noStrike">
                <a:solidFill>
                  <a:srgbClr val="ffff99"/>
                </a:solidFill>
                <a:latin typeface="Tahoma"/>
              </a:rPr>
              <a:t>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676520" y="2295360"/>
          <a:ext cx="5715000" cy="38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2295360"/>
                    <a:ext cx="5715000" cy="38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ff"/>
                </a:solidFill>
                <a:latin typeface="Tahoma"/>
              </a:rPr>
              <a:t>Úpolové hry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nejsou součástí systematiky úpolů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průpravné úpoly se ale mohou provádět i jako hra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D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efin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ice úpolové hry: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zábavn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á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, zpravidla soutěživ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</a:rPr>
              <a:t>á</a:t>
            </a:r>
            <a:r>
              <a:rPr b="0" lang="cs-CZ" sz="3200" spc="-1" strike="noStrike">
                <a:solidFill>
                  <a:srgbClr val="f8f8f8"/>
                </a:solidFill>
                <a:latin typeface="Tahoma"/>
                <a:ea typeface="Times New Roman"/>
              </a:rPr>
              <a:t> forma cvičení základních úpolů</a:t>
            </a: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18:42:55Z</dcterms:created>
  <dc:creator>Home</dc:creator>
  <dc:description/>
  <dc:language>en-US</dc:language>
  <cp:lastModifiedBy>Vit</cp:lastModifiedBy>
  <dcterms:modified xsi:type="dcterms:W3CDTF">2007-02-20T08:52:52Z</dcterms:modified>
  <cp:revision>12</cp:revision>
  <dc:subject/>
  <dc:title>Systematika úpolov</dc:title>
</cp:coreProperties>
</file>