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DED4-890D-40A0-805E-79C820F1D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71E5-CFBF-4A36-868B-755AD0B1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0CE-EF84-4DC2-AF02-87B3285FC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85D5-8CF7-4C27-897F-478A2EF3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36000-F93C-4095-A6E1-E487E7035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560A-F1C3-4E46-B0B7-BAC79545A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FE0EA-1122-41C7-A0C6-6C5B2DF5E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40779-410C-47FF-A009-B6A31E8D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1DD7-EA0B-46A2-A245-A726F5AD0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5347-80D0-4125-AB7F-335C8976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176F2-EF30-46B5-A3ED-E61DF445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C053-12B8-423E-8C13-A167C4A3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C8507-58C7-46D0-A158-3BC17777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8A6C7-756C-494F-9CC4-BBCD8493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D34D9-7945-4D7E-B8F3-B89EE8839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1A4B9-A638-4499-AE15-AC7662AF0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906A-8891-40D6-9F03-B203F8199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161E-45CE-4FE2-8E71-BA3C1F7CB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D87D-C96C-45B9-8B18-A21A014C0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822-D391-434D-931E-C091A497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D5B2-7921-4D12-869B-69088F5CA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22FD-BB0C-4D5A-BC22-DEDA8B9E8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FD21-7C01-4BFD-997B-B932D5905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DF6B-C8E8-4A99-9568-812A5686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385A-274F-45EC-AF7E-232D44192B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F229D-7447-4652-A443-FFF916760BF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idaktika p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á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dov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 technik</a:t>
            </a:r>
            <a:r>
              <a:rPr b="1" lang="sk-SK" sz="4000" spc="-1" strike="noStrike">
                <a:solidFill>
                  <a:srgbClr val="ffcc00"/>
                </a:solidFill>
                <a:latin typeface="Arial"/>
              </a:rPr>
              <a:t>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Velikost plochy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jednou částí těla (nejčastěji ruk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s více částmi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Cvičení v kontaktu trup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Intenzita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tyková zátěž stoupá s intenzitou dotyku: dotykový podnět je přenesen z povrchu dovnitř tě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tmý doty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cho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bjet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Taktilní zóna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se provádí v intimní vzdálenost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řazujeme postupně cviče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ruka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zády nebo dolními končetinami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 kontaktu přední části trupu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obli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č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jem, vnit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í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ranou</a:t>
            </a: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 steh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H</a:t>
            </a:r>
            <a:r>
              <a:rPr b="0" lang="cs-CZ" sz="4000" spc="-1" strike="noStrike">
                <a:solidFill>
                  <a:srgbClr val="ffcc00"/>
                </a:solidFill>
                <a:latin typeface="Arial Black"/>
              </a:rPr>
              <a:t>ygienické návyky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Cvičenci se navzájem dotýkají, je potřeba dbát 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Čistotu cvičenců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Správné ustrojení (vhodný cvičební úbor, NE:hodinky, náramky, náhrdelníky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Tahoma"/>
              </a:rPr>
              <a:t>Úpravu (nehty, poranění kože, líče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jsou nebezpečnější než jiné sportovní aktivity (rsp. jsou stejně nebezpečné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amezení zranění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Cvičení vhodná pro danou skupinu z hlediska stupně vývoje fyzického, psychického, sociálníh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Popis cvičení dokonale pochopitelný cvičenců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ě vymezené úkoly jednotlivých cvičenc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Jasné instrukce učitele (začátek a konec cvičení, přeruše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Bezpečnost u cvičení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jsou zodpovědni za bezpečnost svého spolucvič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Některá cvičení vyžadují určitou úroveň royvoje specifických úpolových dovedností (např. pádová technik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Emotivnost cvičení vtahuje cvičence do činnosti, jejich vědomá sebakontrola je omezen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bát na ontogenetické, fylogenetické, psychické a sociální faktory úpolů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ády v ontogenéze pohyb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3352320"/>
            <a:ext cx="8178840" cy="270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záde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Leh na bo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řevalování na str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asení koníč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ed a skutálení se vzad nebo strano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toj a pády vpř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strachu z pád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cit bezpeč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zdálenost těžiště od podložk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Rychlost pád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Způsob tlumení dopadové energi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vrch, na který se padá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1219320" y="2300400"/>
            <a:ext cx="6324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Dostatečné zvládnutí základních pádů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z nižších polo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cvičovat pomal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pády bez zaražení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ff00"/>
                </a:solidFill>
                <a:latin typeface="Tahoma"/>
              </a:rPr>
              <a:t>Nejdřív na měkký povrch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Pořadí nácviku základních pádových techník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bez převra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bez zaraž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trano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před s převratem a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zad bez převratu se zaražen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228600"/>
            <a:ext cx="8356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ek je prvním a univerzálním (v ontogenéze i fylogenéze) komunikačním prostředkem člově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Moderní, informační společnost znehodnocuje komunikační funkci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Tělesná výchova a sport umožňuje znovuobjevování dotek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je emotivní, cvičenci „zapomínají“, že se stydí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Kontakt: základní znak úpolů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 výuce musíme respektov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Věk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některá kritická období psychosexuálního vývoj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hlaví cvičenců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u koedukované výuk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Individuální zkušenost s dotykem </a:t>
            </a:r>
            <a:r>
              <a:rPr b="0" lang="sk-SK" sz="2400" spc="-1" strike="noStrike">
                <a:solidFill>
                  <a:srgbClr val="ffffff"/>
                </a:solidFill>
                <a:latin typeface="Tahoma"/>
              </a:rPr>
              <a:t>(zejména negativní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eterminanty fzyického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Mediátor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Doba trvání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Velikost plochy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Intenzita kontakt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Taktilní zón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Mediátor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 prostřednictvím předmětu, nebo bezprostřední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oděv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Oděv –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okožka - pokožk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ffcc00"/>
                </a:solidFill>
                <a:latin typeface="Arial Black"/>
              </a:rPr>
              <a:t>Doba trvání kontaktu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Nejdřív zařazujeme cvičení s krátkodobým kontaktem (dotknout se soupeřova ramen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ak cvičení s delší dobou nevyhnutného kontaktu (udržet co nejdéle soupeřovo zápěst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3T09:21:32Z</dcterms:created>
  <dc:creator>Sally Reynolds</dc:creator>
  <dc:description/>
  <dc:language>en-US</dc:language>
  <cp:lastModifiedBy>HOME</cp:lastModifiedBy>
  <dcterms:modified xsi:type="dcterms:W3CDTF">2006-03-12T11:54:20Z</dcterms:modified>
  <cp:revision>12</cp:revision>
  <dc:subject/>
  <dc:title>Social Firms From NHS</dc:title>
</cp:coreProperties>
</file>