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2C7D-7A6E-4EBD-9AD6-EFDBA777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FB53-320B-4CAE-9BC5-B350F5E0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EC2E-8EC5-4BC0-ADD3-9485D57B2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E450-596B-4362-B1AB-2E44AD22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3F324-6639-4B96-8016-93B1D0D64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97F40-82A0-484E-BF88-3ED2DFFC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1B53C-3087-40B9-ABB9-8CB1E2C30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1266E-5417-4266-A61B-C0F5C473C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75BA0-5DB6-4D68-9182-A8BAEABD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F60F-11F0-40E5-8A50-36E876325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380B6-2BCE-4AF3-A3B8-CD17DE43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8CCA-1C34-4963-A6C6-0B64A59F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25E2E-A22D-4928-9B80-CED03171A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0E1A-F51A-47CF-9784-8E4D78AE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D6CB5-D1F0-4E45-85C7-52CB4A70A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B158B-264A-4259-9130-15FE131D9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FC4E-6564-45DF-84AB-87667CD7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9046-5C9F-4F9D-A9D8-96A41DE5D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B06-9F99-4C62-A88E-DE006943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63EC-B636-426E-968F-4CE9F8322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8929-81B8-43EC-B0AF-E9B2C57F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5D21-A0C6-43CE-8CC0-3BEFF930C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3A8D-D863-4312-AFC2-1C86F59AF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C83D-0430-406B-A230-DCB464A25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CB67-5DBB-462C-B71B-50DC3A86A19F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41AC8-4D67-40D8-A94F-3ECF6904CE00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Název bojová uměn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astěji se používá od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r.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1989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ejednotné chápán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zijské systém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 o úpolových sporte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– martial arts (ang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Art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uměn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Martial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vztahující se k bohu Marsovi (řecky Áres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bojový, vojenský, válečný, souvisejíci s bojem a válkou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(definice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  <a:ea typeface="Times New Roman"/>
              </a:rPr>
              <a:t>zejména pohybové systémy, které se vyvinuli ze starých způsobů boje, a které se dnes provádějí jako součást životní cesty, pro sport, sebeobranu, nebo je jejich cílem zachování tradice a kulturního dědictví.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, co se dotýká vedení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echniky, taktika, technolog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y jsou pohybovými aktivitami, pracují s kontaktem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á umění a úpol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09480" y="2257560"/>
          <a:ext cx="7927920" cy="3611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2257560"/>
                    <a:ext cx="7927920" cy="36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16:45:27Z</dcterms:created>
  <dc:creator>Home</dc:creator>
  <dc:description/>
  <dc:language>en-US</dc:language>
  <cp:lastModifiedBy>Vit</cp:lastModifiedBy>
  <dcterms:modified xsi:type="dcterms:W3CDTF">2007-02-20T09:03:30Z</dcterms:modified>
  <cp:revision>4</cp:revision>
  <dc:subject/>
  <dc:title>Bojová umění</dc:title>
</cp:coreProperties>
</file>