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297-110E-456D-9893-CFF1A98BB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FA60-D7F5-4237-9086-3D32775A1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2211-5362-49DD-8C2C-CCAE2C3B1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4690-69B0-4827-975B-6C80B5E4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42A37-26EF-493E-B195-24813D766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23B0C-93D5-4E41-9071-54F1C27DD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E4FA-9348-48B8-B971-5AFA3722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ED20-EDA1-4518-8653-A0261855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6EC1C-0F33-4A96-B786-65385445D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19E6-99A0-40A8-AE27-C47D9EC60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9043-23BB-4383-A882-7883FA54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D97-AC2A-49EC-B72A-731A83AAB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920CB-84B8-4284-A287-48D9BDDF7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A044-4F22-4F77-9A05-CA69F72C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DAFA-9900-4054-B7ED-FA555BF4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5CD9-8741-4B37-A7E4-96EFE5E41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A20F-3391-4759-9EAC-257B59FAD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6962-999B-4FF2-8995-6BD9AC8E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30BB-DEBC-41F2-B4CB-B187D8F35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33FE-C0B0-4F4F-B251-5B09A4CBD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CF39-F1E2-4439-A1F4-435E3E68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5664-BF01-41C0-B5ED-9FAD6568C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E686-E58C-46C0-BDCB-53A9E7568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224-F30E-46C2-86D9-147077D6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2A3C-E072-40ED-B92B-F92E0B8677CF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395F-6EA5-473E-A3A9-5CE4FFB29598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ystematika (taxonomie)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ebeobran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zniká aplikací úpolů 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</a:rPr>
              <a:t>pro potřeby</a:t>
            </a:r>
            <a:r>
              <a:rPr b="1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utné obra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í (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beobrana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 ž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rofes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</a:t>
            </a: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8</a:t>
            </a: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 algn="just">
              <a:spcBef>
                <a:spcPts val="799"/>
              </a:spcBef>
              <a:buClr>
                <a:srgbClr val="ffffcc"/>
              </a:buClr>
              <a:buFont typeface="Times New Roman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u jiných cviče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   Cvičení nářaďov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   Cvičení se skupině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 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1862 Sokolská soustava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. bez náčiní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dpory. Cílem je jenom překonávat odpor spolucviče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nc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a jeho činnost je dopředu známá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ápas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e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jen  odpor protivníkovi, ale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naha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řemoci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o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 Shodit ho na zem tak, aby se stal jeho další odpor nemožný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ox – rohování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Ú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tok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žemi nebo nohami, jako i odvracení těchto útok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B. s náčiním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 šerm šavl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 šerm fleuretem (končířem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šerm holí: krátkou (80-100 cm), dlouhou (do výše cvičencovy brady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4. šerm bodáke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775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. </a:t>
            </a:r>
            <a:r>
              <a:rPr b="0" lang="cs-CZ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šerm dýkou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Autoři zabývající se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1939 - F. Smotlach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3 – J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avl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6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57 – R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Kříž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7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0 – V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Roubíče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84 – I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Fojtí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993 – M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Ďur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Taxonomi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erarchické zařazení určitých prvků podle předem stanovených kriteri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nejjednodušších po nejsložitějš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stupuje se od vývojově starších k mladší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Sleduje i d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aktické cíl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Schéma systematik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. úroveň úpolových p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ř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dpoklad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rů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avné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. úroveň úpolových systém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ů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ové 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or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Wingdings"/>
                <a:ea typeface="Wingdings"/>
              </a:rPr>
              <a:t>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3. úroveň úpolových aplik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0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c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bran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ostorové vztahy úpolů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2235240" y="1447920"/>
          <a:ext cx="467352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35240" y="1447920"/>
                    <a:ext cx="467352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Průpravné úpol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Průpravná cvičení pro jednotlivé úpolové sporty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</a:rPr>
              <a:t>, sebeobranu a tělesnou výchovu a sport</a:t>
            </a: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Rozvíjejí úpolové předpoklady pro nácvik úpolových sportů a sebeobran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ová technik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ákladní úpo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Times New Roman"/>
              </a:rPr>
              <a:t>Úpolové sporty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ejvětší a rozhodující skupin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a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úpolů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amostatné úpolové systémy. Vzájemně se odlišují znaky, jako vlastní název, vývoj, prostředky, organizace</a:t>
            </a:r>
            <a:r>
              <a:rPr b="1" i="1" lang="sk-SK" sz="2400" spc="-1" strike="noStrike">
                <a:solidFill>
                  <a:srgbClr val="ffffcc"/>
                </a:solidFill>
                <a:latin typeface="Times New Roman"/>
              </a:rPr>
              <a:t>,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dělení (podle zaměření)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outěž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Sebeobrann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sk-SK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omplexně rozvíjejíc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2:01:25Z</dcterms:created>
  <dc:creator>Home</dc:creator>
  <dc:description/>
  <dc:language>en-US</dc:language>
  <cp:lastModifiedBy>Reguli</cp:lastModifiedBy>
  <dcterms:modified xsi:type="dcterms:W3CDTF">2007-03-07T10:29:29Z</dcterms:modified>
  <cp:revision>7</cp:revision>
  <dc:subject/>
  <dc:title>Systematika (taxonomie) úpolů</dc:title>
</cp:coreProperties>
</file>