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6308-56BC-4C76-BD53-D694C156B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6A08-A024-4EEB-9C94-450556FF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2B7F-B12C-4370-980F-3337ACF30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7B1-B0EE-4591-90EF-9BE27171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D1F83-430A-416B-B80B-82E2D001A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50A76-B6C8-426A-8B93-0D99CB73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09EFD-F30C-4CAB-95FB-0A0B98A45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EB3D2-EF41-41B1-9E8C-9CB2DAA1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499FC-6BD2-45E1-B61F-01BCC24A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4619-A713-457E-800B-E4B7B2E62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4875-A1B2-4D05-870D-CD38FEE2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CC43-018B-420E-92B3-1C5962BF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0882B-9C82-4772-9448-46F2E694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11BA1-2D66-4385-83EC-2788CE75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299D8-9866-4C84-B0EA-B1C5CA62C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31FCF-0AA0-469F-BA66-CDBD3083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1014-2EAA-4EE5-AC5C-DDCB612E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1162-192C-4F04-88FB-1C320E3AF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FE2-DDED-4078-A62A-A0C17E14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084-AF04-440A-8209-B36103D4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1269-1414-4F07-A7B8-DF15FDCD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F2B9-4449-4CCF-B010-004E6F05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CC41-673C-4835-ADD0-8C8A99384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3E06-1C62-4AB7-A50B-69F9D8ADB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BF7F-A5B0-490D-85C4-321144C8B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4623-321C-4CDD-9A18-8075374FD6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057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cc66"/>
                </a:solidFill>
                <a:latin typeface="Times New Roman"/>
              </a:rPr>
              <a:t>Úpolové sporty na světových hrách</a:t>
            </a:r>
            <a:endParaRPr b="0" lang="en-US" sz="43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Formy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80880" y="1641240"/>
            <a:ext cx="83822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ální souboj dvou soupeřů s využitím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hodů, držení apod. v boji v postoji i na zemi (džůdó, zápas, sumó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(box, karate (kumite), taekwondo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úderů/kopů a hodů, držení atd. (wušu (sanšou), džúdžucu (fighting systém)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technik se zbraněmi (šer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upinový souboj dvou družstev (přetahování lane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kázky technik úpolového sportu se zbraněmi nebo beze zbra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individuální (karate (kata), wušu (taolu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skupinové (aikidó, karate, wušu, džúdžuc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ůvod úpolových sport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98984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vropské (přetahování lanem, še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euroamerické (box, zápas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asijské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japonské (aikidó, džůdó, džůdžucu, karate, sumó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korejské (taekwond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čínské (wušu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Světové hry – předsíň OH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aždé 4 roky, rok po OH (2005, Duisbur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uje Mezinárodní sdružení světových her (International World Games Association, IWGA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d patronátem Mezinárodního olympijského výboru 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současnosti 32 sport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é sporty v programu WG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Aikid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žuc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Aikid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477800" y="1546200"/>
            <a:ext cx="6046920" cy="51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Džúdžucu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700360" y="906480"/>
            <a:ext cx="39402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28920" y="1523880"/>
            <a:ext cx="3655800" cy="50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826920" y="1521000"/>
            <a:ext cx="694872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11280" y="1469880"/>
            <a:ext cx="79135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ercentuální podíl úpolových sportů na olympijských a světových hrách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457200" y="2438280"/>
          <a:ext cx="8077320" cy="2971800"/>
        </p:xfrm>
        <a:graphic>
          <a:graphicData uri="http://schemas.openxmlformats.org/drawingml/2006/table">
            <a:tbl>
              <a:tblPr/>
              <a:tblGrid>
                <a:gridCol w="2666880"/>
                <a:gridCol w="1981440"/>
                <a:gridCol w="1981080"/>
                <a:gridCol w="144792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3680">
                      <a:solidFill>
                        <a:srgbClr val="ffcc66"/>
                      </a:solidFill>
                    </a:lnR>
                    <a:lnT>
                      <a:noFill/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elk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portů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Z toho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úpolových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% podí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(letní) Olympijsk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cc66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7,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větové hr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cc66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cc66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cc6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42:32Z</dcterms:created>
  <dc:creator>Home</dc:creator>
  <dc:description/>
  <dc:language>en-US</dc:language>
  <cp:lastModifiedBy>Vit</cp:lastModifiedBy>
  <dcterms:modified xsi:type="dcterms:W3CDTF">2007-02-20T09:02:29Z</dcterms:modified>
  <cp:revision>5</cp:revision>
  <dc:subject/>
  <dc:title>Úpolové sporty na světových hrách</dc:title>
</cp:coreProperties>
</file>