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A87A-87B5-4252-8D16-0D697626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7982-48E0-457C-A7F1-7209DC76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768D-AEF3-401A-8CCB-E462BA122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62FF-CD66-4532-ABD3-55BC91BE2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3B81F-1403-49A6-874E-C4A3D7DB9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3833-8C25-4CDD-B0C1-8A908F9E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6BC3-AE7D-444F-8BC5-6A7C5FB6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B7573-226D-4DD1-A1B2-506986370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420DE-2A0F-40A1-A5DB-C923A5E6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8A158-6164-42BA-8E77-E4BF0EC3A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0DFD0-78F3-49C9-831C-81E3D27C7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F305-6769-4369-8896-7FA7FED3F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9276F-B62D-47C5-83C9-F1FD484C6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E50DB-C627-4FF1-AE31-A85CFA29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1EF6A-5459-411C-AC65-11734FDE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8CE4E-F547-412F-BCB5-D0254AA83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83D9-8765-451A-9A4E-2A06360F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53EA-3037-49BE-9C9D-0C7E40495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EFBA-50AC-4B87-9329-C76AEF13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B36-0AB1-4182-8F3D-0A918A81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8B38-37F2-4121-B4F6-EAFB2E9C5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DFC2-9E38-426C-ABD6-EA48EB84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516-D433-4103-906C-1C75341D7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489-C320-4D83-9045-A7CBDAE82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FC94-5B8C-489F-BC76-D0BBDA91C965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92C0-023F-4C28-A278-0B9E144E64B1}" type="slidenum"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Z historie úpolových činnost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685600" y="3492000"/>
            <a:ext cx="61023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akralizace – posvěcení násilí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ové činnosti jako nedílná součást vzdělání a dobrých mrav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řeba omluvy násilí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Boží vůl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yšší ideál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Společenská nevyhnutelnost (sebeochran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Helénské období – starověké Řec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formační zdro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istori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ozofové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et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anhelénské hry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lympijské hr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ápas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l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18. Olympiáda, 706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x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ygmé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23. Olympiáda, 68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Všeboj </a:t>
            </a:r>
            <a:r>
              <a:rPr b="1" lang="sk-SK" sz="3200" spc="-1" strike="noStrike">
                <a:solidFill>
                  <a:srgbClr val="ffffcc"/>
                </a:solidFill>
                <a:latin typeface="Arial"/>
              </a:rPr>
              <a:t>pankration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 (33. Olympiáda, 648 pnl.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Kalokagat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Řecký ideál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jení duševní a tělesné krás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V různých městských státech byla jinak chápána (Atény...Sparta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60360" y="20520"/>
            <a:ext cx="8388360" cy="5227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44960" y="5465880"/>
            <a:ext cx="50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Řecko, amfora s malbou od Andocides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525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Řím – úpadek sportu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Gladiatorské zápas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rofesionalizmu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eci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rutaliza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ozvoj vojenství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- Evrop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7 ctností (septem probitates)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jízda na koni (equ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plavání (na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ukostřelba (sagi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zápas (caestibus), šerm (certa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ov (aucupari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šach (scacis ludere),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veršování (versificare)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i – samurajové, Japonsko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unbu rjódó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vojí cesta – vzdělání v boji i kultuř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á výchov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7 let páž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14 let pano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Od 21 let rytíř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axe rytířů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válk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turnaje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Do 15. – 16. století bojový charakt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cc"/>
                </a:solidFill>
                <a:latin typeface="Arial"/>
              </a:rPr>
              <a:t>Fiktivní systém inscenovaných soubojů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rehistori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Úpolové činnosti na počátku lidstva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Lov a získávání potrav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j, ochrana rodu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Tělesná cvičení, hr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Měšťanská a lidová kultur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řesťanství : Ora et labora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(modli se a pracuj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Společenské vrstvy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bellatores (ti, kteří válč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oratores (ti, kteří se modlí, duchovenstvo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laboratores (ti, kteří pracují)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Rytířské akademie (17. 18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ástup humanizmu, znovuobjevování antických i rytířských ideá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Rytířské akade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ilantropin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17160" y="49320"/>
            <a:ext cx="863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Úpoly v tělovýchovných systémech (19. stol.)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ěmecko – turnérské hnutí (vlastenectví+branná příprava+gymnastika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Švédsko – gymnastika vojenská, pedagogická, zdravotní, estetická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Francie – F. Amoros, tělesná výchova pro mládež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nglie – orientace na spor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Postupná diferenci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Na počátku – všichni všechn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zději rozdělení (i  s vnitřní specializací)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Lov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- Bojovní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Zdokonalení technologií = zdokonalení boj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17160" y="79272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Elektronické informační zdroj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Kronos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 Chronological history of the Martial Arts and Combative Sport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http://ejmas.com/krono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Starověké civilizac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Archeologický výzkum dokazuje existenci řízeného nácviku úpolů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Ind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Mezopotámi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Egyp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328680" y="0"/>
            <a:ext cx="4027320" cy="6669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5272200" y="2081160"/>
            <a:ext cx="333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580000" y="2421000"/>
            <a:ext cx="316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31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Rukojeť obřadního nože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4959360" cy="63277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415120" y="1341360"/>
            <a:ext cx="3731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Sumer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Naleziště Džafaja u Bagdádu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80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Bronzová soška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03120" y="5321160"/>
            <a:ext cx="8085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Egypt, Ben Hasan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Hrobka prince Chetiho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cc"/>
                </a:solidFill>
                <a:latin typeface="Times New Roman"/>
              </a:rPr>
              <a:t>2050 př.n.l.</a:t>
            </a:r>
            <a:endParaRPr b="0" lang="en-US" sz="2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"/>
              </a:rPr>
              <a:t>Bojovníci – mýtičtí hrdinové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řiznání magických vlastností bojovníkům – hrdinům: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Bohové nebo jejich potomc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Potomek boha a člověka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cc"/>
                </a:solidFill>
                <a:latin typeface="Arial"/>
              </a:rPr>
              <a:t>Člověk ve spojení s božskou sílou (předmětem)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5T22:21:27Z</dcterms:created>
  <dc:creator>Home</dc:creator>
  <dc:description/>
  <dc:language>en-US</dc:language>
  <cp:lastModifiedBy>Vit</cp:lastModifiedBy>
  <dcterms:modified xsi:type="dcterms:W3CDTF">2007-02-20T08:42:32Z</dcterms:modified>
  <cp:revision>8</cp:revision>
  <dc:subject/>
  <dc:title>Z historie úpolových činností</dc:title>
</cp:coreProperties>
</file>