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FF9D6-7CAD-440C-805D-E44E41C86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0D0E-40B2-4B42-BAF8-7FA83D72F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4C0B-DF45-4FB3-AE8B-8B455E8E5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892E-6AB2-4370-918F-9D39F349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7AA1-230D-4149-B393-92139264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93A11-C12F-4DD8-B2E9-6A9675776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5686-EA6E-46CC-820E-5FFEED134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99A6C-79C4-4526-8846-9C609E95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7933-1717-4636-A49B-9F241144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1CCB-4A0F-4DA6-AD07-3589571E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6139-F372-42B5-9ACB-579AC19E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88BB-B8AD-4A24-BD10-708F64F1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31A26-B2B5-4DD4-8956-6FE6A7456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BFB9-096D-402D-820F-865D17F48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2B929-C0F0-402E-8877-A38835CF0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38914-CE79-44C4-950C-B8A8F3CDD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432FE-F06B-497E-8DA1-111CFC8F7F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90A1-1FD9-4F3B-8F98-B5FC57BA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0B4B-18AE-492F-AD70-D0A9E10AC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8B05-3E26-4D0B-AC1A-C32CD244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D06B-0290-4FF4-B2B1-685E0B38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08C0-F6B9-4733-97BC-335DAA6D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9B2A-6CEA-41FE-B1F9-2103410F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32B9-C956-4B14-8302-05A921350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18320" y="420120"/>
                <a:ext cx="4268160" cy="4035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37000" y="840600"/>
                <a:ext cx="3431160" cy="31946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255320" y="1261080"/>
                <a:ext cx="2594520" cy="2354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590120" y="1597680"/>
                <a:ext cx="1924560" cy="16812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8640" y="3515400"/>
                <a:ext cx="3249000" cy="30268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837240" y="3830760"/>
                <a:ext cx="2611800" cy="239616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4410720" y="4398480"/>
                <a:ext cx="1464840" cy="12610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4851360" y="506880"/>
                <a:ext cx="3630960" cy="340524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207760" y="861480"/>
                <a:ext cx="2918880" cy="26956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563440" y="1216080"/>
                <a:ext cx="2207160" cy="198648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003399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84F7-AF86-43D6-92C0-339D9BCA7797}" type="slidenum">
              <a:rPr b="1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18320" y="420120"/>
                  <a:ext cx="4268160" cy="4035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837000" y="840600"/>
                  <a:ext cx="3431160" cy="31946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1255320" y="1261080"/>
                  <a:ext cx="2594520" cy="2354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1590120" y="1597680"/>
                  <a:ext cx="1924560" cy="16812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3518640" y="3515400"/>
                  <a:ext cx="3249000" cy="30268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837240" y="3830760"/>
                  <a:ext cx="2611800" cy="239616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4410720" y="4398480"/>
                  <a:ext cx="1464840" cy="12610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4851360" y="506880"/>
                  <a:ext cx="3630960" cy="340524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5207760" y="861480"/>
                  <a:ext cx="2918880" cy="26956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5563440" y="1216080"/>
                  <a:ext cx="2207160" cy="198648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003399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00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00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F112-DD4E-42D4-8268-9B86D35E3177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6600"/>
              </a:buClr>
              <a:buSzPct val="110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raty těl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tace kolem podélné osy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s pohyby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yužití – úhyby, přemístění, hody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V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 vztahu k partnerovi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 partnerov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 partne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ím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obratem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místění skokem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ískoky 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  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dskok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Chů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kročení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unem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Pohyb začíná noh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63880" indent="-2638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řed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řemístěn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inimalizování vertikálního pohybu těžiště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ustálý kontakt s podložk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rtikální stabilit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ednota pohybu těla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ntakt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hor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lními končetinam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t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u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avou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vázání kontakt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působ kontaktu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dotyk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chope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bjetí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vedání, nošení a spouštění živého břeme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těžiště obou cvičenců m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jí být co nejblíž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řemeno zvedáme silou z pokrčených noho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</a:rPr>
              <a:t>z</a:t>
            </a: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áda jsou narovnan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achování stability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směru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pře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zad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ranou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mbinova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otočení kolem příčné osy těl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převrate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převratu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1680" indent="-30168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způsobu tlumení pádu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zaražení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653760" indent="-25128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e zaražením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ád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letové fáz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bez letové fáz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 letovou fází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úrovně ve které pád začíná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 postoje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ze snížených poloh,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rovádějícího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echtě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cíle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270720" indent="-27072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odle partnera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 algn="just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ne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586800" indent="-22572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úmyslné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eaeaea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Základní úpolová technik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loh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chody (mezi poloham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paž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ohyby noh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obraty těl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řemístění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navázání kontakt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zvedání, nošení a spouštění živého břemen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            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(partnera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-294840" algn="just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110000"/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Courier New"/>
                <a:ea typeface="Times New Roman"/>
              </a:rPr>
              <a:t>o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       pád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Stře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ravý stře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levý střeh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Úroveň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podní střeh (od pásu dolů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dní střeh (v úrovni trup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orní střeh (v úrovni krku a hlav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Poloh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postoj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klek (na jednom, nebo na obo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olenech, případně ve vzporu, či podporu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klečmo – vysoký a nízký parter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sed (s oporou, nebo bez opory 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paži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00"/>
              </a:spcBef>
              <a:buClr>
                <a:srgbClr val="99ccff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cs-CZ" sz="28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střehový leh (za zádech, na boku a na břichu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ff"/>
                </a:solidFill>
                <a:latin typeface="Times New Roman"/>
              </a:rPr>
              <a:t>Biomechanické faktory stabilit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plochy opory (čím je plocha opory větší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ýška těžiště nad plochou opory (čím je těžiště níž, tím je poloha stabilnější)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velikost úhlu stability (polohou těžiště nad plochou opory, čím ostřejší je úhel stability, tím je poloha stabilnější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řechod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vyšší polohy do niž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 nižší polohy do vyšš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paž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pohybové vzor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Navázání kontaktu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Všechny úder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Provázání pohybu těla s pohybem paží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66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hyby nohou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Kop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cc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eaeaea"/>
                </a:solidFill>
                <a:latin typeface="Times New Roman"/>
              </a:rPr>
              <a:t>Základní krok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20:54:38Z</dcterms:created>
  <dc:creator>Home</dc:creator>
  <dc:description/>
  <dc:language>en-US</dc:language>
  <cp:lastModifiedBy>Vit</cp:lastModifiedBy>
  <dcterms:modified xsi:type="dcterms:W3CDTF">2007-02-20T08:48:50Z</dcterms:modified>
  <cp:revision>7</cp:revision>
  <dc:subject/>
  <dc:title>Základní úpolová technika</dc:title>
</cp:coreProperties>
</file>