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0077-933A-45DF-9945-74AB7B24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8C86-A40E-43B3-A08E-6B2125CE6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54DE-48B6-4AB9-BD88-49BA856E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F8AB-0B54-44B6-9344-10C74463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9A630-13CE-4F9A-B407-37C487B38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50A9F-A5DD-4338-818A-61ABC06D0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03A8-D74A-498D-9ADC-60778D59A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AD01-67E2-493F-AAA1-701A4845B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1CB06-3258-4551-AA95-FC3D44AE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623E-0B9E-45FB-B7D8-8E3484495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E310C-E286-4875-B5B8-7D782ADF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B504-C1A5-41F6-90D8-46B54962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CB28C-3854-423B-9F46-4C53B95E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A1824-DD02-442F-A853-B59273573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EFD4D-E224-4086-AC8A-7BAC16A35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B18D2-1AB6-407E-99AE-8CAEE8CB7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B73CD-5A40-4F0E-9943-3472CFA26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CF7-C2C6-4AE7-9CDA-4C51C9423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FC28-6D3F-419E-82E3-AB877F4C6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0B40-E804-41F6-9AA7-7E996698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A0A59-1E22-4B1C-BE1A-57A858EB8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47CB-A1B8-4582-90AC-0642A6B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F845-801B-4301-80AE-3BB13347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1D44-F7B5-4221-BF18-88EE9EAB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069A6-F223-4888-B5F1-3D5F023E47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FC95-7522-44AC-81B3-6C49FE8FBF9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cc00"/>
                </a:solidFill>
                <a:latin typeface="Arial"/>
              </a:rPr>
              <a:t>Biomechanika p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odopadová poloha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Le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toj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Kinematická analýz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ád 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09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2" name="075" descr=""/>
          <p:cNvPicPr/>
          <p:nvPr/>
        </p:nvPicPr>
        <p:blipFill>
          <a:blip r:embed="rId1"/>
          <a:stretch/>
        </p:blipFill>
        <p:spPr>
          <a:xfrm>
            <a:off x="609480" y="2743200"/>
            <a:ext cx="2210040" cy="1673280"/>
          </a:xfrm>
          <a:prstGeom prst="rect">
            <a:avLst/>
          </a:prstGeom>
          <a:ln w="0">
            <a:noFill/>
          </a:ln>
        </p:spPr>
      </p:pic>
      <p:pic>
        <p:nvPicPr>
          <p:cNvPr id="113" name="076" descr=""/>
          <p:cNvPicPr/>
          <p:nvPr/>
        </p:nvPicPr>
        <p:blipFill>
          <a:blip r:embed="rId2"/>
          <a:stretch/>
        </p:blipFill>
        <p:spPr>
          <a:xfrm>
            <a:off x="3048120" y="2743200"/>
            <a:ext cx="2171520" cy="1644480"/>
          </a:xfrm>
          <a:prstGeom prst="rect">
            <a:avLst/>
          </a:prstGeom>
          <a:ln w="0">
            <a:noFill/>
          </a:ln>
        </p:spPr>
      </p:pic>
      <p:grpSp>
        <p:nvGrpSpPr>
          <p:cNvPr id="114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15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8" name="077" descr=""/>
          <p:cNvPicPr/>
          <p:nvPr/>
        </p:nvPicPr>
        <p:blipFill>
          <a:blip r:embed="rId3"/>
          <a:stretch/>
        </p:blipFill>
        <p:spPr>
          <a:xfrm>
            <a:off x="5410080" y="2733840"/>
            <a:ext cx="2210040" cy="1671480"/>
          </a:xfrm>
          <a:prstGeom prst="rect">
            <a:avLst/>
          </a:prstGeom>
          <a:ln w="0">
            <a:noFill/>
          </a:ln>
        </p:spPr>
      </p:pic>
      <p:pic>
        <p:nvPicPr>
          <p:cNvPr id="119" name="078" descr=""/>
          <p:cNvPicPr/>
          <p:nvPr/>
        </p:nvPicPr>
        <p:blipFill>
          <a:blip r:embed="rId4"/>
          <a:stretch/>
        </p:blipFill>
        <p:spPr>
          <a:xfrm>
            <a:off x="609480" y="4648320"/>
            <a:ext cx="2133720" cy="1616040"/>
          </a:xfrm>
          <a:prstGeom prst="rect">
            <a:avLst/>
          </a:prstGeom>
          <a:ln w="0">
            <a:noFill/>
          </a:ln>
        </p:spPr>
      </p:pic>
      <p:pic>
        <p:nvPicPr>
          <p:cNvPr id="120" name="079" descr=""/>
          <p:cNvPicPr/>
          <p:nvPr/>
        </p:nvPicPr>
        <p:blipFill>
          <a:blip r:embed="rId5"/>
          <a:stretch/>
        </p:blipFill>
        <p:spPr>
          <a:xfrm>
            <a:off x="2971800" y="4619520"/>
            <a:ext cx="2209680" cy="1671840"/>
          </a:xfrm>
          <a:prstGeom prst="rect">
            <a:avLst/>
          </a:prstGeom>
          <a:ln w="0">
            <a:noFill/>
          </a:ln>
        </p:spPr>
      </p:pic>
      <p:grpSp>
        <p:nvGrpSpPr>
          <p:cNvPr id="121" name=""/>
          <p:cNvGrpSpPr/>
          <p:nvPr/>
        </p:nvGrpSpPr>
        <p:grpSpPr>
          <a:xfrm>
            <a:off x="2529000" y="1913040"/>
            <a:ext cx="4085640" cy="1011240"/>
            <a:chOff x="2529000" y="1913040"/>
            <a:chExt cx="4085640" cy="1011240"/>
          </a:xfrm>
        </p:grpSpPr>
        <p:sp>
          <p:nvSpPr>
            <p:cNvPr id="122" name=""/>
            <p:cNvSpPr/>
            <p:nvPr/>
          </p:nvSpPr>
          <p:spPr>
            <a:xfrm>
              <a:off x="252900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90880" y="1913040"/>
              <a:ext cx="136152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2760" y="1913040"/>
              <a:ext cx="1361880" cy="101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25" name="080" descr=""/>
          <p:cNvPicPr/>
          <p:nvPr/>
        </p:nvPicPr>
        <p:blipFill>
          <a:blip r:embed="rId6"/>
          <a:stretch/>
        </p:blipFill>
        <p:spPr>
          <a:xfrm>
            <a:off x="5410080" y="4648320"/>
            <a:ext cx="2210040" cy="16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ffcc00"/>
                </a:solidFill>
                <a:latin typeface="Arial Black"/>
              </a:rPr>
              <a:t>Pád vzad s převratem bez zaražení</a:t>
            </a:r>
            <a:endParaRPr b="0" lang="en-US" sz="3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Z 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ostoj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zakročíme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 a přes podřep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dosedneme na hýždě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na vnější stranu stehna zadní nohy. Převalíme se křížem přes záda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. N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ohy ve vrcholné fázi co nejvíce skrčíme, což způsobí zrychlení 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převratu</a:t>
            </a:r>
            <a:r>
              <a:rPr b="0" lang="cs-CZ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. Obě ruce opřeme o zem a pomůžeme si jimi do podřepu na obou nohách. Kolena se při přechodu do podřepu nesmí dotknout země.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Fázy pádové techni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"/>
          <p:cNvSpPr/>
          <p:nvPr/>
        </p:nvSpPr>
        <p:spPr>
          <a:xfrm>
            <a:off x="2567160" y="20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1424160" y="2033640"/>
          <a:ext cx="6119640" cy="425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4160" y="2033640"/>
                    <a:ext cx="6119640" cy="42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ovnováha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ou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čet všech p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b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í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 s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 a silových moment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ů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musí 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být 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ov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 nule (∑F</a:t>
            </a:r>
            <a:r>
              <a:rPr b="0" lang="sk-SK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r>
              <a:rPr b="0" lang="sk-SK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0)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Statická („nepohyb“, v=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Dynamická (rovnoměrný přímočarý pohyb, v=kons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ušení rovnováhy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ější síly (ex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nitřní síly (endogenní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Iniciace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n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dd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stavy t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lesa od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(odstrá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n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,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)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u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z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nou plochou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(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ško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ením, uvol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ím)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Zrušením záv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n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 algn="just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opor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lochy (dotyk s podložkou z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stá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á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sobu opory o podložku 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styku s podložkou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 algn="just">
              <a:lnSpc>
                <a:spcPct val="90000"/>
              </a:lnSpc>
              <a:spcBef>
                <a:spcPts val="4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Porušením samotn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 podložky (posunutím, zm</a:t>
            </a:r>
            <a:r>
              <a:rPr b="0" lang="cs-CZ" sz="20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000" spc="-1" strike="noStrike">
                <a:solidFill>
                  <a:srgbClr val="ffffff"/>
                </a:solidFill>
                <a:latin typeface="Tahoma"/>
                <a:ea typeface="Times New Roman"/>
              </a:rPr>
              <a:t>nou povrchu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Vo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l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ný pád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 z výšky v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než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 výšky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z výšky do 152 met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Pád z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1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stoj</a:t>
            </a:r>
            <a:r>
              <a:rPr b="1" lang="cs-CZ" sz="3200" spc="-1" strike="noStrike">
                <a:solidFill>
                  <a:srgbClr val="ffffff"/>
                </a:solidFill>
                <a:latin typeface="Tahoma"/>
              </a:rPr>
              <a:t>e: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ád,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u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ho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padaj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dopadá na podložku z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 k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r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é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tratil rovnováh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loha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Vertik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hlavou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noham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Horizontáln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– če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ebo 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ády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dol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bo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blíž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s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 k 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mto dv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ěm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 polohá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o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ce t</a:t>
            </a: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ě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  <a:ea typeface="Times New Roman"/>
              </a:rPr>
              <a:t>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s 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Pády bez rot</a:t>
            </a: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Padá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Změny poloh a pohyb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Akt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Pasivní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Kontrola padá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ekontrolované pád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rim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ekundár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Poraně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Místn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zdálen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Dopad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Vertik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Noh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Kol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ýždě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Hlav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Tahoma"/>
              </a:rPr>
              <a:t>Horizontální polo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Čel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Zad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Tahoma"/>
              </a:rPr>
              <a:t>Boční plo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7-01-04T22:01:08Z</dcterms:modified>
  <cp:revision>16</cp:revision>
  <dc:subject/>
  <dc:title>Social Firms From NHS</dc:title>
</cp:coreProperties>
</file>