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2E0-5EC2-4C76-B542-CEE15C5C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445-9D6D-4429-86D7-589BD44D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FE28-0596-4DDD-B32C-D4202288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2C52-093A-49ED-952E-C079FE97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4670-C43E-4B6F-86B8-00E0625A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9484-35B0-4DEA-8151-E2FF03EF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1EAF-11C6-45AB-8A3A-649F0D7A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7522-080C-43E3-91ED-31AB2F74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78FA-E784-480E-8146-4C7A599B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BC0A-8321-4CD9-876A-85BD2009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DF0F-9BA3-4D13-9DDA-35F89541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08D2-B04A-4F2F-8A81-03B45BF9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53CC-A6F0-480F-86C5-95DDE247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65F1-A489-45B9-B4D2-47E268D0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BE7F-E230-4A4E-AD76-F8181269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6766-98AC-4339-A776-CACCA68C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7CD0-962B-4B82-AAD4-5CD96565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C727-FA2A-4550-966F-538F7C84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B08-CFB3-47D0-A479-4A9BACE6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9FD-A683-44C5-99EB-E6E36F4E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3B6-95FE-41CC-8B10-241CC66C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20E-68E9-4D1F-829F-C0804569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CA5-2C92-4EDA-88F2-5B6DE0B9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E629-7063-4086-9EDF-A2EC4012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9986-9567-4FC5-B2D4-ACB162066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2202-D029-40D9-9F1E-490808B75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í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7-13T22:08:34Z</dcterms:modified>
  <cp:revision>13</cp:revision>
  <dc:subject/>
  <dc:title>Úpoly v osnovách školní TV</dc:title>
</cp:coreProperties>
</file>