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283-8FFE-47A6-B646-BA534717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63D-55C2-4759-8906-58F88E87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9AF-846D-4738-8311-7EF4CE63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01B2-1F27-4E76-9EED-E68261C1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21D8-CBFE-472B-BE61-683B5986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66B3-07F1-4EAA-82DC-7212FE48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030A-C6BD-43A0-8CCB-89AB50F2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2AF4-2860-459F-97C9-3CA97060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9703-0095-4A82-A2D7-27376276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C46A-B267-4D5F-8A9D-E383C814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9A49-9A9D-4F8A-B65D-6D6CDA99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6A36-8868-4B57-82D6-5FC0E3D7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0ADA-AC1F-4D18-895A-EC27E936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86C3-A05F-4228-AB0E-A729B7E7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DD9D-E042-4940-9851-C96DF672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91BF-B990-40F2-9C6D-27A43A30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2A9E-2169-44B9-87E0-29FE211C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AB08-E138-47EA-ABB4-FD821FB3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73E9-405F-41D9-A2D3-BF5B951F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8ECE-F8BA-46D8-8714-D700C87C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AA70-4EE2-4969-9C96-E7498CE9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35B-61AD-4863-B759-67579050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53B-0941-4677-9C8A-F8C9B1A1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FCA7-DEB2-4218-8F4D-654D05C2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A1EA-8883-4005-999A-4BC6080CC1F7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ED9B-BA8D-41E6-A561-D9F36FE9782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ště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y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í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lenech, případně ve vzporu, či podpo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lečmo – vysoký a nízký part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ž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úhlu stability (polohou těžiště nad plochou opory, čím ostřejší je ú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Vit</cp:lastModifiedBy>
  <dcterms:modified xsi:type="dcterms:W3CDTF">2007-02-20T08:48:50Z</dcterms:modified>
  <cp:revision>7</cp:revision>
  <dc:subject/>
  <dc:title>Základní úpolová technika</dc:title>
</cp:coreProperties>
</file>