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0991-2251-4225-9D0C-6EFF19F41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EF6B-4D1D-40D2-914A-D5A0EAFF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3A50-9269-4BFE-B44D-7FF591675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BC8F-D668-4BB9-929A-89881AD88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F79B-F6AB-4E94-9E36-791304C3F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5DC1-DC8E-4B38-AD65-1CFD1CDE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0FF5-7084-4846-A94B-E250ACF4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CCE2-A824-47E6-9B0F-ADD13D86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B503-70A1-4020-BF6D-949B838C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2F42-E63A-44C1-996C-23B3FE59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18F9-6A2D-46EE-B30C-8A52CED3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5D6A-1A85-42E4-871F-22F9F391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0E96-A188-4C84-B1E0-7EEFF05A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5424-49D5-4DEC-BFF8-E6CF0655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A5BD-315B-478C-8E6A-19787AB8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8001-CE40-4D05-AD65-EFF81580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F047-9D61-4BE5-8802-31E7A9A9A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BF32-A9FC-4557-8D6A-7F61B9C9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A127-0885-433F-8AE6-62CF361F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268C-F310-4BB7-9AA5-DCBD05A9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D113-04F7-4B2F-A410-B745199A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D532-7840-4A10-A791-17CC1596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E3FE-86A7-4CE6-B8D9-0974C24E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15F6-0E93-472A-B711-8730701C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BA3C-54AE-4074-A3B1-8E5795D1D91B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C1FD-D8A9-4EB9-A97A-6AA54A01174F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Z historie úpolových činnost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akralizace – posvěcení násil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ové činnosti jako nedílná součást vzdělání a dobrých mrav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řeba omluvy násil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Boží vů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yšší ideá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Společenská nevyhnutelnost (sebeochran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Helénské období – starověké Řec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formační zdro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istori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ozofové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et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anhelénské h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lympijské hr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ápas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l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18. Olympiáda, 706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x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ygm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23. Olympiáda, 68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boj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nkration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33. Olympiáda, 64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Kalokagat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Řecký ideál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jení duševní a tělesné krás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 různých městských státech byla jinak chápána (Atény...Spart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0360" y="20520"/>
            <a:ext cx="8388360" cy="522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4960" y="5465880"/>
            <a:ext cx="50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Řecko, amfora s malbou od Andocide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25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Řím – úpadek sport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Gladiatorské zápas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rofesionalizm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eci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rut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ozvoj vojenstv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- Evrop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7 ctností (septem probitates)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jízda na koni (equ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lavání (na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ukostřelba (sag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zápas (caestibus), šerm (cer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ov (aucupari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šach (scacis lude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veršování (versificare)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– samurajové, Japons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unbu rjódó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vojí cesta – vzdělání v boji i kultuř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á výchov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7 let páž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14 let pano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21 let rytí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axe rytířů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turna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o 15. – 16. století bojový charak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Fiktivní systém inscenovaných soubojů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ehistor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ové činnosti na počátku lidstva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 a získávání potrav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ochrana rodu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ělesná cvičení, h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Měšťanská a lidová kultur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řesťanství : Ora et labor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(modli se a pracuj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lečenské vrstv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bellatores (ti, kteří válč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oratores (ti, kteří se modlí, duchovenstvo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aboratores (ti, kteří pracuj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é akademie (17. 18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ástup humanizmu, znovuobjevování antických i rytířských ideá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akade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antropin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Úpoly v tělovýchovných systémech (19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ěmecko – turnérské hnutí (vlastenectví+branná příprava+gymnastik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Švédsko – gymnastika vojenská, pedagogická, zdravotní, estetick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rancie – F. Amoros, tělesná výchova pro mláde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nglie – orientace na spo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ostupná diferenci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a počátku – všichni všechn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zději rozdělení (i  s vnitřní specializací)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Lov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Bojovní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dokonalení technologií = zdokonalení bo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9272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Elektronické informační zdro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ron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 Chronological history of the Martial Arts and Combative Spor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ttp://ejmas.com/kron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tarověké civiliz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rcheologický výzkum dokazuje existenci řízeného nácviku úpo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d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Mezopotá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Egyp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8680" y="0"/>
            <a:ext cx="4027320" cy="6669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272200" y="2081160"/>
            <a:ext cx="333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0000" y="2421000"/>
            <a:ext cx="3168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31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Rukojeť obřadního nož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959360" cy="6327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415120" y="1341360"/>
            <a:ext cx="373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um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aleziště Džafaja u Bagdádu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8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Bronzová sošk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3120" y="5321160"/>
            <a:ext cx="808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, Ben Hasa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robka prince Chetih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05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níci – mýtičtí hrdinové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řiznání magických vlastností bojovníkům – hrdinům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hové nebo jejich potom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omek boha a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lověk ve spojení s božskou sílou (předmětem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2:21:27Z</dcterms:created>
  <dc:creator>Home</dc:creator>
  <dc:description/>
  <dc:language>en-US</dc:language>
  <cp:lastModifiedBy>Vit</cp:lastModifiedBy>
  <dcterms:modified xsi:type="dcterms:W3CDTF">2007-02-20T08:42:32Z</dcterms:modified>
  <cp:revision>8</cp:revision>
  <dc:subject/>
  <dc:title>Z historie úpolových činností</dc:title>
</cp:coreProperties>
</file>