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4C56-64B2-4794-9082-D2F0BD6E3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95D4-6409-4251-882D-0D67D57ED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F72B-C81B-4871-8C2D-12E694BCA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3809-1F02-4BCA-B0DB-AA4F6020B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F857D-53AD-4AE3-AF8C-7C370653F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85685-7A51-45BF-BA2A-9AE051CC8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C1605-6E87-4B7E-9A6B-D6010653D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BD3A0-90C4-41A6-A455-547CBE146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EEBC5-AF49-4C29-8105-6C453F772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20660-B596-4EA4-89DC-DA31D954C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DF476-5AFC-4AE5-BC39-E043F5D4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D800-3DE1-4606-9AD4-F538D9388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ADE72-87D7-487C-8B49-E2BE3E3E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FF8C3-2F69-4291-97CD-B466BD11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86B2B-79DB-4E53-8981-031C94D0C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FE136-65B1-4499-A468-CFB79CC4B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6BDD0-12D9-46BA-AF7D-4BC6081DD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1971-378A-477C-B126-8BBD8FCC5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676D-B8E9-4C4A-A941-0B2484581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92CE-3A7D-480D-B2C5-54EC680B6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5981-D249-421D-A9E6-8EB39F79F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7EE7-2E33-463E-AB83-0D310694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297B-E420-4FB4-9BA9-9341EA99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F519-F147-42D7-BD96-61A7F592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536FC-14A8-4027-80B4-F64566540DFB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AFB60-1573-4343-A851-8EA9FD20FF53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ystematika (taxonomie) úpolů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ebeobran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zniká aplikací úpolů </a:t>
            </a:r>
            <a:r>
              <a:rPr b="1" i="1" lang="sk-SK" sz="3200" spc="-1" strike="noStrike">
                <a:solidFill>
                  <a:srgbClr val="ffffcc"/>
                </a:solidFill>
                <a:latin typeface="Times New Roman"/>
              </a:rPr>
              <a:t>pro potřeby</a:t>
            </a:r>
            <a:r>
              <a:rPr b="1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nutné obran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cc"/>
                </a:solidFill>
                <a:latin typeface="Times New Roman"/>
              </a:rPr>
              <a:t>Rozdělení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osobní (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a </a:t>
            </a: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beobrana</a:t>
            </a: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 žen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rofes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chéma systematik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 úroveň úpolových p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ř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dpoklad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rů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avné úpo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 úroveň úpolových systém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ové 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or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 úroveň úpolových aplik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b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bran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1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8</a:t>
            </a: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62 Sokolská soustav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 algn="just">
              <a:spcBef>
                <a:spcPts val="799"/>
              </a:spcBef>
              <a:buClr>
                <a:srgbClr val="ffffcc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ičení bez nářadí a bez pomoci neb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   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dporu jiných cvičenc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.    Cvičení nářaďov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I.   Cvičení se skupině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V.  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1862 Sokolská soustav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. bez náčiní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dpory. Cílem je jenom překonávat odpor spolucviče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nce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a jeho činnost je dopředu známá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Zápas.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Ne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jen  odpor protivníkovi, ale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snaha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řemoci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ho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 Shodit ho na zem tak, aby se stal jeho další odpor nemožný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ox – rohování.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Ú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ok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y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ažemi nebo nohami, jako i odvracení těchto útok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. s náčiním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 šerm šavl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 šerm fleuretem (končířem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šerm holí: krátkou (80-100 cm), dlouhou (do výše cvičencovy brady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4. šerm bodáke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5.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šerm dýkou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Autoři zabývající se úpol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1939 - F. Smotlach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53 – J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avl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56 – V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Roub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57 – R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Kříž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70 – V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Roub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80 – V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Roub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84 – I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Fojtí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93 – M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Ďure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Taxonomi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erarchické zařazení určitých prvků podle předem stanovených kriteri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stupuje se od nejjednodušších po nejsložitějš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stupuje se od vývojově starších k mladší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Sleduje i d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</a:t>
            </a: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daktické cí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chéma systematik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 úroveň úpolových p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ř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dpoklad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rů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avné úpo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 úroveň úpolových systém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ové 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or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 úroveň úpolových aplik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b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bran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Prostorové vztahy úpolů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235240" y="1447920"/>
          <a:ext cx="467352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5240" y="1447920"/>
                    <a:ext cx="467352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Průpravné úpol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ůpravná cvičení pro jednotlivé úpolové sporty</a:t>
            </a:r>
            <a:r>
              <a:rPr b="1" i="1" lang="sk-SK" sz="2800" spc="-1" strike="noStrike">
                <a:solidFill>
                  <a:srgbClr val="ffffcc"/>
                </a:solidFill>
                <a:latin typeface="Times New Roman"/>
              </a:rPr>
              <a:t>, sebeobranu a tělesnou výchovu a sport</a:t>
            </a: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ozvíjejí úpolové předpoklady pro nácvik úpolových sportů a sebeobran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Základní úpolová technik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Základní úpo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Úpolové sport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N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jvětší a rozhodující skupin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úpolů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mostatné úpolové systémy. Vzájemně se odlišují znaky, jako vlastní název, vývoj, prostředky, organizace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, ..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dělení (podle zaměření)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outěžn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beobrann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K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mplexně rozvíjející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02:01:25Z</dcterms:created>
  <dc:creator>Home</dc:creator>
  <dc:description/>
  <dc:language>en-US</dc:language>
  <cp:lastModifiedBy>Reguli</cp:lastModifiedBy>
  <dcterms:modified xsi:type="dcterms:W3CDTF">2007-03-07T10:29:29Z</dcterms:modified>
  <cp:revision>7</cp:revision>
  <dc:subject/>
  <dc:title>Systematika (taxonomie) úpolů</dc:title>
</cp:coreProperties>
</file>