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FC61-1F1D-4E6D-9575-E46A7A77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BC9A-C260-46D9-A067-5D1BDAC9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4DED-105A-44E5-9D32-20DB60CB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5D02-E57D-4C60-A66A-438B6DB7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E2AC-A374-4000-9524-00154237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089D-97F1-456A-83AF-A3AEAF82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7BD2-B6AA-48AE-A5AC-8382C0BF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7EE4-A2D2-4AE4-A1DB-0A29531F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14C0-2463-48AC-BD6E-05EAE91A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C74A-24AE-4311-BDDE-E04B9165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7B17-34C8-41F6-A96C-A894AA55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982E-7EA9-49FD-B254-CBC75103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41F1-8ED9-4567-9834-BDFFD072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61FC-6373-49B5-A39D-FB638183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10EA-6E7C-4CB1-BCC7-1DFB7001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AA47-3F13-4ADB-AF69-D2B14E18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4E25-F8E1-409C-A805-F941A43E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1D16-5903-4B0A-906A-9B53020C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4870-1CFA-4E54-9BD4-16D35BA3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5716-FAD2-4319-8291-E5724ECB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8491-7BDE-4E6A-85D0-5180487F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59D9-4E2D-4BC4-B78F-BC97FF11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0FA3-5951-4F33-AE64-5C625A47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6696-6CEB-4235-BA1F-78649146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49DE-DD8C-4316-80C2-1D61B1B89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8651-54DF-4B0B-A2AF-21328E78C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Úpoly v osnovách školní TV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šiřující 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 sebeobran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te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římý úder rovnostran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chní, vnější kr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p vpř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ůpravné úpol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přetahy a přetla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ju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aiki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karatedó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Specifické poznatky, n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áv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y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ýznam úpolových spor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pro sebeobranu a bran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filozofie sebeobran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nnos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, 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í aspekty vy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zne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boj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prvk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zpe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uvol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l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a; u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dom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si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ži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; s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d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os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specifika bezpe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osti 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ol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Pohybov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avn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é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ahy,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laky,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l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h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ostoje,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a pohyb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sto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h, odpory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ch, sled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pohyb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reagu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pohyb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Sebeo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 na zemi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boj o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k z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zemi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obje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c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u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Dopor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en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roz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š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ř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uj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al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vh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ebeob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žú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at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raz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ó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o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Aiki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a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(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uty, vyto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Karate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 stejnost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hor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sp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v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ry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op v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cc6600"/>
                </a:solidFill>
                <a:latin typeface="Times New Roman"/>
              </a:rPr>
              <a:t>říklad celoročního plánu pro I. roč. gymnázia, chlapci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76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Obsah úpolů z pohledu jejich taxonomi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pravné úp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polové spo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ebeobr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33320" y="3193920"/>
            <a:ext cx="365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stupeň         1. stupe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987640" y="473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Náro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.-9. roč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 a úpolové odpory v různých polohách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pád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vybraného úpolového sport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znatky, návy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ka osvojovan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vní aspekty využití a zneužití úpolových činností, etický přínos úpo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ka bezpečnosti a hygieny při úpolových činnos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uhy úpolových spor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hybov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úpolové odpory v různých poloh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 (vzad skulením do kolébky, kotoulem přes rameno, stranou, převalem, navazování pád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odpory v 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 držení na zemi (jen 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 (zpředu, zeza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ikidó – přidržení paže, výkrut zápěstí, vytočení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karatedó – přímý úder rovnostranný, vrchní kryt, vnější kryt, kop vpř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1. a 2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 kondiční...cvičení je možné zařazovat průpravné přetahy a přetla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3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5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, kondiční...cvičení je možné zařazovat pohybové činnosti z celé škály průpravných úpolů a zdůrazňovat význam vhodné aktivní obrany a přípravy na 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ko rozšiřující může být využito učivo další vzdělávací etapy, přizpůsobené úrovni a zájmům žák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ojmy osvojovaných činností, názvy úpolových sportů, výstroje,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filozofie bojových a sebeobranných činností, právní aspekty využití a zneužití úpolov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rincipy uvolňování a zpevňování těla a jeho částí, uvědomování si těžiště, správného dýchání a přenosu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sady bezpečnosti při úpolových cvičen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ůpravné ú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, úpolové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y (vzad skulením do kolébky, kotoulem přes rameno (stranou, převalem), navazování pá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, držení a pohyb v postojích, odpory v 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 držení na zemí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az ógoš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ki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přidržení paže (výkruty, vytočení zápěst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 by měl žák umět (vědě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význam sebeobranných činností a své možnosti ve střetu s protivní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následky zneužití bojových činností a chová se v duchu fair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vede pojmenovat osvojova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vládá základní postoje, úchopy a vyproštění z drž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9:35:44Z</dcterms:created>
  <dc:creator>HOME</dc:creator>
  <dc:description/>
  <dc:language>en-US</dc:language>
  <cp:lastModifiedBy>HOME</cp:lastModifiedBy>
  <dcterms:modified xsi:type="dcterms:W3CDTF">2006-07-13T22:08:34Z</dcterms:modified>
  <cp:revision>13</cp:revision>
  <dc:subject/>
  <dc:title>Úpoly v osnovách školní TV</dc:title>
</cp:coreProperties>
</file>