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AB74-ADF6-46D1-B6C4-5E88C55E0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7382-F904-4E3F-8A99-6C950F2A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774B-1EB9-4012-B95C-0588EE405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49B6-8951-4863-A19F-9770D46FE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D174B-C5BB-4403-B089-F93F11A5E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5933-6D0E-41A4-96EB-33CBDD3A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064B-5F34-43E1-864F-B4379FED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7E08-4A9D-45BB-94C4-79A76CC7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CD1D-08CD-4F40-8426-812E81EE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00CD-AE0D-46E0-B710-529E837A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6F74-351C-47B5-8C63-BDD6FD19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3C8F-0215-429C-BB7D-526B5035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AE8A-4F79-45DE-91BD-315541D9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DF7E-C45E-4DDD-B646-B6101B38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35F6-DE38-4700-9743-EEE87FD0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3C88-D95C-4325-873B-E08D94711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2FEF-ACF1-4DD9-8C6A-EE3F18EB2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467B-5C5A-45B2-BAC6-F5D5E1ED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89EB-E660-4048-9291-84C5D4F3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7A3B-6E8F-46DA-A180-83D36402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EE50-6FB6-46DF-93DE-5FDCE28C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155D-FC20-40AD-A81E-A01FDBEC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B2E5-E3D1-4289-AC25-FBD9D50D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736E-603A-47AC-A896-D7BB5639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8472-2B90-4665-8C2A-B9254443085A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EED5-FB23-4B6B-8C07-960A1C201A3E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99"/>
                </a:solidFill>
                <a:latin typeface="Tahoma"/>
              </a:rPr>
              <a:t>Úpoly a pohybové hry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loha her v životě člově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Napodobování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racovní činnosti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společenské rol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životní situac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oskytují</a:t>
            </a: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způsob aktivního odpočinku s velkým kompenzačním a psychohygienickým účinkem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Definice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29528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ýchov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zam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řená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, u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domel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e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organizova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kolekt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i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v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outěžní</a:t>
            </a:r>
            <a:endParaRPr b="0" lang="en-US" sz="31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činno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t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a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le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spoň dvo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u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str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a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n, vyplývaj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c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z dop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ř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edu dohodnutého nám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tu a pravidel v účelný, 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ou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vislý a uza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řený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d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Rozdělení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Společenské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Tělovýchovné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Pohybové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8f8f8"/>
                </a:solidFill>
                <a:latin typeface="Tahoma"/>
              </a:rPr>
              <a:t>I úpolové (překonávat odpor druhého hráče úpoly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Sportovní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153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Pr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o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storové vz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t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ahy základn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íc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h úpol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ů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 a pohybových her</a:t>
            </a:r>
            <a:r>
              <a:rPr b="0" lang="en-US" sz="25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676520" y="2295360"/>
          <a:ext cx="571500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95360"/>
                    <a:ext cx="57150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polové h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nejsou součástí systematiky úpolů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průpravné úpoly se ale mohou provádět i jako hra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D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efi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ice úpolové hry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zábav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, zpravidla soutěživ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forma cvičení základních úpolů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8:42:55Z</dcterms:created>
  <dc:creator>Home</dc:creator>
  <dc:description/>
  <dc:language>en-US</dc:language>
  <cp:lastModifiedBy>Vit</cp:lastModifiedBy>
  <dcterms:modified xsi:type="dcterms:W3CDTF">2007-02-20T08:52:52Z</dcterms:modified>
  <cp:revision>12</cp:revision>
  <dc:subject/>
  <dc:title>Systematika úpolov</dc:title>
</cp:coreProperties>
</file>