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1F84-3E52-4F9B-8BDB-B91953F82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DEB6-E945-4895-A195-60458B49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C647-0D3A-48CF-8760-BC91BF055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52A0-3ADC-4057-BDC7-FCB214482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6884-A8BF-4FE3-AE43-167E22A7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2F73-0C70-4943-86A5-63A40282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BFD4-2B92-4AD0-9A97-6255431F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554F-ACC7-48E0-831D-EFC31843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2EAD-4AE5-4B2D-9088-878575BC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D64B-F001-4393-AF8D-0DC3D721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408C-AD90-4E15-ADE8-72A5D19E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7269-FDAB-444E-9111-5842DC2E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3950-13D3-4334-B00C-4FD70ECC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1850-8D74-4473-B703-4AF4155D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7981-D27B-43DA-B066-C9C8742B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D8A0-B99D-462A-8EE8-E91CC7A3E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0AE6-3F1E-45A8-919A-3EB8E1959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4E2A-0044-4A4C-ABD5-26428293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ED3E-B457-4856-8C1F-56EC309A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4C6F-38C3-4185-B711-E8BCFA70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C67C-2841-460F-B9A0-DEFEDDD9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57DB-FAD3-4738-94B4-11AA2E66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A54F-1B9E-4BFD-A8C7-87A2CCD8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8932-CD91-4203-A586-03E2A480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E6FF-9752-48B2-B901-F1921DF6933C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CD62-DAF3-48D0-8BA5-ACFD92C07F3C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Název 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astěji se používá od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.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198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ejednotné chápán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zijské systém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 o úpolových sportec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– martial arts (ang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Art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uměn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Martial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vztahující se k bohu Marsovi (řecky Áre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bojový, vojenský, válečný, souvisejíci s bojem a válkou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(definice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zejména pohybové systémy, které se vyvinuli ze starých způsobů boje, a které se dnes provádějí jako součást životní cesty, pro sport, sebeobranu, nebo je jejich cílem zachování tradice a kulturního dědictví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, co se dotýká vedení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echniky, taktika, technolog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y jsou pohybovými aktivitami, pracují s kontakt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9480" y="2257560"/>
          <a:ext cx="7927920" cy="361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57560"/>
                    <a:ext cx="792792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16:45:27Z</dcterms:created>
  <dc:creator>Home</dc:creator>
  <dc:description/>
  <dc:language>en-US</dc:language>
  <cp:lastModifiedBy>Vit</cp:lastModifiedBy>
  <dcterms:modified xsi:type="dcterms:W3CDTF">2007-02-20T09:03:30Z</dcterms:modified>
  <cp:revision>4</cp:revision>
  <dc:subject/>
  <dc:title>Bojová umění</dc:title>
</cp:coreProperties>
</file>