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994B-1FF2-4CF3-BC68-7E0173B4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A522-DA2A-44B0-98D0-4E2EB20C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471F-8479-4633-BCAA-82D5AB08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A286-4BC3-4135-829B-9F19DCE2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363C-133B-48A4-A39C-C3681338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E817-13C6-4752-ABEE-CED0C810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BDD2-449D-4B36-AEEF-CC5FF3B1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B11F-8813-4961-95B2-9B5AA8ED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C7B2-DC11-497B-B9B5-1C94A595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3C42-5842-42A6-B624-A100C73B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CBC7-2D7F-43C7-ABC3-56C28C41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2EBC-EDB7-4F5A-BB3C-56847CE8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7379-51F0-49AC-9FEB-A7893678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4826-FC8A-480B-90BD-EE3ABE5B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C1B9-2DAC-422D-934F-55D823DB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FE91-3E91-4653-B124-ECFA0180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1277-1F05-4483-A2C1-E6FCBA4A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1143-3B8C-4B59-A3AA-7B332A91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BEA-CBA6-4D12-9C8C-ACE37238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DF6-12A3-4CC9-9A24-BFDF4804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FDAD-1F76-420B-8B6E-12E8A240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748-560C-4962-BD50-50BB9711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9F3F-9ABF-4BC6-87AF-C05BF42A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D74-3220-4999-A9DD-7C96A2A8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89A9-97F3-4B54-9DA5-2A17D0D4CFD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1FA6-94B1-431A-BA84-176A0984F84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ce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a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087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ý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e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Vit</cp:lastModifiedBy>
  <dcterms:modified xsi:type="dcterms:W3CDTF">2007-02-20T09:35:00Z</dcterms:modified>
  <cp:revision>5</cp:revision>
  <dc:subject/>
  <dc:title>Úpoly na našich územích</dc:title>
</cp:coreProperties>
</file>