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354-81AB-4070-BC21-61A35247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3C9-995F-4FD1-B8A6-76B0FCA1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2030-D284-406F-8AEA-F321A1EC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A9C9-5FAA-4F49-87B1-D1AC0614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BDD4-583F-4A7D-AFE2-28E69829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0EB9-2D1A-447E-90B7-EB5AF1A9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B8C1-DDE8-49D8-99E2-AB8A34A1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617D-E2A6-46C6-B8ED-7315C7A8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C579-FA05-42FF-87CC-3D1D4F7C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39F8-438F-47FB-BA1A-F064155F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9EBF-F5E8-410B-B967-78CB7D00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3E6F-B6D3-41BD-9A53-4DF90DB4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7F39-3E51-4FD2-98E0-F55D240C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1288-846E-4312-A717-C005B969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2E98-8D6E-4287-B6CD-7DFCE07F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B1FB-39CD-4123-B363-6C32360A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986B-1BCE-4A03-9A6E-DE04C5B9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55A7-10AA-423B-9C73-ACE7AD51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23B-F180-4309-8FF0-B5FDCDC4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EDC-F34C-40B0-B9AE-CA98CB21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5AE-3FAB-449B-9A03-95D1BC2E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AC1-0E5E-4D4F-9A6C-CCCA2B36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333-148F-4BA8-A501-DED82D06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998-4699-4905-B681-90595B1E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6748-FE1C-4153-9E03-C3BAEE084C7E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988A-4278-49A4-B7F5-83002616F102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 sporty systém zkoušek, titul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1" lang="sk-SK" sz="32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Gracie džúdžucu, capoeira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zij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Vit</cp:lastModifiedBy>
  <dcterms:modified xsi:type="dcterms:W3CDTF">2007-02-20T08:56:00Z</dcterms:modified>
  <cp:revision>5</cp:revision>
  <dc:subject/>
  <dc:title>Úpoloo</dc:title>
</cp:coreProperties>
</file>