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2408B-F6BD-4FF2-B576-5A3056B9F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14A09-6010-4FE0-82AA-61D4012D8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DFA6C-9021-4FEC-A3BF-55505C1CE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B367E-026D-41F4-A186-EEFB579D0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9E27B-02BB-4A6F-B7E4-B37005C04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85724-020A-46D8-BB74-321163124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C9D48-DCBF-4696-B74D-3AA6AF256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2E3EE-3E58-49B6-9EF3-081CE3275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173C3-9A42-4489-804A-C2C961F29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BBE63-0DAB-406C-B90B-616C661DA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1C34A-5CD0-443D-B0FC-0DF0EC3D8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4784C-49D6-4312-95E5-A866DAF23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C112A-3FA9-4D57-A8C6-4CA15161A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0BCBE-B84A-473E-8C38-83B020DBA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EABE3-AD38-44EC-8B8F-AA65154D6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CB9BC-0298-4942-A58E-A7291B3C1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A80AC-0917-4C7F-9F32-1C5E8EFD5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91A3A-06CB-4676-A573-8302A397A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1F6F8-C25D-4A98-AE72-762EB309F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34011-649F-4CEE-8CA0-296E28655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B0738-8F96-4F71-896A-1FAAAAE68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C48C3-AAAB-4BD5-BBEF-62C8F8595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1D11B-DF8B-4A71-9073-D3F515C6E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75F18-F461-4462-A812-2DA25E3B8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2A612-927D-4823-B305-2864BFE2220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99" name="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DAAF7-F7D3-42E9-9628-F054617F719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 Black"/>
              </a:rPr>
              <a:t>Úpoly ve sportu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676520" y="4571640"/>
            <a:ext cx="6400800" cy="167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Definice úpolů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 Black"/>
              </a:rPr>
              <a:t>Definice úpolů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Cvičení, toliko za odporu jiného cvičence vykonatelné (Tyrš 1862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Cvičení, při kterém přemáháme sílu jiného cvičence, který nám klade odpor, nebo s námi zápasí (Sokolská s. 1935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Tělesná cvičení, jimiž se v přímém střetnutí s protivníkem usiluje o překonání jeho odporu či jeho přemožení (Fojtík 1980-90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 Black"/>
              </a:rPr>
              <a:t>Definice úpolů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Úpoly jsou pohybové aktivity zacílené na kontaktní fyzické překonání partner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Do úpolů zařazujeme i specifická cvičení, která jsou přímou průpravou na kontaktní překonání partnera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 Black"/>
              </a:rPr>
              <a:t>Spor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Dvojí chápán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Sport jako činnost zaměřená na vrcholný výkon prezentovaný na soutěž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Sport jako jakákoliv zájmová pohybová činnost (Evropská charta sportu, 1992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 Black"/>
              </a:rPr>
              <a:t>1992 – Evropská charta sportu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„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všechny formy tělesné činnosti, které ať již prostřednictvím organizované účasti či nikoli, si kladou za cíl projevení či zdokonalení tělesné i psychické kondice, rozvoj společenských vztahů nebo dosažení výsledků v soutěžích na všech úrovních.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 Black"/>
              </a:rPr>
              <a:t>Úpoly v soustavě TV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1862 M. Tyrš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I.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vičení bez nářadí a bez pomoci nebo odporu jiných cvičenců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        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II. Cvičení nářaďová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        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III. Cvičení se skupině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IV.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Úpo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 Black"/>
              </a:rPr>
              <a:t>Úpoly v soustavě TV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1939 František Smotlach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Přirozená (biologická) cvičební soustav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18 skupin základních a speciálních cviků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VI. skupina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Počátky úbrany a boj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Úpoly: zápas, box, šerm, brana (džúdžucu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 Black"/>
              </a:rPr>
              <a:t>Úpoly v soustavě TV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557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1945 Václav Fial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       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 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Základn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pohyby z m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     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I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Výkonné pohyby s p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ř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dm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ě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     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II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Úpo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     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V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Pohyby a cvičen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v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vod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     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V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Pohyby z m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ta skluz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        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VI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Pohyby z m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ta pomoc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portov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níc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dopravn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ch prost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ř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dk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ů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     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VII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anec a cvičen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rytmick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     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VIII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ě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locvik prost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     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X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ě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locvik na ná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ř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dí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     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X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Pohybové h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 Black"/>
              </a:rPr>
              <a:t>Úpoly v soustavě TV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07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1983 – Kody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-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heuristicko – individuáln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činnosti (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 úpoly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-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senzoricko – koncentračn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činnost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-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rizikové činnost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-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esteticko – koordinačn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činnost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- funkčn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ě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– mobilizačn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činnosti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 Black"/>
              </a:rPr>
              <a:t>Úpoly v soustavě TV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50560" y="1981080"/>
            <a:ext cx="8893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1985 Šprynar – Stráňa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-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ndividuáln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sporty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(atletika, gymnastika,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..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-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úpolov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é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sporty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(zápas, box, šerm, vzp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írání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, ..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-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portov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ní h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technick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é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port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st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ř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eleck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é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port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 Black"/>
              </a:rPr>
              <a:t>Úpoly v soustavě TV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1997 J. Mus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.</a:t>
            </a:r>
            <a:r>
              <a:rPr b="1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 </a:t>
            </a:r>
            <a:r>
              <a:rPr b="1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ndividuáln</a:t>
            </a:r>
            <a:r>
              <a:rPr b="1" lang="sk-SK" sz="24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1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sk-SK" sz="2400" spc="-1" strike="noStrike">
                <a:solidFill>
                  <a:srgbClr val="ffffff"/>
                </a:solidFill>
                <a:latin typeface="Arial"/>
              </a:rPr>
              <a:t>spor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tletick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I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Úpolov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II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Gymnastické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IX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B.</a:t>
            </a:r>
            <a:r>
              <a:rPr b="1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 </a:t>
            </a:r>
            <a:r>
              <a:rPr b="1" lang="sk-SK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portov</a:t>
            </a:r>
            <a:r>
              <a:rPr b="1" lang="sk-SK" sz="2400" spc="-1" strike="noStrike">
                <a:solidFill>
                  <a:srgbClr val="ffffff"/>
                </a:solidFill>
                <a:latin typeface="Arial"/>
              </a:rPr>
              <a:t>ní</a:t>
            </a:r>
            <a:r>
              <a:rPr b="1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h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Br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nkové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VI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Bojov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6T01:24:08Z</dcterms:created>
  <dc:creator>Home</dc:creator>
  <dc:description/>
  <dc:language>en-US</dc:language>
  <cp:lastModifiedBy>Vit</cp:lastModifiedBy>
  <dcterms:modified xsi:type="dcterms:W3CDTF">2007-02-20T08:33:39Z</dcterms:modified>
  <cp:revision>7</cp:revision>
  <dc:subject/>
  <dc:title>Úpoly ve sportu</dc:title>
</cp:coreProperties>
</file>