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C5FA-0E79-4B49-85B4-275CC2A8D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AC91-8C36-43A7-AAFD-390C6A19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1C30-E27C-42DA-9F9C-A3A0D0834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0CE1-FF09-4CFA-8EDE-8E559AFCD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3AAB-1A48-471E-91D8-CFDA290C1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66206-A9CA-4083-888E-A3F3614E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C969-F08B-49A7-BE31-0278B2A5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2FA8-AAC9-428B-8FC9-1C488418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7487-755D-4F02-8183-9D446709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4C2B2-8959-4FED-9128-8E020981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0CA8B-DBED-49FE-873F-B3D42F87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48F4-3666-4341-8673-2BB594D6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0E4A3-7664-4D06-A7FE-9090BFB7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94D0-A1DE-4FFE-877E-4A6A8CC6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625B-A05C-4460-BA4C-62E5FEE4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83EE-622E-411E-8BB7-3A5C4EB59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56CB8-C3DD-4F95-94D5-64405CEAB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74D3-3377-450B-A63F-D6E128F4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B147-646D-4D39-A136-EDDEE27E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6568-F251-447B-8507-F9514607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2A53-BAB6-45A8-A08C-AEE18D4A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681D-5D7C-4B03-86CD-207662A8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4D58-B752-48F7-BCAE-D2AD391B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9208-162A-45ED-BDAA-614BF488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6822-0CC1-491F-9E82-A7ACC8A27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6A1F-32B9-4C19-AB0A-E80389826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Úpoly v osnovách školní TV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zšiřující 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lší sebeobrann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seku sho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ated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římý úder rovnostrann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rchní, vnější kry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kop vpř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ámcový vzdělávací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 p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ogram</a:t>
            </a:r>
            <a:br>
              <a:rPr sz="3600"/>
            </a:br>
            <a:r>
              <a:rPr b="0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 základní vzdělávání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 (1. stupeň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ůpravné úpoly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- přetahy a přetlaky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ámcový vzdělávací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 p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ogram</a:t>
            </a:r>
            <a:br>
              <a:rPr sz="3600"/>
            </a:br>
            <a:r>
              <a:rPr b="0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 základní vzdělávání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 (</a:t>
            </a:r>
            <a:r>
              <a:rPr b="0" i="1" lang="en-US" sz="3600" spc="-1" strike="noStrike">
                <a:solidFill>
                  <a:srgbClr val="cc6600"/>
                </a:solidFill>
                <a:latin typeface="Times New Roman"/>
              </a:rPr>
              <a:t>2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. stupeň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sebeobran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judó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aikidó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karatedó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Specifické poznatky, n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áv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y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ýznam úpolových spor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pro sebeobranu a brann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klad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filozofie sebeobran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 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nnos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, pr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ní aspekty vyu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 zneu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boj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 prvk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klad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zpe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ň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 uvol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ň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l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a; u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dom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si 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ži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; spr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d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enos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energ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specifika bezpe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osti p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 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pole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Pohybov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é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r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ů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ravn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é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ů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o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tahy, 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tlaky,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l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odp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h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postoje, 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a pohyb 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sto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ch, odpory 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ich, sled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, pohyb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reagu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c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na pohyb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Sebeobra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 na zemi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boj o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ik z 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na zemi (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obje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z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rc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u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e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seku sh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Doporu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en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é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 roz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š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i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ř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uj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í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í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 u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i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al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vhod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ebeobran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nno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žú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k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e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a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gat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raz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ó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g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o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Aiki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pa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, z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(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ruty, vyto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z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Karate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er stejnostran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hor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, spod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, v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kry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op v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0866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6600"/>
                </a:solidFill>
                <a:latin typeface="Times New Roman"/>
              </a:rPr>
              <a:t>P</a:t>
            </a:r>
            <a:r>
              <a:rPr b="0" i="1" lang="cs-CZ" sz="2400" spc="-1" strike="noStrike">
                <a:solidFill>
                  <a:srgbClr val="cc6600"/>
                </a:solidFill>
                <a:latin typeface="Times New Roman"/>
              </a:rPr>
              <a:t>říklad celoročního plánu pro I. roč. gymnázia, chlapci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2514600" y="838080"/>
            <a:ext cx="4764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Obsah úpolů z pohledu jejich taxonomi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ůpravné úpo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Úpolové spo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ebeobra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 rot="16200000">
            <a:off x="3433320" y="3193920"/>
            <a:ext cx="365616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Základní šk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2. stupeň         1. stupe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16200000">
            <a:off x="2987640" y="4738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řední šk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Náro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.-9. roč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 a úpolové odpory v různých polohách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 a pády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sebeobrany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vybraného úpolového sportu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becná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škola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6.–9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)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znatky, návy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ýznam úpolových sportů pro sebeobranu a bran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ka osvojovaných čin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ávní aspekty využití a zneužití úpolových činností, etický přínos úpol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ka bezpečnosti a hygieny při úpolových činnoste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ruhy úpolových sport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becná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škola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6.–9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hybov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úpolové odpory v různých polohá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ád (vzad skulením do kolébky, kotoulem přes rameno, stranou, převalem, navazování pádů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 a odpory v n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ržení soupeře na zemi, boj o únik z držení na zemi (jen 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objetí zpř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škrcení (zpředu, zezad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úchopům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seku sh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ikidó – přidržení paže, výkrut zápěstí, vytočení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karatedó – přímý úder rovnostranný, vrchní kryt, vnější kryt, kop vpř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1. a 2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 rámci témat "Pohybové hry" a Průpravná kondiční...cvičení je možné zařazovat průpravné přetahy a přetlak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3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5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 rámci témat "Pohybové hry" a Průpravná, kondiční...cvičení je možné zařazovat pohybové činnosti z celé škály průpravných úpolů a zdůrazňovat význam vhodné aktivní obrany a přípravy na n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ako rozšiřující může být využito učivo další vzdělávací etapy, přizpůsobené úrovni a zájmům žáků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ýznam úpolových sportů pro sebeobranu a bran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pojmy osvojovaných činností, názvy úpolových sportů, výstroje, vybaven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filozofie bojových a sebeobranných činností, právní aspekty využití a zneužití úpolových čin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principy uvolňování a zpevňování těla a jeho částí, uvědomování si těžiště, správného dýchání a přenosu energ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sady bezpečnosti při úpolových cvičení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ůpravné úpo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, úpolové odp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ády (vzad skulením do kolébky, kotoulem přes rameno (stranou, převalem), navazování pád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, držení a pohyb v postojích, odpory v n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ržení soupeře na zemi, boj o únik z držení na zemí (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objetí zpř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škrcen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úchopům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oraz ógoš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kid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přidržení paže (výkruty, vytočení zápěstí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 by měl žák umět (vědě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vědomuje si význam sebeobranných činností a své možnosti ve střetu s protivník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vědomuje si následky zneužití bojových činností a chová se v duchu fair 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ovede pojmenovat osvojovan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zvládá základní postoje, úchopy a vyproštění z drže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2T09:35:44Z</dcterms:created>
  <dc:creator>HOME</dc:creator>
  <dc:description/>
  <dc:language>en-US</dc:language>
  <cp:lastModifiedBy>HOME</cp:lastModifiedBy>
  <dcterms:modified xsi:type="dcterms:W3CDTF">2006-07-13T22:08:34Z</dcterms:modified>
  <cp:revision>13</cp:revision>
  <dc:subject/>
  <dc:title>Úpoly v osnovách školní TV</dc:title>
</cp:coreProperties>
</file>