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6911-77E2-4C89-80AF-CD77EA7A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A298-E805-4CFF-8C99-2809F98A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6887-73AE-46BB-AA02-424411AE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D6BD-DF26-42D0-B4FC-B45A0708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15A0-955A-4FB7-AC2C-3A3B3FE4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A966-ADFD-40AC-B684-ECF5C24C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34EE-932A-49F7-98D2-4760F447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0BAB-A5E7-4ADD-8EE9-A3DA5D7F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D7E1-CA4B-4B9E-A427-E5CB39CA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4D19-D944-41AA-91CB-3B323D26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9F17-D1FC-46A9-8353-44BFA6B3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F21A-E54A-492E-BB37-97C5FD8E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7052-FE8D-4C87-9D1F-31BE681C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819F-3801-4DD9-91DF-D177D479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A939-5EFE-464B-871D-CE74861D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169B-6FEF-4B35-AA73-0420D2F9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B029-0FAB-4E64-9323-4EF382C6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EF5A-138D-413C-A931-F477C845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7C32-7C1D-4845-9A8F-717B6A44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2613-CD88-4D7B-8AEB-F8AB87C7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F272-5300-4536-902C-4EB86CE4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1EA-D940-4B82-BE17-8E0E3AE7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CD66-9AA7-4F17-A22A-28D4D0C8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E886-956E-4BDF-9BD0-8DAA47D2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EBD4-0409-4098-80E8-5D9CC4D2807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0A8A-1DD5-4ACF-9971-F4D474D0F05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ystematika (taxonomie)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ebeobr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zniká aplikací úpolů 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</a:rPr>
              <a:t>pro potřeby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utné obra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í (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beobrana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 že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rofes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 algn="just">
              <a:spcBef>
                <a:spcPts val="799"/>
              </a:spcBef>
              <a:buClr>
                <a:srgbClr val="ffffcc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u jiných cvičenc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   Cvičení nářaďov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   Cvičení se skupin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8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bez náčiní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y. Cílem je jenom překonávat odpor spolucvič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c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 jeho činnost je dopředu známá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ápas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n  odpor protivníkovi, ale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naha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řemoci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o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Shodit ho na zem tak, aby se stal jeho další odpor nemožný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ox – rohování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žemi nebo nohami, jako i odvracení těchto útok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s náčiní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šerm šavl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šerm fleuretem (končíře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šerm holí: krátkou (80-100 cm), dlouhou (do výše cvičencovy brad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šerm bodák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šerm dýko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Autoři zabývající se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1939 - F. Smotlach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3 – J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vl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6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7 – R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7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4 – 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ojtí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3 – M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Ďur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Taxonomi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erarchické zařazení určitých prvků podle předem stanovených kriteri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nejjednodušších po nejsložitějš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vývojově starších k mladš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leduje i d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aktické cí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ostorové vztahy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35240" y="1447920"/>
          <a:ext cx="46735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5240" y="1447920"/>
                    <a:ext cx="46735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Úpolové spor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jvětší a rozhodující skupi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úpol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ostatné úpolové systémy. Vzájemně se odlišují znaky, jako vlastní název, vývoj, prostředky, organizace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 (podle zaměření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těž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eobran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mplexně rozvíjejíc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01:25Z</dcterms:created>
  <dc:creator>Home</dc:creator>
  <dc:description/>
  <dc:language>en-US</dc:language>
  <cp:lastModifiedBy>Reguli</cp:lastModifiedBy>
  <dcterms:modified xsi:type="dcterms:W3CDTF">2007-03-07T10:29:29Z</dcterms:modified>
  <cp:revision>7</cp:revision>
  <dc:subject/>
  <dc:title>Systematika (taxonomie) úpolů</dc:title>
</cp:coreProperties>
</file>