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52D-0A4C-4571-A663-323A6136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97B-05B6-4404-940F-FA556F96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650D-49BE-4D26-BE2D-32A43950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504-D769-4429-B327-E3F10B7D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1615-D413-4B30-8EA7-70A7C3CA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9712-E61C-4320-B125-4BE8EF53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007F-AA87-42C0-8098-62A92DD5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C93D-2D2B-49B6-BFB9-EF136A42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3EF2-B112-4AAC-AED0-29B72E1C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3A3F-BDC1-45AA-AF8B-F38C26DC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26F3-7ED0-434D-9D20-8B352DC4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573-361F-4E72-BF86-CE996C79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375E-58F3-4F5A-8C49-79A1334C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C6F9-1F08-466F-B2BE-D86E3ACB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A960-DE89-43A4-8967-B6168A8B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6C0E-4357-47D3-821F-9F6796B3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BF76-1C46-41AD-93DB-472B6E36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B788-289B-490B-9A56-6034ECE5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03C-0F7F-480C-9134-C2BB6454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EB1-A889-4AEA-9D68-0ABFC395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5AD0-0148-4157-8A1A-080806A2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B9F-D5A6-4539-BACF-CBE969DD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277-3848-448E-9BB9-49F62D70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575-BC58-4346-9728-E0C6F9F2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62E4-FCCA-4067-8197-058E58523582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5E11-BB40-475D-90D6-1B87D38B23BE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Vit</cp:lastModifiedBy>
  <dcterms:modified xsi:type="dcterms:W3CDTF">2007-02-20T09:07:17Z</dcterms:modified>
  <cp:revision>7</cp:revision>
  <dc:subject/>
  <dc:title>Rozvoj pohybových dovedností</dc:title>
</cp:coreProperties>
</file>