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08C29-71A4-4C95-A4C1-91E524B503E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15720" y="403056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48038-CF2E-485F-8D3C-9B7FB78D7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09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DC216-2338-40D2-A785-A6D8E75D6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8912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76216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1572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48912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76216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31FBC-832A-43A4-A755-A0B2176C541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14400" y="1204200"/>
            <a:ext cx="7315200" cy="23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71330-CA94-4FCF-B324-DDD3629BE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09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215720" y="403056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09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8912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76216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21572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8912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76216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701ED-D837-45C4-93D5-F728A9E3B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39292-BBDD-447B-8058-15FF4F5F3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EB81E-EBF0-4E44-8E9A-6732D07F5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914400" y="1204200"/>
            <a:ext cx="7315200" cy="23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8667A-960C-4641-97B6-E57026B9F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80ED1-3314-4AB7-A9B3-E3EBC6063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09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98D4D-E662-4C8F-BF62-68A81974E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8259A-2721-40C6-B303-891435D86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042920"/>
            <a:ext cx="1649520" cy="5629320"/>
          </a:xfrm>
          <a:custGeom>
            <a:avLst/>
            <a:gdLst/>
            <a:ahLst/>
            <a:rect l="l" t="t" r="r" b="b"/>
            <a:pathLst>
              <a:path w="1039" h="3546">
                <a:moveTo>
                  <a:pt x="0" y="0"/>
                </a:moveTo>
                <a:lnTo>
                  <a:pt x="528" y="0"/>
                </a:lnTo>
                <a:lnTo>
                  <a:pt x="510" y="0"/>
                </a:lnTo>
                <a:lnTo>
                  <a:pt x="510" y="341"/>
                </a:lnTo>
                <a:lnTo>
                  <a:pt x="1038" y="341"/>
                </a:lnTo>
                <a:lnTo>
                  <a:pt x="1038" y="3545"/>
                </a:lnTo>
                <a:lnTo>
                  <a:pt x="0" y="354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66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244440" y="281160"/>
            <a:ext cx="8439120" cy="8383320"/>
          </a:xfrm>
          <a:prstGeom prst="ellipse">
            <a:avLst/>
          </a:prstGeom>
          <a:gradFill rotWithShape="0">
            <a:gsLst>
              <a:gs pos="0">
                <a:srgbClr val="9933ff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 rot="14340000">
            <a:off x="2196720" y="819000"/>
            <a:ext cx="139680" cy="187200"/>
          </a:xfrm>
          <a:prstGeom prst="triangle">
            <a:avLst>
              <a:gd name="adj" fmla="val 49995"/>
            </a:avLst>
          </a:prstGeom>
          <a:solidFill>
            <a:srgbClr val="ffcc66"/>
          </a:solidFill>
          <a:ln cap="sq"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flipH="1">
            <a:off x="-360" y="1052640"/>
            <a:ext cx="819000" cy="0"/>
          </a:xfrm>
          <a:prstGeom prst="line">
            <a:avLst/>
          </a:prstGeom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20800" y="1041480"/>
            <a:ext cx="0" cy="555480"/>
          </a:xfrm>
          <a:prstGeom prst="line">
            <a:avLst/>
          </a:prstGeom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14320" y="1582560"/>
            <a:ext cx="5545080" cy="25560"/>
          </a:xfrm>
          <a:prstGeom prst="rect">
            <a:avLst/>
          </a:prstGeom>
          <a:gradFill rotWithShape="0">
            <a:gsLst>
              <a:gs pos="0">
                <a:srgbClr val="9933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19160" y="6191280"/>
            <a:ext cx="9263160" cy="965160"/>
          </a:xfrm>
          <a:custGeom>
            <a:avLst/>
            <a:gdLst/>
            <a:ahLst/>
            <a:rect l="l" t="t" r="r" b="b"/>
            <a:pathLst>
              <a:path w="5835" h="608">
                <a:moveTo>
                  <a:pt x="0" y="241"/>
                </a:moveTo>
                <a:lnTo>
                  <a:pt x="3861" y="241"/>
                </a:lnTo>
                <a:lnTo>
                  <a:pt x="3861" y="202"/>
                </a:lnTo>
                <a:lnTo>
                  <a:pt x="3861" y="174"/>
                </a:lnTo>
                <a:lnTo>
                  <a:pt x="3861" y="145"/>
                </a:lnTo>
                <a:lnTo>
                  <a:pt x="3859" y="0"/>
                </a:lnTo>
                <a:lnTo>
                  <a:pt x="5834" y="0"/>
                </a:lnTo>
                <a:lnTo>
                  <a:pt x="5834" y="607"/>
                </a:lnTo>
                <a:lnTo>
                  <a:pt x="0" y="607"/>
                </a:lnTo>
                <a:lnTo>
                  <a:pt x="0" y="241"/>
                </a:lnTo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376440" y="6576840"/>
            <a:ext cx="2622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008760" y="6178680"/>
            <a:ext cx="15588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008760" y="6191280"/>
            <a:ext cx="0" cy="3888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5720" y="281160"/>
            <a:ext cx="8476560" cy="8416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400" y="1447"/>
                </a:moveTo>
                <a:arcTo wR="10800" hR="10800" stAng="-7200000" swAng="11040000"/>
                <a:lnTo>
                  <a:pt x="10800" y="10800"/>
                </a:lnTo>
                <a:close/>
              </a:path>
              <a:path fill="none" w="21600" h="21600">
                <a:moveTo>
                  <a:pt x="5400" y="1447"/>
                </a:moveTo>
                <a:arcTo wR="10800" hR="10800" stAng="-7200000" swAng="11040000"/>
              </a:path>
            </a:pathLst>
          </a:custGeom>
          <a:noFill/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1"/>
          <p:cNvSpPr>
            <a:spLocks noGrp="1"/>
          </p:cNvSpPr>
          <p:nvPr>
            <p:ph type="body"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400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1400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0000"/>
              </a:lnSpc>
              <a:spcBef>
                <a:spcPts val="1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0000"/>
              </a:lnSpc>
              <a:spcBef>
                <a:spcPts val="1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-6480" y="6526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B9894-EC30-44D5-8159-9F96EA0A1EED}" type="datetime"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sldNum" idx="2"/>
          </p:nvPr>
        </p:nvSpPr>
        <p:spPr>
          <a:xfrm>
            <a:off x="7154640" y="65260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5A938-4E28-4B55-9905-E597DFA58D91}" type="slidenum"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2828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014480"/>
            <a:ext cx="1649520" cy="5629320"/>
          </a:xfrm>
          <a:custGeom>
            <a:avLst/>
            <a:gdLst/>
            <a:ahLst/>
            <a:rect l="l" t="t" r="r" b="b"/>
            <a:pathLst>
              <a:path w="1039" h="3546">
                <a:moveTo>
                  <a:pt x="0" y="0"/>
                </a:moveTo>
                <a:lnTo>
                  <a:pt x="528" y="0"/>
                </a:lnTo>
                <a:lnTo>
                  <a:pt x="510" y="0"/>
                </a:lnTo>
                <a:lnTo>
                  <a:pt x="510" y="341"/>
                </a:lnTo>
                <a:lnTo>
                  <a:pt x="1038" y="341"/>
                </a:lnTo>
                <a:lnTo>
                  <a:pt x="1038" y="3545"/>
                </a:lnTo>
                <a:lnTo>
                  <a:pt x="0" y="354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66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4440" y="298440"/>
            <a:ext cx="8439120" cy="8383680"/>
          </a:xfrm>
          <a:prstGeom prst="ellipse">
            <a:avLst/>
          </a:prstGeom>
          <a:gradFill rotWithShape="0">
            <a:gsLst>
              <a:gs pos="0">
                <a:srgbClr val="9933ff"/>
              </a:gs>
              <a:gs pos="100000">
                <a:srgbClr val="3333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8560" y="2168640"/>
            <a:ext cx="5553000" cy="13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92160" bIns="9216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-31680" y="2711520"/>
            <a:ext cx="9221760" cy="4309920"/>
          </a:xfrm>
          <a:custGeom>
            <a:avLst/>
            <a:gdLst/>
            <a:ahLst/>
            <a:rect l="l" t="t" r="r" b="b"/>
            <a:pathLst>
              <a:path w="5809" h="2715">
                <a:moveTo>
                  <a:pt x="5808" y="0"/>
                </a:moveTo>
                <a:lnTo>
                  <a:pt x="4322" y="0"/>
                </a:lnTo>
                <a:lnTo>
                  <a:pt x="4322" y="452"/>
                </a:lnTo>
                <a:lnTo>
                  <a:pt x="0" y="443"/>
                </a:lnTo>
                <a:lnTo>
                  <a:pt x="0" y="2714"/>
                </a:lnTo>
                <a:lnTo>
                  <a:pt x="3398" y="2713"/>
                </a:lnTo>
                <a:lnTo>
                  <a:pt x="4311" y="2713"/>
                </a:lnTo>
                <a:lnTo>
                  <a:pt x="5808" y="2713"/>
                </a:lnTo>
                <a:lnTo>
                  <a:pt x="5808" y="0"/>
                </a:lnTo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66840" y="3429000"/>
            <a:ext cx="46483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13720" y="2695680"/>
            <a:ext cx="0" cy="718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26320" y="2695680"/>
            <a:ext cx="8348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200" y="281160"/>
            <a:ext cx="8394840" cy="8416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52" y="5753"/>
                </a:moveTo>
                <a:arcTo wR="10800" hR="10800" stAng="-9128530" swAng="12968530"/>
                <a:lnTo>
                  <a:pt x="10800" y="10800"/>
                </a:lnTo>
                <a:close/>
              </a:path>
              <a:path fill="none" w="21600" h="21600">
                <a:moveTo>
                  <a:pt x="1252" y="5753"/>
                </a:moveTo>
                <a:arcTo wR="10800" hR="10800" stAng="-9128530" swAng="12968530"/>
              </a:path>
            </a:pathLst>
          </a:custGeom>
          <a:noFill/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747720" y="2476080"/>
            <a:ext cx="409680" cy="1800"/>
          </a:xfrm>
          <a:prstGeom prst="line">
            <a:avLst/>
          </a:prstGeom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1152000" y="2374560"/>
            <a:ext cx="171360" cy="171720"/>
          </a:xfrm>
          <a:prstGeom prst="triangle">
            <a:avLst>
              <a:gd name="adj" fmla="val 49995"/>
            </a:avLst>
          </a:prstGeom>
          <a:solidFill>
            <a:srgbClr val="ffcc00"/>
          </a:solidFill>
          <a:ln cap="sq"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457200" indent="0"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876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788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700"/>
              </a:spcBef>
              <a:buClr>
                <a:srgbClr val="ffcc00"/>
              </a:buClr>
              <a:buSzPct val="4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2828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2168640"/>
            <a:ext cx="5821200" cy="13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92160" bIns="9216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Funkce bojových umění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201680" y="3940200"/>
            <a:ext cx="5595840" cy="11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Historické hledisk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Nevyhnutelnost boje – rozvoj bojových dovednost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Lo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Obra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Bít se znamená bý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Společenské rozdí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0" y="3276720"/>
          <a:ext cx="4237200" cy="286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3276720"/>
                    <a:ext cx="4237200" cy="28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10968-0171-4D1E-B83B-FA438DA357D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Současné hledisk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Boj tváří v tvář není nevyhnuteln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Transformace 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37720" y="3505320"/>
            <a:ext cx="19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</a:rPr>
              <a:t>Soutěžní s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126480" y="42670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</a:rPr>
              <a:t>Sebeobra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8760" y="6095880"/>
            <a:ext cx="24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</a:rPr>
              <a:t>Komplexní rozvo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8120" y="3276720"/>
            <a:ext cx="2971800" cy="29718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F83B8-B0DB-4C71-A6B7-6C9061E213A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696600"/>
            <a:ext cx="7315200" cy="10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Čtyřdimenzionální rozvoj (funkce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534816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bi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91120" y="374796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soci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76920" y="533412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psych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38480" y="16765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no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5" name=""/>
          <p:cNvCxnSpPr/>
          <p:nvPr/>
        </p:nvCxnSpPr>
        <p:spPr>
          <a:xfrm>
            <a:off x="2057040" y="5256360"/>
            <a:ext cx="388692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16" name=""/>
          <p:cNvSpPr/>
          <p:nvPr/>
        </p:nvSpPr>
        <p:spPr>
          <a:xfrm>
            <a:off x="2057400" y="4191120"/>
            <a:ext cx="3962520" cy="10666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57400" y="2133720"/>
            <a:ext cx="3962520" cy="31240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038480" y="2133720"/>
            <a:ext cx="0" cy="205740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A12C4-234D-4B72-9352-7F914FC2216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Funkc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6080" y="1980720"/>
            <a:ext cx="4194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Mít zdravý, funkční organizmus a umět ho použí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Být integrovanou lidskou bytost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Mít dobré sociální vztah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Mít smysl živo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5410080" y="2438280"/>
            <a:ext cx="3581640" cy="2706840"/>
            <a:chOff x="5410080" y="2438280"/>
            <a:chExt cx="3581640" cy="2706840"/>
          </a:xfrm>
        </p:grpSpPr>
        <p:sp>
          <p:nvSpPr>
            <p:cNvPr id="122" name=""/>
            <p:cNvSpPr/>
            <p:nvPr/>
          </p:nvSpPr>
          <p:spPr>
            <a:xfrm>
              <a:off x="5410080" y="4868640"/>
              <a:ext cx="122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ffffff"/>
                  </a:solidFill>
                  <a:latin typeface="Arial"/>
                </a:rPr>
                <a:t>biosphe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263000" y="3809880"/>
              <a:ext cx="126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ffffff"/>
                  </a:solidFill>
                  <a:latin typeface="Arial"/>
                </a:rPr>
                <a:t>sociosphe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642440" y="4861080"/>
              <a:ext cx="134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ffffff"/>
                  </a:solidFill>
                  <a:latin typeface="Arial"/>
                </a:rPr>
                <a:t>psychosphe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79840" y="2438280"/>
              <a:ext cx="109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ffffff"/>
                  </a:solidFill>
                  <a:latin typeface="Arial"/>
                </a:rPr>
                <a:t>noosphe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26" name=""/>
            <p:cNvCxnSpPr/>
            <p:nvPr/>
          </p:nvCxnSpPr>
          <p:spPr>
            <a:xfrm>
              <a:off x="6083640" y="4806720"/>
              <a:ext cx="2149560" cy="14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127" name=""/>
            <p:cNvSpPr/>
            <p:nvPr/>
          </p:nvSpPr>
          <p:spPr>
            <a:xfrm>
              <a:off x="6084000" y="4101840"/>
              <a:ext cx="2190960" cy="7056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84000" y="2740680"/>
              <a:ext cx="2190960" cy="20667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179840" y="2740680"/>
              <a:ext cx="0" cy="1361160"/>
            </a:xfrm>
            <a:prstGeom prst="line">
              <a:avLst/>
            </a:prstGeom>
            <a:ln w="93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58FD8-C3E9-476A-81FE-64A4C5BF479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Biodromalní charakte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Rozvoj těla, duše, společnosti a ducha by měl bý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kontinuál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nekončíc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67080" y="3886200"/>
            <a:ext cx="609840" cy="1371600"/>
          </a:xfrm>
          <a:prstGeom prst="downArrow">
            <a:avLst>
              <a:gd name="adj1" fmla="val 50000"/>
              <a:gd name="adj2" fmla="val 56228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76720" y="5181480"/>
            <a:ext cx="2590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Celoživotní ces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CC5BE-3413-47D8-AD5E-D1632EFBF47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3T07:30:00Z</dcterms:created>
  <dc:creator>Mala Liyanage</dc:creator>
  <dc:description/>
  <dc:language>en-US</dc:language>
  <cp:lastModifiedBy>Vit</cp:lastModifiedBy>
  <cp:lastPrinted>2003-10-23T14:31:15Z</cp:lastPrinted>
  <dcterms:modified xsi:type="dcterms:W3CDTF">2007-02-20T09:04:13Z</dcterms:modified>
  <cp:revision>63</cp:revision>
  <dc:subject/>
  <dc:title>Selling an Idea or a Product</dc:title>
</cp:coreProperties>
</file>