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ED84-3EEA-423E-8394-7B1E64B2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822F-38FA-4840-BCF3-FEE843D8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FCB4-C56D-4415-BD65-526510DB5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4BDF-7CC1-43F1-A40E-A518AE9E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3CE1-39BE-4ACA-B131-36379781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1F74-54FD-4522-84C9-A11FC171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D50B-7A15-4C9F-A038-1BBE0768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78CF-3B8D-4B63-AB3B-90253060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D0FF-D995-4A97-8B56-E13FA158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3F2D-BA44-40BB-B890-AF12A821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22BC-99A5-441C-A2C4-E850F0C5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2B2F-1C7B-46DE-8754-00232F76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39C4-C34F-47E4-8555-CEBD66D0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225E-C9B5-4229-A929-6CAC4C8F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6B1B-3F5C-47A4-AA49-0902A60A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FB3B-18DE-45A5-8207-321B65ED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8D61-D628-40F3-B38D-0951BC30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538E-494A-4B73-89A8-C864FE3C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B439-845B-4B61-B401-6369F677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68D9-99AB-40D9-9B16-D362E4FC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E638-0C2E-4199-B80E-258C55B1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3A0A-505E-48A5-8F9E-C52CEBC1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3763-4140-4A78-9904-6A5A16F1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B654-3FA8-42BE-8B85-127A1FD6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BC1B-C0CB-45D0-A8CD-2B4B89888A6D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B0A9-74AB-46F0-B3EB-180E6221ECAF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Rozvoj úpolových pohybových dovednost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časového omezení (cvičení se končí splněním úpolového úkol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ovým omezením (cvičení se končí po uplynutí určeného čas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prostorového omezení (cvičenci využívají všechen dostup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ovým omezením (cvičenci mohou využívat jen omeze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y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omezení prostředků (cvičenec může použít na splnění úkolu jakýkoliv pohybový prostředek v souladu s druhem cvičen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omezením prostředků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Způsoby rozvoje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Nácvik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Výkon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Nácvik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učení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 pohybovým dovednostem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určení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Výkon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rojev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hybov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h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dovednost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í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portov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podle soutěžního nebo jiného (např. zkušebního) řádu (i verbálně formulovaného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beobrann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ve skutečné krizové situaci, vyžadující konat v mezích nutné obrany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rozdělení úkol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rozeznáváme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viče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rozdělením úkolů (na obránce a útočníka, jeden z cvičenců je po dobu jednoho cvičení vždy jen obráncem nebo jen útočníkem, jejich pohybové (úpolové) úkoly se liš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rozdělení úkolů (cvičenci jsou současně obránci i útočníky, úkoly zúčastněných jsou zpravidla stejné)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počtu účastník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(mohou mít rozdílné nebo stejné úkoly) rozdělujeme cvičení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dvojic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kupin (za skupinu považujeme již triádu a každý další větší celek)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aždý proti každému – každý člen skupiny bojuje proti všem ostatním sám za seb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upina proti skupině – cvičenci bojují společně, rozdělení ve skupinách, členové každé skupiny navzájem kooperují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jednotlivec proti skupině – cvičenec bojuje proti skupině jako celku, nebo postupně proti jednotlivcům ze skupin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63634"/>
                </a:solidFill>
                <a:latin typeface="Times New Roman"/>
              </a:rPr>
              <a:t>Podle </a:t>
            </a:r>
            <a:r>
              <a:rPr b="1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ásti těla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jako cvičení: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až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oho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trup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hlav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binované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řad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řad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a nářadí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či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čin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náčiním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21:10:25Z</dcterms:created>
  <dc:creator>Home</dc:creator>
  <dc:description/>
  <dc:language>en-US</dc:language>
  <cp:lastModifiedBy>Vit</cp:lastModifiedBy>
  <dcterms:modified xsi:type="dcterms:W3CDTF">2007-02-20T09:07:17Z</dcterms:modified>
  <cp:revision>7</cp:revision>
  <dc:subject/>
  <dc:title>Rozvoj pohybových dovedností</dc:title>
</cp:coreProperties>
</file>