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666C-6814-4DC9-9AB7-DC5C682AB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9A6F-F7B4-49F2-9A65-159799566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9F68-BF57-4E86-9963-03DA08493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9643-0D1A-4243-9464-567939D4A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12745-5976-40ED-9514-C9B93183E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39101-C3C4-4E64-8A69-EB01E57EC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9C329-9B7A-460B-A870-913DEF7FB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7B74C-21AB-461A-89CA-19D5517AC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77812-CFC4-4A61-B5DA-8EE4851CD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3F803-1B76-4336-8755-9FA955AF5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68CB0-A9A8-40C5-B8FF-A2A2B1A0D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F593-34E3-4769-B362-8F0F8AF13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5BFF6-1253-4E45-BFCB-8F8AA2905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4989B-CCF6-4279-854C-674A5CB0E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DA1C2-7525-469C-91DF-8216E178E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2939E-98A9-45AD-9F2C-04D1ED361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FB354-37DF-46B1-AF6D-4A268C754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A5D2-4321-44D0-BA9E-0790D0A60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B548-3711-4B5B-A84B-1BFC15600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1861-25E3-4356-BB44-51CF2246A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BFF5-BE80-4FDD-B5DA-8467F3D1E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BDFC-58AC-4DDF-A80F-BFA36A24C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FCD1-4624-49A0-8A75-9BACC7163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7A54-0F64-49BF-9A07-4A3C1B9D4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3cc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cc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0B560-8A8A-4E98-923B-5D30A6EAE3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F1E16-1B99-4CDF-8726-332C6C02EFD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cccc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33cccc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33cccc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Didaktika p</a:t>
            </a:r>
            <a:r>
              <a:rPr b="1" lang="sk-SK" sz="4000" spc="-1" strike="noStrike">
                <a:solidFill>
                  <a:srgbClr val="ffcc00"/>
                </a:solidFill>
                <a:latin typeface="Arial"/>
              </a:rPr>
              <a:t>á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dov</a:t>
            </a:r>
            <a:r>
              <a:rPr b="1" lang="sk-SK" sz="4000" spc="-1" strike="noStrike">
                <a:solidFill>
                  <a:srgbClr val="ffcc00"/>
                </a:solidFill>
                <a:latin typeface="Arial"/>
              </a:rPr>
              <a:t>é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 technik</a:t>
            </a:r>
            <a:r>
              <a:rPr b="1" lang="sk-SK" sz="4000" spc="-1" strike="noStrike">
                <a:solidFill>
                  <a:srgbClr val="ffcc00"/>
                </a:solidFill>
                <a:latin typeface="Arial"/>
              </a:rPr>
              <a:t>y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Velikost plochy kontaktu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Cvičení v kontaktu jednou částí těla (nejčastěji ruk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Cvičení v kontaktu s více částmi těl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Cvičení v kontaktu trup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Intenzita kontaktu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Dotyková zátěž stoupá s intenzitou dotyku: dotykový podnět je přenesen z povrchu dovnitř těl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Letmý doty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Úcho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Objet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Úd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Taktilní zóna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Úpoly se provádí v intimní vzdálenost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Zařazujeme postupně cvičení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v kontaktu rukam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v kontaktu zády nebo dolními končetinam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v kontaktu přední části trupu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obli</a:t>
            </a: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č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jem, vnit</a:t>
            </a: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ranou</a:t>
            </a: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 steh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H</a:t>
            </a:r>
            <a:r>
              <a:rPr b="0" lang="cs-CZ" sz="4000" spc="-1" strike="noStrike">
                <a:solidFill>
                  <a:srgbClr val="ffcc00"/>
                </a:solidFill>
                <a:latin typeface="Arial Black"/>
              </a:rPr>
              <a:t>ygienické návyky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Cvičenci se navzájem dotýkají, je potřeba dbát 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Čistotu cvičenc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Správné ustrojení (vhodný cvičební úbor, NE:hodinky, náramky, náhrdelníky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Úpravu (nehty, poranění kože, líčení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Bezpečnost u cvičení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Úpoly nejsou nebezpečnější než jiné sportovní aktivity (rsp. jsou stejně nebezpečné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Zamezení zranění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Cvičení vhodná pro danou skupinu z hlediska stupně vývoje fyzického, psychického, sociálníh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Popis cvičení dokonale pochopitelný cvičenců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Jasně vymezené úkoly jednotlivých cvičenců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Jasné instrukce učitele (začátek a konec cvičení, přerušení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Bezpečnost u cvičení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Cvičenci jsou zodpovědni za bezpečnost svého spolucviče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Některá cvičení vyžadují určitou úroveň royvoje specifických úpolových dovedností (např. pádová technik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Emotivnost cvičení vtahuje cvičence do činnosti, jejich vědomá sebakontrola je omezená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Dbát na ontogenetické, fylogenetické, psychické a sociální faktory úpol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Pády v ontogenéze pohybu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3352320"/>
            <a:ext cx="8178840" cy="27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Leh na zádec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Leh na bok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Převalování na stran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Pasení koníčk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Sed a skutálení se vzad nebo strano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Stoj a pády vpř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Determinanty strachu z pádů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Pocit bezpeč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Vzdálenost těžiště od podložk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Rychlost pád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Způsob tlumení dopadové energi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Povrch, na který se padá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1219320" y="2300400"/>
            <a:ext cx="63244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00"/>
                </a:solidFill>
                <a:latin typeface="Tahoma"/>
              </a:rPr>
              <a:t>Dostatečné zvládnutí základních pádů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00"/>
                </a:solidFill>
                <a:latin typeface="Tahoma"/>
              </a:rPr>
              <a:t>Nejdřív z nižších polo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00"/>
                </a:solidFill>
                <a:latin typeface="Tahoma"/>
              </a:rPr>
              <a:t>Nejdřív nacvičovat pomal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00"/>
                </a:solidFill>
                <a:latin typeface="Tahoma"/>
              </a:rPr>
              <a:t>Nejdřív pády bez zaražen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00"/>
                </a:solidFill>
                <a:latin typeface="Tahoma"/>
              </a:rPr>
              <a:t>Nejdřív na měkký povrc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Pořadí nácviku základních pádových techník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Vzad s převratem bez zaraže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Vpřed bez převrat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Vpřed s převratem bez zaraže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Stranou se zaražení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Vpřed s převratem a zaražení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Vzad bez převratu se zaražení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356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Kontakt: základní znak úpolů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Dotek je prvním a univerzálním (v ontogenéze i fylogenéze) komunikačním prostředkem člověk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Moderní, informační společnost znehodnocuje komunikační funkci dotek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Tělesná výchova a sport umožňuje znovuobjevování dotek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Cvičení je emotivní, cvičenci „zapomínají“, že se styd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8432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Kontakt: základní znak úpolů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Ve výuce musíme respektov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Věk cvičenců 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(některá kritická období psychosexuálního vývoj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Pohlaví cvičenců 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(u koedukované výuky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Individuální zkušenost s dotykem 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(zejména negativní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Determinanty fzyického kontaktu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Mediátor kontakt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Doba trvání kontakt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Velikost plochy kontakt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Intenzita kontakt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Taktilní zó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Mediátor kontaktu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Kontakt prostřednictvím předmětu, nebo bezprostřední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Oděv – oděv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Oděv – pokožk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Pokožka - pokožk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Doba trvání kontaktu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Nejdřív zařazujeme cvičení s krátkodobým kontaktem (dotknout se soupeřova ramen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Pak cvičení s delší dobou nevyhnutného kontaktu (udržet co nejdéle soupeřovo zápěstí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3T09:21:32Z</dcterms:created>
  <dc:creator>Sally Reynolds</dc:creator>
  <dc:description/>
  <dc:language>en-US</dc:language>
  <cp:lastModifiedBy>HOME</cp:lastModifiedBy>
  <dcterms:modified xsi:type="dcterms:W3CDTF">2006-03-12T11:54:20Z</dcterms:modified>
  <cp:revision>12</cp:revision>
  <dc:subject/>
  <dc:title>Social Firms From NHS</dc:title>
</cp:coreProperties>
</file>