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258D-AE63-473D-BB61-7B83F831B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9426-0ED9-4F39-9DF7-C1CD4275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09D7-9E11-46D3-BFD4-115958F71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299A-9617-4E2B-991E-55A6F6CE9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3B4E-2BF7-4100-B927-20A842D9E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ACBD2-DD17-4C1E-B0CF-18C66161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CE57-B361-47CF-B42A-286863A0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B3DF-6D2E-4DC5-A18D-42D9712B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A7608-AE07-4AC9-A330-605553B8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5B85-30AA-41D1-9B55-27BE3616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60B8-E48A-4CEB-B811-A98241D5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6422-91BD-489C-9CD1-D28470E3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4E53-920E-43BB-B497-EC356DFD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652D-8C82-4A7B-B1D6-52263ED6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6C3F-A99A-4773-B58E-C3642882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C02F-9904-496C-A097-74881F2C4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1FBB-9707-4DD5-A48C-B72010EBB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2EBE-6869-46B0-BD39-BA5FB140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31A4-24F3-46A8-AF12-2F9C6F4A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3CC5-3DE4-4CC3-8191-830FFFD3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4D8C-30A2-4A5C-AF31-A1978148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BC10-97FD-4C1C-8761-EA219B39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45B2-052B-4012-8AE8-6E1DAB8D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6139-1017-49C6-856C-E6F39B84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CDCC-50A8-4558-AEBB-29AE67C9D0D5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E721-71F4-4319-8A7E-AD77D59D9D71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99"/>
                </a:solidFill>
                <a:latin typeface="Tahoma"/>
              </a:rPr>
              <a:t>Úpoly a pohybové hry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loha her v životě člově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Napodobování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racovní činnosti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společenské rol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životní situac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oskytují</a:t>
            </a: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způsob aktivního odpočinku s velkým kompenzačním a psychohygienickým účinkem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Definice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129528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ýchov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zam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řená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, u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domel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e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organizova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kolekt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i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v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outěžní</a:t>
            </a:r>
            <a:endParaRPr b="0" lang="en-US" sz="31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činno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t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a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le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spoň dvo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u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str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a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n, vyplývaj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c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z dop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ř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edu dohodnutého nám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tu a pravidel v účelný, 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ou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vislý a uza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řený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d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Rozdělení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Společenské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Tělovýchovné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Pohybové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8f8f8"/>
                </a:solidFill>
                <a:latin typeface="Tahoma"/>
              </a:rPr>
              <a:t>I úpolové (překonávat odpor druhého hráče úpoly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Sportovní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153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Pr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o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storové vz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t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ahy základn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íc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h úpol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ů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 a pohybových her</a:t>
            </a:r>
            <a:r>
              <a:rPr b="0" lang="en-US" sz="25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676520" y="2295360"/>
          <a:ext cx="571500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95360"/>
                    <a:ext cx="57150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polové h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nejsou součástí systematiky úpolů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průpravné úpoly se ale mohou provádět i jako hra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D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efi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ice úpolové hry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zábav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, zpravidla soutěživ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forma cvičení základních úpolů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8:42:55Z</dcterms:created>
  <dc:creator>Home</dc:creator>
  <dc:description/>
  <dc:language>en-US</dc:language>
  <cp:lastModifiedBy>Vit</cp:lastModifiedBy>
  <dcterms:modified xsi:type="dcterms:W3CDTF">2007-02-20T08:52:52Z</dcterms:modified>
  <cp:revision>12</cp:revision>
  <dc:subject/>
  <dc:title>Systematika úpolov</dc:title>
</cp:coreProperties>
</file>