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6F43-67F7-4316-B4FC-DE4F11EDC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6AB1-76D6-4106-AEBE-A94C49F2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E35D-1564-4FDE-B9D6-880239304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985B-612A-4CC0-B544-7462E99CE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ED22-1D16-4717-BC19-6B8E67753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726A-5D8F-46DB-9323-F4BAE063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1B38-E97A-4DDF-91F3-95153EC3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2D78-2D2B-4593-8251-89C2C198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0403-EF68-4341-BB62-418AF1E1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9EC6-4479-4595-BC2D-D4535774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282E-60C7-4D03-A7A9-A0B29111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88F8-40B9-40C1-8350-27D0D0A7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BA16-D9F2-4C04-8F05-4844569A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B2A0-6BBC-4707-B011-42FFA2DF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75CF-3850-46B6-A964-45EDEEAE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6F7E-CED8-410D-B19D-398A82904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53AF-58C2-42B7-9DB7-1554C6DA6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B40F-DC48-44F0-A0B1-5F347743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05EE-5440-4D38-A80B-1D7371E4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3BB2-70AF-4501-9A5F-CC68C6B8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E664-0DFB-4D3F-91CA-5C4B8383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83A0-3013-460C-B86A-B75BB077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E681-3965-40AD-8E1E-91BEA94D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5E66-82A8-4763-9D1E-3C524630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2B0B-45CB-4D33-928E-23569FF3501C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8BEF-B998-45CF-9393-71C35B0A055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ty tě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tace kolem podélné osy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s pohyby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yužití – úhyby, přemístění, hody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 vztahu k partnerovi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 partnerov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ím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obrate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místění skokem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ískoky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dskok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Chů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kročení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unem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Pohyb začíná noh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imalizování vertikálního pohybu těžišt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ustálý kontakt s podložk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ednota pohybu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ontakt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hor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l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u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avou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působ kontaktu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tyk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cho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bjetí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vedání, nošení a spouštění živého břem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ěžiště obou cvičenců 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í být co nejblíž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emeno zvedáme silou z pokrčených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áda jsou narovnan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chování stabilit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směru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pře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za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ranou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mbinova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otočení kolem příčné osy těl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převrat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převratu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způsobu tlumení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zaražen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e zaražení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letové fá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letové fáz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letovou fází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úrovně ve které pád začíná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 postoj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e snížených poloh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rovádějícího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chtě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íle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artner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loh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chody (mezi poloham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paž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noho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obraty těl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místě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navázání kontakt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zvedání, nošení a spouštění živého břeme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 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partner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ád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Stře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avý stře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evý střeh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Úrove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podní střeh (od pásu dolů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dní střeh (v úrovni trup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rní střeh (v úrovni krku a hlavy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postoj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klek (na jednom, nebo na obo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olenech, případně ve vzporu, či podpor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lečmo – vysoký a nízký parter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sed (s oporou, nebo bez opory 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až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leh (za zádech, na boku a na břich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Biomechanické faktory stabi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plochy opory (čím je plocha opory větší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ýška těžiště nad plochou opory (čím je těžiště níž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úhlu stability (polohou těžiště nad plochou opory, čím ostřejší je úhel stability, tím je poloha stabilnější)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cho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vyšší polohy do niž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nižší polohy do vyš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paž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pohybové vzor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Navázání kontakt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šechny úd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pohybu těla s pohybem paž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noho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Kop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krok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0:54:38Z</dcterms:created>
  <dc:creator>Home</dc:creator>
  <dc:description/>
  <dc:language>en-US</dc:language>
  <cp:lastModifiedBy>Vit</cp:lastModifiedBy>
  <dcterms:modified xsi:type="dcterms:W3CDTF">2007-02-20T08:48:50Z</dcterms:modified>
  <cp:revision>7</cp:revision>
  <dc:subject/>
  <dc:title>Základní úpolová technika</dc:title>
</cp:coreProperties>
</file>