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DBBB-1A3F-44FA-8DD7-6C88E9D69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3777-E12E-49C9-B07A-44F3F11A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1D35-96F2-4565-A2B4-4E3B64064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AB93-9B90-474B-8D9E-FDBF266BA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09B1-C0CD-4BBC-AB0A-C69299234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BDEAD-428B-406F-B347-079A732C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D65C-E156-4398-B614-AD99AB05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B561-5CDF-4BDE-AE16-50F55FF9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F1A4-AC2E-46A9-AEAF-CF9946ED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2793-FBDD-4302-ADFA-2D6BE02C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B4CC-1A8C-4897-93B4-2F6B54B4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8E2C-B9B6-416D-A46C-09A97A58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0F14-A112-4711-A942-C018763A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783AE-DB06-48B4-8F3E-0313A539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2A04-68B3-466E-A4FE-63E0A933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010B-890E-4B3F-BFD2-2E264A7BE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D624-C52E-4766-8D56-18B139DB1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44C2-F2AC-48F2-B24D-CB143499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CF9D-F212-4454-9BDD-EF50DFD3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1DB1-6F0C-4A0F-9A48-2CFA1F60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FCE9-FC2E-43D6-A1F6-564722A5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9CCB-C4CC-4968-B497-FCF0D09E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CB3B-4634-4F72-A72E-4AB9CC40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F0FE-BA5F-41A4-8599-96CD0719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B9A2-4054-4092-923A-EEA2F27A0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7A11-5A7F-4B85-9587-6EABA8BA335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cc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cc00"/>
                </a:solidFill>
                <a:latin typeface="Arial"/>
              </a:rPr>
              <a:t>Biomechanika pá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ov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é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technik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odopadová poloha</a:t>
            </a: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Le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to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Kinematická analýza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ád vza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529000" y="1913040"/>
            <a:ext cx="4085640" cy="1011240"/>
            <a:chOff x="2529000" y="1913040"/>
            <a:chExt cx="4085640" cy="1011240"/>
          </a:xfrm>
        </p:grpSpPr>
        <p:sp>
          <p:nvSpPr>
            <p:cNvPr id="109" name=""/>
            <p:cNvSpPr/>
            <p:nvPr/>
          </p:nvSpPr>
          <p:spPr>
            <a:xfrm>
              <a:off x="252900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90880" y="1913040"/>
              <a:ext cx="13615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5276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2" name="075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2210040" cy="1673280"/>
          </a:xfrm>
          <a:prstGeom prst="rect">
            <a:avLst/>
          </a:prstGeom>
          <a:ln w="0">
            <a:noFill/>
          </a:ln>
        </p:spPr>
      </p:pic>
      <p:pic>
        <p:nvPicPr>
          <p:cNvPr id="113" name="076" descr=""/>
          <p:cNvPicPr/>
          <p:nvPr/>
        </p:nvPicPr>
        <p:blipFill>
          <a:blip r:embed="rId2"/>
          <a:stretch/>
        </p:blipFill>
        <p:spPr>
          <a:xfrm>
            <a:off x="3048120" y="2743200"/>
            <a:ext cx="2171520" cy="164448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2529000" y="1913040"/>
            <a:ext cx="4085640" cy="1011240"/>
            <a:chOff x="2529000" y="1913040"/>
            <a:chExt cx="4085640" cy="1011240"/>
          </a:xfrm>
        </p:grpSpPr>
        <p:sp>
          <p:nvSpPr>
            <p:cNvPr id="115" name=""/>
            <p:cNvSpPr/>
            <p:nvPr/>
          </p:nvSpPr>
          <p:spPr>
            <a:xfrm>
              <a:off x="252900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90880" y="1913040"/>
              <a:ext cx="13615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5276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8" name="077" descr=""/>
          <p:cNvPicPr/>
          <p:nvPr/>
        </p:nvPicPr>
        <p:blipFill>
          <a:blip r:embed="rId3"/>
          <a:stretch/>
        </p:blipFill>
        <p:spPr>
          <a:xfrm>
            <a:off x="5410080" y="2733840"/>
            <a:ext cx="2210040" cy="1671480"/>
          </a:xfrm>
          <a:prstGeom prst="rect">
            <a:avLst/>
          </a:prstGeom>
          <a:ln w="0">
            <a:noFill/>
          </a:ln>
        </p:spPr>
      </p:pic>
      <p:pic>
        <p:nvPicPr>
          <p:cNvPr id="119" name="078" descr=""/>
          <p:cNvPicPr/>
          <p:nvPr/>
        </p:nvPicPr>
        <p:blipFill>
          <a:blip r:embed="rId4"/>
          <a:stretch/>
        </p:blipFill>
        <p:spPr>
          <a:xfrm>
            <a:off x="609480" y="4648320"/>
            <a:ext cx="2133720" cy="1616040"/>
          </a:xfrm>
          <a:prstGeom prst="rect">
            <a:avLst/>
          </a:prstGeom>
          <a:ln w="0">
            <a:noFill/>
          </a:ln>
        </p:spPr>
      </p:pic>
      <p:pic>
        <p:nvPicPr>
          <p:cNvPr id="120" name="079" descr=""/>
          <p:cNvPicPr/>
          <p:nvPr/>
        </p:nvPicPr>
        <p:blipFill>
          <a:blip r:embed="rId5"/>
          <a:stretch/>
        </p:blipFill>
        <p:spPr>
          <a:xfrm>
            <a:off x="2971800" y="4619520"/>
            <a:ext cx="2209680" cy="167184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2529000" y="1913040"/>
            <a:ext cx="4085640" cy="1011240"/>
            <a:chOff x="2529000" y="1913040"/>
            <a:chExt cx="4085640" cy="1011240"/>
          </a:xfrm>
        </p:grpSpPr>
        <p:sp>
          <p:nvSpPr>
            <p:cNvPr id="122" name=""/>
            <p:cNvSpPr/>
            <p:nvPr/>
          </p:nvSpPr>
          <p:spPr>
            <a:xfrm>
              <a:off x="252900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90880" y="1913040"/>
              <a:ext cx="13615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276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5" name="080" descr=""/>
          <p:cNvPicPr/>
          <p:nvPr/>
        </p:nvPicPr>
        <p:blipFill>
          <a:blip r:embed="rId6"/>
          <a:stretch/>
        </p:blipFill>
        <p:spPr>
          <a:xfrm>
            <a:off x="5410080" y="4648320"/>
            <a:ext cx="22100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 Black"/>
              </a:rPr>
              <a:t>Pád vzad s převratem bez zaražení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Z 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stoj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zakročím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a přes podřep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dosedneme na hýždě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na vnější stranu stehna zadní nohy. Převalíme se křížem přes záda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 N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ohy ve vrcholné fázi co nejvíce skrčíme, což způsobí zrychle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řevratu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. Obě ruce opřeme o zem a pomůžeme si jimi do podřepu na obou nohách. Kolena se při přechodu do podřepu nesmí dotknout země.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Fázy pádové technik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256716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424160" y="2033640"/>
          <a:ext cx="6119640" cy="425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4160" y="2033640"/>
                    <a:ext cx="611964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Iniciac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ovnováha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u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čet všech p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ů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b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í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í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 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 a silových momen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ů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usí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ýt 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v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nule (∑F</a:t>
            </a:r>
            <a:r>
              <a:rPr b="0" lang="sk-SK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)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atická („nepohyb“, v=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ynamická (rovnoměrný přímočarý pohyb, v=konst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rušení rovnováh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nější síly (exogenn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nitřní síly (endogenn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Iniciac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ruš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n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opor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lochy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dd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e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dstavy 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esa od podložk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ruše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(odstrá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n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poško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e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) samot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dložk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ruše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zá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u s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zá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nou plocho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rušením (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ško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ením, uvol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ním) záv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u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obu záv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rušením záv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n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oruše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opor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lochy (dotyk s podložkou z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tá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á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orušením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obu opory o podložku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styku s podložko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orušením samot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dložky (posunutím, zm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nou povrchu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adá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Vo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ný pád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pád z výšky v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ž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152 met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ád z výšky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ád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z výšky do 152 met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ád z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stoj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e: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pád,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k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ého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padaj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dopadá na podložku z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 k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tratil rovnováh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adá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loha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Vertikál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– hlavou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bo noham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Horizontál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– če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bo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ády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oloh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blíž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s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 k 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to d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m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oloh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o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e 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ády s ro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ády bez ro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adá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měny poloh a pohy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ktiv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asiv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ntrola padá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ontrolované pá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kontrolované pá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Dopad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imár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ekundár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raně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íst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zdále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Dopad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ertikální polo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oh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ole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ýžd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la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Horizontální polo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Čelní plo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adní plo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Boční plo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09:21:32Z</dcterms:created>
  <dc:creator>Sally Reynolds</dc:creator>
  <dc:description/>
  <dc:language>en-US</dc:language>
  <cp:lastModifiedBy>HOME</cp:lastModifiedBy>
  <dcterms:modified xsi:type="dcterms:W3CDTF">2007-01-04T22:01:08Z</dcterms:modified>
  <cp:revision>16</cp:revision>
  <dc:subject/>
  <dc:title>Social Firms From NHS</dc:title>
</cp:coreProperties>
</file>