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CBA5-A1C0-4B60-A6FA-E02DDD07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859B-3F56-4E37-8070-032A6EB2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033-2C7E-4D4C-8836-6DCC7B449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493B-B059-432D-A42B-F57FA1A4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DE5C-899C-4618-9561-403F1950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24B7-5DDC-479C-AF78-1F8D2DA0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A4AC-B1C2-4E2E-B822-30F6FD51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A4D2-BD1A-4144-89C0-E9E9A6D5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5A13-731A-4803-A37F-E48FCA29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80A6-4A73-4BCA-8E76-EAEA8FF6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53C2-89ED-47D3-B666-A775986F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D6AD-5F14-4F20-870B-DC709566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5498-21AC-4F7F-85D1-CEEB66C7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9F6F-2D58-4D7B-9E7E-710C77EE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3AF1-9A36-4827-AA3C-DF0AD923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E3FD-A4AA-4E42-9996-DC1ED25C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4B02-10A5-43D5-B192-10CC0706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083C-340E-4EF2-AE78-44CAA226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EAB3-9A0C-43FE-9733-4C9E745E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A509-42BF-434B-B1E1-BA1E6DD3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9598-7FD9-44EA-A383-4C2A9D2D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A7FA-EFB6-4C27-8AB9-20C67210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10AB-61D2-4F87-A8AA-51941B81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15AD-FFB7-4150-B072-FFE75ED1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B58A-F782-4E87-8BB6-E0FA13AC71DA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02E2-B5DE-4BB0-9382-7517BA0CAE6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y tě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ace kolem podélné osy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s pohyby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yužití – úhyby, přemístění, hody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 vztahu k partnerovi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 partnerov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í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obrat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místění skok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ískoky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dskok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Chů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kročení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n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Pohyb začíná noh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imalizování vertikálního pohybu těžišt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ustálý kontakt s podložk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ednota pohybu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ntak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r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l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v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působ kontakt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tyk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cho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í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edání, nošení a spouštění živého břem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ěžiště obou cvičenců 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í být co nejblí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emeno zvedáme silou z pokrčených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da jsou narovnan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chování st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směru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pře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za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ran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mbinova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otočení kolem příčné osy těl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převra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převrat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způsobu tlumení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zaražen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zaražení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letové fá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letové fáz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letovou fází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úrovně ve které pád začín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 postoj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 snížených poloh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rovádějícíh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htě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íle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artner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lo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chody (mezi poloham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paž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noh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obraty tě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místě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navázání kontakt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zvedání, nošení a spouštění živého břeme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partn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á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Stře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avý stř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vý stře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Úrove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odní střeh (od pásu dolů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dní střeh (v úrovni trup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rní střeh (v úrovni krku a hlav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postoj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klek (na jednom, nebo na ob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lenech, případně ve vzporu, či podpor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lečmo – vysoký a nízký parte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sed (s oporou, nebo bez opory 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až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leh (za zádech, na boku a na břich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Biomechanické faktory s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plochy opory (čím je plocha opory větší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ýška těžiště nad plochou opory (čím je těžiště níž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úhlu stability (polohou těžiště nad plochou opory, čím ostřejší je úhel stability, tím je poloha stabilnější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cho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vyšší polohy do niž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nižší polohy do vyš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paž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pohybové vzo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vázání kontak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šechny úd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pohybu těla s pohybem paž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noh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Kop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krok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4:38Z</dcterms:created>
  <dc:creator>Home</dc:creator>
  <dc:description/>
  <dc:language>en-US</dc:language>
  <cp:lastModifiedBy>Vit</cp:lastModifiedBy>
  <dcterms:modified xsi:type="dcterms:W3CDTF">2007-02-20T08:48:50Z</dcterms:modified>
  <cp:revision>7</cp:revision>
  <dc:subject/>
  <dc:title>Základní úpolová technika</dc:title>
</cp:coreProperties>
</file>