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74CC9-9860-49BE-84E0-8C06E1E12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64DE5-EAD1-4D9B-972F-DA582B702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E5622-C991-4650-B468-588A5DFA3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7062A-BCEA-48AD-AECA-E18139ADF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2B6DA-ADED-4A90-81AE-9AE8487BD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5FB08-26D1-4263-82FE-2E074ED49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F5A2A-E228-4608-A4C8-BA7E8C362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1E748-A622-4F59-B254-9D77BA9C2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C8017-E406-45D7-BAD3-9EC6B8124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E5A69-08FD-41E2-988D-958DD8AD3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99A50-237C-41F4-A5FE-798BC4C91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E3FFE-5778-4C8D-A7CF-3FE5F2231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3166F-77F3-42F4-AF3C-059AEC281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86386-4DA8-4DA0-BE18-1F55F9746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28B47-85A3-4D2F-A359-A29134D74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FD83E-A1C7-4E69-86C8-1BCE5867B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5F5B1-E1C9-4E1C-9A5C-FAFAA1B9B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8253A-39FF-4562-A980-932CEA3AE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FABA3-CC7D-4FC4-B2B6-E77CFFDF3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B57AB-A146-47FE-9E17-EFF9D6504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8BD11-DDC3-4084-B11D-8AFD338AD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88F9C-3F29-4C27-AB50-2235C1F69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078AB-C08F-4F83-9551-D409C2C76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BA0DB-5B7A-4F50-9F35-A0EAACDB9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920" y="1636560"/>
            <a:ext cx="9148680" cy="4618080"/>
            <a:chOff x="-7920" y="1636560"/>
            <a:chExt cx="9148680" cy="4618080"/>
          </a:xfrm>
        </p:grpSpPr>
        <p:pic>
          <p:nvPicPr>
            <p:cNvPr id="1" name="" descr=""/>
            <p:cNvPicPr/>
            <p:nvPr/>
          </p:nvPicPr>
          <p:blipFill>
            <a:blip r:embed="rId3"/>
            <a:stretch/>
          </p:blipFill>
          <p:spPr>
            <a:xfrm>
              <a:off x="5997600" y="6180120"/>
              <a:ext cx="3143160" cy="7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" descr=""/>
            <p:cNvPicPr/>
            <p:nvPr/>
          </p:nvPicPr>
          <p:blipFill>
            <a:blip r:embed="rId4"/>
            <a:stretch/>
          </p:blipFill>
          <p:spPr>
            <a:xfrm>
              <a:off x="-7920" y="1636560"/>
              <a:ext cx="449568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10848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14580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E1D4D-8B57-4F37-86B8-75F0397AACDC}" type="slidenum"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9144000" cy="3365640"/>
            <a:chOff x="0" y="0"/>
            <a:chExt cx="9144000" cy="3365640"/>
          </a:xfrm>
        </p:grpSpPr>
        <p:pic>
          <p:nvPicPr>
            <p:cNvPr id="45" name="" descr=""/>
            <p:cNvPicPr/>
            <p:nvPr/>
          </p:nvPicPr>
          <p:blipFill>
            <a:blip r:embed="rId3"/>
            <a:srcRect l="8126" t="0" r="0" b="0"/>
            <a:stretch/>
          </p:blipFill>
          <p:spPr>
            <a:xfrm>
              <a:off x="0" y="0"/>
              <a:ext cx="91440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" descr=""/>
            <p:cNvPicPr/>
            <p:nvPr/>
          </p:nvPicPr>
          <p:blipFill>
            <a:blip r:embed="rId4"/>
            <a:stretch/>
          </p:blipFill>
          <p:spPr>
            <a:xfrm>
              <a:off x="4267080" y="3268800"/>
              <a:ext cx="449604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35916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601956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125280" y="6361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80F0B-52B8-4DB1-97A9-F084E1529A07}" type="slidenum"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Z historie úpolových činností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685600" y="3492000"/>
            <a:ext cx="610236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Sakralizace – posvěcení násilí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Bojové činnosti jako nedílná součást vzdělání a dobrých mravů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Potřeba omluvy násilí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Arial"/>
              </a:rPr>
              <a:t>Boží vůl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Arial"/>
              </a:rPr>
              <a:t>Vyšší ideály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Arial"/>
              </a:rPr>
              <a:t>Společenská nevyhnutelnost (sebeochrana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17160" y="49320"/>
            <a:ext cx="863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Helénské období – starověké Řecko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Informační zdroje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Historici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Filozofové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Poeti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Panhelénské hry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Olympijské hry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Zápas </a:t>
            </a:r>
            <a:r>
              <a:rPr b="1" lang="sk-SK" sz="3200" spc="-1" strike="noStrike">
                <a:solidFill>
                  <a:srgbClr val="ffffcc"/>
                </a:solidFill>
                <a:latin typeface="Arial"/>
              </a:rPr>
              <a:t>palé</a:t>
            </a: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 (18. Olympiáda, 706 pnl.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Box </a:t>
            </a:r>
            <a:r>
              <a:rPr b="1" lang="sk-SK" sz="3200" spc="-1" strike="noStrike">
                <a:solidFill>
                  <a:srgbClr val="ffffcc"/>
                </a:solidFill>
                <a:latin typeface="Arial"/>
              </a:rPr>
              <a:t>pygmé</a:t>
            </a: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 (23. Olympiáda, 688 pnl.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Všeboj </a:t>
            </a:r>
            <a:r>
              <a:rPr b="1" lang="sk-SK" sz="3200" spc="-1" strike="noStrike">
                <a:solidFill>
                  <a:srgbClr val="ffffcc"/>
                </a:solidFill>
                <a:latin typeface="Arial"/>
              </a:rPr>
              <a:t>pankration</a:t>
            </a: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 (33. Olympiáda, 648 pnl.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Kalokagati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Řecký ideál člověka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Spojení duševní a tělesné krásy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Arial"/>
              </a:rPr>
              <a:t>V různých městských státech byla jinak chápána (Atény...Sparta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360360" y="20520"/>
            <a:ext cx="8388360" cy="5227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444960" y="5465880"/>
            <a:ext cx="5061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Řecko, amfora s malbou od Andocidese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525 př.n.l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Řím – úpadek sportu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Gladiatorské zápasy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Profesionalizmu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Specializac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Brutalizac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Rozvoj vojenství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Rytíři - Evropa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Arial"/>
              </a:rPr>
              <a:t>7 ctností (septem probitates):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Arial"/>
              </a:rPr>
              <a:t>- </a:t>
            </a:r>
            <a:r>
              <a:rPr b="0" lang="cs-CZ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jízda na koni (equitare),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Arial"/>
              </a:rPr>
              <a:t>- </a:t>
            </a:r>
            <a:r>
              <a:rPr b="0" lang="cs-CZ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plavání (natare),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Arial"/>
              </a:rPr>
              <a:t>- </a:t>
            </a:r>
            <a:r>
              <a:rPr b="0" lang="cs-CZ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lukostřelba (sagitare),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Arial"/>
              </a:rPr>
              <a:t>- </a:t>
            </a:r>
            <a:r>
              <a:rPr b="0" lang="cs-CZ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zápas (caestibus), šerm (certare),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Arial"/>
              </a:rPr>
              <a:t>- </a:t>
            </a:r>
            <a:r>
              <a:rPr b="0" lang="cs-CZ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lov (aucupari),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Arial"/>
              </a:rPr>
              <a:t>- </a:t>
            </a:r>
            <a:r>
              <a:rPr b="0" lang="cs-CZ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šach (scacis ludere),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Arial"/>
              </a:rPr>
              <a:t>- </a:t>
            </a:r>
            <a:r>
              <a:rPr b="0" lang="cs-CZ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veršování (versificare)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Rytíři – samurajové, Japonsko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Bunbu rjódó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Arial"/>
              </a:rPr>
              <a:t>Dvojí cesta – vzdělání v boji i kultuř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Rytířská výchova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Od 7 let páž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Od 14 let panoš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Od 21 let rytíř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Praxe rytířů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Boj, války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Lov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Rytířské turnaje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Arial"/>
              </a:rPr>
              <a:t>Do 15. – 16. století bojový charakter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Arial"/>
              </a:rPr>
              <a:t>Fiktivní systém inscenovaných soubojů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Prehistori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Úpolové činnosti na počátku lidstva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Lov a získávání potravy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Boj, ochrana rodu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Tělesná cvičení, hry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Měšťanská a lidová kultura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Křesťanství : Ora et labora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(modli se a pracuj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Společenské vrstvy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bellatores (ti, kteří válčí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oratores (ti, kteří se modlí, duchovenstvo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laboratores (ti, kteří pracují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Rytířské akademie (17. 18. stol.)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Nástup humanizmu, znovuobjevování antických i rytířských ideálů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Rytířské akademi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Filantropina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17160" y="49320"/>
            <a:ext cx="863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Úpoly v tělovýchovných systémech (19. stol.)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Německo – turnérské hnutí (vlastenectví+branná příprava+gymnastika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Švédsko – gymnastika vojenská, pedagogická, zdravotní, estetická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Francie – F. Amoros, tělesná výchova pro mládež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Anglie – orientace na spor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Postupná diferenciac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Na počátku – všichni všechno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Později rozdělení (i  s vnitřní specializací)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- Lovci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- Bojovníci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Zdokonalení technologií = zdokonalení boj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17160" y="79272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Elektronické informační zdroj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Kronos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A Chronological history of the Martial Arts and Combative Sport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http://ejmas.com/krono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Starověké civilizac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Archeologický výzkum dokazuje existenci řízeného nácviku úpolů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Indi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Mezopotámi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Egyp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..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328680" y="0"/>
            <a:ext cx="4027320" cy="66690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5272200" y="2081160"/>
            <a:ext cx="333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580000" y="2421000"/>
            <a:ext cx="31687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Egypt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3100 př.n.l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Rukojeť obřadního nože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395280" y="333360"/>
            <a:ext cx="4959360" cy="632772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5415120" y="1341360"/>
            <a:ext cx="37317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Sumer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Naleziště Džafaja u Bagdádu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2800 př.n.l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Bronzová soška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0" y="9360"/>
            <a:ext cx="9144000" cy="522936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303120" y="5321160"/>
            <a:ext cx="8085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Egypt, Ben Hasan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Hrobka prince Chetiho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2050 př.n.l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Bojovníci – mýtičtí hrdinové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Přiznání magických vlastností bojovníkům – hrdinům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Bohové nebo jejich potomci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Potomek boha a člověka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Člověk ve spojení s božskou sílou (předmětem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5T22:21:27Z</dcterms:created>
  <dc:creator>Home</dc:creator>
  <dc:description/>
  <dc:language>en-US</dc:language>
  <cp:lastModifiedBy>Vit</cp:lastModifiedBy>
  <dcterms:modified xsi:type="dcterms:W3CDTF">2007-02-20T08:42:32Z</dcterms:modified>
  <cp:revision>8</cp:revision>
  <dc:subject/>
  <dc:title>Z historie úpolových činností</dc:title>
</cp:coreProperties>
</file>