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25A1-85CF-4415-8759-7B07438E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FDC0-A4E7-429E-9158-21F7D0B8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7E4C-9BBE-4095-8839-FD1967CB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1108-52B8-44A1-898B-D32EDEE7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613F-BB4F-4D55-9502-65AF37A8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F95C-DE01-4730-9071-35142F1A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47F6-7092-4806-8701-A32F8A8C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341C-C557-4843-AF9D-7D2C989D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5335-DBDB-43AE-9D1A-56C51166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C9D5-2D1B-477A-ADC8-89250322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EC3B-5FC1-4BCF-BC91-AB85EAF0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490-4859-497D-B15C-44327727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0FAC-D67B-4B4B-AFCF-E95E307B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2324-8C04-4BBC-881E-03A7A852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EFA1-5E6E-4A53-BD87-EF2AF0EC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34B1-446E-4349-8283-6BCC04CE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AA57-F56B-42C2-A4CD-2A0408DA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8D21-F347-497D-8925-72AE5B3A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FAF-C9A9-4807-B140-FB7428D7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3C6-6B16-43EF-B42A-8CC87D3F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422-0B65-4418-B001-6D526D6C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33D-2853-4982-BFE3-4BD49A16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9CA-71F9-45D0-866A-E43BDA09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948A-3C0F-4A18-9E7F-35262558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45E7-DF98-4663-AE39-C29CEE5B8D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0BCD-1688-448D-B93D-5C10434CB8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Vit</cp:lastModifiedBy>
  <dcterms:modified xsi:type="dcterms:W3CDTF">2007-02-20T08:58:53Z</dcterms:modified>
  <cp:revision>7</cp:revision>
  <dc:subject/>
  <dc:title>Úpolové sporty uznané IOC</dc:title>
</cp:coreProperties>
</file>