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981-789D-4E68-B55D-2F2DF8F0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46EA-2C1E-4A36-8C82-9C84A610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832-457D-4167-B5DA-B39A3C1E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E43-872A-475E-9B5F-C86426CF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8F07-D129-43D5-865B-1A1D7BCC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A1C7-60CF-4FAE-BA55-B5601542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D345-5F90-42BC-8B63-9F3A1C3A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4E9E-56F3-4D64-9EF8-A88BA062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FC0A-1980-492A-91FD-F45A6129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3F27-22E3-4251-9BF2-24037C5B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2F7B-FA7D-4E0F-9091-5E0DEC18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F390-7128-4C32-9458-D95F9013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CCC8-2D2C-4960-83F7-CF9A93FB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C453-7292-448F-BD9F-2A6AC2EC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B62B-EEBE-4173-8E1E-15F246D1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91D0-A812-4BCB-B885-7E307B79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7422-CFD8-449B-9216-618A426C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760D-6B23-4524-AE2D-7F2BD75C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C19-5024-45D6-8A43-247196AF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CB9-012D-48CE-9968-277163EC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CF8E-087C-4A1F-9B6E-7FED0E96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E3BF-8C0B-4038-B66A-6488D3AA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53E3-378A-4C03-99EA-9E79233E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008D-AFD2-487B-9ED0-CC8F42E7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236F-B79C-494F-8D5C-8EDF8714F9D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DBF3-71CA-4EB9-B0D0-ADD1DECB4BC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í (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beobrana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 že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 algn="just">
              <a:spcBef>
                <a:spcPts val="799"/>
              </a:spcBef>
              <a:buClr>
                <a:srgbClr val="ffff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u jiných cviče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   Cvičení nářaďov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   Cvičení se skupin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35240" y="1447920"/>
          <a:ext cx="46735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5240" y="1447920"/>
                    <a:ext cx="4673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Reguli</cp:lastModifiedBy>
  <dcterms:modified xsi:type="dcterms:W3CDTF">2007-03-07T10:29:29Z</dcterms:modified>
  <cp:revision>7</cp:revision>
  <dc:subject/>
  <dc:title>Systematika (taxonomie) úpolů</dc:title>
</cp:coreProperties>
</file>