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5452-6672-4671-87B7-091C6C3B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2CED-7A93-412F-950C-FA5E2A9D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01E8-0E7C-4454-A525-38B21310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657F-5FA1-47C2-8BE9-E9999856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F4E8-744E-4F0D-B76D-6CDAAC3A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0385-4F47-4A40-9123-F29E74CB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7705-C288-4FEE-B1DC-137687D4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89B7-15B8-4CEF-B897-C49B888B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FAC4-6628-4C5E-B8E4-0AE60A79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97CE-1690-4736-8E91-8C1FD50D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8730-F631-4A61-9608-CE48A94B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3443-13FA-40DD-942B-1669D188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1F19-2487-4EAB-A80E-279FC3C1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2F64-F485-45C9-B3FC-2E46E42E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6036-87A0-43E1-99FB-8951227B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7E10-C436-4ED5-A9EA-9A318BAD0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7C5B-11A6-4EBE-B23B-1BC473DD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5DD4-B686-4092-8993-E9C762E4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70E9-CF69-4470-9117-492F9DC8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1D66-57DC-4CC1-BD3C-1F4D3CE7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7E03-2677-4F63-A193-7BD5DE10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E504-F626-49F7-9A91-9F2F3DD7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08A1-573B-405F-ADEF-E6C66983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0F58-3FFC-4866-80A0-57B6384B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FA2C-0CFF-45F0-8CB6-664E6FFA19B7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CBAF-5EBD-4EB8-B885-E4A45AEB910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ty tě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tace kolem podélné osy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s pohyby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yužití – úhyby, přemístění, hody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 vztahu k partnerovi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 partnerov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ím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obrate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místění skokem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ískoky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dskok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Chů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kročení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unem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Pohyb začíná noh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imalizování vertikálního pohybu těžišt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ustálý kontakt s podložk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ednota pohybu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ntakt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or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l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u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avou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působ kontaktu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tyk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cho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bjetí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vedání, nošení a spouštění živého břem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ěžiště obou cvičenců 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í být co nejblíž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emeno zvedáme silou z pokrčených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áda jsou narovnan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chování stabilit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směru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pře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za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ranou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mbinova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otočení kolem příčné osy těl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převra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převratu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způsobu tlumení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zaražen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e zaražení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letové fá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letové fáz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letovou fází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úrovně ve které pád začíná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 postoj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e snížených poloh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rovádějícího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chtě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íle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artner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loh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chody (mezi poloham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paž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noh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obraty tě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místě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navázání kontakt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zvedání, nošení a spouštění živého břeme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partner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á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Stře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avý stře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evý střeh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Úrove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podní střeh (od pásu dolů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dní střeh (v úrovni trup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rní střeh (v úrovni krku a hlavy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postoj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klek (na jednom, nebo na ob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lenech, případně ve vzporu, či podpor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lečmo – vysoký a nízký parte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sed (s oporou, nebo bez opory 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až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leh (za zádech, na boku a na břich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Biomechanické faktory sta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plochy opory (čím je plocha opory větší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ýška těžiště nad plochou opory (čím je těžiště níž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úhlu stability (polohou těžiště nad plochou opory, čím ostřejší je úhel stability, tím je poloha stabilnější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cho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vyšší polohy do niž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nižší polohy do vyš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paž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pohybové vzor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Navázání kontakt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šechny úd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pohybu těla s pohybem paž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noho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Kop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krok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0:54:38Z</dcterms:created>
  <dc:creator>Home</dc:creator>
  <dc:description/>
  <dc:language>en-US</dc:language>
  <cp:lastModifiedBy>Vit</cp:lastModifiedBy>
  <dcterms:modified xsi:type="dcterms:W3CDTF">2007-02-20T08:48:50Z</dcterms:modified>
  <cp:revision>7</cp:revision>
  <dc:subject/>
  <dc:title>Základní úpolová technika</dc:title>
</cp:coreProperties>
</file>