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652F-8CBD-4B2B-BF5C-05F6E3103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A9D6-87CC-4E51-BBF4-68C1F538E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EF6A-3CA6-4576-B238-311006791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BC20-399F-4D84-AF30-EF4DA01B9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495FA-7EFF-4BEF-B99E-2B7956B3C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A8D1A-C55D-4D3B-841A-7DBE58A8C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B9240-0EDE-4E5C-A2C8-14D0D6C38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DA0A0-583F-4CAA-91EE-817C32787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8D522-003E-4353-8236-1EC9364AA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E4D7A-55F7-4286-9105-E3CEC139A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DC5CD-8BD7-497D-8DAF-7E25CD083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1766-5841-4B79-A349-64FFCC4E2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C9504-869B-422C-884C-D83BEEBF7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F73AC-6841-4A63-8715-437950B62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1A2CC-C2B2-4695-8D46-E9BDACC92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8C661-1786-4B10-A85E-C43F5C157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96BC8-FDA5-485C-9408-E619B9B1E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D22E-1865-4C14-966A-BB25B30B3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D701-9888-40AD-BD00-0D2C2564A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44F6-8133-4C26-8A70-5A9CB96B6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7F5F-8CDE-472F-A247-7C6A0D127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4155-DBDA-4563-B907-2B601CF5F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0736-58EC-4F55-A9BF-0B838D604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C52B-0DE4-4660-972B-C80CFC14A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1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35317-5E68-4E87-8CCD-BDFA6B9C6D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52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7F708-F013-439F-BF5A-3EB3D57431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Základní úpol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Průpravné úpol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ůpravná cvičení pro jednotlivé úpolové sporty</a:t>
            </a:r>
            <a:r>
              <a:rPr b="1" i="1" lang="sk-SK" sz="2800" spc="-1" strike="noStrike">
                <a:solidFill>
                  <a:srgbClr val="ffffff"/>
                </a:solidFill>
                <a:latin typeface="Times New Roman"/>
              </a:rPr>
              <a:t>, sebeobranu a tělesnou výchovu a sport</a:t>
            </a:r>
            <a:r>
              <a:rPr b="1" i="1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zvíjejí úpolové předpoklady pro nácvik úpolových sportů a sebeobran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Rozdělení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imes New Roman"/>
              </a:rPr>
              <a:t>Základní úpolová technik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imes New Roman"/>
              </a:rPr>
              <a:t>Základní úpo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Základní úpol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etahy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etlaky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por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charakterem přetahů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 charakterem přetlaků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stní odpor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Prostorové vztahy základních úpolů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219320" y="2036880"/>
          <a:ext cx="6781680" cy="459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036880"/>
                    <a:ext cx="6781680" cy="459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Přetahy, přetlak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středivě </a:t>
            </a:r>
            <a:r>
              <a:rPr b="0" lang="cs-CZ" sz="3200" spc="-1" strike="noStrike">
                <a:solidFill>
                  <a:srgbClr val="ffffff"/>
                </a:solidFill>
                <a:latin typeface="Symbol"/>
                <a:ea typeface="Symbol"/>
              </a:rPr>
              <a:t>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 přetah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středivě </a:t>
            </a:r>
            <a:r>
              <a:rPr b="0" lang="cs-CZ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Symbol"/>
                <a:ea typeface="Symbol"/>
              </a:rPr>
              <a:t>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 přetlaků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Úkoly (přetah za jednu paži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upeř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byl vychýlen do nerovnovážné poloh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olik, že musí změnit postoj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dotkl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e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teroukoliv částí těla územ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etahujícího cvič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žádnou částí těla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e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dotýkal svého územ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-  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yl nucen paži napnou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Odpor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pory s charakterem přetahů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pory s charakterem přetlaků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lastní odpor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Úpolový cíl u odporů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emístění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emístit (vychýlit z rovnováhy) partnera (horizontálně i vertikálně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měnit polohu určené části těla (končetiny, trup, hlava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emístit předmět držený partnerem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žení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držet partnera (horizontálně i vertikálně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držet polohu určené části těla (končetiny, trup, hlava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držet držený předmět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Úpolový cíl u odporů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vázání kontaktu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tknout se nebo uchopit partnera (určenou část jeho těla), či předmětu, který drží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abránění kontaktu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abránit dotyku nebo úchopu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1T21:45:10Z</dcterms:created>
  <dc:creator>Home</dc:creator>
  <dc:description/>
  <dc:language>en-US</dc:language>
  <cp:lastModifiedBy>Vit</cp:lastModifiedBy>
  <dcterms:modified xsi:type="dcterms:W3CDTF">2007-02-20T08:51:17Z</dcterms:modified>
  <cp:revision>2</cp:revision>
  <dc:subject/>
  <dc:title>Základní úpoly</dc:title>
</cp:coreProperties>
</file>