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EA50-93E0-455E-97F8-7F37A461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8EFE-463D-4A55-BCF2-38DA3371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2403-6AB3-4E66-920D-19224DEB1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6DD2-8152-4B5E-BA47-7F322A2C4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2374-1C0A-422B-AE61-7CA6EB330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2168-412D-4DEC-871C-4BA2A104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D9E8-6CA3-48FC-88CB-29372651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2CDC-1F95-40AA-84B7-7D12F36D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6116-0DE3-4F6A-BE3E-8E33227D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5B58-B2FD-4A4E-B748-B9F5D298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758C-1C44-49B1-B07F-5922FD25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54CB-F99B-4E33-916C-3B11A36A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8FB3-5351-4AF0-8C60-B341592D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AF1A-0B6D-4531-BA9D-FE57450F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755B-B5A7-4668-87DE-3D7ED126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4324-D8FC-48F9-B49F-D7411C75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C941-E850-48DB-941E-355FF08A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94B1-BB0D-48F5-A3A3-246F712B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31DE-EB18-447D-8F72-51E0054A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8965-CD64-4714-B5BB-77A7BEDC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081D-2F4E-4CCE-A8FC-1D979AAF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6243-C663-46FD-836D-02218802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410D-DA11-4427-B164-64C638A9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0478-F830-4BB5-A1AB-6F6E5A7B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EFBA-495A-4896-A2B3-009627E571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A694-3958-44F1-B752-C023A36F33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e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efinice úpol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toliko za odporu jiného cvičence vykonatelné (Tyrš 186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při kterém přemáháme sílu jiného cvičence, který nám klade odpor, nebo s námi zápasí (Sokolská s. 193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ělesná cvičení, jimiž se v přímém střetnutí s protivníkem usiluje o překonání jeho odporu či jeho přemožení (Fojtík 1980-9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 jsou pohybové aktivity zacílené na kontaktní fyzické překonání partne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o úpolů zařazujeme i specifická cvičení, která jsou přímou průpravou na kontaktní překonání partner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Spor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vojí cháp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činnost zaměřená na vrcholný výkon prezentovaný na soutěž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jakákoliv zájmová pohybová činnost (Evropská charta sportu, 199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1992 – Evropská charta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šechny formy tělesné činnosti, které ať již prostřednictvím organizované účasti či nikoli, si kladou za cíl projevení či zdokonalení tělesné i psychické kondice, rozvoj společenských vztahů nebo dosažení výsledků v soutěžích na všech úrovních.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62 M. Tyr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ičení bez nářadí a bez pomoci nebo odporu jiných cviče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. Cvičení nářaď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I. Cvičení se skupi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V.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39 František Smotla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řirozená (biologická) cvičební soust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 skupin základních a speciálních cvi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I. skupin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očátky úbrany a b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Úpoly: zápas, box, šerm, brana (džúdžuc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945 Václav Fi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  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áklad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ýkonné pohyby s 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od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skluz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       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pomo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í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prav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 pros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k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anec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rytm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prost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na ná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ové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3 – Kody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euristicko – i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 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úpo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nzoricko – koncentr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izikové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eticko – koordin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 funk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mobiliz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5 Šprynar – Stráň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atletika, gymnastika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zápas, box, šerm, vzp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rán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í h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echni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le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1997 J. Mu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dividuáln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spo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tlet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ymnastick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kov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oj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1:24:08Z</dcterms:created>
  <dc:creator>Home</dc:creator>
  <dc:description/>
  <dc:language>en-US</dc:language>
  <cp:lastModifiedBy>Vit</cp:lastModifiedBy>
  <dcterms:modified xsi:type="dcterms:W3CDTF">2007-02-20T08:33:39Z</dcterms:modified>
  <cp:revision>7</cp:revision>
  <dc:subject/>
  <dc:title>Úpoly ve sportu</dc:title>
</cp:coreProperties>
</file>