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EA86-9627-4B17-8740-8CA2F080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1C0-DBEC-4C8A-9375-3CAB4EE3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F1C-2995-4E5F-97D7-A66FBB30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DFCB-FD0C-42EC-B234-34F84283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3A3C-CD1D-4C4F-B8DB-3709BFC4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F29C-22F9-43AA-8359-F67C8094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192C-70CB-4AE5-9507-0C135B1A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FC6D-2F20-4C96-85C6-0F062E11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0604-80A7-421E-B2C8-EF16301B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8BB3-9296-4B60-AF4C-783FE90E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F955-49E5-41B3-827E-6C0C1992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41C-B6BE-4324-B515-09EB3849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A337-3CA8-4435-AE83-426245A5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B2FF-5063-4A99-8EF7-89AC53EF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FA78-C052-4A43-B7BC-071E5156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6134-93D0-4F4D-A933-22B33327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B5F7-7A17-4A7A-AD53-5072313C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C2A-7124-4A40-B262-E4420E40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E7E-EBA0-4B8C-80CE-D151D495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BEE-F7DB-4252-96FB-23094AFD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6C8-4E00-41F9-A64F-3FA68133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7BE-D807-4788-891E-F20A2EA7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36A-1577-4D24-B670-CF3225AA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5CA-F5D4-48FC-82C6-895A21F3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6F30-8D1F-4449-A8CD-C9330D62F262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FDFA-A848-4141-AAC4-1B4950EE6EF7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z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c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Vit</cp:lastModifiedBy>
  <dcterms:modified xsi:type="dcterms:W3CDTF">2007-02-20T09:03:30Z</dcterms:modified>
  <cp:revision>4</cp:revision>
  <dc:subject/>
  <dc:title>Bojová umění</dc:title>
</cp:coreProperties>
</file>