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3C16-8037-4D32-A405-B69ACD199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2CF4-C51B-4792-B43C-32F3EF0E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4DAF-59E7-4E41-A435-8D7A0DBB0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9A90-6F52-4F7B-9C43-F8A855E25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D2DA-C310-4BBE-8BD6-8141D836F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25CF-511B-46AC-8643-1FD54B96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2146-8C34-4B73-AB6B-AE81C7AA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2B9A-AD56-4B10-BC67-17715BD4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2DF40-63EF-4F0D-B8BE-009A553F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4C0A2-E2AC-4148-8F6E-9EBFDA42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C436-9DD2-44C1-8109-64D5BAD7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8429-C6B4-47F9-89C3-52CA2497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E67A-9941-4894-B1C4-40B17E32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E670C-45D8-4D55-BC22-6102D1CC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9D7FB-F14B-488C-889E-0B3AD74A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B225-086E-4CDC-9F44-4BE30FEF6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E466-841D-467C-8999-0E9BC1805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757A-7A92-4969-BCCE-4980D013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8B75-1604-4C0B-A959-FD1D0B7A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C340-1445-4F99-8A33-9877B153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187C-42F8-48D8-AAB8-550A5A13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C9A3-0DE4-4FE6-862D-765CB111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3B72-2CFB-4633-9599-3A078B0B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5CFC-6B70-4C2A-BA45-CB8E522C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8365-D0DD-4418-81C5-13AEAA01DF30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1D78-8827-426D-AE63-A80B4AE7B312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Z historie úpolových činnost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Sakralizace – posvěcení násil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ové činnosti jako nedílná součást vzdělání a dobrých mrav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třeba omluvy násilí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Boží vů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Vyšší ideá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Společenská nevyhnutelnost (sebeochran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Helénské období – starověké Řeck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Informační zdroj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Histori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ilozofové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et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anhelénské h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lympijské hr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Zápas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alé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18. Olympiáda, 706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x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ygmé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23. Olympiáda, 688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boj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ankration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33. Olympiáda, 648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Kalokagati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Řecký ideál člově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ojení duševní a tělesné krás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V různých městských státech byla jinak chápána (Atény...Spart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60360" y="20520"/>
            <a:ext cx="8388360" cy="5227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44960" y="5465880"/>
            <a:ext cx="50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Řecko, amfora s malbou od Andocides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525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Řím – úpadek sportu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Gladiatorské zápas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rofesionalizm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ecializ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rutaliz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ozvoj vojenstv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i - Evrop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7 ctností (septem probitates)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jízda na koni (equi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plavání (na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ukostřelba (sagi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zápas (caestibus), šerm (cer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ov (aucupari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šach (scacis lude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veršování (versificare)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i – samurajové, Japonsk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unbu rjódó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Dvojí cesta – vzdělání v boji i kultuř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ská výchov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7 let páž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14 let pano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21 let rytíř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raxe rytířů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, vál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Lov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ytířské turnaj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Do 15. – 16. století bojový charakt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Fiktivní systém inscenovaných soubojů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rehistori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Úpolové činnosti na počátku lidstva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Lov a získávání potrav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, ochrana rodu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Tělesná cvičení, h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Měšťanská a lidová kultur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Křesťanství : Ora et labora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(modli se a pracuj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olečenské vrstv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bellatores (ti, kteří válčí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oratores (ti, kteří se modlí, duchovenstvo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aboratores (ti, kteří pracují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ské akademie (17. 18. sto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ástup humanizmu, znovuobjevování antických i rytířských ideál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ytířské akadem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ilantropin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Úpoly v tělovýchovných systémech (19. sto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ěmecko – turnérské hnutí (vlastenectví+branná příprava+gymnastika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Švédsko – gymnastika vojenská, pedagogická, zdravotní, estetick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rancie – F. Amoros, tělesná výchova pro mládež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nglie – orientace na spor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ostupná diferenci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a počátku – všichni všechn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zději rozdělení (i  s vnitřní specializací)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Lov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Bojovní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Zdokonalení technologií = zdokonalení boj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9272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Elektronické informační zdro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Kron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 Chronological history of the Martial Arts and Combative Spor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http://ejmas.com/kron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Starověké civiliz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rcheologický výzkum dokazuje existenci řízeného nácviku úpol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Ind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Mezopotám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Egyp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8680" y="0"/>
            <a:ext cx="4027320" cy="6669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272200" y="2081160"/>
            <a:ext cx="333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80000" y="2421000"/>
            <a:ext cx="3168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Egyp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310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Rukojeť obřadního nož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4959360" cy="6327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415120" y="1341360"/>
            <a:ext cx="373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um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Naleziště Džafaja u Bagdádu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280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Bronzová sošk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5229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3120" y="5321160"/>
            <a:ext cx="808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Egypt, Ben Hasa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robka prince Chetih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205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níci – mýtičtí hrdinové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řiznání magických vlastností bojovníkům – hrdinům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hové nebo jejich potom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tomek boha a člově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Člověk ve spojení s božskou sílou (předmětem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2:21:27Z</dcterms:created>
  <dc:creator>Home</dc:creator>
  <dc:description/>
  <dc:language>en-US</dc:language>
  <cp:lastModifiedBy>Vit</cp:lastModifiedBy>
  <dcterms:modified xsi:type="dcterms:W3CDTF">2007-02-20T08:42:32Z</dcterms:modified>
  <cp:revision>8</cp:revision>
  <dc:subject/>
  <dc:title>Z historie úpolových činností</dc:title>
</cp:coreProperties>
</file>