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F767-22F4-4744-9548-74B4E092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B48-E4D0-4FCC-89AF-F6EA1FED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5C88-455F-44FC-BD1C-3B484C00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C08-B5EB-4DF3-A2DD-998237FD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CCE4-E687-4FB0-8A63-BF32B1F6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E0B5-9E04-4DEF-A5E4-0901D8FA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D52B-2A7E-4DE8-B775-F8AB23FD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40ED-1561-4DB6-8490-6018C55F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362C-16B8-4AAE-959A-F229C8CE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5934-BC47-4A2F-8D13-B581601E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2A9B-15CA-4AD7-AE9C-4432E635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DD6C-2660-40EF-896B-73DD7420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FCAD-0C35-425F-A020-41F7C9FF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2075-A818-4C89-94D5-DAB4251B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897E-B40A-4FB5-A0FF-62944180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D70D-B8AC-4BF8-BEC8-47C6F2CB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D13D-30E3-4207-A330-4A79CDCF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5ECF-E62F-46D9-A4D7-4349B94E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073-EB8B-40DB-9125-45805FA2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15F-B93B-4158-898E-5EDF1955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B8EC-C4CA-4CDF-9D57-CC4D4541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153-4065-4AB6-AF1B-9BDBF9CE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F9D-0CF5-4E8A-ADA7-F642BFC4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20C6-1DB6-4A06-9CEA-CAAB6740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811E-E68E-4810-929E-2B19C6958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6DDB-9E8B-4CA5-9E2F-EA0BA06489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Biomechanika p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odopadová poloha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Kinematická analýz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ád 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09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07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13" name="076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171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15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077" descr=""/>
          <p:cNvPicPr/>
          <p:nvPr/>
        </p:nvPicPr>
        <p:blipFill>
          <a:blip r:embed="rId3"/>
          <a:stretch/>
        </p:blipFill>
        <p:spPr>
          <a:xfrm>
            <a:off x="5410080" y="2733840"/>
            <a:ext cx="2210040" cy="1671480"/>
          </a:xfrm>
          <a:prstGeom prst="rect">
            <a:avLst/>
          </a:prstGeom>
          <a:ln w="0">
            <a:noFill/>
          </a:ln>
        </p:spPr>
      </p:pic>
      <p:pic>
        <p:nvPicPr>
          <p:cNvPr id="119" name="078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120" name="079" descr=""/>
          <p:cNvPicPr/>
          <p:nvPr/>
        </p:nvPicPr>
        <p:blipFill>
          <a:blip r:embed="rId5"/>
          <a:stretch/>
        </p:blipFill>
        <p:spPr>
          <a:xfrm>
            <a:off x="2971800" y="4619520"/>
            <a:ext cx="220968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22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080" descr=""/>
          <p:cNvPicPr/>
          <p:nvPr/>
        </p:nvPicPr>
        <p:blipFill>
          <a:blip r:embed="rId6"/>
          <a:stretch/>
        </p:blipFill>
        <p:spPr>
          <a:xfrm>
            <a:off x="5410080" y="4648320"/>
            <a:ext cx="2210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 Black"/>
              </a:rPr>
              <a:t>Pád vzad s převratem bez zaražení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Z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toj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zakročím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 přes podře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osedneme na hýždě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 vnější stranu stehna zadní nohy. Převalíme se křížem přes zád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hy ve vrcholné fázi co nejvíce skrčíme, což způsobí zrychle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vrat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 Obě ruce opřeme o zem a pomůžeme si jimi do podřepu na obou nohách. Kolena se při přechodu do podřepu nesmí dotknout země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Fázy pádové techni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5671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24160" y="2033640"/>
          <a:ext cx="6119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2033640"/>
                    <a:ext cx="6119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u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et všech 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a silových mo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ýt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nule (∑F</a:t>
            </a:r>
            <a:r>
              <a:rPr b="0" lang="sk-SK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)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tická („nepohyb“, 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ynamická (rovnoměrný přímočarý pohyb, v=kon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ušení rovnováh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ější síly (ex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itřní síly (end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n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stavy 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a od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odstrá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n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)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u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nou ploch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(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ím, uvol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ím)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 (dotyk s podložkou 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t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opory o podložk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yku s podložk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 (posunutím, zm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u povrch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o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 pád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 z výšky v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ž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 výšky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z výšky do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toj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h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adaj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dopadá na podložku 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atil rovno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oha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Vertik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hlavou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noh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rizont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če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ády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blíž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k 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o d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m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e 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s 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bez 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poloh a pohy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k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as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a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und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a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íst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dá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rtik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ýžd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rizont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l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d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č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7-01-04T22:01:08Z</dcterms:modified>
  <cp:revision>16</cp:revision>
  <dc:subject/>
  <dc:title>Social Firms From NHS</dc:title>
</cp:coreProperties>
</file>