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9822-7B6E-4BA0-9C01-106A5FAC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A4C3-62AF-4D76-9327-0884D3B7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0E3-3A4B-4A8D-BC12-F4BB0574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CFC1-0A53-4B39-9132-5D637579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5B3C-8D77-40F9-97F8-FF745839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12E2-0158-4D88-91A1-FCE6962C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5232-16DF-4571-A8AD-F8FAB7AB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CCEC-99B6-43C4-9BFF-B1EE49E7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D96E-B76F-465E-904F-5FDA4FC5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C275-7387-471D-8796-C5108FEF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0D48-8499-4962-8205-06CBC4B8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2457-C3BD-47CC-BAE5-258D7B80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FAAC-6451-4005-B4D1-EF35E67B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3594-FE0A-4647-9850-D136AF12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64F3-F473-460D-BB18-DD967705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82C1-DDC8-4614-9C85-530CD129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CD8A-1953-4C2A-A532-7F7463A5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979F-8054-40C0-867A-40B78403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DD78-D842-441D-B1AC-0E106627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3474-D3F9-4850-8E20-2659CEE7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D8C3-02CC-4CAE-B592-BA52B83C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900-D61A-4A92-8575-8E0BC943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06B2-819F-47F6-8D13-7BAE1D63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F5FE-5FA5-4DE8-89AD-04645715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63C7-ECCC-47F1-AA09-AC3B777EE5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DFEF-E63B-493C-B257-253440C78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byl vychýlen do nerovnovážné polo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Vit</cp:lastModifiedBy>
  <dcterms:modified xsi:type="dcterms:W3CDTF">2007-02-20T08:51:17Z</dcterms:modified>
  <cp:revision>2</cp:revision>
  <dc:subject/>
  <dc:title>Základní úpoly</dc:title>
</cp:coreProperties>
</file>