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8DE84-BC48-4567-A407-BDCEA9C15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2995D-D1A6-4F30-952C-2D31DAE72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D311B-FFE7-4A49-AEAF-515BC0DF3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80B71-3CF1-4ACB-B8B0-CAF8D04F7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8233C-F477-4764-AD00-A74540588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24094-914E-4025-83C9-16DA2E7A8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C6BFF-7347-4F54-AF20-AF9F89DD3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A7878-FC12-4A9F-94A2-A4BF96540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D718A-DA64-4D95-BF98-F2A37CED0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FA221-1C35-4B91-A646-D489954B7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743C9-7150-4AF9-85CD-99E3CD2E4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32A5D-5F8F-4D25-89B0-D0C1D09F6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DDC46-8E27-41FE-8B46-0E8125168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B81B0-CD2D-4713-A38D-357914A6B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EA555-674E-43B8-8DA1-F82BC3DF2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84424-69CF-40E6-A733-B101C9FC5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96D0A-D111-411D-9AE1-D6D9EB213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53C43-97AA-4209-AC70-3DBD638AE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56524-6770-42D2-BD63-932C1A05E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4C75C-D6F7-4FE2-A83E-07F77734A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274F2-CBFC-4308-932D-2EA61E618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6CDCF-E521-47E6-AD7D-6B7D56711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4A207-5285-4159-956A-0D6C2C08B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F1356-BA31-42FC-8C18-30A47CA94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1" name="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412E5-A21A-42BC-9A20-86B39783DF17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51" name="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72DBA-8A23-4010-877E-0A55A42C1D38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cc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Times New Roman"/>
              </a:rPr>
              <a:t>Systematika (taxonomie) úpolů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Times New Roman"/>
              </a:rPr>
              <a:t>Sebeobrana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vzniká aplikací úpolů </a:t>
            </a:r>
            <a:r>
              <a:rPr b="1" i="1" lang="sk-SK" sz="3200" spc="-1" strike="noStrike">
                <a:solidFill>
                  <a:srgbClr val="ffffcc"/>
                </a:solidFill>
                <a:latin typeface="Times New Roman"/>
              </a:rPr>
              <a:t>pro potřeby</a:t>
            </a:r>
            <a:r>
              <a:rPr b="1" i="1" lang="sk-SK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nutné obran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ffffcc"/>
                </a:solidFill>
                <a:latin typeface="Times New Roman"/>
              </a:rPr>
              <a:t>Rozdělení: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osobní (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a </a:t>
            </a: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ebeobrana</a:t>
            </a: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 žen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profesní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Times New Roman"/>
              </a:rPr>
              <a:t>Schéma systematiky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. úroveň úpolových p</a:t>
            </a:r>
            <a:r>
              <a:rPr b="0" lang="sk-SK" sz="2400" spc="-1" strike="noStrike">
                <a:solidFill>
                  <a:srgbClr val="ffffcc"/>
                </a:solidFill>
                <a:latin typeface="Times New Roman"/>
              </a:rPr>
              <a:t>ř</a:t>
            </a:r>
            <a:r>
              <a:rPr b="0" lang="sk-SK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edpoklad</a:t>
            </a:r>
            <a:r>
              <a:rPr b="0" lang="sk-SK" sz="2400" spc="-1" strike="noStrike">
                <a:solidFill>
                  <a:srgbClr val="ffffcc"/>
                </a:solidFill>
                <a:latin typeface="Times New Roman"/>
              </a:rPr>
              <a:t>ů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P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</a:rPr>
              <a:t>rů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pravné úpol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cc"/>
                </a:solidFill>
                <a:latin typeface="Wingdings"/>
                <a:ea typeface="Wingdings"/>
              </a:rPr>
              <a:t>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2. úroveň úpolových systém</a:t>
            </a:r>
            <a:r>
              <a:rPr b="0" lang="sk-SK" sz="2400" spc="-1" strike="noStrike">
                <a:solidFill>
                  <a:srgbClr val="ffffcc"/>
                </a:solidFill>
                <a:latin typeface="Times New Roman"/>
              </a:rPr>
              <a:t>ů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Úpolové 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</a:rPr>
              <a:t>s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port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 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sk-SK" sz="2800" spc="-1" strike="noStrike">
                <a:solidFill>
                  <a:srgbClr val="ffffcc"/>
                </a:solidFill>
                <a:latin typeface="Wingdings"/>
                <a:ea typeface="Wingdings"/>
              </a:rPr>
              <a:t>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k-SK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3. úroveň úpolových aplik</a:t>
            </a:r>
            <a:r>
              <a:rPr b="0" lang="sk-SK" sz="2400" spc="-1" strike="noStrike">
                <a:solidFill>
                  <a:srgbClr val="ffffcc"/>
                </a:solidFill>
                <a:latin typeface="Times New Roman"/>
              </a:rPr>
              <a:t>a</a:t>
            </a:r>
            <a:r>
              <a:rPr b="0" lang="sk-SK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cí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Seb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</a:rPr>
              <a:t>e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obran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Times New Roman"/>
              </a:rPr>
              <a:t>1</a:t>
            </a: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8</a:t>
            </a:r>
            <a:r>
              <a:rPr b="0" lang="sk-SK" sz="4400" spc="-1" strike="noStrike">
                <a:solidFill>
                  <a:srgbClr val="ffcc00"/>
                </a:solidFill>
                <a:latin typeface="Times New Roman"/>
              </a:rPr>
              <a:t>62 Sokolská soustava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 algn="just">
              <a:spcBef>
                <a:spcPts val="799"/>
              </a:spcBef>
              <a:buClr>
                <a:srgbClr val="ffffcc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vičení bez nářadí a bez pomoci nebo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8128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       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odporu jiných cvičenců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8128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II.    Cvičení nářaďová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8128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III.   Cvičení se skupině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IV.   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Úpol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Times New Roman"/>
              </a:rPr>
              <a:t>1862 Sokolská soustava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. bez náčiní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775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.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Odpory. Cílem je jenom překonávat odpor spolucviče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nce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a jeho činnost je dopředu známá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775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2.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Zápas. 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Ne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jen  odpor protivníkovi, ale 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snaha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přemoci 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ho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. Shodit ho na zem tak, aby se stal jeho další odpor nemožným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775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3.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Box – rohování. 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Ú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tok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y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pažemi nebo nohami, jako i odvracení těchto útoků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775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B. s náčiním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775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. šerm šavlí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775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2. šerm fleuretem (končířem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775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3.šerm holí: krátkou (80-100 cm), dlouhou (do výše cvičencovy brady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775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4. šerm bodákem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775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5. 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šerm dýkou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Times New Roman"/>
              </a:rPr>
              <a:t>Autoři zabývající se úpoly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1939 - F. Smotlach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953 – J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.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Pavlíček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956 – V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.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Roubíček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957 – R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.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Kříž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970 – V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.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Roubíček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980 – V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.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Roubíček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984 – I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.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Fojtík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993 – M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.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Ďurech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Times New Roman"/>
              </a:rPr>
              <a:t>Taxonomi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H</a:t>
            </a:r>
            <a:r>
              <a:rPr b="0" lang="sk-SK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ierarchické zařazení určitých prvků podle předem stanovených kriterií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Postupuje se od nejjednodušších po nejsložitější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Postupuje se od vývojově starších k mladším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Sleduje i d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i</a:t>
            </a: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daktické cíl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Times New Roman"/>
              </a:rPr>
              <a:t>Schéma systematiky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. úroveň úpolových p</a:t>
            </a:r>
            <a:r>
              <a:rPr b="0" lang="sk-SK" sz="2400" spc="-1" strike="noStrike">
                <a:solidFill>
                  <a:srgbClr val="ffffcc"/>
                </a:solidFill>
                <a:latin typeface="Times New Roman"/>
              </a:rPr>
              <a:t>ř</a:t>
            </a:r>
            <a:r>
              <a:rPr b="0" lang="sk-SK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edpoklad</a:t>
            </a:r>
            <a:r>
              <a:rPr b="0" lang="sk-SK" sz="2400" spc="-1" strike="noStrike">
                <a:solidFill>
                  <a:srgbClr val="ffffcc"/>
                </a:solidFill>
                <a:latin typeface="Times New Roman"/>
              </a:rPr>
              <a:t>ů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P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</a:rPr>
              <a:t>rů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pravné úpol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cc"/>
                </a:solidFill>
                <a:latin typeface="Wingdings"/>
                <a:ea typeface="Wingdings"/>
              </a:rPr>
              <a:t>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2. úroveň úpolových systém</a:t>
            </a:r>
            <a:r>
              <a:rPr b="0" lang="sk-SK" sz="2400" spc="-1" strike="noStrike">
                <a:solidFill>
                  <a:srgbClr val="ffffcc"/>
                </a:solidFill>
                <a:latin typeface="Times New Roman"/>
              </a:rPr>
              <a:t>ů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Úpolové 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</a:rPr>
              <a:t>s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port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 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sk-SK" sz="2800" spc="-1" strike="noStrike">
                <a:solidFill>
                  <a:srgbClr val="ffffcc"/>
                </a:solidFill>
                <a:latin typeface="Wingdings"/>
                <a:ea typeface="Wingdings"/>
              </a:rPr>
              <a:t>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k-SK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3. úroveň úpolových aplik</a:t>
            </a:r>
            <a:r>
              <a:rPr b="0" lang="sk-SK" sz="2400" spc="-1" strike="noStrike">
                <a:solidFill>
                  <a:srgbClr val="ffffcc"/>
                </a:solidFill>
                <a:latin typeface="Times New Roman"/>
              </a:rPr>
              <a:t>a</a:t>
            </a:r>
            <a:r>
              <a:rPr b="0" lang="sk-SK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cí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Seb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</a:rPr>
              <a:t>e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obran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Times New Roman"/>
              </a:rPr>
              <a:t>Prostorové vztahy úpolů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2235240" y="1447920"/>
          <a:ext cx="4673520" cy="518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35240" y="1447920"/>
                    <a:ext cx="467352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Times New Roman"/>
              </a:rPr>
              <a:t>Průpravné úpoly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Průpravná cvičení pro jednotlivé úpolové sporty</a:t>
            </a:r>
            <a:r>
              <a:rPr b="1" i="1" lang="sk-SK" sz="2800" spc="-1" strike="noStrike">
                <a:solidFill>
                  <a:srgbClr val="ffffcc"/>
                </a:solidFill>
                <a:latin typeface="Times New Roman"/>
              </a:rPr>
              <a:t>, sebeobranu a tělesnou výchovu a sport</a:t>
            </a:r>
            <a:r>
              <a:rPr b="1" i="1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Rozvíjejí úpolové předpoklady pro nácvik úpolových sportů a sebeobrany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Rozdělení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Základní úpolová technik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Základní úpol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Times New Roman"/>
              </a:rPr>
              <a:t>Úpolové sporty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400" spc="-1" strike="noStrike">
                <a:solidFill>
                  <a:srgbClr val="ffffcc"/>
                </a:solidFill>
                <a:latin typeface="Times New Roman"/>
              </a:rPr>
              <a:t>N</a:t>
            </a:r>
            <a:r>
              <a:rPr b="1" i="1" lang="sk-SK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ejvětší a rozhodující skupin</a:t>
            </a:r>
            <a:r>
              <a:rPr b="1" i="1" lang="sk-SK" sz="2400" spc="-1" strike="noStrike">
                <a:solidFill>
                  <a:srgbClr val="ffffcc"/>
                </a:solidFill>
                <a:latin typeface="Times New Roman"/>
              </a:rPr>
              <a:t>a</a:t>
            </a:r>
            <a:r>
              <a:rPr b="1" i="1" lang="sk-SK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úpolů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400" spc="-1" strike="noStrike">
                <a:solidFill>
                  <a:srgbClr val="ffffcc"/>
                </a:solidFill>
                <a:latin typeface="Times New Roman"/>
              </a:rPr>
              <a:t>S</a:t>
            </a:r>
            <a:r>
              <a:rPr b="1" i="1" lang="sk-SK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mostatné úpolové systémy. Vzájemně se odlišují znaky, jako vlastní název, vývoj, prostředky, organizace</a:t>
            </a:r>
            <a:r>
              <a:rPr b="1" i="1" lang="sk-SK" sz="2400" spc="-1" strike="noStrike">
                <a:solidFill>
                  <a:srgbClr val="ffffcc"/>
                </a:solidFill>
                <a:latin typeface="Times New Roman"/>
              </a:rPr>
              <a:t>, ..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Rozdělení (podle zaměření)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Soutěžné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Sebeobranné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K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omplexně rozvíjející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6T02:01:25Z</dcterms:created>
  <dc:creator>Home</dc:creator>
  <dc:description/>
  <dc:language>en-US</dc:language>
  <cp:lastModifiedBy>Reguli</cp:lastModifiedBy>
  <dcterms:modified xsi:type="dcterms:W3CDTF">2007-03-07T10:29:29Z</dcterms:modified>
  <cp:revision>7</cp:revision>
  <dc:subject/>
  <dc:title>Systematika (taxonomie) úpolů</dc:title>
</cp:coreProperties>
</file>