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5A0B-723F-4FE9-AF19-8E123718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D18A-8A10-4C4C-B2DE-A2F48800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D891-A005-439D-A64C-C21640CB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3A17-0A32-4B8A-91E3-14D3E48F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9172-B5F8-4E60-A7F4-D5878AC7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4080-498B-449D-BB9D-9C094CA5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FC6E-1C63-47BA-A9BB-B95DE282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7033-AABD-41E8-9BD4-EA29C88A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A7E7-A28F-4A56-949D-743E34E9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588F-0440-4D80-932D-D12426A5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15FD-9CC1-4C17-A298-1F841E30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66D5-DF4E-430C-8E77-F9A1523B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3AB9-9C1F-46B2-B627-3CB30492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1C88-ED2B-4216-8BFA-3A3DF31A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7940-50E7-4C6E-972E-D1786E7B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64AC-A8DB-40CC-95C3-1E0B7F05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7454-30F3-4661-AD03-7C8D00E6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1516-78BE-4D8F-9686-0BFB6E6E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66FC-E410-4ADC-A8BE-75986D7E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E5F1-4254-4090-A608-605CFA1F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B512-BEF2-4C68-AF93-A429E9F4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EF91-9278-4981-8510-587564AD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9AC2-D7D6-4666-8C9D-B57DAC13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204E-BDE5-4D72-952D-4765D1CB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D7A6-3846-4732-B904-E47BCF56B0FD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5F03-5F41-4185-A9B6-0772ECC2780B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99"/>
                </a:solidFill>
                <a:latin typeface="Tahoma"/>
              </a:rPr>
              <a:t>Úpoly a pohybové hry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loha her v životě člově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Napodobování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racovní činnost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společenské ro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životní situ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oskytují</a:t>
            </a: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způsob aktivního odpočinku s velkým kompenzačním a psychohygienickým účinkem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Definice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ýcho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a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řen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, u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domel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e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organizova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kolek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těžní</a:t>
            </a:r>
            <a:endParaRPr b="0" lang="en-US" sz="31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činno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le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spoň dvo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tr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n, vyplývaj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c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 dop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edu dohodnutého ná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tu a pravidel v účelný,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islý a uza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ený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d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Rozdělení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Společensk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ělovýchovné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Pohybové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8f8f8"/>
                </a:solidFill>
                <a:latin typeface="Tahoma"/>
              </a:rPr>
              <a:t>I úpolové (překonávat odpor druhého hráče úpo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Sportovní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r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o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storové vz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ahy základn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íc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h úpol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ů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a pohybových her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2295360"/>
          <a:ext cx="57150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5360"/>
                    <a:ext cx="5715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polové h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ejsou součástí systematiky úpolů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průpravné úpoly se ale mohou provádět i jako h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fi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ce úpolové hry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zábav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zpravidla soutěživ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forma cvičení základních úpolů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8:42:55Z</dcterms:created>
  <dc:creator>Home</dc:creator>
  <dc:description/>
  <dc:language>en-US</dc:language>
  <cp:lastModifiedBy>Vit</cp:lastModifiedBy>
  <dcterms:modified xsi:type="dcterms:W3CDTF">2007-02-20T08:52:52Z</dcterms:modified>
  <cp:revision>12</cp:revision>
  <dc:subject/>
  <dc:title>Systematika úpolov</dc:title>
</cp:coreProperties>
</file>