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84EA-C145-4169-893D-2697CCCE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BDB-09DC-4002-BF9A-37B01DB5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CB4D-DF2B-47F0-82FF-0AAE12C2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E32-5C88-4018-8ECD-79485F85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BA06-FD72-4D4A-ACDF-CFC3C719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D969-C14A-496C-889C-989846DC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09FF-C56E-4AF7-9123-0C4392ED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8A7C-0C10-43B4-91E7-9D1F823B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4AEB-B6B5-4DF3-82F5-26EF7000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E432-B476-4FC4-9977-545A2B39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7A36-83DD-48A4-8EC3-E2E7C07C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77E2-BBEB-4844-ABB0-1135E398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7E67-1700-45C7-A9B6-C60179C4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211A-762A-4029-AEA1-843F2054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24A8-A1C7-4C3C-AA21-C70A7857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AB63-8633-47C5-9CE7-44DC795E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9726-2066-449C-A4B3-896DC7B7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73D-2908-4F23-AB78-6F034F76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3E0F-BB48-4D74-A957-D5543322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B25-A5A4-47F8-8EF9-0BF2FEC2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591-A5CC-4D78-BD23-F70F7610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31AD-6861-4A22-8C9F-84BED49B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2840-2CF3-489F-9848-B365D1B7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756-EFD1-4744-9ED5-257E0A30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9102-7CEF-4BEC-9C8E-DC8FD24E0848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B8F5-3289-4C34-B305-9F1C1ED6AD5F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z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c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Vit</cp:lastModifiedBy>
  <dcterms:modified xsi:type="dcterms:W3CDTF">2007-02-20T09:03:30Z</dcterms:modified>
  <cp:revision>4</cp:revision>
  <dc:subject/>
  <dc:title>Bojová umění</dc:title>
</cp:coreProperties>
</file>