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83E7-0DF3-4BAA-9780-3B64C8485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C716-EBBB-4168-8A3D-C40808CB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7EAC-1230-4A51-B904-07128794F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FD61-3D09-4D4B-B2DD-C4136DB1A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BF44-BC70-45F8-801E-5ECB0CE8D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6CDB-6A0D-42CC-8DAE-AA56A756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3DC1-DFE1-4B73-A078-462F4BDF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A80C-62D4-484E-BE02-E870F50A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7C54-712E-4D5C-A777-34336342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7B0C-92B0-48EF-B425-D64DDDCB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8F4D-BFC7-440A-9AFB-5CF23488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2E2A-B814-4F20-9F74-C5EF4A43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7BA1-A7B9-4728-8CC2-D02C6390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8383-D808-4363-98E2-70D19F68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5A1A-13C6-4E40-9E4E-A23BFB30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8FCF-4E88-48E3-B1AC-FCA5FC5D4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F830-D84E-4805-811B-3DC8503F6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0723-FF94-4A54-B193-2FBA130D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B1F0-C589-4473-80C1-729EDAB1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0E42-03A3-4265-B572-DCE70926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A764-CEC2-491B-B7EC-2663A977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79BD-BC4C-4E9B-AECA-2368A0D6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E21F-3D89-402B-9E48-98788BB3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FD6A-C986-4984-A679-3C50EC07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F759-F524-44CC-99E3-49E7F3A6B5A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35CE-2ADA-4335-BF4C-DC3EE098BEB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našich územích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2. Světová vál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zájmové činnost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úpolových sportů – nástroj propagan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Osobnosti v perzekuci/v bojí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ocialistický s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ýrazná orientace na soutě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pagace režimu, boj mezi kapitalizmem a socializm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sportu (Národní front – ČSST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mládež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vrcholového spor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Oddíly a jejich členové 1957-197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85800" y="2209680"/>
            <a:ext cx="7225920" cy="4572000"/>
            <a:chOff x="685800" y="2209680"/>
            <a:chExt cx="7225920" cy="4572000"/>
          </a:xfrm>
        </p:grpSpPr>
        <p:grpSp>
          <p:nvGrpSpPr>
            <p:cNvPr id="146" name=""/>
            <p:cNvGrpSpPr/>
            <p:nvPr/>
          </p:nvGrpSpPr>
          <p:grpSpPr>
            <a:xfrm>
              <a:off x="690840" y="2212920"/>
              <a:ext cx="7215120" cy="4564440"/>
              <a:chOff x="690840" y="2212920"/>
              <a:chExt cx="7215120" cy="456444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690840" y="2212920"/>
                <a:ext cx="1651320" cy="639000"/>
                <a:chOff x="690840" y="2212920"/>
                <a:chExt cx="1651320" cy="6390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64640" y="2212920"/>
                  <a:ext cx="150408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Rok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</a:rPr>
                    <a:t>S</a:t>
                  </a: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por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90840" y="2212920"/>
                  <a:ext cx="165132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2342520" y="2212920"/>
                <a:ext cx="926640" cy="639000"/>
                <a:chOff x="2342520" y="2212920"/>
                <a:chExt cx="926640" cy="6390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241632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34252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69880" y="2212920"/>
                <a:ext cx="927000" cy="639000"/>
                <a:chOff x="3269880" y="2212920"/>
                <a:chExt cx="927000" cy="6390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4368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6988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4197240" y="2212920"/>
                <a:ext cx="926640" cy="639000"/>
                <a:chOff x="4197240" y="2212920"/>
                <a:chExt cx="926640" cy="6390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27068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724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5124600" y="2212920"/>
                <a:ext cx="926640" cy="639000"/>
                <a:chOff x="5124600" y="2212920"/>
                <a:chExt cx="926640" cy="6390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5198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124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6051600" y="2212920"/>
                <a:ext cx="926640" cy="639000"/>
                <a:chOff x="6051600" y="2212920"/>
                <a:chExt cx="926640" cy="6390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125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051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978960" y="2212920"/>
                <a:ext cx="927000" cy="639000"/>
                <a:chOff x="6978960" y="2212920"/>
                <a:chExt cx="927000" cy="6390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05276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97896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90840" y="2851920"/>
                <a:ext cx="1651320" cy="981360"/>
                <a:chOff x="690840" y="2851920"/>
                <a:chExt cx="1651320" cy="9813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764640" y="285192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Box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90840" y="285192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342520" y="2851920"/>
                <a:ext cx="926640" cy="490680"/>
                <a:chOff x="2342520" y="2851920"/>
                <a:chExt cx="926640" cy="4906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41632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34252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269880" y="2851920"/>
                <a:ext cx="927000" cy="490680"/>
                <a:chOff x="3269880" y="2851920"/>
                <a:chExt cx="927000" cy="4906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34368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26988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197240" y="2851920"/>
                <a:ext cx="926640" cy="490680"/>
                <a:chOff x="4197240" y="2851920"/>
                <a:chExt cx="926640" cy="4906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27068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9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19724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5124600" y="2851920"/>
                <a:ext cx="926640" cy="490680"/>
                <a:chOff x="5124600" y="2851920"/>
                <a:chExt cx="926640" cy="4906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198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124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6051600" y="2851920"/>
                <a:ext cx="926640" cy="490680"/>
                <a:chOff x="6051600" y="2851920"/>
                <a:chExt cx="926640" cy="4906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125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051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978960" y="2851920"/>
                <a:ext cx="927000" cy="490680"/>
                <a:chOff x="6978960" y="2851920"/>
                <a:chExt cx="927000" cy="4906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705276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97896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2342520" y="3342960"/>
                <a:ext cx="926640" cy="490320"/>
                <a:chOff x="2342520" y="3342960"/>
                <a:chExt cx="926640" cy="4903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241632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34252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3269880" y="3342960"/>
                <a:ext cx="927000" cy="490320"/>
                <a:chOff x="3269880" y="3342960"/>
                <a:chExt cx="927000" cy="4903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34368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5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26988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197240" y="3342960"/>
                <a:ext cx="926640" cy="490320"/>
                <a:chOff x="4197240" y="3342960"/>
                <a:chExt cx="926640" cy="4903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27068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8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19724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5124600" y="3342960"/>
                <a:ext cx="926640" cy="490320"/>
                <a:chOff x="5124600" y="3342960"/>
                <a:chExt cx="926640" cy="4903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98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124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051600" y="3342960"/>
                <a:ext cx="926640" cy="490320"/>
                <a:chOff x="6051600" y="3342960"/>
                <a:chExt cx="926640" cy="4903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125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3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051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6978960" y="3342960"/>
                <a:ext cx="927000" cy="490320"/>
                <a:chOff x="6978960" y="3342960"/>
                <a:chExt cx="927000" cy="4903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705276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97896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90840" y="3833280"/>
                <a:ext cx="1651320" cy="981000"/>
                <a:chOff x="690840" y="3833280"/>
                <a:chExt cx="1651320" cy="9810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64640" y="383328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Džúdó a karate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90840" y="383328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2342520" y="3833280"/>
                <a:ext cx="926640" cy="490320"/>
                <a:chOff x="2342520" y="3833280"/>
                <a:chExt cx="926640" cy="4903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241632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34252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3269880" y="3833280"/>
                <a:ext cx="927000" cy="490320"/>
                <a:chOff x="3269880" y="3833280"/>
                <a:chExt cx="927000" cy="4903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334368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26988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4197240" y="3833280"/>
                <a:ext cx="926640" cy="490320"/>
                <a:chOff x="4197240" y="3833280"/>
                <a:chExt cx="926640" cy="4903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27068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19724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5124600" y="3833280"/>
                <a:ext cx="926640" cy="490320"/>
                <a:chOff x="5124600" y="3833280"/>
                <a:chExt cx="926640" cy="4903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5198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124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051600" y="3833280"/>
                <a:ext cx="926640" cy="490320"/>
                <a:chOff x="6051600" y="3833280"/>
                <a:chExt cx="926640" cy="4903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125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051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6978960" y="3833280"/>
                <a:ext cx="927000" cy="490320"/>
                <a:chOff x="6978960" y="3833280"/>
                <a:chExt cx="927000" cy="4903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05276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3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97896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342520" y="4323960"/>
                <a:ext cx="926640" cy="490320"/>
                <a:chOff x="2342520" y="4323960"/>
                <a:chExt cx="926640" cy="4903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41632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5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34252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269880" y="4323960"/>
                <a:ext cx="927000" cy="490320"/>
                <a:chOff x="3269880" y="4323960"/>
                <a:chExt cx="927000" cy="4903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34368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15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26988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197240" y="4323960"/>
                <a:ext cx="926640" cy="490320"/>
                <a:chOff x="4197240" y="4323960"/>
                <a:chExt cx="926640" cy="4903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27068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0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19724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5124600" y="4323960"/>
                <a:ext cx="926640" cy="490320"/>
                <a:chOff x="5124600" y="4323960"/>
                <a:chExt cx="926640" cy="4903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198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124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051600" y="4323960"/>
                <a:ext cx="926640" cy="490320"/>
                <a:chOff x="6051600" y="4323960"/>
                <a:chExt cx="926640" cy="4903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125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9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051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6978960" y="4323960"/>
                <a:ext cx="927000" cy="490320"/>
                <a:chOff x="6978960" y="4323960"/>
                <a:chExt cx="927000" cy="4903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705276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53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97896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90840" y="4814640"/>
                <a:ext cx="1651320" cy="981360"/>
                <a:chOff x="690840" y="4814640"/>
                <a:chExt cx="1651320" cy="9813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764640" y="481464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Šerm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90840" y="481464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2342520" y="4814640"/>
                <a:ext cx="926640" cy="490680"/>
                <a:chOff x="2342520" y="4814640"/>
                <a:chExt cx="926640" cy="49068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41632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34252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3269880" y="4814640"/>
                <a:ext cx="927000" cy="490680"/>
                <a:chOff x="3269880" y="4814640"/>
                <a:chExt cx="927000" cy="49068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334368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26988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4197240" y="4814640"/>
                <a:ext cx="926640" cy="490680"/>
                <a:chOff x="4197240" y="4814640"/>
                <a:chExt cx="926640" cy="4906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27068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19724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5124600" y="4814640"/>
                <a:ext cx="926640" cy="490680"/>
                <a:chOff x="5124600" y="4814640"/>
                <a:chExt cx="926640" cy="4906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5198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124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6051600" y="4814640"/>
                <a:ext cx="926640" cy="490680"/>
                <a:chOff x="6051600" y="4814640"/>
                <a:chExt cx="926640" cy="4906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6125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51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6978960" y="4814640"/>
                <a:ext cx="927000" cy="490680"/>
                <a:chOff x="6978960" y="4814640"/>
                <a:chExt cx="927000" cy="4906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05276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97896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2342520" y="5305680"/>
                <a:ext cx="926640" cy="490320"/>
                <a:chOff x="2342520" y="5305680"/>
                <a:chExt cx="926640" cy="4903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241632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34252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3269880" y="5305680"/>
                <a:ext cx="927000" cy="490320"/>
                <a:chOff x="3269880" y="5305680"/>
                <a:chExt cx="927000" cy="4903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34368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6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6988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197240" y="5305680"/>
                <a:ext cx="926640" cy="490320"/>
                <a:chOff x="4197240" y="5305680"/>
                <a:chExt cx="926640" cy="49032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27068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19724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5124600" y="5305680"/>
                <a:ext cx="926640" cy="490320"/>
                <a:chOff x="5124600" y="5305680"/>
                <a:chExt cx="926640" cy="4903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198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10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124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6051600" y="5305680"/>
                <a:ext cx="926640" cy="490320"/>
                <a:chOff x="6051600" y="5305680"/>
                <a:chExt cx="926640" cy="4903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6125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8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051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978960" y="5305680"/>
                <a:ext cx="927000" cy="490320"/>
                <a:chOff x="6978960" y="5305680"/>
                <a:chExt cx="927000" cy="4903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05276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0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97896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690840" y="5796360"/>
                <a:ext cx="1651320" cy="981000"/>
                <a:chOff x="690840" y="5796360"/>
                <a:chExt cx="1651320" cy="98100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764640" y="579636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Zápa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90840" y="579636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342520" y="5796360"/>
                <a:ext cx="926640" cy="490320"/>
                <a:chOff x="2342520" y="5796360"/>
                <a:chExt cx="926640" cy="4903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41632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34252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3269880" y="5796360"/>
                <a:ext cx="927000" cy="490320"/>
                <a:chOff x="3269880" y="5796360"/>
                <a:chExt cx="927000" cy="4903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334368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26988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4197240" y="5796360"/>
                <a:ext cx="926640" cy="490320"/>
                <a:chOff x="4197240" y="5796360"/>
                <a:chExt cx="926640" cy="4903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27068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19724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124600" y="5796360"/>
                <a:ext cx="926640" cy="490320"/>
                <a:chOff x="5124600" y="5796360"/>
                <a:chExt cx="926640" cy="4903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198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124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6051600" y="5796360"/>
                <a:ext cx="926640" cy="490320"/>
                <a:chOff x="6051600" y="5796360"/>
                <a:chExt cx="926640" cy="4903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6125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51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6978960" y="5796360"/>
                <a:ext cx="927000" cy="490320"/>
                <a:chOff x="6978960" y="5796360"/>
                <a:chExt cx="927000" cy="4903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705276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97896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2342520" y="6287040"/>
                <a:ext cx="926640" cy="490320"/>
                <a:chOff x="2342520" y="6287040"/>
                <a:chExt cx="926640" cy="4903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241632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85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34252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3269880" y="6287040"/>
                <a:ext cx="927000" cy="490320"/>
                <a:chOff x="3269880" y="6287040"/>
                <a:chExt cx="927000" cy="4903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334368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0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26988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4197240" y="6287040"/>
                <a:ext cx="926640" cy="490320"/>
                <a:chOff x="4197240" y="6287040"/>
                <a:chExt cx="926640" cy="4903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427068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2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19724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124600" y="6287040"/>
                <a:ext cx="926640" cy="490320"/>
                <a:chOff x="5124600" y="6287040"/>
                <a:chExt cx="926640" cy="4903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198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44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124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051600" y="6287040"/>
                <a:ext cx="926640" cy="490320"/>
                <a:chOff x="6051600" y="6287040"/>
                <a:chExt cx="926640" cy="4903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125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91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051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6978960" y="6287040"/>
                <a:ext cx="927000" cy="490320"/>
                <a:chOff x="6978960" y="6287040"/>
                <a:chExt cx="927000" cy="4903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705276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09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97896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4" name=""/>
            <p:cNvSpPr/>
            <p:nvPr/>
          </p:nvSpPr>
          <p:spPr>
            <a:xfrm>
              <a:off x="685800" y="2209680"/>
              <a:ext cx="7225920" cy="457200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 roce 198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nížená podpora stá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ícezdrojové financová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nových úpolových sport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ecentralizace sportovního hnut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aří Slované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5. – 6. stol.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Různé samostatné ro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Neměli stálé vojsk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Upřednostňování partyzánského vedení válk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ředověk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Úpolové činnosti v rytířské kultuř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Měšťanská kultur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I úpolové h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Vztah ke každodennímu život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stupná institucionaliza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659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aložena Královská česká zemská stavovská šermírn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Městské šermír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etkávání různých společenských skup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výchovné ústavy v Česk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30 byl Hirschův ústav v Praz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3 Steffanyho (později přejmenován na Stegmayerů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5 Segen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8 Schmidtův-Malypetr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1862 - Sok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Slovenskom území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2 I. T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ocvičný ústav pr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rešovské kol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i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4 šermířská a tělocvičná škola F. Martineng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73 I. B. Zocha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rátk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ávod k vyučovaniu telocviku hlavne pre školy národni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cvičná soustava Sokolská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2087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odporu jiných cvičenců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Cvičení nářaďová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 Cvičení se skupině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Rozvoj sport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Šer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pas a box (přelom 19. – 20. stol.) – těžká atletik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Amatéř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fesionálov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žúdžucu (191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rvní Československá republi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úpolů, stejně jako všeho v nové republ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kon o branné výchově 1. 7. 1937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odpora tělovýchovných aktiv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výšený zájem o úpolové činnos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Spojení s branností a vlastenectví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3:40:49Z</dcterms:created>
  <dc:creator>Home</dc:creator>
  <dc:description/>
  <dc:language>en-US</dc:language>
  <cp:lastModifiedBy>Vit</cp:lastModifiedBy>
  <dcterms:modified xsi:type="dcterms:W3CDTF">2007-02-20T09:35:00Z</dcterms:modified>
  <cp:revision>5</cp:revision>
  <dc:subject/>
  <dc:title>Úpoly na našich územích</dc:title>
</cp:coreProperties>
</file>