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EA57-DF3E-45AE-9740-F37FA8808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CC4D-DBA3-4CA1-8CD3-67DCE192A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FC71-E277-4A33-AD24-88941FCF9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0E84-8B07-421F-A481-09E01F26D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82F88-5490-441B-9FCA-D2F8EAA34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F2681-04C4-455B-ACB7-B64632761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405E3-C7C3-4026-869B-E85F0C388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FF7A4-5F14-4E92-A1BC-CB6A25C7F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80B5D-E185-4E2F-BC75-785633B0B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CFA87-6326-4B43-A4E4-A15868D44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8E82F-9029-44FD-8427-FB74D2A36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A40A-3E11-44B6-90B8-52641892C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EAE00-3D9F-4C10-9562-202C2B1EA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1CC0B-39BC-4544-9B08-2729F6D69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FE7F4-B545-4B13-8A49-8F992461E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CE249-C8D9-4F02-93DA-1325396B5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901F7-2B22-408C-89E1-8EC7F351A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C69D-AE91-46B8-986E-166484115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1C3D-8F90-4CF4-9A98-6648C0200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CC6F-B12A-44D4-9FD8-BA156B87D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0325-F787-4F1A-B12D-4E91CED60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08D6-1A6D-4E4B-A185-9FCB5BED4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04A4-6A1E-493E-B404-00F406107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2556-6120-468D-8228-DAA6F83CB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4000" cy="1905120"/>
            </a:xfrm>
            <a:prstGeom prst="rect">
              <a:avLst/>
            </a:prstGeom>
            <a:gradFill rotWithShape="0">
              <a:gsLst>
                <a:gs pos="0">
                  <a:srgbClr val="a38d77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rcRect l="0" t="66688" r="0" b="0"/>
            <a:stretch/>
          </p:blipFill>
          <p:spPr>
            <a:xfrm>
              <a:off x="0" y="0"/>
              <a:ext cx="9144000" cy="30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SzPct val="11704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eae8e2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a7c1cb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BCA3F-8D8B-489E-BBA1-16A5207DE471}" type="slidenum"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"/>
            <p:cNvSpPr/>
            <p:nvPr/>
          </p:nvSpPr>
          <p:spPr>
            <a:xfrm>
              <a:off x="0" y="1143000"/>
              <a:ext cx="9144000" cy="137160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rcRect l="5827" t="8501" r="35924" b="0"/>
            <a:stretch/>
          </p:blipFill>
          <p:spPr>
            <a:xfrm>
              <a:off x="0" y="0"/>
              <a:ext cx="9144000" cy="143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CE1C2-3DE1-475B-9E99-ADF05036BA0A}" type="slidenum"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eae8e2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a7c1cb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dbc03"/>
                </a:solidFill>
                <a:latin typeface="Impact"/>
              </a:rPr>
              <a:t>Úpolové sporty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dbc03"/>
                </a:solidFill>
                <a:latin typeface="Impact"/>
              </a:rPr>
              <a:t>Znaky úpolových sportů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8e2"/>
                </a:solidFill>
                <a:latin typeface="Arial Narrow"/>
              </a:rPr>
              <a:t>Úroveň úpolových systémů: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název (aikidó, zápas, karate, džúdó)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vývoj (každý se zrodil v jistých historických souvislostech)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prostředky (technické, taktické, materální)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členskou základnu a  její vnitřní hierarchii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zastřešující organizaci a systém národních a regionálních organizací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metody a formy výcviku, vzdělávání a výchovy (vzájemně více, či méně odlišné)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soutěžní sporty i systém soutěží a pravidel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nesoutěžn</a:t>
            </a:r>
            <a:r>
              <a:rPr b="0" lang="sk-SK" sz="2000" spc="-1" strike="noStrike">
                <a:solidFill>
                  <a:srgbClr val="eae8e2"/>
                </a:solidFill>
                <a:latin typeface="Arial"/>
                <a:ea typeface="Times New Roman"/>
              </a:rPr>
              <a:t>í</a:t>
            </a:r>
            <a:r>
              <a:rPr b="0" lang="sk-SK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 sporty systém zkoušek, titulů 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eae8e2"/>
                </a:solidFill>
                <a:latin typeface="Arial"/>
                <a:ea typeface="Times New Roman"/>
              </a:rPr>
              <a:t>	</a:t>
            </a:r>
            <a:r>
              <a:rPr b="0" lang="sk-SK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a hodností</a:t>
            </a: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zaměření úpolov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</a:rPr>
              <a:t>ých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 sport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</a:rPr>
              <a:t>ů</a:t>
            </a: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8e2"/>
                </a:solidFill>
                <a:latin typeface="Verdana"/>
              </a:rPr>
              <a:t>s</a:t>
            </a: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outěžné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 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</a:rPr>
              <a:t>(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systém soutěží a příprava na ně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sebeobranné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 (zaměření na aplikaci úpolového sportu pro potřeby sebeobrany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komplexně rozvíjející</a:t>
            </a:r>
            <a:r>
              <a:rPr b="0" lang="sk-SK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 (celoživotní rozměr a mnohodimenzionální rozvoj člověka v oblasti tělesné, duševní, sociální i spirituální</a:t>
            </a:r>
            <a:r>
              <a:rPr b="0" lang="sk-SK" sz="2800" spc="-1" strike="noStrike">
                <a:solidFill>
                  <a:srgbClr val="eae8e2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vztah k soutěži</a:t>
            </a: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soutěžní</a:t>
            </a:r>
            <a:r>
              <a:rPr b="0" lang="cs-CZ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, ve kterých se pořádají soutěže, většinou na různých úrovních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 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nesoutěžn</a:t>
            </a:r>
            <a:r>
              <a:rPr b="1" lang="sk-SK" sz="3200" spc="-1" strike="noStrike">
                <a:solidFill>
                  <a:srgbClr val="eae8e2"/>
                </a:solidFill>
                <a:latin typeface="Arial"/>
                <a:ea typeface="Times New Roman"/>
              </a:rPr>
              <a:t>í</a:t>
            </a:r>
            <a:r>
              <a:rPr b="0" lang="sk-SK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, ve kterých se nepořádají soutěže 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podle</a:t>
            </a:r>
            <a:r>
              <a:rPr b="0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 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technických</a:t>
            </a:r>
            <a:r>
              <a:rPr b="0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 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prostředků</a:t>
            </a: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úpolové sporty, </a:t>
            </a: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používající zejména zbraně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(šerm, kendó, iaidó),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úpolové sporty, </a:t>
            </a: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používající zejména kontakt částmi těla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: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s použitím zejména úderů a kopů (box, karate, tae kwon do),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s použitím zejména hodů a znehybnění</a:t>
            </a:r>
            <a:r>
              <a:rPr b="0" lang="sk-SK" sz="2800" spc="-1" strike="noStrike">
                <a:solidFill>
                  <a:srgbClr val="eae8e2"/>
                </a:solidFill>
                <a:latin typeface="Arial"/>
                <a:ea typeface="Times New Roman"/>
              </a:rPr>
              <a:t> (džúdó, zápas, sumó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podle kulturních konotací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evropské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 (šerm, zápas, savate…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americké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 (wrestling, karate kempo, 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Gracie džúdžucu, capoeira…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azijské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: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čínské (tchai ťi, pakua, hunggar…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korejské (taekwondo, hwarangdo, hapkido…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japonské (aikidó, džúdó, sumó, kendó…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indické (vadžrámušti, kalaripajattu…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t</a:t>
            </a:r>
            <a:r>
              <a:rPr b="0" lang="sk-SK" sz="2400" spc="-1" strike="noStrike">
                <a:solidFill>
                  <a:srgbClr val="eae8e2"/>
                </a:solidFill>
                <a:latin typeface="Arial Narrow"/>
                <a:ea typeface="Times New Roman"/>
              </a:rPr>
              <a:t>hajské (muai thai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2:09:01Z</dcterms:created>
  <dc:creator>Home</dc:creator>
  <dc:description/>
  <dc:language>en-US</dc:language>
  <cp:lastModifiedBy>Vit</cp:lastModifiedBy>
  <dcterms:modified xsi:type="dcterms:W3CDTF">2007-02-20T08:56:00Z</dcterms:modified>
  <cp:revision>5</cp:revision>
  <dc:subject/>
  <dc:title>Úpoloo</dc:title>
</cp:coreProperties>
</file>