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109B-4578-4667-A07F-5414634D7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35FD-5B6E-4B60-8AF2-4BED8D66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FDC1-B5F1-4244-B2AC-4FA9DBDED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FFB7-D185-49FF-AF94-AA64C7AAA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1C01-FDDA-4057-A1DA-E9D161D2F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A780-4617-457C-88F9-5C291139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27D7-24A4-4231-AF69-575646B4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9B64-0F6A-4791-93E6-18A423DC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02E6-C2EC-4687-B810-7698CBD0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2A88-B9E7-4A63-9770-79A5EEAA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C9F1-58AA-414C-8345-0FE86B51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5861-1197-4E4D-B29B-39C638CA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9C33-52DB-423F-BC40-40D96CC7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9098-2B31-428C-B1AB-8CF620A9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4A7F-0AC1-4655-907A-C4719687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6A43-8C79-4699-BD6C-9AA2F22C9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73B7-2AF9-4E96-A3C5-D660CEB1E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85AA-E667-4934-955A-699EA23F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CEA9-7C61-456E-9BF2-9A0DD2AE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4421-65A4-4FF1-A985-76BBC6DF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F044-CAA3-4590-A0E3-F68A1F42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EC9A-366B-4F7F-905F-363AAEC5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9F03-F53D-4C96-A76F-55D054E9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53DE-815E-4250-A792-B76F1432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2349-7BE4-46BC-9864-5F9219135B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77AF-B71C-467C-BA0B-3487733175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e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efinice úpol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toliko za odporu jiného cvičence vykonatelné (Tyrš 186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při kterém přemáháme sílu jiného cvičence, který nám klade odpor, nebo s námi zápasí (Sokolská s. 193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ělesná cvičení, jimiž se v přímém střetnutí s protivníkem usiluje o překonání jeho odporu či jeho přemožení (Fojtík 1980-9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 jsou pohybové aktivity zacílené na kontaktní fyzické překonání partne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o úpolů zařazujeme i specifická cvičení, která jsou přímou průpravou na kontaktní překonání partnera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Spor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vojí cháp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činnost zaměřená na vrcholný výkon prezentovaný na soutěž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jakákoliv zájmová pohybová činnost (Evropská charta sportu, 199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1992 – Evropská charta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šechny formy tělesné činnosti, které ať již prostřednictvím organizované účasti či nikoli, si kladou za cíl projevení či zdokonalení tělesné i psychické kondice, rozvoj společenských vztahů nebo dosažení výsledků v soutěžích na všech úrovních.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62 M. Tyr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ičení bez nářadí a bez pomoci nebo odporu jiných cvičenc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. Cvičení nářaď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I. Cvičení se skupin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V.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39 František Smotla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řirozená (biologická) cvičební soust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 skupin základních a speciálních cvik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I. skupin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očátky úbrany a bo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Úpoly: zápas, box, šerm, brana (džúdžuc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945 Václav Fi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  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áklad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ýkonné pohyby s p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od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skluz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       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pomo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í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prav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h pros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k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anec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rytm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prost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na ná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d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ové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3 – Kody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heuristicko – i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 (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úpo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enzoricko – koncentr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izikové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teticko – koordin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 funk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mobiliz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5 Šprynar – Stráň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atletika, gymnastika,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.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zápas, box, šerm, vzp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rán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í h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echni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le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1997 J. Mu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dividuáln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spo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tlet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ymnastick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kov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oj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1:24:08Z</dcterms:created>
  <dc:creator>Home</dc:creator>
  <dc:description/>
  <dc:language>en-US</dc:language>
  <cp:lastModifiedBy>Vit</cp:lastModifiedBy>
  <dcterms:modified xsi:type="dcterms:W3CDTF">2007-02-20T08:33:39Z</dcterms:modified>
  <cp:revision>7</cp:revision>
  <dc:subject/>
  <dc:title>Úpoly ve sportu</dc:title>
</cp:coreProperties>
</file>