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6F3B-A841-4F37-98B5-A7B791FF3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E5B8-7B1A-4A7F-8752-5769B0ED3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2999-B2E9-4960-BCA9-ED2196B9D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C198-D308-465F-ABA1-0E3A02BDC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D5E1C-896E-4806-9D70-F1BB674F8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8B815-1618-42B4-B7ED-F292E1058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426F2-A1A7-46ED-954D-25A6AEA2F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6E6BA-93B4-44A7-86CF-2F2A49F21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7CEB8-6E1F-42EA-BAD2-0A2EE3195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0BEC9-A265-4750-9991-26A0759E2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BB5DD-D431-4E44-BF10-96CE5E02C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0042-21B8-4450-A75B-F2442D650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A8027-F6D1-4A95-B0AC-3EFC0DB95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03CF5-ADD8-4331-BD27-88B87776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31E4C-A212-4CC4-BE4E-115253095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E1C13-10DE-4E44-897B-F8B701912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52BEC-61DF-4822-862D-AEF8927A7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B32A-3BC8-4FAE-9FA2-483AB417D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15D6-965C-4E1E-9FF2-70716790E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BA3F-BC33-478D-80AD-A14BAA3E5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6AB8-FC6E-4306-86A8-855EF7C04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5DC2-9FE5-46B9-8D14-512956B9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6A4E-6149-4E57-B0F4-D78B8C303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6E9A-1674-430E-9C03-F23EB79F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18320" y="420120"/>
                <a:ext cx="426816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37000" y="840600"/>
                <a:ext cx="3431160" cy="31946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255320" y="1261080"/>
                <a:ext cx="2594520" cy="2354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590120" y="1597680"/>
                <a:ext cx="1924560" cy="1681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518640" y="3515400"/>
                <a:ext cx="3249000" cy="30268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837240" y="3830760"/>
                <a:ext cx="2611800" cy="23961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4410720" y="4398480"/>
                <a:ext cx="1464840" cy="12610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4851360" y="506880"/>
                <a:ext cx="3630960" cy="34052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207760" y="861480"/>
                <a:ext cx="291888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563440" y="1216080"/>
                <a:ext cx="2207160" cy="19864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DEF56-080D-40E7-ACD4-FD734FD9AF36}" type="slidenum"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418320" y="420120"/>
                  <a:ext cx="426816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837000" y="840600"/>
                  <a:ext cx="3431160" cy="31946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255320" y="1261080"/>
                  <a:ext cx="2594520" cy="2354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590120" y="1597680"/>
                  <a:ext cx="1924560" cy="1681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3518640" y="3515400"/>
                  <a:ext cx="3249000" cy="30268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837240" y="3830760"/>
                  <a:ext cx="2611800" cy="23961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4410720" y="4398480"/>
                  <a:ext cx="1464840" cy="12610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4851360" y="506880"/>
                  <a:ext cx="3630960" cy="34052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5207760" y="861480"/>
                  <a:ext cx="291888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563440" y="1216080"/>
                  <a:ext cx="2207160" cy="19864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0C287-9A22-4158-9E44-8916D5CE124A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Základní úpolová tech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aty tě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otace kolem podélné osy těl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Vertikální stabilit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Provázání s pohyby noho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Využití – úhyby, přemístění, hody..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místěn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 vztahu k partnerovi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k partnerovi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 partner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ed partner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a partner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řím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 obratem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řemístěn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emístění skokem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   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ískoky 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   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dskok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Chůze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ekročení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unem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aea"/>
                </a:solidFill>
                <a:latin typeface="Times New Roman"/>
              </a:rPr>
              <a:t>Pohyb začíná noha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adn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edn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řemístěn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inimalizování vertikálního pohybu těžiště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Neustálý kontakt s podložko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ertikální stabilit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Jednota pohybu těl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vázání kontaktu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Kontakt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horními končetinam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olními končetinam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up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h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lavou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vázání kontaktu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působ kontaktu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otyk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úchop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bjetí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vedání, nošení a spouštění živého břemen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těžiště obou cvičenců m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jí být co nejblíž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řemeno zvedáme silou z pokrčených noho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z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áda jsou narovnaná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achování stability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ádová tech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směru pádu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před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zad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ranou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</a:rPr>
              <a:t>k</a:t>
            </a: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mbinova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otočení kolem příčné osy těla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 převrate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ez převratu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způsobu tlumení pádu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ez zaražení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e zaražení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ádová tech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letové fáze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ez letové fáze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 letovou fází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0720" indent="-27072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úrovně ve které pád začíná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 postoje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e snížených poloh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0720" indent="-27072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provádějícího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chtě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cíle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0720" indent="-27072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partnera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neúmysl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úmysl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růpravné úpo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růpravná cvičení pro jednotlivé úpolové sporty</a:t>
            </a:r>
            <a:r>
              <a:rPr b="1" i="1" lang="sk-SK" sz="2800" spc="-1" strike="noStrike">
                <a:solidFill>
                  <a:srgbClr val="eaeaea"/>
                </a:solidFill>
                <a:latin typeface="Times New Roman"/>
              </a:rPr>
              <a:t>, sebeobranu a tělesnou výchovu a sport</a:t>
            </a:r>
            <a:r>
              <a:rPr b="1" i="1" lang="sk-SK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ozvíjejí úpolové předpoklady pro nácvik úpolových sportů a sebeobrany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Rozdělení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aea"/>
                </a:solidFill>
                <a:latin typeface="Times New Roman"/>
              </a:rPr>
              <a:t>Základní úpolová technik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aea"/>
                </a:solidFill>
                <a:latin typeface="Times New Roman"/>
              </a:rPr>
              <a:t>Základní úpol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Základní úpolová tech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oloh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řechody (mezi polohami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ohyby paž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ohyby noho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obraty těl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řemístěn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navázání kontakt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zvedání, nošení a spouštění živého břemen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         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(partnera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ád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oloh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Stře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ravý stře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levý střeh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Úroveň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podní střeh (od pásu dolů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dní střeh (v úrovni trupu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h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rní střeh (v úrovni krku a hlavy)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oloh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99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hový postoj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99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hový klek (na jednom, nebo na obo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kolenech, případně ve vzporu, či podpor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klečmo – vysoký a nízký parter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99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hový sed (s oporou, nebo bez opory 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aži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99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hový leh (za zádech, na boku a na břichu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Biomechanické faktory stabili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elikost plochy opory (čím je plocha opory větší, tím je poloha stabilnější)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ýška těžiště nad plochou opory (čím je těžiště níž, tím je poloha stabilnější)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elikost úhlu stability (polohou těžiště nad plochou opory, čím ostřejší je úhel stability, tím je poloha stabilnější)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chod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Z vyšší polohy do nižší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Z nižší polohy do vyšší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hyby paž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Základní pohybové vzor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Navázání kontakt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Všechny úder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Provázání pohybu těla s pohybem paží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hyby nohou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Kop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Základní krok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0:54:38Z</dcterms:created>
  <dc:creator>Home</dc:creator>
  <dc:description/>
  <dc:language>en-US</dc:language>
  <cp:lastModifiedBy>Vit</cp:lastModifiedBy>
  <dcterms:modified xsi:type="dcterms:W3CDTF">2007-02-20T08:48:50Z</dcterms:modified>
  <cp:revision>7</cp:revision>
  <dc:subject/>
  <dc:title>Základní úpolová technika</dc:title>
</cp:coreProperties>
</file>