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2FFB-5804-420D-A555-F3CBBDDEA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61D0-57C3-4CF7-8420-7B06DCF3D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F227-863F-4368-BE65-027480EA0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F052-178B-46D8-8B18-DCEA31BF4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143AF-2145-4ABF-96E4-48F029696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B3B92-1841-481C-839A-F530538BC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D6BF9-F740-46CB-B75B-CFA7F36E1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67819-2345-42C9-A92C-3953A2AAF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670DA-68F7-47CE-91B2-6FBF6AAA9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E7492-66C0-46DC-9F02-AE235FD6C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E3543-7B39-4013-80C2-79D50BCA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B680-92B6-49E9-8D34-291A80D74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AFC7A-CA5E-45AC-A49A-5CF11BE0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5BDD7-73F9-428E-800D-20A8E8439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2AD9B-F97E-4E42-823A-87E4EC8FE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85609-8C81-4B40-9AC4-023F59683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AE81D-E90F-4ADC-BE29-C7EA12623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CCCD-03C5-42EC-B1D2-7F02BAC75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C1CE-7F3D-4923-B311-CD6D8AB60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9C22-38FF-44CC-99A6-82EA4BC2B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A424-481D-47AF-83A0-DA5644B40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0798-0FD1-4029-9867-05B393D97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C71D-E0DE-4A24-A5D4-54482B11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8A27-1035-497F-95CD-A5C25EE7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F6C7D-E290-4447-9D83-42DD7BB54B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49BCA-E8D0-4ABB-929D-9836602EE8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e sportu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Definice úpol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Definice úpolů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Cvičení, toliko za odporu jiného cvičence vykonatelné (Tyrš 186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Cvičení, při kterém přemáháme sílu jiného cvičence, který nám klade odpor, nebo s námi zápasí (Sokolská s. 193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Tělesná cvičení, jimiž se v přímém střetnutí s protivníkem usiluje o překonání jeho odporu či jeho přemožení (Fojtík 1980-9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Definice úpolů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Úpoly jsou pohybové aktivity zacílené na kontaktní fyzické překonání partner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o úpolů zařazujeme i specifická cvičení, která jsou přímou průpravou na kontaktní překonání partnera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Spor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Dvojí chápá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port jako činnost zaměřená na vrcholný výkon prezentovaný na soutěž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port jako jakákoliv zájmová pohybová činnost (Evropská charta sportu, 199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1992 – Evropská charta sportu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všechny formy tělesné činnosti, které ať již prostřednictvím organizované účasti či nikoli, si kladou za cíl projevení či zdokonalení tělesné i psychické kondice, rozvoj společenských vztahů nebo dosažení výsledků v soutěžích na všech úrovních.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862 M. Tyr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.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vičení bez nářadí a bez pomoci nebo odporu jiných cvičenc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        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I. Cvičení nářaďov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        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II. Cvičení se skupin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IV.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Úpo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939 František Smotlach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Přirozená (biologická) cvičební sousta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8 skupin základních a speciálních cvik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VI. skupin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Počátky úbrany a bo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Úpoly: zápas, box, šerm, brana (džúdžucu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945 Václav Fia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  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Základn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pohyby z 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ýkonné pohyby s p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d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Úpo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V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hyby a cvičen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v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vod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hyby z 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a skluz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       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hyby z 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a pomoc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rtov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níc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opravn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h prost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dk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anec a cvičen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rytmick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ocvik prost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X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ocvik na ná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d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X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hybové h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983 – Kody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heuristicko – individuál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činnosti (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 úpol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enzoricko – koncentrač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čin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rizikové čin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steticko – koordinač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čin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 funkč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ě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– mobilizač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činnost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985 Šprynar – Stráň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ndividuál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porty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(atletika, gymnastika,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..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úpolov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porty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(zápas, box, šerm, vzp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rán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, 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rtov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ní h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technick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rt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t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leck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rt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1997 J. Mus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.</a:t>
            </a:r>
            <a:r>
              <a:rPr b="1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ndividuáln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spor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tletick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Úpolov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Gymnastické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IX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.</a:t>
            </a:r>
            <a:r>
              <a:rPr b="1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1" lang="sk-SK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rtov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ní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h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r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kové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ojov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01:24:08Z</dcterms:created>
  <dc:creator>Home</dc:creator>
  <dc:description/>
  <dc:language>en-US</dc:language>
  <cp:lastModifiedBy>Vit</cp:lastModifiedBy>
  <dcterms:modified xsi:type="dcterms:W3CDTF">2007-02-20T08:33:39Z</dcterms:modified>
  <cp:revision>7</cp:revision>
  <dc:subject/>
  <dc:title>Úpoly ve sportu</dc:title>
</cp:coreProperties>
</file>