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8526-4188-42F2-BA89-2A967848C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3D60-63CF-4BC6-B783-DAE54369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27A9-62C1-443B-8CEC-163784D7D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831D-75E4-4CA7-8C79-ABDCE0FB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3C4C-CAB0-4E2C-BA39-FF01C817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D3A2-1F19-4C1C-BA4B-77309598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A44E-C61F-4AA2-8039-B29CA593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1F29-AADE-498B-835B-E76E1F05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569E-9599-4D5F-B743-753D25E4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B0D4-8F5D-426F-BF5F-F4A3819E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9C59-5981-419B-8F1D-223ED850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5B0B-B8BF-47AB-820B-839E4E1C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EC89-095A-4F61-9325-D87AA482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7084-6BB3-4108-BF56-FD1F0904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857D-6A6D-45A5-AD12-DF1C71E9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3D65-2346-4EFB-AF68-C2B2E5A48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E14B-B4B5-4C0C-A395-D2A9B610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4FD1-CEEA-45E8-9B99-86E9F80C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F7F0-E703-4136-A72B-B9936A05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053F-D12C-4D6A-A68F-A540F452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DD83-5B8D-40E0-B6C9-2DB7F54B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E2A4-09B8-4478-8FF6-5EEEF899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E59F-26C3-471C-BB32-09985B9E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2DFA-41A2-4AC3-96DA-A870820E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2989-F934-4EFC-B188-D1F8C62798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C37B-DFED-4E8D-BE36-4FBB95F122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057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cc66"/>
                </a:solidFill>
                <a:latin typeface="Times New Roman"/>
              </a:rPr>
              <a:t>Úpolové sporty na světových hrách</a:t>
            </a:r>
            <a:endParaRPr b="0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Formy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641240"/>
            <a:ext cx="83822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ální souboj dvou soupeřů s využití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hodů, držení apod. v boji v postoji i na zemi (džůdó, zápas, sumó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(box, karate (kumite), taekwondo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a hodů, držení atd. (wušu (sanšou), džúdžucu (fighting systém)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se zbraněmi (š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upinový souboj dvou družstev (přetahování lan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kázky technik úpolového sportu se zbraněmi nebo beze zbra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ndividuální (karate (kata), wušu (taolu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kupinové (aikidó, karate, wušu, džúdžuc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ůvod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9898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ropské (přetahování lanem, še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uroamerické (box, zápa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ijsk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ponské (aikidó, džůdó, džůdžucu, karate, sumó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rejské (taekwond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nské (wuš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Světové hry – předsíň 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aždé 4 roky, rok po OH (2005, Duisbur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uje Mezinárodní sdružení světových her (International World Games Association, IWG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 patronátem Mezinárodního olympijského výboru 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současnosti 32 sport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é sporty v programu W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ikid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žuc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Aikid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7800" y="1546200"/>
            <a:ext cx="604692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Džúdžuc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00360" y="906480"/>
            <a:ext cx="39402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28920" y="1523880"/>
            <a:ext cx="36558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1521000"/>
            <a:ext cx="69487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1280" y="1469880"/>
            <a:ext cx="79135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ercentuální podíl úpolových sportů na olympijských a světových hrách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438280"/>
          <a:ext cx="8077320" cy="2971800"/>
        </p:xfrm>
        <a:graphic>
          <a:graphicData uri="http://schemas.openxmlformats.org/drawingml/2006/table">
            <a:tbl>
              <a:tblPr/>
              <a:tblGrid>
                <a:gridCol w="2666880"/>
                <a:gridCol w="1981440"/>
                <a:gridCol w="1981080"/>
                <a:gridCol w="144792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rt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 to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úpolový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podí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letní) Olympijsk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větov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42:32Z</dcterms:created>
  <dc:creator>Home</dc:creator>
  <dc:description/>
  <dc:language>en-US</dc:language>
  <cp:lastModifiedBy>Vit</cp:lastModifiedBy>
  <dcterms:modified xsi:type="dcterms:W3CDTF">2007-02-20T09:02:29Z</dcterms:modified>
  <cp:revision>5</cp:revision>
  <dc:subject/>
  <dc:title>Úpolové sporty na světových hrách</dc:title>
</cp:coreProperties>
</file>