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E27-9DD1-4813-BC3E-A450FE1F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891-2618-4D67-8939-16B45D21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065-1539-4D63-AB89-875294B5F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D9C-F6CC-4C93-9ED4-64F30CE0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6D2F-20C1-4EB6-8D63-2831346A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3FA5-94B2-4289-9DB0-23C18187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3C64-6AA8-4A52-806B-C63F2BDA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EBDD-B618-4F59-BD29-71EEBB85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313F-FFE8-4BCB-A132-7DD4FE54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7AAC-0313-4477-A2B6-0B0D2067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8C69-343B-4C66-9A4B-902BCF94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3787-089D-4159-971C-61382DC5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0D33-D427-4469-997C-95A3CDBB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7D1C-A27A-4590-A860-B7ECF5C4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7D16-9DBB-488F-963F-71D1476F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B94D-3B89-42AE-AAD0-E674BD9C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B101-03E4-4FA6-BF1F-208F19B3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FB6B-52BA-4EEF-BD96-4C4C083E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AA41-A50F-4825-BE6F-3D436E44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E04C-58E2-4478-A957-5AC95B71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C297-BE0C-4215-BA54-25BE9CC2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556-4248-4099-8BDD-3257920E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3207-8859-407D-BCA1-9E0F2B1D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EB1-0A59-4133-803A-26A204C2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5DFE-9836-4A53-A9A7-8D4C93C67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9BAB-281F-438E-BC14-03678D2E2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í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7-13T22:08:34Z</dcterms:modified>
  <cp:revision>13</cp:revision>
  <dc:subject/>
  <dc:title>Úpoly v osnovách školní TV</dc:title>
</cp:coreProperties>
</file>