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2BAD-30B0-4B43-A392-4D9BE44A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0527-6FC6-445A-A907-ED80F97D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0CBC-FC51-4C2A-B217-AB1360AF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89D-8EA0-4A04-A87F-C9D3B11C2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F8B1-30CB-490D-9304-8B715E42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E8C2-A5BB-44DB-9563-1B92F3F6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2CB9-B318-479A-8B9D-54E98825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36B6-9F56-4385-BF2C-851F47AB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1B9F-EBDF-4723-B8DE-EA8461BA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FBA5-200D-4E38-9E93-FD9D1734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5499-1452-41E2-9F6D-E3B3FAC8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771-AA2A-4557-AC88-3BE9B9C9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F813-8246-45C0-A09C-3B0DADD8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29AC-3BC1-487A-9F65-1DFE00EA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BD31-5F97-4FE2-9E9E-FE9E3E18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0271-55A5-4E11-9734-EFC9278A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4928-B7F4-4EA2-A3B4-96AFC828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BD0C-2435-459A-90CA-DE45FFD2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0FCF-45A1-4EB1-874F-A43ACA09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FDF7-D6F7-4E9B-BF9F-A8D2B38C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C37-5229-4AA6-9770-4FAE5790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6694-ECFC-4325-B1CC-847DC912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B8E8-2E2E-4AB8-8565-9B62C824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94D3-9D3D-436C-9C9C-987595D2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D85E-1A6E-4320-860C-2E513942D1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70EE-F6B7-4EB0-BE50-F8B3D00394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u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ůdó, džů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Vit</cp:lastModifiedBy>
  <dcterms:modified xsi:type="dcterms:W3CDTF">2007-02-20T09:02:29Z</dcterms:modified>
  <cp:revision>5</cp:revision>
  <dc:subject/>
  <dc:title>Úpolové sporty na světových hrách</dc:title>
</cp:coreProperties>
</file>