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E78F-A76D-481B-8C67-FA0B7A200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0DE7-8A0A-4B38-A671-353FCFEC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35EA-233E-4CCE-A872-212DCEFF3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D615-92A1-4AA6-A62D-FD2A6BDB8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C4060-7571-4720-A790-370E1F90E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E408-3404-4D76-BFAF-E7FCB069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BBEE-ED84-4440-88A7-0997718D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1A70E-BF6E-4F68-9D33-736210BF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C49C-1B11-4732-B99A-2E96A09D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8F769-E928-44F4-9392-73E6BD9B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CF5E-FD7A-48B7-8CA5-2A6C3EEA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6B50-7501-4D5F-89E9-04F54235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03F55-3CAB-4748-B366-B8CA8D4C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A29B-5257-4518-85C7-C6863212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A7C1C-306B-4FC3-A10B-01E98195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76A6-4BFE-4578-BB0B-C133DE431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29EF-90BC-45D9-8BDA-76345B096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5FEC-25FE-4E87-9BFF-D3A7DC34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29CD-756D-485E-97E4-1A4B2F0C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A88B-C953-4308-9EFA-411ABDFB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3C1C-1D99-4347-A66E-410D7001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3C49-F41C-42EB-B7FA-2424F146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6C5E-2A10-4CCE-8911-E8F83375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51B8-2866-4C04-9815-1FB5774C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4ECF-1BE5-4410-9439-0A4388985C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3681-C625-48AA-9D2D-B8FD4572D5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e spor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efinice úpol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Definice úpol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vičení, toliko za odporu jiného cvičence vykonatelné (Tyrš 186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vičení, při kterém přemáháme sílu jiného cvičence, který nám klade odpor, nebo s námi zápasí (Sokolská s. 193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ělesná cvičení, jimiž se v přímém střetnutí s protivníkem usiluje o překonání jeho odporu či jeho přemožení (Fojtík 1980-9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Definice úpol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 jsou pohybové aktivity zacílené na kontaktní fyzické překonání partne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o úpolů zařazujeme i specifická cvičení, která jsou přímou průpravou na kontaktní překonání partnera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Spor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vojí cháp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rt jako činnost zaměřená na vrcholný výkon prezentovaný na soutěž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rt jako jakákoliv zájmová pohybová činnost (Evropská charta sportu, 199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1992 – Evropská charta spor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šechny formy tělesné činnosti, které ať již prostřednictvím organizované účasti či nikoli, si kladou za cíl projevení či zdokonalení tělesné i psychické kondice, rozvoj společenských vztahů nebo dosažení výsledků v soutěžích na všech úrovních.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862 M. Tyr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ičení bez nářadí a bez pomoci nebo odporu jiných cvičenc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I. Cvičení nářaď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II. Cvičení se skupin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V.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39 František Smotlac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řirozená (biologická) cvičební sousta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8 skupin základních a speciálních cvik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VI. skupin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očátky úbrany a bo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Úpoly: zápas, box, šerm, brana (džúdžuc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945 Václav Fi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  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Základ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ýkonné pohyby s p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d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V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a cviče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vod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 skluz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       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 pomo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í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prav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h pros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dk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anec a cviče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rytmic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vik prost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vik na ná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d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ové 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83 – Kody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heuristicko – individuál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 (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úpo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enzoricko – koncentr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izikové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steticko – koordin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 funk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mobiliz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85 Šprynar – Stráň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dividuál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rt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atletika, gymnastika,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.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ov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rt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zápas, box, šerm, vzp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rán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,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ní h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echnic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lec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1997 J. Mus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.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dividuáln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spo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tletic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Úpolov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ymnastické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I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.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í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r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kové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ojov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1:24:08Z</dcterms:created>
  <dc:creator>Home</dc:creator>
  <dc:description/>
  <dc:language>en-US</dc:language>
  <cp:lastModifiedBy>Vit</cp:lastModifiedBy>
  <dcterms:modified xsi:type="dcterms:W3CDTF">2007-02-20T08:33:39Z</dcterms:modified>
  <cp:revision>7</cp:revision>
  <dc:subject/>
  <dc:title>Úpoly ve sportu</dc:title>
</cp:coreProperties>
</file>