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EB94-EB8B-4599-8E21-480E4D46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7612-9F6C-4260-9996-E3193353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A9D0-B41F-436C-9FA8-97721E65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3AEA-4E36-4F2F-A287-FED9BAD0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0744-AED8-4B2D-B31E-7732CEDE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8D2B-580F-4B4A-8879-111F54D1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AF1F-1B03-4F8E-B0F2-454C5627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48E5-CB89-4B0B-9AD4-BF13F14A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72CB-4A00-4ACE-8E5D-ECDBA385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E572-EC65-4A2A-8C54-AB14D4FA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764D-750C-465C-8C14-382ACB5A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5816-BEC9-4C66-925D-301F3CFE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A201-C200-4FC9-A894-F8B5D5EB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0406-942A-4291-B523-763129A1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21F7-1143-4404-A540-E5FA484F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C288-6D3B-4954-AFE4-36CCBD28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D022-16DC-4E70-99EA-CA52C2D8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23A4-336F-44F3-B3CB-320241CA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8C96-540E-4B3D-9291-28947ABE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9524-53D9-4A8B-BB58-FE21697F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324A-D7A8-45E3-B09A-B98D5D8A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1665-568D-4552-AE9B-ACD7FDBA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8B27-0E39-467D-AFCC-9286D3C0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3CA0-820E-431B-AA34-B7AEDB0C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26F6-7F37-4018-91C6-E376F51CCD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AFC5-F834-4DA6-9688-3CA636CE05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lak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harakterem přetah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charakterem přetlak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ní odp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storové vztahy základních úpo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2036880"/>
          <a:ext cx="67816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6880"/>
                    <a:ext cx="67816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řetahy, přetla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a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la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koly (přetah za jednu paž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pe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byl vychýlen do nerovnovážné polo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olik, že musí změnit post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dotk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teroukoliv částí těl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ujícího cvič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žádnou částí těl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otýkal svého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l nucen paži napn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Odp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ah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lak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stní odp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(vychýlit z rovnováhy)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i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předmět držený partner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ž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držený předmě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knout se nebo uchopit partnera (určenou část jeho těla), či předmětu, který drž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ě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it dotyku nebo úchop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45:10Z</dcterms:created>
  <dc:creator>Home</dc:creator>
  <dc:description/>
  <dc:language>en-US</dc:language>
  <cp:lastModifiedBy>Vit</cp:lastModifiedBy>
  <dcterms:modified xsi:type="dcterms:W3CDTF">2007-02-20T08:51:17Z</dcterms:modified>
  <cp:revision>2</cp:revision>
  <dc:subject/>
  <dc:title>Základní úpoly</dc:title>
</cp:coreProperties>
</file>