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9681-8BE9-4594-90D0-D1C9D66D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6B39-F44D-4C87-969C-00AD1713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5F32-27B9-4878-8546-7B49C62D3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3F99-84E1-452C-8536-296DD881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163E-7C18-4B62-92F6-5D593DA9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385D-88DD-4F2D-AFE3-027775AC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AE16-A483-4D02-BE78-56AA0DD1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989D-6538-4400-96AF-80BBB8EA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3F7A-0F16-40D9-AA62-501B15DC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D801-878F-4D7E-8610-9A5A7E80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042C-5ACD-4ADA-8BC0-B9DCE127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F609-754D-4780-AF4F-A7035396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9428-C332-4873-9E8A-33E20FA4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3073-11F0-4580-8E8B-3B643AE1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ABCF-9A59-4075-9365-95C767BC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5349-F85C-4717-87BB-02679865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8B5C-C9D8-46B4-938A-D6D1F78A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7B08-758F-467B-A5C2-55A32F32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F548-6254-4881-842E-1D0268FA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89A-FD07-4D7D-BAD6-442BFE59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9C1-C0D9-4B1C-AEB8-92586E30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E61B-A21F-4823-BBE6-8892EAA1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62B0-4FF8-4AC3-ADE8-18CC0F69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9AD-D304-46DD-9BD1-399DCF14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6126-9062-4D41-93E6-4B642020C2A8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9051-1CFA-4CC6-BE69-6BDBFAABADE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ště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y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í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lenech, případně ve vzporu, či podpor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lečmo – vysoký a nízký part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až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úhlu stability (polohou těžiště nad plochou opory, čím ostřejší je ú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Vit</cp:lastModifiedBy>
  <dcterms:modified xsi:type="dcterms:W3CDTF">2007-02-20T08:48:50Z</dcterms:modified>
  <cp:revision>7</cp:revision>
  <dc:subject/>
  <dc:title>Základní úpolová technika</dc:title>
</cp:coreProperties>
</file>