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4332-3EA4-49D6-AB49-9345E0D8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DEEF-B953-4917-A696-2E7DC011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6F94-2B28-407E-A6DB-5D044A7B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D8C-173A-443B-8818-5DC5C5C2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5ACD-2EEE-401A-A56E-AD3C4C0A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55F9-5D4F-4F89-9D51-2734AD15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F79-7565-40A6-8CC5-40AE7B9D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7BEC-153B-4731-BC2E-D95A1F3A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8760"/>
            <a:ext cx="82281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A031-50BD-4129-A07A-89F3E87A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1A38-355B-4613-BA1E-2CDEF4D8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DD6-4A7C-4551-888D-3CAA4A6B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273-10F8-460F-BF3D-2CBC9400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50960" y="4929120"/>
            <a:ext cx="1440" cy="1800"/>
            <a:chOff x="750960" y="4929120"/>
            <a:chExt cx="1440" cy="1800"/>
          </a:xfrm>
        </p:grpSpPr>
        <p:sp>
          <p:nvSpPr>
            <p:cNvPr id="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2641CB0-170D-4CCC-AAB4-3577D7D61B0B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fld id="{281CC91D-EEBF-4CDF-989B-C30582C002AE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3300"/>
                </a:solidFill>
                <a:latin typeface="Arial"/>
              </a:rPr>
              <a:t>SKOK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018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cc3300"/>
                </a:solidFill>
                <a:latin typeface="Verdana"/>
              </a:rPr>
              <a:t>Histori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Materiál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(dřevo,bambus,hliník,laminá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Vývoj výkonnosti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right 402cm(1912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ternberg – 500cm(19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bka- 600cm(1984),615cm-(19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omášek,Jansa,Ptáček-580cm(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0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36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0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ŽEN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alábová -320cm(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ártová -410cm(1995)SR,450cm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amáčková-HMS(2001),45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aďurová 475 cm (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Georgeová(460cm),Dragilová(4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sinbajevová-505cm (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0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o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0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Didakt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ržen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ůze a běh s ty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pískového doskočiště – z vyvýšeného místa,chůze,běhu(vykývnutí,přítrh, obr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tyčkařského doskočiště s důrazem na zasunut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mitační cvičení na gymnastickém nářa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kotouly,přemety,salta,vzklopky,veletoče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0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dur="indefinite" fill="hold">
                            <p:stCondLst>
                              <p:cond delay="1900"/>
                            </p:stCondLst>
                            <p:childTnLst>
                              <p:par>
                                <p:cTn id="14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0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