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ED4-67E0-4C43-B9EC-736C098A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367-E1CD-4C9A-8E9A-22486092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311-45C2-4687-AAEC-DF662E51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1FAD-568B-462F-BC45-9E262DE6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2DD7-BF78-461C-9FB3-399DAB27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E1A3-449C-4E59-B858-C460B3DD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9010-A133-47AE-89FE-3761AB26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BB83-1102-48EB-997C-D6446743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3CE8-699B-4084-9C50-D5D901DA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A47C-AF5E-498B-8F9C-50AC84CC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22B7-A500-41C9-A650-F2891A51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8AF-4684-4C4C-B631-6ED843E1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3B3C-53B7-4F5C-834C-6B84A050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3A48-D336-449C-AD05-DA0EF751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06DC-87B6-418C-BFE2-8FBB5120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985A-79C6-43D6-9DD8-0856CC71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00DE-5E09-401B-A745-BBBD8B10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1C1B-B2B0-4B6A-BD5F-856881DB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2B9-BCA1-4472-9B45-D57AA8D7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6870-BBF7-4507-B2C1-668EA2DF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575-9D09-4CB5-BF31-BA9F268C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E0F0-B322-44F9-8BB6-DEE5CA89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130-3A77-49CF-8E05-544DB351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A3B-75CF-4910-9195-C7D31FAC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0F40-4895-4D96-996B-2E2D176E02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FE17-42D1-4782-8E91-5D6065BE5E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34880" y="36450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Č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uža a kol.: Technika atletických disciplín,MU Brno,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llerová a kol.: Běhy na krátké tratě,Olympia,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čera a kol.: Běhy na střední a dlouhé tratě,Olympia,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ebil a kol.: Atletické skoky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ba a kol.: Atletické víceboje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08-09-17T06:32:07Z</dcterms:modified>
  <cp:revision>21</cp:revision>
  <dc:subject/>
  <dc:title>ATLETIKA přednáška</dc:title>
</cp:coreProperties>
</file>