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1F54-98FA-444E-9859-071D45069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984F-D4A9-4419-92BF-66702215F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13E0-1C87-4670-8C3D-1303687D2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F7D7-6468-4D43-8BE4-165544056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48EA-C2DC-433A-8DD5-AA6B24A96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F8EA-2782-4026-9B83-4E5324BCD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04AB-719F-456A-BC02-E899A27D5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A5E6-F24E-42F9-A66F-08C4DE1E6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8760"/>
            <a:ext cx="822816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E043-0078-4F10-9404-9C061A166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AD51-B1D9-445C-8560-F1F8AD48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7215-67D3-4C4D-B430-12359129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B86C-B624-417D-B0CF-3E2278A5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50960" y="4929120"/>
            <a:ext cx="1440" cy="1800"/>
            <a:chOff x="750960" y="4929120"/>
            <a:chExt cx="1440" cy="1800"/>
          </a:xfrm>
        </p:grpSpPr>
        <p:sp>
          <p:nvSpPr>
            <p:cNvPr id="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33264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32640" indent="-332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32640" indent="-332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32640" indent="-332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32640" indent="-332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32640" indent="-332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32640" indent="-332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6689A19-CBE7-493B-A43F-F806D1FD3D1F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fld id="{15254B9F-29B8-48CF-938D-85BDCDC64FB9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3300"/>
                </a:solidFill>
                <a:latin typeface="Arial"/>
              </a:rPr>
              <a:t>SKOK O TYČ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5680" bIns="45000" anchor="t">
            <a:noAutofit/>
          </a:bodyPr>
          <a:p>
            <a:pPr marL="343080" indent="-341640">
              <a:lnSpc>
                <a:spcPct val="91000"/>
              </a:lnSpc>
              <a:spcBef>
                <a:spcPts val="638"/>
              </a:spcBef>
              <a:buSzPct val="1018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600" spc="-1" strike="noStrike">
                <a:solidFill>
                  <a:srgbClr val="cc3300"/>
                </a:solidFill>
                <a:latin typeface="Verdana"/>
              </a:rPr>
              <a:t>Histori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Verdana"/>
              </a:rPr>
              <a:t>Materiál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(dřevo,bambus,hliník,laminá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Verdana"/>
              </a:rPr>
              <a:t>Vývoj výkonnosti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Wright 402cm(1912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Sternberg – 500cm(196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Bubka- 600cm(1984),615cm-(199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7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Tomášek,Jansa,Ptáček-580cm(200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dur="indefinite" fill="hold">
                      <p:stCondLst>
                        <p:cond delay="indefinite"/>
                      </p:stCondLst>
                      <p:childTnLst>
                        <p:par>
                          <p:cTn id="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dur="indefinite" fill="hold">
                      <p:stCondLst>
                        <p:cond delay="indefinite"/>
                      </p:stCondLst>
                      <p:childTnLst>
                        <p:par>
                          <p:cTn id="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dur="indefinite" fill="hold">
                      <p:stCondLst>
                        <p:cond delay="indefinite"/>
                      </p:stCondLst>
                      <p:childTnLst>
                        <p:par>
                          <p:cTn id="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Technika skoku o tyč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Držení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tyče-spodní ruka nadhmatem,horní podhma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Rozběh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-stupňování rychlosti,v posledních dvou krocích zahajujeme zasouvání tyč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Zasunutí tyče a odraz-tlak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do tyče spodní rukou v momentě odraz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dur="indefinite" fill="hold">
                      <p:stCondLst>
                        <p:cond delay="0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Technika skoku o tyč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1360" bIns="45000" anchor="t">
            <a:noAutofit/>
          </a:bodyPr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Držení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tyče-spodní ruka nadhmatem,horní podhma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Rozběh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-stupňování rychlosti,v posledních dvou krocích zahajujeme zasouvání tyč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Zasunutí tyče a odraz-tlak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do tyče spodní rukou v momentě odraz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Let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-zvrat-vis střemhlav-obrat při narovnávání tyče-vzlet-přechod lať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dur="indefinite" fill="hold">
                      <p:stCondLst>
                        <p:cond delay="0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ŽENY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Kalábová -320cm(199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Bártová -410cm(1995)SR,450cmČ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Hamáčková-HMS(2001),456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Baďurová 475 cm (200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Georgeová(460cm),Dragilová(48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Isinbajevová-505cm (200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dur="indefinite" fill="hold">
                      <p:stCondLst>
                        <p:cond delay="0"/>
                      </p:stCondLst>
                      <p:childTnLst>
                        <p:par>
                          <p:cTn id="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Technika skoku o tyč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1000"/>
              </a:lnSpc>
              <a:spcBef>
                <a:spcPts val="638"/>
              </a:spcBef>
              <a:buSzPct val="130567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Verdana"/>
              </a:rPr>
              <a:t>Držení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tyče-spodní ruka nadhmatem,horní podhma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30567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Verdana"/>
              </a:rPr>
              <a:t>Rozběh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-stupňování rychlosti,v posledních dvou krocích zahajujeme zasouvání tyč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30567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Verdana"/>
              </a:rPr>
              <a:t>Zasunutí tyče a odraz-tlak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do tyče spodní rukou v momentě odraz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30567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Verdana"/>
              </a:rPr>
              <a:t>Let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-zvrat-vis střemhlav-obrat při narovnávání tyče-vzlet-přechod lať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30567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Verdana"/>
              </a:rPr>
              <a:t>Dop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dur="indefinite" fill="hold">
                      <p:stCondLst>
                        <p:cond delay="0"/>
                      </p:stCondLst>
                      <p:childTnLst>
                        <p:par>
                          <p:cTn id="1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Didaktika skoku o tyč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Držení tyč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Chůze a běh s tyč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Skoky do pískového doskočiště – z vyvýšeného místa,chůze,běhu(vykývnutí,přítrh, obr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Skoky do tyčkařského doskočiště s důrazem na zasunutí tyč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Imitační cvičení na gymnastickém nářa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(kotouly,přemety,salta,vzklopky,veletoče apo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dur="indefinite" fill="hold">
                      <p:stCondLst>
                        <p:cond delay="0"/>
                      </p:stCondLst>
                      <p:childTnLst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dur="indefinite" fill="hold">
                            <p:stCondLst>
                              <p:cond delay="1900"/>
                            </p:stCondLst>
                            <p:childTnLst>
                              <p:par>
                                <p:cTn id="14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dur="indefinite" fill="hold">
                      <p:stCondLst>
                        <p:cond delay="indefinite"/>
                      </p:stCondLst>
                      <p:childTnLst>
                        <p:par>
                          <p:cTn id="1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dur="indefinite" fill="hold">
                      <p:stCondLst>
                        <p:cond delay="indefinite"/>
                      </p:stCondLst>
                      <p:childTnLst>
                        <p:par>
                          <p:cTn id="1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dur="indefinite" fill="hold">
                      <p:stCondLst>
                        <p:cond delay="indefinite"/>
                      </p:stCondLst>
                      <p:childTnLst>
                        <p:par>
                          <p:cTn id="1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dur="indefinite" fill="hold">
                      <p:stCondLst>
                        <p:cond delay="indefinite"/>
                      </p:stCondLst>
                      <p:childTnLst>
                        <p:par>
                          <p:cTn id="1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Technika skoku o tyč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1000"/>
              </a:lnSpc>
              <a:spcBef>
                <a:spcPts val="638"/>
              </a:spcBef>
              <a:buSzPct val="130567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Verdana"/>
              </a:rPr>
              <a:t>Držení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tyče-spodní ruka nadhmatem,horní podhma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dur="indefinite" fill="hold">
                      <p:stCondLst>
                        <p:cond delay="0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-603360"/>
            <a:ext cx="9325080" cy="828216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-603360"/>
            <a:ext cx="9325080" cy="828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Technika skoku o tyč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Držení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tyče-spodní ruka nadhmatem,horní podhma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Rozběh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-stupňování rychlosti,v posledních dvou krocích zahajujeme zasouvání tyč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dur="indefinite" fill="hold">
                      <p:stCondLst>
                        <p:cond delay="0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