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E209-B1F2-40AC-88F6-5D8FA3F3D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DB48-A3C1-4776-880B-DC1EE08B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55A6-9168-4407-80D4-DB3D21887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6A89-52EC-4877-AE22-F02EEF911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19DE-39F0-4693-A8C5-CEB4E5FC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9DE2-CEC9-4153-BF9F-D272EDD8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CD47-B3F0-4224-AAD4-5E9BBD06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5334-9B2C-44BA-AD73-5542A329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32B2-1FA9-4E45-97BE-DD08A122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9669-08B1-4EF3-95DE-76BDA1AF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1F5F-DFE5-46FB-BF60-C1B0C5D5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4BA8-DBDC-4FD7-94E2-8DF80E6F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3A5F-4326-47A3-A699-93A0FA907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DRAVOTNÍ TĚLESNÁ VÝCHOVA – bp0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p023z, bp023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ZATÍŽEN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 CVIČEBNÍ JEDNOTCE / VYUČOVACÍ HODI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3 základní křivky zatížení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jednovrcholov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vrchol je v rozvíjející části) – pro oslabení hybného systé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dvouvrcholov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2 vrcholy v rozvíjející části) – pro astmat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s vyrovnaným zatížením v rozvíjející části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mírně kolísající zatížení intervalového charakteru)  - pro jedince s nadváhou, obezitou a pro kardia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a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vičební jednotky / vyučovací hod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řizpůsobu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hu zdravotního oslab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dravotnímu sta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logickému vě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hla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hybovému rozvoji cvičenců/žáků a jejich předcházející pohybové průprav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kční zdatnosti cvičenc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ájmu cvičenc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dmínky předmětu pro závěrečnou zkoušk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řednášky – 75% úč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solvování 3 dílčích testů ( znalost svalů a jejich funkce, diagnostika PA, vyrovnávací cvičení) – každý test min. 60% úspěšnost odpově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cházka na semináře KC, ZTV, metodický výstup, seminární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oručená 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T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álková, J. et al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Zdravotní tělesná výchova. Speciální učební texty. I. část.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Praha: ČASPV, 2001. 120 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yslová, V et al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Zdravotní tělesná výchova. Speciální učební text. II. část.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Praha: ČASPV, 2003. 106 s. ISBN 80-86586-03-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áček, M., Máčková, J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Fyziologie tělesných cvičení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Brno: MU, FSpS a PdF, 2002.112 s. ISBN 80-210-1604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lter, Michael J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Strečink : 311 protahovacích cviků pro 41 sportů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1. vyd. Praha : Grada Publishing, 1999. 228 s. ISBN 80-7169-76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stálová,I., Aláčová, P. G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Vyšetřování svalového aparátu.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Olomouc: Hanex, 2006. ISBN 80-85783-51-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stálová, I., Miklánková,L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Protahování a posilování pro zdraví.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Olomouc: Hanex, 2005. ISBN 80-85783-47-9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Interaktivní osnovy (I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KC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Kompenzační cvičení pro fotbalisty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Edited by Marta Bursová - Jaromír Votík - Jiří Zalabák. První vyd. Praha : Olympia, 2003. 95 s. ISBN 80-7033-793-1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Exercise in rehabilitation medicin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Edited by Walter R. Frontera - David M. Slovik - David Michael Dawson. 2nd ed. Champaign : Human Kinetics, 2006. ix, 454 s. ISBN 0-7360-5541-X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Beránková, Lenka - Fiala, Jindřich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Kompenzační cvičení, dopopručení-návod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Brno : Ústav preventivního lékařství, lékařská fakulta Masarykovy univerzity, 2002. 14 s.</a:t>
            </a:r>
            <a:br>
              <a:rPr sz="1400"/>
            </a:br>
            <a:br>
              <a:rPr sz="800"/>
            </a:b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jem ZT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dravotní tělesná výchova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je specifická forma tělesné výchovy (TV) určená pro zdravotně oslabené jedince, tedy jedince zařazené do III. zdravotn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kupiny dle zdravotnické klasifikace. Je určena všem věkovým skupiná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DRAVOTNÍ SKUP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jedinci </a:t>
            </a: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zdrav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přiměřeně vyvinutí s vysokým stupně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énovanosti, připraveni k plnému tělesnému zatíž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TV a sport neomezeně, kvalifikovaný učitel, trené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I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jedinci </a:t>
            </a: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zdrav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méně trénovaní (totéž jako I. sk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ff"/>
                </a:solidFill>
                <a:latin typeface="Arial"/>
              </a:rPr>
              <a:t>II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jedinci </a:t>
            </a:r>
            <a:r>
              <a:rPr b="0" lang="cs-CZ" sz="2400" spc="-1" strike="noStrike">
                <a:solidFill>
                  <a:srgbClr val="3366ff"/>
                </a:solidFill>
                <a:latin typeface="Arial"/>
              </a:rPr>
              <a:t>zdravotně oslab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trvalé nebo dočasn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chylky tělesného vývoje, tělesné stavby a zdravot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vu) – mají určitá ome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aprobovaný učitel TV – zk. Ze ZTV /cvičitel ZT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IV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nemocní jedin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- LTV (pouze fyzioterape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ruhy zdravotního oslabení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ybný systé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espirační systé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ardiovaskulární systé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etabolické a endokrinologické por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Gastrointestinální syst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Gynekologick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ervová a neuropsychic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myslov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tarší vě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ÍLE A ÚKOLY ZTV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í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TV j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ionálním způsobe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dstranit nebo zmírnit zdravotní oslabení a posílit organism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kytnout zdravotně oslabenému možnost sportovního vyžití ve vztahu k jeho schopnostem a zdravotnímu sta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tvořit předpoklady pro všestranný harmonický vývoj zdravotně oslabeného jedi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yrovnávací prostřed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C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uvolňovac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uvolnit klouby a svalové kontraktur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C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protahovac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obnovit fyziologickou délku svalů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posilovac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zvýšit zdatnost oslabených svalů a svalových skupin) – dynamické/sta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dechová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statické/dynamické, druhy dec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relaxačn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význam, polohy, podmínky, druh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vytrvalostn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význam, výběr, měření, Zottova tabul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rovnovážná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statická/dynamická/balancování předmět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ecné – ZG, RG, plavání a jiné spo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VIČEBNÍ JEDNOTKA / VYUČOVACÍ HOD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ři trvání 45 min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Úvod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5-10mi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lav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) 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vyrovnávac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5 – 20mi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kondiční/rozvíjející (10 – 15mi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Závěrečn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5-7mi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5:00:42Z</dcterms:created>
  <dc:creator>koprivova</dc:creator>
  <dc:description/>
  <dc:language>en-US</dc:language>
  <cp:lastModifiedBy>koprivova</cp:lastModifiedBy>
  <dcterms:modified xsi:type="dcterms:W3CDTF">2010-12-20T14:33:06Z</dcterms:modified>
  <cp:revision>3</cp:revision>
  <dc:subject/>
  <dc:title>ZDRAVOTNÍ TĚLESNÁ VÝCHOVA – bp023</dc:title>
</cp:coreProperties>
</file>