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FE4-9B29-40F3-9ADF-2D861F4D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2AA-5A5B-46AF-B495-3E192B52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887-DC24-479A-80D5-09B8189D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214-40D2-4D7E-8CCF-3C536EAB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821-EFFD-41A3-8CFA-16E2B180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181-0F43-4311-8874-66775972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4C5-6F96-48F7-80F2-E7280AD1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49B-9FDC-4DDA-9652-F8FB3D13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EE1-6E6A-467C-972E-8525FCCA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A0B-8967-4AD0-AAC5-74DEEA0F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539-F629-4CB5-9CF9-A692C3AD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DA6-301F-438F-9BE3-683904C4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95FC-3514-4271-954D-050438012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ěková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jich zvláštnosti a patogenez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7859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GENEZE – vývoj jedince 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ů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vantitativní změny – končí dospě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ý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kvalitativní změny – neustává, je po celý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dškolní věk (3-6 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í pomalého a klidného rů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ončení vývoje hrubé motoriky – udržování rovno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jemné moto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ky abstraktního myš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hodnější období (zejm. 4. rok života) pro tvorbu motorických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á činnost, tvořivá dětská 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hybová potře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normomotorické dítě (6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hypermotorické dítě (8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hypomotorické dítě (4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(6-8) – vytáhlost a poté pl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postupný rozvoj percepčně motorického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větší výkonnost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nerovnoměrnost v růstu kostí a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začínají vady držení těla, s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balancí,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 (8-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cepčně motorická činnost dokonale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čtější pohyb.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ohyb. vytrvalosti, rychlosti, pře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1 hod. denně intenzivní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hodná spe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strannost, rozvoj koordinačních 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monální změ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ý výskyt VDT, vady páteře (Morbus Scheuermann – H, skoliozy –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neurovegetativní reg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diovaskulární po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zita, mentální anore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pomalení rů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y koord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chol fyzické výkonnosti, rychlejší růst trénovanosti, roste svalová s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ktní myš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výskyt onemocnění dýchacích cest, kožní problémy,infek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sportu – touha po sebe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PĚ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nčení růstu, osifikace kostí (18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ý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ální dozr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fyziologická zdatnost –tělesná obratnost, smyslová bystrost, pohotovost, nejkratší doba reakce – vrchol zdraví a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30. roku evoluce, po 30. roce in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ost pohybu pro udržování funkcí jednotliv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ŘÍ je výsledkem stá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označení pozdních fází ontogen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důsledkem a projeve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míněných involučních procesů modifikovaných dalšími faktory (choroby, životní způsob, životní podmí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nější f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ava, přiměřená aktivita, tělesné cvi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ýslednicí vzájemného působ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sty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iolo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y v organismu (Po Ap, Nerv a smysl. funkce, kardiovaskulár. s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c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ůchod (změna ŽS), posproduktivní věk, fáze zá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lendářní (chronologický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říve 60.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65 – 74 mlad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5 – 84 stař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5 a více  velmi sta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 90 let - dlouhově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 stá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íná od samotného poč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funkcí(atrofi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 dosažení sexuální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flick (199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fatální nutnost – nikomu se nem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normální pro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oulek, Vilikus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znivý vliv pohy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odílu aktivní tělesné hmoty k tukové hm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funkční kapacity kardiov.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některých metabol.parame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glyk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celkového cholesterolu – zvýšení HDL-cholester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evnosti 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tzv. endorfinů v mozk. tkáni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►zlepšení pohody /well-be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y vývoje podle klasifikace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ádí                                  do 3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lost                              31 – 4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věk                       46 – 6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ší věk                          61 – 7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ří                                  76 – 9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ý věk               nad 91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běr vhodné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řeba respektovat všechny změny vyvolané stárnut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ologické (úbytek sv.hmoty zejm. 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zdrav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horoby ve stá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(degener.onem.PA, osteoporóza, slabost zraku, sluchu, hypertenze, diabete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ezdatnost organis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átěž denně min.30 min. střed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y, respektovat zájmy seni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i po 50 – ideální kombinace   ANAE      (posilování sv. trupu) a AE (50-60% max)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rvalostní a cyklická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otní tělesná cvi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aktivity v přír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genet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LÁ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nální vývoj (prenat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rozenecké období (porod – 28.den) - postnatál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. (do 1 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tole (do konce 3.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školní věk (3 – 6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ubescence (ml. a stř. šk.věk-6-8, 8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áln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2 měsíce: vývoj jednotl.orgán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tická vý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livost n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kodli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evního prostředí působící prostřednictvím matky (choroby, kouření, drogy, špatná životospráva, alkoholismus…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►vznik morfologických vad – patrné po poro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 pozitivní vliv pohy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 3. měsíce: obd. fetální (plodové) – jsou vytvořeny základy všech orgánů – vznik růstových a vývojových retardací (postižení moz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ické projevy prenatálního vývoje 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spontánní pohyby – ke konci 6. embr.tý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reflexní odpovědi – u 7 týdenního embrya – odklon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ické fun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měsíc – sval.kontrakce, reakce na taktilní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ěsíc – pohyby DK a HK, úst a hlav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-7. měsíc – reakce na taktilní, akustické, vizuální a chuťové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ec 8. měsíce- jsou již založeny všechny svaly – rozvoj geneticky daných motorických vzorců – reflexní posturální moto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orozenecké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od – 28.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dostatek kyslí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příčinou rozvíjející se choroby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fologického, funkčního poškození (L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ůsobení velkých mechanických sil na hlavičku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ředčasné porody (DMO, smyslové vady, poruchy psych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ne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JENEC- postnatální vývo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konce 1. 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motoriky (zejména lokom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dání hlavičky (2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e koníčky (3. – 6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tabilní sed (6. měs.)- infantilní kyf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ze, staví se u nábytku, stabilní sed (9.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á chůze (12.m, nejzazší norma -18.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vývoje kyčelních kloubů (lu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varu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3. měs. -  krč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6. měs. -  hrudní kyf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1 roku  -   beder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OLE (do konce 3. ro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lokomoce – chůze, koncem období i 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jemné motoriky (ruka, prs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jení fyzické a psychické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-spontánní pohyb. 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rost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ovat statickou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í pohyb.činnost – 75 % doby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13:55Z</dcterms:created>
  <dc:creator>kopřivovi</dc:creator>
  <dc:description/>
  <dc:language>en-US</dc:language>
  <cp:lastModifiedBy>koprivova</cp:lastModifiedBy>
  <dcterms:modified xsi:type="dcterms:W3CDTF">2010-12-21T13:05:04Z</dcterms:modified>
  <cp:revision>9</cp:revision>
  <dc:subject/>
  <dc:title>      Věková období jejich zvláštnosti a patogeneze    </dc:title>
</cp:coreProperties>
</file>