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D69-7BF8-436F-9C89-4D985D14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959-9259-4F8B-A999-27BACAF5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9E8-16BB-4EA5-9DC1-DA30ADEA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435-C37D-4D5E-A8FD-3AAF02B8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B7C9-3E43-4E44-A6F5-74D81CF2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B9C-EBC2-4FA3-B89B-E9649109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79DE-1EB6-486B-AF2F-8716EF58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6C67-2948-4931-A63B-DD44E94F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79A-B023-45CE-BEB8-224FD00A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4775-BBC6-44D4-938B-92148A2C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3CA4-9AC7-42EA-894E-138AE7BA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5C6-DAD2-4346-B16E-E99990CE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63F0-673E-4417-A499-5C79FFD20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kardiovaskulárního systé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kteris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zna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kace a kontraindikace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Žiln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nemocněn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arix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riziko vzniku žilního uzávěru, ucpání plicní cévy – embol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Zásady pro cvič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horizontální poloze – imitace chůze, jízdy na 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ndážování 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prava životosprávy, ne statické polohy, nenosit břemena s velkou hmot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znaky cévního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íž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ýš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est a poruchy citlivosti konče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o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vné a tepelné změny ků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výživy tkáně (bércové vředy, gangré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zkouš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F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HF max = 220 – vě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motonik – 70/min (palpace na radiální tepně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gotonik  -   60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mpatikotonik – 80/min (zrychlená H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rtovec – 40-60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mální TK                120/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ý TK          nad 150/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ý TK           pod 100/60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zkouš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yšetření srdeční funk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ep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uffierova zkou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 W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yšetření cévních funkc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hové, podvazové, tepelné a chladové zkouš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uffierova zkouš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 testem 30 min. klid, potom v sedě Hf1 (10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dřepů (45s)- ihned poté H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ne si a po 1 min opět HF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térium výkonnosti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f1+Hf2+Hf3 -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ně než 0       výborn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5                     dob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1-10                průměr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1-15              slab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,1 – více        nedostatečná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-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ška stupínku: 50cm/M, 40cm/Ž, 20-30cm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tupovat rychlostí 30x/1min po dobu 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 ukončení sed a měří se Hf (30s)vždy v první polovině druhé (T1), třetí (T2) a čtvrté (T3) min. zotav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oba vystupování v s. x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1+T2+T3) x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 55        velmi slab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-64          slabý prům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5-79          průměrn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90 a více     velmi zdat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kteristik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časového průběh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 aku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→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ron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e charakteru →  funkční (lze uprav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→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cká (mož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hrožení živo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eurocirkulační sten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/slabost(nervozita, dušnost, nespavost nekoncentrovatelnost) lze ji medikamentozně a vhodným pohybem upr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Hyperkinetický syndro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zrychlení HF (tachykardie) vhodnost PA (AE charak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gulační poruchy krevního obě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v klidu, emo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 vzestup systolického tla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ká poškoz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CH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nedostatečné prokrvení srdeční svaloviny s nedostatečným přívodem kysl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utní forma =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infarkt myokar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ronická forma =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ngina pecto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činy: snížení cévního průsvitu (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TS (tepny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ateromatózní pláty – LDL chol., tromb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znaky srdečních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est na hrud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uchy rytmu – bradykardie (zpoma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tachykardie (zrych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š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oky (edémy) - DK (při selhávání P srd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Plicní otok ( při selhávání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d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an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š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šší než 150/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/80 – zdraví jedinc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ár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95% - jsou neznámého pův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kundární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 onemocnění ledvin, srdce, žláz s vnitřní sekrecí, nervové cho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enz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bi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xova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dia hypert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víc změny na srdc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většení L komory), na ledvinách (bílkovina v moči), na očním pozadí (zúžení cé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uze zvýš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avíc orgánová poškoze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srdce (levostranné selháv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mozku (krvácení, měknu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očního pozadí (krvácení do sítn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pertenze = hlavní rizikový faktor IC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sady cvič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PA je vhodná jen pro I a II. stádium 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E, cyklický charakter – intervalová zátě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tenzi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60-80% HFmax, 3-5x týdně 30 min.,(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le výsledků zátěžového test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hyby DK a HK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zlepšení cirkulace k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rola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a bez st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horoby periferních cé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Tepen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uzávěrová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utní (náhlý uzávěr vmetkem, embo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chronická (pomalu vznikající následkem ATS, diabetu, tox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éčba: - farm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posilování svalstva a zlepšování bočního oběhu – jen u prvních 2 stádií, ostatní L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7:01:41Z</dcterms:created>
  <dc:creator>kopřivovi</dc:creator>
  <dc:description/>
  <dc:language>en-US</dc:language>
  <cp:lastModifiedBy>koprivova</cp:lastModifiedBy>
  <dcterms:modified xsi:type="dcterms:W3CDTF">2010-12-20T15:32:53Z</dcterms:modified>
  <cp:revision>7</cp:revision>
  <dc:subject/>
  <dc:title>Oslabení kardiovaskulárního systému</dc:title>
</cp:coreProperties>
</file>