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A78A-E05E-46AB-B3DC-5EBABEAF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6773-5361-40B7-8431-F7932140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BB3F-F995-46B3-963A-9F6AFF43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BA22-83F3-4C4A-83BC-6EE34112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FD4-1175-4E32-8F8A-A9D7BDAD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18B3-2A7B-4A75-A5B8-E63D5108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92AC-00DC-4564-8C28-53251719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A4C-6188-426E-96D5-952B70F9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A356-0B0C-455D-9360-3A898E69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404B-B4D0-418E-98DB-0A5DD37A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931-3E9C-4F85-B0D9-40B98728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4D1D-709E-4BC2-8DE7-D531F98F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2467-B1BB-4B7B-ACB0-359164C9D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rovnávac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TV P /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yrovnávací / kompenzační cvič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í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lepši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unkční parame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dnotlivých složek PA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loubní pohyblivos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pětí (snížit u svalů s tendencí ke zkrácení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ílu (zvýšit u ochablých svalů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uhru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valů, nervosvalovou koordinaci (D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rakter pohybových stereotypů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Zása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yrovnávacího proc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vičit pomal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řízený pohy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držova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ořad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k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vičení uvolňovací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cvičení protahovací → cvičení posilovací (s nácvikem správných pohybových stereotypů) → cvičení relaxa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cvičení dechová, vytrvalostní a    rovnovážná jako doplňková  vyrovnávací cvi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Postupov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d jednodušších cvičení po složitě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ahovací cvi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novit fyziologickou délku svalů, odstranit spasmy, zlepšit celkovou funkčnost svalstva (pružn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ýdrž v poloze nejméně 10s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ždou polohu dostatečně „prodýchat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et opakování dle zvolené metody (statický strečink x PIR, AG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akovat každých 24 hod. (příp. do 48 ho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ahovací cvi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48036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 správného protah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Vycházet ze znalostí anatom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funkč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 protahováním dostatečně zahřát sval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olit vhodnou výchozí polo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ahovat ve směru svalových vlá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 doprovázet dýcháním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držovat vhodný počet opakování daného cv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hypermobilitu 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lovací cvičení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zotonická, izometrick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5832360" cy="3240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03280" y="4508640"/>
            <a:ext cx="1728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ometrick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kt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8000" y="3068640"/>
            <a:ext cx="1584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otonické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kt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 posil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 posilováním daného svalstva je třeba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protáhnout antagonis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řípadně i synergis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olit vhodnou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výchozí poloh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abychom mohli do funkce přednostně zapojit cílené svalstvo (pohyb. stereoty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Řízený pohy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Zatíž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plikovat dle zdatnosti cvič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vádět minimálně 2x týd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covat nejprve s vlastním tělem, potom se zatěží (pomůc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8:37:12Z</dcterms:created>
  <dc:creator>koprivova</dc:creator>
  <dc:description/>
  <dc:language>en-US</dc:language>
  <cp:lastModifiedBy>koprivova</cp:lastModifiedBy>
  <dcterms:modified xsi:type="dcterms:W3CDTF">2010-12-20T14:41:11Z</dcterms:modified>
  <cp:revision>3</cp:revision>
  <dc:subject/>
  <dc:title>Vyrovnávací proces</dc:title>
</cp:coreProperties>
</file>