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D6C8-0AE4-4CFE-B910-7B7B6480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E2FF-79C1-4541-B9F2-0B67FE49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BB63-5C51-474A-8B8F-FDBE106F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FFD8-0626-4D22-BF41-C96B8546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968E-3993-45FE-A3EE-E516E243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8CF8-CB4B-4AF4-B0E2-66C99B61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94CA-C78A-4447-8590-A059DDAE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8426-A9B0-42AC-B7EF-C79C6F72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8BE2-2842-452A-9E42-13640D02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CD67-4E2E-4760-A824-36948068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BCFD-F615-40B4-AD93-55705503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2527-4126-4FC2-B7ED-9D243F4C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190E-3F46-40C5-B537-1668523A8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opsychická oslab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chvatová onemocnění 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rebrovaskulární onemocnění 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nětlivá onemocnění 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uchy funkční (neuróz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áchvatová onem. CNS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EPILEP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rojevem mozkové dysfunkce z nadměrné vzrušivosti nervové tká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čin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vlivem poškození mozku v útlém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horečky, záněty, zranění moz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dědičnost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odoby záchva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rand ma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bezvědomí, kře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etit ma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- krátkodobá absence vědomí, bez kře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pileps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agnóza na základě EEG vyše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éčb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rm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držovat režim-pravidelný rytmus bdění-sp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iminovat provokační momenty (blikavé světlo, silné emoční prožitky, hyperhydrat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. pomo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!  uložit na vhodné místo, kontrola uložení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vičení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enáročná PA, pozor na PA ve vodě a ve velkých výškách, ne dlouhodobá rela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erebrovaskulární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škození mozku podmíněné mozkovým infarktem trombotického nebo embolického původu, nebo krvácením do moz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činy:ATS, vysoký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sledek: porucha řeči, hemipar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vičení: střídat svalové napětí a uvolnění,procvičovat zápěstí, prsty- jemná motorika, obnovit narušené pohybové stereotypy (chů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generativní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lzheimerov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choroba (postupná ztráta paměti, dem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dikamentózní léč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 – rozvoj kognitivních a paměťových funkcí, soběstačnost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nětlivá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akutní fázi vyžadují k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 až v rámci rekonvalescence – konsultace s lékař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MO a LM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M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opožděný vývoj všech funkcí – zejména poruchy hyb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ypotonus, hypertonus (spasti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é kineziologické vyšetření z hlediska psychomotorického výv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habilitační techniky (reflexoterapie, Vojta, Boba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M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ADHD) – projevy v moto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yperaktivita nebo hypoakti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mpulsivita, agresi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uchy pozornosti a koncen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á PA – PM, cvičení a hry na rozvoj koordinace, pestrost, moti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psychické poru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euróz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neurastenie, psychastenie, hyster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liv stresových situací a neadekvátní reakce na danou situaci (nespav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pozitivní naladění, komunikace, relaxační, protahovací cvičení, PM, cvičení při hudb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8:04:19Z</dcterms:created>
  <dc:creator>kopřivovi</dc:creator>
  <dc:description/>
  <dc:language>en-US</dc:language>
  <cp:lastModifiedBy>koprivova</cp:lastModifiedBy>
  <dcterms:modified xsi:type="dcterms:W3CDTF">2010-12-21T12:52:15Z</dcterms:modified>
  <cp:revision>6</cp:revision>
  <dc:subject/>
  <dc:title>Neuropsychická oslabení</dc:title>
</cp:coreProperties>
</file>