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6484-93B8-4B3A-9DE3-C09352BA1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7F20-125E-4D4B-86C1-6CAB3CD9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2A6D-1ECD-488A-9B69-8F23047F0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3D29-0B4A-42AE-ACE3-64E0E9A28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D7EB-7626-40C7-9D0F-F6248D24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5B06-2120-4B73-9F12-1C5F7F4B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3F1B-C104-4AD4-80CE-12DBAA78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8B6C-7D22-4590-8218-516682FD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8A50-8E08-4853-B79A-E6140B01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0234-4EB6-4AEA-9CAD-9B705032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2430-366E-43CF-BBDE-6A8A057A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95B7-6185-499C-82CB-E0801A04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3263-A7AA-4AA6-9883-AB10AECB1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yrovnávací pro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TV P /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yrovnávací / kompenzační cviče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í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lepši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unkční paramet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ednotlivých složek PA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loubní pohyblivos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pětí (snížit u svalů s tendencí ke zkrácení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ílu (zvýšit u ochablých svalů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uhru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valů, nervosvalovou koordinaci (D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rakter pohybových stereotypů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Zásad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yrovnávacího proce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vičit pomal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řízený pohy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držovat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pořad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nostik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vičení uvolňovací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cvičení protahovací → cvičení posilovací (s nácvikem správných pohybových stereotypů) → cvičení relaxač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 cvičení dechová, vytrvalostní a    rovnovážná jako doplňková  vyrovnávací cvič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Arial"/>
              </a:rPr>
              <a:t>Postupov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d jednodušších cvičení po složitěj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ahovací cvič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novit fyziologickou délku svalů, odstranit spasmy, zlepšit celkovou funkčnost svalstva (pružno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ýdrž v poloze nejméně 10se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ždou polohu dostatečně „prodýchat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čet opakování dle zvolené metody (statický strečink x PIR, AG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akovat každých 24 hod. (příp. do 48 ho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ahovací cvič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48036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sady správného protah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Vycházet ze znalostí anatomi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funkč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d protahováním dostatečně zahřát svalst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olit vhodnou výchozí polo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tahovat ve směru svalových vlá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yb doprovázet dýcháním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držovat vhodný počet opakování daného cv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zor na hypermobilitu 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ilovací cvičení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zotonická, izometrick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5832360" cy="3240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403280" y="4508640"/>
            <a:ext cx="172872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zometrické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kte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88000" y="3068640"/>
            <a:ext cx="158436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zotonické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kte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sady posil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d posilováním daného svalstva je třeba 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protáhnout antagonist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případně i synergis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olit vhodnou 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výchozí poloh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abychom mohli do funkce přednostně zapojit cílené svalstvo (pohyb. stereotyp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Řízený pohy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Zatíže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plikovat dle zdatnosti cvič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vádět minimálně 2x týd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acovat nejprve s vlastním tělem, potom se zatěží (pomůck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08:37:12Z</dcterms:created>
  <dc:creator>koprivova</dc:creator>
  <dc:description/>
  <dc:language>en-US</dc:language>
  <cp:lastModifiedBy>koprivova</cp:lastModifiedBy>
  <dcterms:modified xsi:type="dcterms:W3CDTF">2010-12-20T14:41:11Z</dcterms:modified>
  <cp:revision>3</cp:revision>
  <dc:subject/>
  <dc:title>Vyrovnávací proces</dc:title>
</cp:coreProperties>
</file>