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60904-B837-4BE7-943B-D28AD3FD9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24D4A-6C6A-4A50-8BF2-5D9742704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62E5D-D05E-4C37-BF4C-B2F57F796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551CD-3BF0-457A-8621-69B6651F3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6E794-366E-42A3-931E-343B02B3C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4589A-0F32-43B6-B839-908D03BEA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92E3F-7C02-4A9F-A2E9-1F252636D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8B4E4-E61A-48DF-B6E1-11ECBA01E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0DF67-954D-4543-8B26-25831E935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0CCCD-6ACB-42C7-A18C-151F8E17A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39213-7144-4F59-A543-111B2B8B2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3876F-C90C-4DF2-A4E2-EAACF7F89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7233B-D5EA-4E3B-AF4C-21861FBE58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labení smyslová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RA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LOHOC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ruchy ZRAK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Refrakční vad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poruchy zrak.ostrosti) – krátkozrakost, dalekozrakost, astigmatism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oruchy zorného po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oruchy binokulárního vidění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tupozrako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generativní onemocnění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glaukom, šedý zákal, odchlípení sítnic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raktická slepota a zbytky zrak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évní porucha sítni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při hypertenz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oruchy barevného vidě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Zásady pro cvičení a sport - Zra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ostorová orient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ovnováhové schopnosti, bezpečnost chů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ílit taktilní a zvukové vnímá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Arial"/>
              </a:rPr>
              <a:t>kontraindikace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koky, tvrdé doskoky,prudké pohyby hlavou, kontaktní pohyb. hry, statické silové prvk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ruchy SLUCHU a POLOHOCIT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ruchy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převodní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bubínek, sluchové kůstky) – vlivem častých zánětů středouš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ruchy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percepční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porucha nervových drah nebo korového centr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ruchy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míšené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viz výš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ruchy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vestibulárního apará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Porucha rovnováhy (polohocitu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Arial"/>
              </a:rPr>
              <a:t>přízrak závratí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- vestibulární habituační trénink (procvičovat změny poloh, pohyby hlavou – otáčení(pozor na provázanost rovnovážného, zrakového a útrobního systému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Arial"/>
              </a:rPr>
              <a:t>Menierův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syndrom – zmnožením tekutiny ve vnitřním uchu (snížení až ztráta sluchu, hučení v uších.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V a sport (SLUCH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rozvoj smyslového vnímání, prostorové orient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lepšit rovnováhové schopn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polečenské začlenění (navazování kontaktů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NE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– cviky na nářadí, rychlé střídání poloh těla, otřesy a prudké pohyby hlavou, cvičení hlavou dol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! vizuální ukázka doplněná taktilními a kinestetickými informacemi,  artikulac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5T09:01:05Z</dcterms:created>
  <dc:creator>kopřivovi</dc:creator>
  <dc:description/>
  <dc:language>en-US</dc:language>
  <cp:lastModifiedBy>koprivova</cp:lastModifiedBy>
  <dcterms:modified xsi:type="dcterms:W3CDTF">2010-12-21T12:53:43Z</dcterms:modified>
  <cp:revision>4</cp:revision>
  <dc:subject/>
  <dc:title>Oslabení smyslová</dc:title>
</cp:coreProperties>
</file>