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7346-D71E-4424-ACE1-A02B2C81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BAA9-497B-419D-8CE7-CB2D93E8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4E5D-C416-4765-8B92-FB6D16A0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CC0A-6BB0-434E-A20A-6387DBAE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F3C5-C69F-4117-BA61-3E580D26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3B32-BD6E-4F00-8F56-AF3F8BB0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FDA2-C066-40C3-BBA5-67968D8A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4B42-02AD-4539-9622-A85AB784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1EF0-96E4-409E-AFAE-7F1401A4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7852-7D8F-41E5-AD18-122BA66A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7D3-413D-4B76-AE19-38C0C39F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A849-EC38-4C86-BE53-5C7DA6AE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E1D8-52A4-46C0-9920-0C1CE8A512F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abení dýchacího systé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čin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uchy z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OBSTRUK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řekážka v proudění vzduchu, zúžení dýchacích cest) -  Astma bronchiale, záněty dýchacích c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uchy při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RESTRIKC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mění se pohyblivost plic a hrudníku, dochází k omezení dýchací plochy) – deformity hrud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rovnávac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echová gymnasti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tatické a dynamické dechové cvič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Korekce D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hlava, hrudník,knoflíková ram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Úprava svalov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rovnováhy (HZ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1964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B a tělesná zátě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nzivní těl.zátěž v nevhodném prostředí -častý faktor vyvolávající pozátěž. bronchospasmus (70 – 8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Vhodná a pravidelná P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zlepšuje dýchací a oběhový systém, zlepšuje funkci Po Ap, příznivě působí na psychi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a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uristika (!alergeny ve formě pyl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ízda na kole (! alergeny a dobu trvání při 75% HF ma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á zátěž ( tenis, volejbal, basktetba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CÍL: zlepšit adaptaci organismu na fyzickou zátěž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stma bronch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ronické zánětlivé onemocnění dýchacích cest, je charakterizováno záchvaty výdechové dušnosti (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bronchospasmem)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volané generalizovanou obstrukcí dýchacích cest různého stupně a trvání, která je částečně nebo úplně reverzibilní buď spontánně nebo po léčebném zása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Spouštěcí faktor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udený nebo suchý vzd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chové podněty, dráždivé látky v ovzduší, alerg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dměrná tělesná zátě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fekce dýchacích c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tiologie a příčiny vzniku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Atopická dispozice - vrozen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alergická reakce zprostředkovaná imunoglobulinem E (IgE) – imunitní pořecitlivě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Kontakt s alergene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prach, pyl, roztoči, plísně, srst zvířat, potravi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Nerovnováha ve vegetativním nervovém systému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zvýšená aktivita parasympatiku –nervus vagus; blokáda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receptorů sympati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 – stanovení diagnó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amn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yzikální vyšetření – poslech, držení r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ření výdechové rych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vyšetření – Spiroergometrie, Spirometrie (VO2 max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onchodilatační testy (měření výdech.rychlosti před a po podání látky rozšiřující průduš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onchoprovokační testy – ve vztahu k pracovnímu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jevy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T, deformity hrudníku, snížená vitální kapacita plic, snížená výko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kční poruchy (funkce dýcha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imunitní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ve sféře psychické a soci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unologické poru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Alerg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výšená činnost IS na některé látky zevního prostředí (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imunologická hyperreaktivi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 Projevuje se jako rýma, průduškové astma, atopický ekzém, potravinová al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 u dětí je v 80-90% alerg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ý Zéland – nejvyšší výskyt AB (není průmysl znečišťující ovzduší, ale převažuje zemědělství – chov ovc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ormy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atopické, alergick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B (spojeno často s atopickým ekzémem) – má genetický zá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endogen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 – citlivost na bakteriální antigeny v dýchacích cest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ozátěžové astma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EIA-exercise induced asthma)- 4-10min. na zač., nebo do 20-40-min po intenzivní zátěži (chladný a suchý vzdu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chladové ast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aspirinové (AIA)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reakce na kyselinu acetylsalicilovo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lasifikace tíže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rmitentní – ojedinělé záchvaty, 1-2x /měsíc/noční, PEF nad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hké perzistující – max. 1x denně, více než 2x noc/měsíc, PEF na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ředně těžké perzistující – každodenní, noční častěji než 1x týdně, PEF 60-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ěžké perzistující astma – kontinuální příznaky s omezením životních aktivit, PEF pod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éčba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 - na základě momentálního stavu nemocného (klidový stav, období záchvatu, pozáchvatový sta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rmakot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imatoterapie (speleoterapie, pobyt na horách, u moř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ázeňská léč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rovnávací cvi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á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9:15:09Z</dcterms:created>
  <dc:creator>kopřivovi</dc:creator>
  <dc:description/>
  <dc:language>en-US</dc:language>
  <cp:lastModifiedBy>koprivova</cp:lastModifiedBy>
  <dcterms:modified xsi:type="dcterms:W3CDTF">2010-12-20T15:28:18Z</dcterms:modified>
  <cp:revision>19</cp:revision>
  <dc:subject/>
  <dc:title>Oslabení dýchacího systému</dc:title>
</cp:coreProperties>
</file>