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FBD8-0ED5-4572-8995-B7E801C2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4075-E845-47AE-965B-DC20914E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F8B0-8240-42E7-8785-3F1C3054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2A26-46AC-4EFE-81A5-0D32C5C2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DDEE-0110-4610-861B-DB0C3922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E729-2041-4434-A6CB-B48F7EAD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2726-34BC-4DC9-B977-CEC01381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C83E-D34E-45A2-876B-6D5CD723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7ADA-D796-477D-8010-AB8DA2F3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76BB-B423-489C-86F3-6FA956B1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228F-9E79-45E2-9182-32E85248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30A3-69C9-4BC8-8A0D-2C137610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E176-8D16-4814-8668-4A78FDE94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labení kardiovaskulárního systé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kteris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zna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kace a kontraindikace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Žiln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nemocnění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arix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riziko vzniku žilního uzávěru, ucpání plicní cévy – embol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Zásady pro cvič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horizontální poloze – imitace chůze, jízdy na 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ndážování 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prava životosprávy, ne statické polohy, nenosit břemena s velkou hmot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znaky cévního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ížený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výšený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est a poruchy citlivosti konče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o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vné a tepelné změny ků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výživy tkáně (bércové vředy, gangré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zkouš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F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HF max = 220 – vě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motonik – 70/min (palpace na radiální tepně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gotonik  -   60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ympatikotonik – 80/min (zrychlená H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rtovec – 40-60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mální TK                120/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ý TK          nad 150/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ený TK           pod 100/60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zkouš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yšetření srdeční funk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ep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uffierova zkou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 W1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yšetření cévních funkc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ohové, podvazové, tepelné a chladové zkouš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uffierova zkouš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 testem 30 min. klid, potom v sedě Hf1 (10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dřepů (45s)- ihned poté Hf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ne si a po 1 min opět HF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térium výkonnosti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f1+Hf2+Hf3 -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ně než 0       výborná zda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-5                     dobr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,1-10                průměr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,1-15              slab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,1 – více        nedostatečná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-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ška stupínku: 50cm/M, 40cm/Ž, 20-30cm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tupovat rychlostí 30x/1min po dobu 5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 ukončení sed a měří se Hf (30s)vždy v první polovině druhé (T1), třetí (T2) a čtvrté (T3) min. zotav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ex: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doba vystupování v s. x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T1+T2+T3) x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 55        velmi slabá zda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-64          slabý prům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5-79          průměrná zda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90 a více     velmi zdat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kteristik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časového průběh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 aku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→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ron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le charakteru →  funkční (lze uprav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→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cká (mož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hrožení živo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poru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Neurocirkulační steni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/slabost(nervozita, dušnost, nespavost nekoncentrovatelnost) lze ji medikamentozně a vhodným pohybem uprav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Hyperkinetický syndro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zrychlení HF (tachykardie) vhodnost PA (AE charak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gulační poruchy krevního obě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v klidu, emoc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 vzestup systolického tla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ká poškoz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CH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nedostatečné prokrvení srdeční svaloviny s nedostatečným přívodem kyslí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utní forma =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infarkt myokar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ronická forma =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ngina pecto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činy: snížení cévního průsvitu (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TS (tepny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ateromatózní pláty – LDL chol., tromb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znaky srdečních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lest na hrudní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uchy rytmu – bradykardie (zpomale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tachykardie (zrychle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š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oky (edémy) - DK (při selhávání P srd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Plicní otok ( při selhávání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d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anó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š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ten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šší než 150/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/80 – zdraví jedinc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ár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95% - jsou neznámého půvo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kundární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 onemocnění ledvin, srdce, žláz s vnitřní sekrecí, nervové cho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tenz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bi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xova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dia hyperten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víc změny na srdc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zvětšení L komory), na ledvinách (bílkovina v moči), na očním pozadí (zúžení cé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uze zvýšený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avíc orgánová poškoze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srdce (levostranné selháv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mozku (krvácení, měknut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očního pozadí (krvácení do sítn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pertenze = hlavní rizikový faktor IC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sady cvič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PA je vhodná jen pro I a II. stádium 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E, cyklický charakter – intervalová zátě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ntenzit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60-80% HFmax, 3-5x týdně 30 min.,(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le výsledků zátěžového test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hyby DK a HK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zlepšení cirkulace k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rola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a bez str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horoby periferních cé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Tepenn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uzávěrová onemocn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utní (náhlý uzávěr vmetkem, embo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chronická (pomalu vznikající následkem ATS, diabetu, toxi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éčba: - farm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posilování svalstva a zlepšování bočního oběhu – jen u prvních 2 stádií, ostatní L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7:01:41Z</dcterms:created>
  <dc:creator>kopřivovi</dc:creator>
  <dc:description/>
  <dc:language>en-US</dc:language>
  <cp:lastModifiedBy>koprivova</cp:lastModifiedBy>
  <dcterms:modified xsi:type="dcterms:W3CDTF">2010-12-20T15:32:53Z</dcterms:modified>
  <cp:revision>7</cp:revision>
  <dc:subject/>
  <dc:title>Oslabení kardiovaskulárního systému</dc:title>
</cp:coreProperties>
</file>