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B81-E8E6-4F23-B565-E934D1DD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228-80E5-44F3-BE78-2BC4188C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B7C-2C7E-40A0-8D8A-E410DDA7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549-ACBD-43DC-BCE9-C3C4DBFB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8F57-172F-48E8-B647-0D639B12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89C-D328-4935-A084-13456317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C577-930F-4EC4-97E5-2132C89A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688-9703-48C8-B914-643AF37C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EE9-8086-480B-880B-CD848D15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7B1-43F2-42E8-93DD-9AA69FB0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317-6D45-4757-8A4D-DF993A89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EC93-C573-4AE4-85F0-5C84515C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2237-77D5-455E-B461-CCD84902B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rovnávac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TV P /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yrovnávací / kompenzační cvič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í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lepši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unkční parame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dnotlivých složek PA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loubní pohyblivos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pětí (snížit u svalů s tendencí ke zkrácení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ílu (zvýšit u ochablých svalů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uhru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valů, nervosvalovou koordinaci (D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rakter pohybových stereotypů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ás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yrovnávacího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vičit pomal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řízený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ržova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řad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k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vičení uvolňovac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cvičení protahovací → cvičení posilovací (s nácvikem správných pohybových stereotypů) → cvičení relaxa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cvičení dechová, vytrvalostní a    rovnovážná jako doplňková  vyrovnávací 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Postupov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d jednodušších cvičení po složit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ahovací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novit fyziologickou délku svalů, odstranit spasmy, zlepšit celkovou funkčnost svalstva (pružn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drž v poloze nejméně 10s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ždou polohu dostatečně „prodýcha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t opakování dle zvolené metody (statický strečink x PIR, AG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akovat každých 24 hod. (příp. do 48 ho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ahovací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803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správného protah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ycházet ze znalostí anatom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funkč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protahováním dostatečně zahřát sval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it vhodnou výchozí polo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ahovat ve směru svalových vlá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doprovázet dýcháním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ržovat vhodný počet opakování daného cv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hypermobilitu 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lovací cvičen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zotonická, izometrick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5832360" cy="324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03280" y="4508640"/>
            <a:ext cx="1728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ometr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kt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3068640"/>
            <a:ext cx="1584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otonick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kt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posil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posilováním daného svalstva je třeba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protáhnout antagonis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ípadně i synergis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it vhodnou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ýchozí poloh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abychom mohli do funkce přednostně zapojit cílené svalstvo (pohyb. stereoty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Řízený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Zatíž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plikovat dle zdatnosti cvič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vádět minimálně 2x týd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covat nejprve s vlastním tělem, potom se zatěží (pomůc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8:37:12Z</dcterms:created>
  <dc:creator>koprivova</dc:creator>
  <dc:description/>
  <dc:language>en-US</dc:language>
  <cp:lastModifiedBy>koprivova</cp:lastModifiedBy>
  <dcterms:modified xsi:type="dcterms:W3CDTF">2010-12-20T14:41:11Z</dcterms:modified>
  <cp:revision>3</cp:revision>
  <dc:subject/>
  <dc:title>Vyrovnávací proces</dc:title>
</cp:coreProperties>
</file>