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831-D487-47F4-8FE6-3E5E9A50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8F6-BCB5-4D17-A633-20AF1979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D61-89FB-45C8-B7D2-66360ECA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A9E-1259-4061-AA5C-36DFB731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085-D04C-41F9-A6E6-43B5E125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7A3-7626-4317-8441-0302CDAB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C94-A408-4083-AB02-BE7A432D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338-CD52-4598-99A5-C8C76295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A79-B8C9-45C8-9B42-691F9C7C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046-584B-404A-99BC-A2CD0CB6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1A7-BD72-489A-9184-0538E3D2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DD8-87D6-4CAC-A187-9CCC312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1EC3-9DAC-440D-BF0C-2A42C8791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ůst za posledních 10 let o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R – prudký nárůst DM I. typu u dětí do 9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 stárnoucí populace (DM II. Ty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k, nevhodné stravovací návyky – velký příjem tuků, malá fyzická aktivita, obezita, nezdravý životní sty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TV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e nutné znát zdravotní stav nemoc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da je v inzulínovém režimu, nebo pouze užívá perorální antidiabetika – PAD. Pokud je aplikován inzulín je nutné znát kam, zda se vyskytuje orgánová kompl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át symptomatologii všech akutních stavů DM a umět je správně vyře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ZTV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řazovat diabetiky dekompenz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ejména s ketoacidózou či častou hyperglykém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sahovat možnosti cvičenců, sledovat TF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60-70% max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erobní a silová cvičení prokládat relaxacemi, P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4x týdně v délce cca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ičební jednotku přizpůsobovat věku diabetiků, jejich typu DM a úrovni fyzické zda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á je spolupráce s diabetologem zejména u dětí a seni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výraznější polyneuropatii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těžovat staticky chod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átěži se vyhýbat poloze v leže na břiše a všem cvikům, při kterých dochází k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výšení tlaku za o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 –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1599840"/>
            <a:ext cx="6761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abolické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rucha metabolismu sachari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onalé hospodaření s glukózou je řízeno souhrou několika horm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nzul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rmon produková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uňkami slinivky břišní – má 2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á pokyn k ukládání glukózy do zásob v játrech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myká buňky v těle, aby mohla do nich glukóza vstou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M I.typu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/ při nedostatku inzulinu (10% z celkového počtu diabetik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důsledkem autoimunit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strukce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ß buněk ostrůvků slinivky břišní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teré neprodukují žádný inzulin, tento hormon v těle zcela chybí!!! – je nutno dodat inz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častěji postihuje děti, dospívající a mladé jedince do 35 let - nebývá spojen s obezitou 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uvenilní D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 vzniku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50% genetika, 50% ze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zna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nadměrná žízeň, nadměrné močení, hubnutí a únava, přechodné poruchy zrakové ostrosti, dech páchnoucí po acet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boratorní vyšetření – hyperglykémie (vyšší než 11,1 mmol/l, glykosurie (cukr v moči), ketolátky v krvi i v moč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yp diabetu se sklonem ke ketoacid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M II.typ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/ při snížené účinnosti inzulí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kyt převážně u dospělých a stárnoucí pop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kombinace genetických predispozic a zevních faktorů (snižuje se fyzická aktivita a zvyšuje se příjem ži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rizikovějším faktorem je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znaky: málokdy subjektivní potíže, je prokázán až při screeningu (ketoacidóza, přítomnost již komplik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Hyperglykémi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glykémie vyšší než 11,1 mmol/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ižší než 17 mmol/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éčba inzulinem + po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ad 17 mmol/l se nedoporučuje sportovat – možnost vzniku diabetické ketoacidó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glykemické koma – při nedostatku inzulínu – ihned podat inzulín a zavolat léka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glyké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rma: 3,5 – 5,5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atologický pokles glykémie pod 3,3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podání velkého množství inzulínu, nebo nadměrné zátěže, nebo nedostatkem jí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oj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malátnost, únava, vyčerpanost, dezorientace, p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poglykemický záchvat– při vědomí podat cukr do úst (mezi tvář a zuby), při ztrátě vědomí ihned zavolat lékařskou po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likace způsobené diabetem /hyperglykém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ledv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ef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retinop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rv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neu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mocně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oh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nam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hodně zvolená PA vede k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ětšení svalové hm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je zásobárnou glykogenu. Z něj se může v případě poklesu glykémie uvolnit glukóza, proto dochází k menším výkyvům glykémie během dne a při cvi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je významným prostředkem př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ukci nad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jména u DM 2. typu. Navíc soustavný sportovní trénin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yšuje citlivost buněk na inzulí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vičit po jí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jlépe 2 hod. po podání inzulínu,  mít u sebe vždy nějakou formu cuk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pitn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opakovaných potížích v souvislosti s pohybem vždy konzultovat s lékařem případné upravení dávek inzulí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léčbě inzulínem kontrolovat glykémii před i po cvičení a zejména tehdy, je-li PA prováděna po dlouhé době, déle než hodinu a nebo s nezvyklou intenzit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50:55Z</dcterms:created>
  <dc:creator>koprivova</dc:creator>
  <dc:description/>
  <dc:language>en-US</dc:language>
  <cp:lastModifiedBy>koprivova</cp:lastModifiedBy>
  <dcterms:modified xsi:type="dcterms:W3CDTF">2010-12-21T12:29:21Z</dcterms:modified>
  <cp:revision>20</cp:revision>
  <dc:subject/>
  <dc:title>Diabetes Mellitus </dc:title>
</cp:coreProperties>
</file>