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492-0A6A-4C6F-9E00-A673A58D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92DB-7A5D-4E2F-B7A3-A24FCD9C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56C-92D0-4577-9896-42228C92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B98-5DA2-4390-ABB5-4F9482BA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2F7C-FFAE-48EA-811C-E52BB1C8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53D-D9F5-4966-A54F-2800755A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4B7-09C3-408F-8E20-5B7A0E5D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3351-B250-487B-AB68-CF2982E5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2AD8-8D22-44B6-9AB8-775779DA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CAE-B6E0-4751-B6C9-FDB85ADC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B597-4EEF-45AF-A76C-5CAC5C31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3B56-E597-4B3C-9855-FB4DA8C3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C4B1-8FE9-489C-A2D4-3A6DC1657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ěková obdob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jich zvláštnosti a patogenez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785988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GENEZE – vývoj jedince od narození do sm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ů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kvantitativní změny – končí dospěl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ý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– kvalitativní změny – neustává, je po celý ž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edškolní věk (3-6 l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dobí pomalého a klidného růs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ončení vývoje hrubé motoriky – udržování rovnová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jemné motor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átky abstraktního myš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hodnější období (zejm. 4. rok života) pro tvorbu motorických spoj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ynamická činnost, tvořivá dětská h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hybová potřeb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normomotorické dítě (6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hypermotorické dítě (8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 hypomotorické dítě (4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UB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ladší školní vě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(6-8) – vytáhlost a poté plno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postupný rozvoj percepčně motorického u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větší výkonnost sval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nerovnoměrnost v růstu kostí a sval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začínají vady držení těla, sv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sbalancí, obez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UB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ladší školní vě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 (8-11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cepčně motorická činnost dokonalej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čtější pohyb.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ůst pohyb. vytrvalosti, rychlosti, pře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řeba 1 hod. denně intenzivní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vhodná spe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šestrannost, rozvoj koordinačních s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ESCENCE (11-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rmonální změn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tý výskyt VDT, vady páteře (Morbus Scheuermann – H, skoliozy – 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neurovegetativní regu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rdiovaskulární poru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ezita, mentální anorex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OLESCENCE (15-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pomalení rů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hyby koordinova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chol fyzické výkonnosti, rychlejší růst trénovanosti, roste svalová sí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ktní myšl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tší výskyt onemocnění dýchacích cest, kožní problémy,infekční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sportu – touha po sebereal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PĚL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ončení růstu, osifikace kostí (18 – 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ývání tělesné hmo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ální dozrá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tší fyziologická zdatnost –tělesná obratnost, smyslová bystrost, pohotovost, nejkratší doba reakce – vrchol zdraví a sí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30. roku evoluce, po 30. roce in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ůležitost pohybu pro udržování funkcí jednotlivý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Ř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ÁŘÍ je výsledkem stárnu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to označení pozdních fází ontogen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důsledkem a projeve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tic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dmíněných involučních procesů modifikovaných dalšími faktory (choroby, životní způsob, životní podmín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nější f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rava, přiměřená aktivita, tělesné cvi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výslednicí vzájemného působ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tick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životního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životního sty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Ř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Biologick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měny v organismu (Po Ap, Nerv a smysl. funkce, kardiovaskulár. s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ociál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důchod (změna ŽS), posproduktivní věk, fáze zá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alendářní (chronologický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dříve 60.vě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yní 65 – 74 mladí seni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75 – 84 staří seni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5 a více  velmi stař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 90 let - dlouhověk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 stár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číná od samotného poč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kles funkcí(atrofie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◄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o dosažení sexuální dospěl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yflick (1997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fatální nutnost – nikomu se nemů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hn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normální pro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toulek, Vilikus (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znivý vliv pohyb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podílu aktivní tělesné hmoty k tukové hmo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funkční kapacity kardiov.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ení některých metabol.paramet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í glyké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í celkového cholesterolu – zvýšení HDL-cholestero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pevnosti k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kce tzv. endorfinů v mozk. tkáni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►zlepšení pohody /well-be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py vývoje podle klasifikace W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ádí                                  do 3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ralost                              31 – 45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řední věk                       46 – 6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ší věk                          61 – 75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ří                                  76 – 9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mi vysoký věk               nad 91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běr vhodné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řeba respektovat všechny změny vyvolané stárnutí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iologické (úbytek sv.hmoty zejm. D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zdrav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horoby ve stář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(degener.onem.PA, osteoporóza, slabost zraku, sluchu, hypertenze, diabetes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nezdatnost organism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zátěž denně min.30 min. střed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nzity, respektovat zájmy seni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uži po 50 – ideální kombinace   ANAE      (posilování sv. trupu) a AE (50-60% max) zátě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rvalostní a cyklická 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avotní tělesná cvi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aktivity v přírod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genetický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LÁ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mbryonální vývoj (prenatál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orozenecké období (porod – 28.den) - postnatál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jenecké obd. (do 1 ro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tole (do konce 3.ro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školní věk (3 – 6 l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pubescence (ml. a stř. šk.věk-6-8, 8-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ubescence (11-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olescence (15-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ální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2 měsíce: vývoj jednotl.orgán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etická výb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tlivost na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škodlivi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evního prostředí působící prostřednictvím matky (choroby, kouření, drogy, špatná životospráva, alkoholismus…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►vznik morfologických vad – patrné po porod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! pozitivní vliv pohy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d 3. měsíce: obd. fetální (plodové) – jsou vytvořeny základy všech orgánů – vznik růstových a vývojových retardací (postižení moz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orické projevy prenatálního vývoje C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spontánní pohyby – ke konci 6. embr.týd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reflexní odpovědi – u 7 týdenního embrya – odklon hl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torické funk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měsíc – sval.kontrakce, reakce na taktilní podně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měsíc – pohyby DK a HK, úst a hlavi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.-7. měsíc – reakce na taktilní, akustické, vizuální a chuťové podně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ec 8. měsíce- jsou již založeny všechny svaly – rozvoj geneticky daných motorických vzorců – reflexní posturální motor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vorozenecké obdob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od – 28. 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nedostatek kyslík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►příčinou rozvíjející se choroby (D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fologického, funkčního poškození (LM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působení velkých mechanických sil na hlavičku (D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předčasné porody (DMO, smyslové vady, poruchy psychi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 nepodmíněné refle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JENEC- postnatální vývo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konce 1. ro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ěné refle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ychlý rozvoj motoriky (zejména lokomo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dání hlavičky (2. mě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se koníčky (3. – 6. mě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stabilní sed (6. měs.)- infantilní kyf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ze, staví se u nábytku, stabilní sed (9.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mostatná chůze (12.m, nejzazší norma -18.m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rola vývoje kyčelních kloubů (lux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voj tvaru páteř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3. měs. -  krční lord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6. měs. -  hrudní kyf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1 roku  -   bederní lord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OLE (do konce 3. rok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 lokomoce – chůze, koncem období i bě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jemné motoriky (ruka, prs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jení fyzické a psychické slož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a-spontánní pohyb. akti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trost pohy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ezovat statickou 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tivní pohyb.činnost – 75 % doby bd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9:13:55Z</dcterms:created>
  <dc:creator>kopřivovi</dc:creator>
  <dc:description/>
  <dc:language>en-US</dc:language>
  <cp:lastModifiedBy>koprivova</cp:lastModifiedBy>
  <dcterms:modified xsi:type="dcterms:W3CDTF">2010-12-21T13:05:04Z</dcterms:modified>
  <cp:revision>9</cp:revision>
  <dc:subject/>
  <dc:title>      Věková období jejich zvláštnosti a patogeneze    </dc:title>
</cp:coreProperties>
</file>