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1BCB-D8C8-447A-86AA-4FEA1898A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27B4-463D-43A0-9B91-1D975C5E6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04C4-D816-4203-909D-04DBF47C4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32BF-B629-43A7-A8A1-068F58A6C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52B2-64E9-4EB4-BEB6-2965E96A5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04D9-0B2F-4EEE-8C02-5663B9094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99EA-51DA-4601-B409-FD03A84A0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900B-DE66-49B3-B02F-DA056D5C6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E11D-74AF-49D2-9205-4C24EC820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495B-C26D-4F84-868F-509E5ACA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AED9-5460-461A-9C81-D6D4001C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0485-6207-497E-A130-7CBD6ED8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9EE2D-F75F-4415-AC07-355B6CED8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uropsychická oslab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chvatová onemocnění C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rebrovaskulární onemocnění C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nětlivá onemocnění C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M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ruchy funkční (neuróz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Záchvatová onem. CNS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EPILEPS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projevem mozkové dysfunkce z nadměrné vzrušivosti nervové tká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příčin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vlivem poškození mozku v útlém vě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horečky, záněty, zranění moz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dědičnost 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podoby záchva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grand mal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– bezvědomí, křeč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etit mal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- krátkodobá absence vědomí, bez křeč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pilepsi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agnóza na základě EEG vyšetř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éčb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rma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držovat režim-pravidelný rytmus bdění-spá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liminovat provokační momenty (blikavé světlo, silné emoční prožitky, hyperhydrat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. pomoc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!  uložit na vhodné místo, kontrola uložení jazy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vičení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nenáročná PA, pozor na PA ve vodě a ve velkých výškách, ne dlouhodobá relax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Cerebrovaskulární onemocně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škození mozku podmíněné mozkovým infarktem trombotického nebo embolického původu, nebo krvácením do moz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činy:ATS, vysoký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ůsledek: porucha řeči, hemiparé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vičení: střídat svalové napětí a uvolnění,procvičovat zápěstí, prsty- jemná motorika, obnovit narušené pohybové stereotypy (chůz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generativní onemocně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Alzheimerov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choroba (postupná ztráta paměti, deme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dikamentózní léč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A – rozvoj kognitivních a paměťových funkcí, soběstačnost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ánětlivá onemocně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akutní fázi vyžadují kl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 až v rámci rekonvalescence – konsultace s lékař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MO a LM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MO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- opožděný vývoj všech funkcí – zejména poruchy hyb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ypotonus, hypertonus (spastic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tné kineziologické vyšetření z hlediska psychomotorického vývo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habilitační techniky (reflexoterapie, Vojta, Boba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LMD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ADHD) – projevy v moto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yperaktivita nebo hypoaktiv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mpulsivita, agresiv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ruchy pozornosti a koncen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hodná PA – PM, cvičení a hry na rozvoj koordinace, pestrost, motiv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kční psychické poru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Neurózy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neurastenie, psychastenie, hysteri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liv stresových situací a neadekvátní reakce na danou situaci (nespavo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 pozitivní naladění, komunikace, relaxační, protahovací cvičení, PM, cvičení při hudb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5T08:04:19Z</dcterms:created>
  <dc:creator>kopřivovi</dc:creator>
  <dc:description/>
  <dc:language>en-US</dc:language>
  <cp:lastModifiedBy>koprivova</cp:lastModifiedBy>
  <dcterms:modified xsi:type="dcterms:W3CDTF">2010-12-21T12:52:15Z</dcterms:modified>
  <cp:revision>6</cp:revision>
  <dc:subject/>
  <dc:title>Neuropsychická oslabení</dc:title>
</cp:coreProperties>
</file>