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C4E5-87E7-473B-AE0F-9ABF6D33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1246-34DF-47C0-A247-C13C869C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A11-A4B4-4FC4-92D4-216B994C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868-01E7-480B-AAF2-B9CE66F2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746-F27B-42C9-A689-110C01EF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FD2-7936-47E4-8B5C-E2A9B6F8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BD59-DA5E-402E-A1BA-940ED322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1E8A-052E-412B-96C7-B40B4000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776-7F1B-4D30-A189-F763F0E2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E485-E089-4412-A1E1-17E2D40D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B945-5863-426D-8557-A88B3A77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3266-2630-49BF-AE0B-B75ED95E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843D-94AE-49F9-8C93-AFFF969CC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AVOTNÍ TĚLESNÁ VÝCHOVA – bp0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p023z, bp023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ZATÍŽE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 CVIČEBNÍ JEDNOTCE / VYUČOVACÍ HODI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 základní křivky zatížení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jednovrchol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vrchol je v rozvíjející části) – pro oslabení hybné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dvouvrchol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2 vrcholy v rozvíjející části) – pro astma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 vyrovnaným zatížením v rozvíjející čás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mírně kolísající zatížení intervalového charakteru)  - pro jedince s nadváhou, obezitou a pro kardia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a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ičební jednotky / vyučovací hod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řizpůsob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hu zdravotního oslab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dravotnímu 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kému vě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hla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hybovému rozvoji cvičenců/žáků a jejich předcházející pohybové průpra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kční zdatnosti cviče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jmu cviče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dmínky předmětu pro závěrečnou zkouš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řednášky – 75% úč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olvování 3 dílčích testů ( znalost svalů a jejich funkce, diagnostika PA, vyrovnávací cvičení) – každý test min. 60% úspěšnost odpově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házka na semináře KC, ZTV, metodický výstup, seminární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á 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T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álková, J. et a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dravotní tělesná výchova. Speciální učební texty. I. část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raha: ČASPV, 2001. 120 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yslová, V et a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dravotní tělesná výchova. Speciální učební text. II. část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raha: ČASPV, 2003. 106 s. ISBN 80-86586-03-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áček, M., Máčková,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Fyziologie tělesných cvičení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Brno: MU, FSpS a PdF, 2002.112 s. ISBN 80-210-1604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lter, Michael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Strečink : 311 protahovacích cviků pro 41 sportů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1. vyd. Praha : Grada Publishing, 1999. 228 s. ISBN 80-7169-76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stálová,I., Aláčová, P. G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Vyšetřování svalového aparátu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Olomouc: Hanex, 2006. ISBN 80-85783-51-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stálová, I., Miklánková,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tahování a posilování pro zdraví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Olomouc: Hanex, 2005. ISBN 80-85783-47-9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nteraktivní osnovy (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ompenzační cvičení pro fotbalist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Edited by Marta Bursová - Jaromír Votík - Jiří Zalabák. První vyd. Praha : Olympia, 2003. 95 s. ISBN 80-7033-793-1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Exercise in rehabilitation medicin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Edited by Walter R. Frontera - David M. Slovik - David Michael Dawson. 2nd ed. Champaign : Human Kinetics, 2006. ix, 454 s. ISBN 0-7360-5541-X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eránková, Lenka - Fiala, Jindřich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ompenzační cvičení, dopopručení-návod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Brno : Ústav preventivního lékařství, lékařská fakulta Masarykovy univerzity, 2002. 14 s.</a:t>
            </a:r>
            <a:br>
              <a:rPr sz="1400"/>
            </a:br>
            <a:br>
              <a:rPr sz="800"/>
            </a:b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jem Z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dravotní tělesná výchova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je specifická forma tělesné výchovy (TV) určená pro zdravotně oslabené jedince, tedy jedince zařazené do III. zdravotn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kupiny dle zdravotnické klasifikace. Je určena všem věkovým skupiná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DRAVOTNÍ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zdra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přiměřeně vyvinutí s vysokým stupně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énovanosti, připraveni k plnému tělesnému zatíž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V a sport neomezeně, kvalifikovaný učitel, trené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zdra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méně trénovaní (totéž jako I. sk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ff"/>
                </a:solidFill>
                <a:latin typeface="Arial"/>
              </a:rPr>
              <a:t>I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3366ff"/>
                </a:solidFill>
                <a:latin typeface="Arial"/>
              </a:rPr>
              <a:t>zdravotně oslab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trvalé nebo dočasn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hylky tělesného vývoje, tělesné stavby a zdravot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u) – mají určitá ome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aprobovaný učitel TV – zk. Ze ZTV /cvičitel Z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nemocní jedin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- LTV (pouze fyzioterape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uhy zdravotního oslaben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ybný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spirační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ardiovaskulární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etabolické a endokrinologické por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astrointestinál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ynekologick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rvová a neuropsychic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mysl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arší vě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ÍLE A ÚKOLY ZT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í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TV j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ionálním způsobe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dstranit nebo zmírnit zdravotní oslabení a posílit organism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kytnout zdravotně oslabenému možnost sportovního vyžití ve vztahu k jeho schopnostem a zdravotnímu 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tvořit předpoklady pro všestranný harmonický vývoj zdravotně oslabeného jed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rovnávací prostřed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uvolň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volnit klouby a svalové kontraktur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rotah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bnovit fyziologickou délku svalů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osil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zvýšit zdatnost oslabených svalů a svalových skupin) – dynamické/sta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echov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tatické/dynamické, druhy dec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elaxač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ýznam, polohy, podmínky, druh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vytrvalost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ýznam, výběr, měření, Zottova tabul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ovnovážn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tatická/dynamická/balancování předmět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é – ZG, RG, plavání a jiné spo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VIČEBNÍ JEDNOTKA / VYUČOVACÍ HOD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ři trvání 45 min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Úvod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5-10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lav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)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vyrovnávac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5 – 20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kondiční/rozvíjející (10 – 15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ávěrečn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5-7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00:42Z</dcterms:created>
  <dc:creator>koprivova</dc:creator>
  <dc:description/>
  <dc:language>en-US</dc:language>
  <cp:lastModifiedBy>koprivova</cp:lastModifiedBy>
  <dcterms:modified xsi:type="dcterms:W3CDTF">2010-12-20T14:33:06Z</dcterms:modified>
  <cp:revision>3</cp:revision>
  <dc:subject/>
  <dc:title>ZDRAVOTNÍ TĚLESNÁ VÝCHOVA – bp023</dc:title>
</cp:coreProperties>
</file>