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FB54-881E-4D52-B78D-45FF1849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A3C3-A7EC-4582-BC6C-FFBAC7B1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24CE-7B46-4BAA-AC6C-204A2D562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8D2D-64FB-415E-875D-48D46DB8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39C0-99FB-4008-A8AA-99CE394B7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3D15-F78C-4FF5-A1DC-F1EEAAAB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4A57-2308-4172-A9FA-45F234B8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BB3E-ACA0-49D6-8211-F474CFCF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05BA-0E1F-46DD-99C5-E0C53AB0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8BA6-CF0E-4001-BCA5-50FAFB25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56A5-8112-4C11-8A49-70D3A2F0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F113-A080-43B3-BDF8-1476648E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F56C-3597-441D-A393-5C3F67EA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5339-0763-4CD2-8FF2-76E823D3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49F6-F4AD-487D-A3C7-62910820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0F07-76A7-42B4-803A-15B035CC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44D5-3D98-4714-8DB0-6210408E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D39C-8426-436C-9E10-509B127E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E516-4316-4B64-8C53-2D1081A3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C3D5-106B-4A77-8D96-5D2B231C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3B51-BD10-4BBF-80FC-4C9C33DE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6FC5-EA06-4F30-B35D-BA882A7A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BDC8-099E-4D74-8875-1E496901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2493-A56E-41FD-B53D-5A5B9100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FCBB-BDA8-49FC-88C8-139056BAA0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1450-E680-4CCA-899C-97C9798AA0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žadavky na ukončení studia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Ústní zkou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2.Praktické splnění víceboj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3.Splnění všech praktických zápočt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776 př.n.l.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rodobé OH  - Olympia - Pentatlon běh,dálka,disk,oštěp a zá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ovodobé  OH Řecko  -  Athény - Janda-Suk,Zátopek,Zátopková,Fikotová,Húbnerová, Daněk,Pribilinec,Změlík,Železný,Dvořák,Šebrle, Špotá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83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S Helsinki  Kratochvílová,Fibingerová,Bugár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34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E  Tur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7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aložen  Č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68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LOH Mexiko - tar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6"/>
          <p:cNvSpPr/>
          <p:nvPr/>
        </p:nvSpPr>
        <p:spPr>
          <a:xfrm>
            <a:off x="3348000" y="2060640"/>
            <a:ext cx="4686480" cy="17143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ALNÁ HROM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ČESKÉHO ATLETICKÉHO SV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7"/>
          <p:cNvSpPr/>
          <p:nvPr/>
        </p:nvSpPr>
        <p:spPr>
          <a:xfrm>
            <a:off x="730872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DOZORČÍ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572436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4 členové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2340000" y="4005360"/>
            <a:ext cx="2663640" cy="266364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9 členů výboru z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PŘEDSEDA 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Arial"/>
              </a:rPr>
              <a:t>MÍSTOPŘEDSEDA Č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826920" y="3357720"/>
            <a:ext cx="1600200" cy="4572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PŘEDSEDAJÍCÍ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SKRUTÁTOŘI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179280" y="2276640"/>
            <a:ext cx="2449800" cy="5047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MANDÁTOVÁ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VOLEBNÍ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851280" y="836640"/>
            <a:ext cx="172872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KRAJS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ATLETICKÉ SVA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3"/>
          <p:cNvSpPr/>
          <p:nvPr/>
        </p:nvSpPr>
        <p:spPr>
          <a:xfrm>
            <a:off x="5940360" y="836640"/>
            <a:ext cx="223200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ODDÍLY A KLU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 VÍCE NEŽ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EGISTROVANÝCH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ZÁVODNÍK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4"/>
          <p:cNvSpPr/>
          <p:nvPr/>
        </p:nvSpPr>
        <p:spPr>
          <a:xfrm>
            <a:off x="471636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5"/>
          <p:cNvSpPr/>
          <p:nvPr/>
        </p:nvSpPr>
        <p:spPr>
          <a:xfrm>
            <a:off x="709308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6"/>
          <p:cNvSpPr/>
          <p:nvPr/>
        </p:nvSpPr>
        <p:spPr>
          <a:xfrm>
            <a:off x="630072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7"/>
          <p:cNvSpPr/>
          <p:nvPr/>
        </p:nvSpPr>
        <p:spPr>
          <a:xfrm>
            <a:off x="759636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8"/>
          <p:cNvSpPr/>
          <p:nvPr/>
        </p:nvSpPr>
        <p:spPr>
          <a:xfrm>
            <a:off x="478800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9"/>
          <p:cNvSpPr/>
          <p:nvPr/>
        </p:nvSpPr>
        <p:spPr>
          <a:xfrm flipH="1">
            <a:off x="1403280" y="479736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0"/>
          <p:cNvSpPr/>
          <p:nvPr/>
        </p:nvSpPr>
        <p:spPr>
          <a:xfrm flipV="1">
            <a:off x="1403280" y="3789360"/>
            <a:ext cx="0" cy="102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1"/>
          <p:cNvSpPr/>
          <p:nvPr/>
        </p:nvSpPr>
        <p:spPr>
          <a:xfrm flipH="1">
            <a:off x="2627280" y="2565360"/>
            <a:ext cx="698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2"/>
          <p:cNvSpPr/>
          <p:nvPr/>
        </p:nvSpPr>
        <p:spPr>
          <a:xfrm>
            <a:off x="2700360" y="2276640"/>
            <a:ext cx="6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3"/>
          <p:cNvSpPr/>
          <p:nvPr/>
        </p:nvSpPr>
        <p:spPr>
          <a:xfrm>
            <a:off x="5219640" y="40053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4"/>
          <p:cNvSpPr/>
          <p:nvPr/>
        </p:nvSpPr>
        <p:spPr>
          <a:xfrm>
            <a:off x="6804000" y="393372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5"/>
          <p:cNvSpPr/>
          <p:nvPr/>
        </p:nvSpPr>
        <p:spPr>
          <a:xfrm>
            <a:off x="1476360" y="4365720"/>
            <a:ext cx="792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menu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6"/>
          <p:cNvSpPr/>
          <p:nvPr/>
        </p:nvSpPr>
        <p:spPr>
          <a:xfrm>
            <a:off x="4859280" y="1700280"/>
            <a:ext cx="217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ysílají delegá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457200" y="158760"/>
            <a:ext cx="822960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rganizační struktura Č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39640" y="1341360"/>
            <a:ext cx="331488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ÝB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971640" y="2421000"/>
            <a:ext cx="2663640" cy="34272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9 členů volených valnou hromad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826920" y="3213000"/>
            <a:ext cx="2808360" cy="57636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2 členové, tj. šéftrenér ČAS a ředit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68360" y="4724280"/>
            <a:ext cx="182880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84360" y="4724280"/>
            <a:ext cx="194328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A DALŠÍ 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DISCIPLINÁR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ZDRAVOT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ARCHI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TRENÉRSKÁ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485928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3 členové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4 členové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jmenováni           volení VH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ýbor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694836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DOZOR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3851280" y="1700280"/>
            <a:ext cx="1028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1187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2843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2124000" y="27813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3854160" y="12675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1479240" y="4075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2198520" y="2851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jmen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9"/>
          <p:cNvSpPr/>
          <p:nvPr/>
        </p:nvSpPr>
        <p:spPr>
          <a:xfrm>
            <a:off x="572436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0"/>
          <p:cNvSpPr/>
          <p:nvPr/>
        </p:nvSpPr>
        <p:spPr>
          <a:xfrm>
            <a:off x="788508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6510600" y="2997360"/>
            <a:ext cx="157068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stitu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Oval 5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64328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3134880" y="364500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ČI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7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9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0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něnický a kol.: Technika atletických disciplín,SPN,19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stál a kol.: Didaktika školní atletiky,SPN,1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uža a kol.: Technika atletických disciplín,MU Brno,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límová a kol.: Didaktika Atletických disciplín,MU Brno,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llerová a kol.: Běhy na krátké tratě,Olympia,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učera a kol.: Běhy na střední a dlouhé tratě,Olympia,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lebil a kol.: Atletické skoky,Olympia,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ba a kol.: Atletické víceboje,Olympia,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idla atletiky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12:41:19Z</dcterms:created>
  <dc:creator>Michálek</dc:creator>
  <dc:description/>
  <dc:language>en-US</dc:language>
  <cp:lastModifiedBy>Josef Michálek</cp:lastModifiedBy>
  <dcterms:modified xsi:type="dcterms:W3CDTF">2008-09-17T06:32:07Z</dcterms:modified>
  <cp:revision>21</cp:revision>
  <dc:subject/>
  <dc:title>ATLETIKA přednáška</dc:title>
</cp:coreProperties>
</file>