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B746-AE39-4D8E-9EC5-CA44ED646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82CF-84AA-49D2-B7EC-7463EE8AE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D284-48FB-46ED-A6AD-7F15BAA67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8395-2E4D-407D-8B7D-F5C1C6EA1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6271-F17D-468B-9C87-ECE61FB17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F4B8-9DD6-47A5-B30A-D031693A0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28C8-B699-4C05-A905-9D4E92E2D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62BD-E250-46F7-9F68-D21B6832E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5F61-B246-4870-9A47-E27413236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3708-69DA-4D6B-86A3-C6790BFD3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8611-0A3F-4980-9908-AEAE6A2AB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1344-4D6B-491B-931A-1316CE24B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B413F-652F-4E4A-8015-4CC7836ABA97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vsichni"/>
          <p:cNvPicPr/>
          <p:nvPr/>
        </p:nvPicPr>
        <p:blipFill>
          <a:blip r:embed="rId1"/>
          <a:stretch/>
        </p:blipFill>
        <p:spPr>
          <a:xfrm>
            <a:off x="0" y="0"/>
            <a:ext cx="9144000" cy="7839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78920" y="4508280"/>
            <a:ext cx="4537080" cy="146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ff0000"/>
                </a:solidFill>
                <a:latin typeface="Arial"/>
              </a:rPr>
              <a:t>ATLETIKA</a:t>
            </a:r>
            <a:br>
              <a:rPr sz="54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ednáš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Určování jednotlivých anaerobních prah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Object 3"/>
          <p:cNvGraphicFramePr/>
          <p:nvPr/>
        </p:nvGraphicFramePr>
        <p:xfrm>
          <a:off x="179280" y="1413000"/>
          <a:ext cx="8785440" cy="532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413000"/>
                    <a:ext cx="8785440" cy="53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Určení ventilačního AN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Object 3"/>
          <p:cNvGraphicFramePr/>
          <p:nvPr/>
        </p:nvGraphicFramePr>
        <p:xfrm>
          <a:off x="179280" y="1413000"/>
          <a:ext cx="8713800" cy="525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413000"/>
                    <a:ext cx="8713800" cy="525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Určení ANP pomocí Conconiho tes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Object 3"/>
          <p:cNvGraphicFramePr/>
          <p:nvPr/>
        </p:nvGraphicFramePr>
        <p:xfrm>
          <a:off x="179280" y="1484280"/>
          <a:ext cx="8713800" cy="518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484280"/>
                    <a:ext cx="8713800" cy="518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Tab.1 Charakteristika skupi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457200" y="1628640"/>
          <a:ext cx="8229600" cy="4502160"/>
        </p:xfrm>
        <a:graphic>
          <a:graphicData uri="http://schemas.openxmlformats.org/drawingml/2006/table">
            <a:tbl>
              <a:tblPr/>
              <a:tblGrid>
                <a:gridCol w="1371600"/>
                <a:gridCol w="1087560"/>
                <a:gridCol w="1368360"/>
                <a:gridCol w="1871640"/>
                <a:gridCol w="1008000"/>
                <a:gridCol w="1522440"/>
              </a:tblGrid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mé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áv.t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k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VO</a:t>
                      </a:r>
                      <a:r>
                        <a:rPr b="0" lang="cs-CZ" sz="2000" spc="-1" strike="noStrike" baseline="-25000">
                          <a:solidFill>
                            <a:srgbClr val="000099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o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:07,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75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5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.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:49,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75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O56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.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:47,8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66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29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.F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:57,9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67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5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.H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:22,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62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8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.M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:29,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71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86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.P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O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:10,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63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8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.H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:20,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64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O8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.K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:09,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68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89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Tab.2 Výsledky laboratorního vyšetření na bicyklovém ergometr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Object 3"/>
          <p:cNvGraphicFramePr/>
          <p:nvPr/>
        </p:nvGraphicFramePr>
        <p:xfrm>
          <a:off x="108000" y="1413000"/>
          <a:ext cx="8856720" cy="525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1413000"/>
                    <a:ext cx="8856720" cy="52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Tab. 3 Conconiho test na atletické dráze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57200" y="1600200"/>
          <a:ext cx="8435880" cy="4637160"/>
        </p:xfrm>
        <a:graphic>
          <a:graphicData uri="http://schemas.openxmlformats.org/drawingml/2006/table">
            <a:tbl>
              <a:tblPr/>
              <a:tblGrid>
                <a:gridCol w="969840"/>
                <a:gridCol w="1403640"/>
                <a:gridCol w="1001520"/>
                <a:gridCol w="1685880"/>
                <a:gridCol w="1687680"/>
                <a:gridCol w="1687320"/>
              </a:tblGrid>
              <a:tr h="44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ø </a:t>
                      </a: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R</a:t>
                      </a:r>
                      <a:r>
                        <a:rPr b="1" lang="cs-CZ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ANP </a:t>
                      </a: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R</a:t>
                      </a:r>
                      <a:r>
                        <a:rPr b="1" lang="cs-CZ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AN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1" lang="cs-CZ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AN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 (km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 (min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8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:46,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.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9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:56,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.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6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:31,4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.F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8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:26,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.H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4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:13,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.M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:16,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.P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7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:17,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.H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:32,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.K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:50,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Tab.4 Běh na úrovni AN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0" y="1241280"/>
            <a:ext cx="9144000" cy="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250920" y="1052640"/>
          <a:ext cx="8569080" cy="5538600"/>
        </p:xfrm>
        <a:graphic>
          <a:graphicData uri="http://schemas.openxmlformats.org/drawingml/2006/table">
            <a:tbl>
              <a:tblPr/>
              <a:tblGrid>
                <a:gridCol w="1063440"/>
                <a:gridCol w="1065240"/>
                <a:gridCol w="1063800"/>
                <a:gridCol w="1063440"/>
                <a:gridCol w="1067040"/>
                <a:gridCol w="1112760"/>
                <a:gridCol w="1066680"/>
                <a:gridCol w="1066680"/>
              </a:tblGrid>
              <a:tr h="78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ásmo H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ůměr H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mi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áh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km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ychlo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km/h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ozdí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ům. 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mol/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. O. (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5-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,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5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. C. (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0-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,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-8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. N. (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5-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,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-2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. F. (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0-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,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-8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. H. (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5-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,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-8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. M. (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5-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,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4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1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. P. (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5-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,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6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. H. (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5-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,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5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. K. (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0-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,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-2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c3300"/>
                </a:solidFill>
                <a:latin typeface="Arial"/>
              </a:rPr>
              <a:t>Metody rozvoje běžecké vytrvalost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Nepřerušované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ouvislé – max.úroveň(ANP),střední 2-4,nízká 2mm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upňovan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řídavé – fartl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Přerušované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pakovac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tervalov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élka úseku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ychlost úse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oba odpočink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čet opako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harakter odpočin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9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4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9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0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0000"/>
                </a:solidFill>
                <a:latin typeface="Arial"/>
              </a:rPr>
              <a:t>Trénink jednotlivých běžeckých disciplí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611280" y="692280"/>
            <a:ext cx="7846920" cy="29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1258920" y="2492280"/>
            <a:ext cx="6513480" cy="31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800m muži,ženy,mláde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1 500m muži,ženy,mláde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5 000m muži,že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10 000mmuži,že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maraton muži,že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3 000m př.muži,že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3300"/>
                </a:solidFill>
                <a:latin typeface="Arial"/>
              </a:rPr>
              <a:t>Literatu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ovalil,J.:Malá encyklopedie sportovního trénin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išer,L.:Mílaři a vytrval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Hamár,D.:Všetko o beh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učera,V.:Běhy na střední a dlouhé tra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ška,J.:Běhy na střední a dlouhé tra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4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9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4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9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4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3300"/>
                </a:solidFill>
                <a:latin typeface="Arial"/>
              </a:rPr>
              <a:t>Běhy na střední a dlouhé trat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1.Systém atletické příprav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2.Struktura atletického výkon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3.Historie a vývoj běžeckých disciplí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4.Rozdělení běžeckých disciplí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5.Technika běhu a faktory ovlivňující výkon v   bězích na střední a dlouhé trat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6.Speciální běžecké schop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7.Metody rozvoje běžecké vytrvalost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8.Trénink jednotlivých běžeckých disciplí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9.Litera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Oval 2"/>
          <p:cNvSpPr/>
          <p:nvPr/>
        </p:nvSpPr>
        <p:spPr>
          <a:xfrm>
            <a:off x="1619280" y="981000"/>
            <a:ext cx="5905440" cy="56880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ystém atletické příprav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4"/>
          <p:cNvSpPr/>
          <p:nvPr/>
        </p:nvSpPr>
        <p:spPr>
          <a:xfrm>
            <a:off x="2627280" y="1989000"/>
            <a:ext cx="3889440" cy="3745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5"/>
          <p:cNvSpPr/>
          <p:nvPr/>
        </p:nvSpPr>
        <p:spPr>
          <a:xfrm>
            <a:off x="1979640" y="2421000"/>
            <a:ext cx="93672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3132000" y="141300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OCIÁLNÍ OKOL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7"/>
          <p:cNvSpPr/>
          <p:nvPr/>
        </p:nvSpPr>
        <p:spPr>
          <a:xfrm rot="16200000">
            <a:off x="1131840" y="3700080"/>
            <a:ext cx="2009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ŠK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8"/>
          <p:cNvSpPr/>
          <p:nvPr/>
        </p:nvSpPr>
        <p:spPr>
          <a:xfrm rot="16200000">
            <a:off x="5652360" y="3788280"/>
            <a:ext cx="2374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OD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3492360" y="595008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AMĚSTN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10"/>
          <p:cNvSpPr/>
          <p:nvPr/>
        </p:nvSpPr>
        <p:spPr>
          <a:xfrm>
            <a:off x="2916360" y="3213000"/>
            <a:ext cx="1584360" cy="151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11"/>
          <p:cNvSpPr/>
          <p:nvPr/>
        </p:nvSpPr>
        <p:spPr>
          <a:xfrm>
            <a:off x="4572000" y="3213000"/>
            <a:ext cx="1584360" cy="151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2"/>
          <p:cNvSpPr/>
          <p:nvPr/>
        </p:nvSpPr>
        <p:spPr>
          <a:xfrm>
            <a:off x="2991600" y="3716280"/>
            <a:ext cx="143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RE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3"/>
          <p:cNvSpPr/>
          <p:nvPr/>
        </p:nvSpPr>
        <p:spPr>
          <a:xfrm>
            <a:off x="4643280" y="371628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T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4"/>
          <p:cNvSpPr/>
          <p:nvPr/>
        </p:nvSpPr>
        <p:spPr>
          <a:xfrm>
            <a:off x="3635280" y="2349360"/>
            <a:ext cx="1800360" cy="82548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JEKT PŘÍPRA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3635280" y="4869000"/>
            <a:ext cx="1873440" cy="45972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DMÍN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 flipH="1">
            <a:off x="2411280" y="5157720"/>
            <a:ext cx="720720" cy="57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7"/>
          <p:cNvSpPr/>
          <p:nvPr/>
        </p:nvSpPr>
        <p:spPr>
          <a:xfrm>
            <a:off x="5867280" y="5229360"/>
            <a:ext cx="72072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8"/>
          <p:cNvSpPr/>
          <p:nvPr/>
        </p:nvSpPr>
        <p:spPr>
          <a:xfrm flipV="1">
            <a:off x="6012000" y="1916280"/>
            <a:ext cx="79200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truktura atletického výkon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3"/>
          <p:cNvSpPr/>
          <p:nvPr/>
        </p:nvSpPr>
        <p:spPr>
          <a:xfrm>
            <a:off x="3348000" y="2492280"/>
            <a:ext cx="1944720" cy="18734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3276720" y="3068640"/>
            <a:ext cx="208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TLETICK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K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5813280" y="1263600"/>
            <a:ext cx="2532240" cy="703800"/>
          </a:xfrm>
          <a:prstGeom prst="rect">
            <a:avLst/>
          </a:prstGeom>
          <a:solidFill>
            <a:srgbClr val="52cfe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ávodní a tréninkov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mín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6"/>
          <p:cNvSpPr/>
          <p:nvPr/>
        </p:nvSpPr>
        <p:spPr>
          <a:xfrm flipH="1">
            <a:off x="5003280" y="1989000"/>
            <a:ext cx="792360" cy="792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405360" y="1268280"/>
            <a:ext cx="2532240" cy="703800"/>
          </a:xfrm>
          <a:prstGeom prst="rect">
            <a:avLst/>
          </a:prstGeom>
          <a:solidFill>
            <a:srgbClr val="52cfe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ateriálně-technick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mín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8"/>
          <p:cNvSpPr/>
          <p:nvPr/>
        </p:nvSpPr>
        <p:spPr>
          <a:xfrm>
            <a:off x="2916360" y="1989000"/>
            <a:ext cx="718920" cy="792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9"/>
          <p:cNvSpPr/>
          <p:nvPr/>
        </p:nvSpPr>
        <p:spPr>
          <a:xfrm>
            <a:off x="395280" y="3141720"/>
            <a:ext cx="1657440" cy="703800"/>
          </a:xfrm>
          <a:prstGeom prst="rect">
            <a:avLst/>
          </a:prstGeom>
          <a:solidFill>
            <a:srgbClr val="99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sychick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edpokla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0"/>
          <p:cNvSpPr/>
          <p:nvPr/>
        </p:nvSpPr>
        <p:spPr>
          <a:xfrm flipH="1">
            <a:off x="2050560" y="3500280"/>
            <a:ext cx="1297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1"/>
          <p:cNvSpPr/>
          <p:nvPr/>
        </p:nvSpPr>
        <p:spPr>
          <a:xfrm>
            <a:off x="5998680" y="2997360"/>
            <a:ext cx="2602440" cy="703800"/>
          </a:xfrm>
          <a:prstGeom prst="rect">
            <a:avLst/>
          </a:prstGeom>
          <a:solidFill>
            <a:srgbClr val="99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orfologicko-funkč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edpokla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2"/>
          <p:cNvSpPr/>
          <p:nvPr/>
        </p:nvSpPr>
        <p:spPr>
          <a:xfrm>
            <a:off x="6808680" y="5013360"/>
            <a:ext cx="1424160" cy="70380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ondič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chop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3"/>
          <p:cNvSpPr/>
          <p:nvPr/>
        </p:nvSpPr>
        <p:spPr>
          <a:xfrm>
            <a:off x="3966120" y="5013360"/>
            <a:ext cx="1569240" cy="70380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oordinač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chop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4"/>
          <p:cNvSpPr/>
          <p:nvPr/>
        </p:nvSpPr>
        <p:spPr>
          <a:xfrm>
            <a:off x="250920" y="5013360"/>
            <a:ext cx="2305080" cy="70380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echnicko-taktick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chop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5"/>
          <p:cNvSpPr/>
          <p:nvPr/>
        </p:nvSpPr>
        <p:spPr>
          <a:xfrm flipH="1" flipV="1">
            <a:off x="5148000" y="3933360"/>
            <a:ext cx="1655640" cy="1079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6"/>
          <p:cNvSpPr/>
          <p:nvPr/>
        </p:nvSpPr>
        <p:spPr>
          <a:xfrm flipH="1" flipV="1">
            <a:off x="4500720" y="4365360"/>
            <a:ext cx="142560" cy="647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7"/>
          <p:cNvSpPr/>
          <p:nvPr/>
        </p:nvSpPr>
        <p:spPr>
          <a:xfrm flipH="1">
            <a:off x="2050560" y="4076640"/>
            <a:ext cx="1584360" cy="936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8"/>
          <p:cNvSpPr/>
          <p:nvPr/>
        </p:nvSpPr>
        <p:spPr>
          <a:xfrm flipH="1">
            <a:off x="5292720" y="3429000"/>
            <a:ext cx="1224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0000"/>
                </a:solidFill>
                <a:latin typeface="Arial"/>
              </a:rPr>
              <a:t>Rozdělení běžeckých disciplí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3399"/>
                </a:solidFill>
                <a:latin typeface="Arial"/>
              </a:rPr>
              <a:t>Na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600" spc="-1" strike="noStrike">
                <a:solidFill>
                  <a:srgbClr val="333399"/>
                </a:solidFill>
                <a:latin typeface="Arial"/>
              </a:rPr>
              <a:t> dráze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hladk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ekážkov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štafetov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3399"/>
                </a:solidFill>
                <a:latin typeface="Arial"/>
              </a:rPr>
              <a:t>Mimo dráhu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silnič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espoln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c3300"/>
                </a:solidFill>
                <a:latin typeface="Arial"/>
              </a:rPr>
              <a:t>Historie vývoje běžeckých disciplí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Starodobé a novodobé OH, Maratónský bě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Významné atletické osob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(Nurmi,Harbig,Hagg,Zátopek,Iharos,Kuc,Chrom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lark,Eliot,Snell,Jazy,Bedford,Cram,Ovett,Co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uantorena,Virén,Bikila,Keino,Auita,Kipkete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l Guerrouj,Gebrselassie,Bekele,Jedličková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ratochvílová,Sabova,Formanová,Mutaová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olmesová,Dibabaová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Běžecké ško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(finská,německá,švédská,česká,východoevropsk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nglická,novozélandská,americká,nástup běžců 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fri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5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5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500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6" dur="500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" dur="500"/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00"/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" dur="500"/>
                                        <p:tgtEl>
                                          <p:spTgt spid="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500"/>
                                        <p:tgtEl>
                                          <p:spTgt spid="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cs-CZ" sz="4000" spc="-1" strike="noStrike">
                <a:solidFill>
                  <a:srgbClr val="cc3300"/>
                </a:solidFill>
                <a:latin typeface="Arial"/>
              </a:rPr>
              <a:t>Faktory ovlivňující výkony ve vytrvalostních bězí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99"/>
                </a:solidFill>
                <a:latin typeface="Arial"/>
              </a:rPr>
              <a:t>Endogenní faktory</a:t>
            </a:r>
            <a:r>
              <a:rPr b="0" lang="cs-CZ" sz="2000" spc="-1" strike="noStrike">
                <a:solidFill>
                  <a:srgbClr val="333399"/>
                </a:solidFill>
                <a:latin typeface="Arial"/>
              </a:rPr>
              <a:t>  (převážně vrozené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    anatomicko-morfologické  - ektomorf,složení svalových vláken tmavá,pomal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fyziologické(funkční)- kardiovaskulární systém, hypertrofovaný srdeční sval,zvětšený objem srdce ,průsvit aorty a věnčitých tepen,nízká srdeční frekvence,vysoký max. srdeční výko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elkovým obrazem je VO2 max</a:t>
            </a:r>
            <a:r>
              <a:rPr b="0" lang="cs-CZ" sz="20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sychologické (charakter,temperament,schopnosti,soc.ro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99"/>
                </a:solidFill>
                <a:latin typeface="Arial"/>
              </a:rPr>
              <a:t>Exogenní faktory</a:t>
            </a:r>
            <a:r>
              <a:rPr b="0" lang="cs-CZ" sz="2000" spc="-1" strike="noStrike">
                <a:solidFill>
                  <a:srgbClr val="333399"/>
                </a:solidFill>
                <a:latin typeface="Arial"/>
              </a:rPr>
              <a:t>  (převážně získané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e realizují ve složkách přípravy:  fyzick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echnick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aktick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sychologick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8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8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3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5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3" dur="500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8" dur="500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3" dur="500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3300"/>
                </a:solidFill>
                <a:latin typeface="Arial"/>
              </a:rPr>
              <a:t>Speciální běžecké schopnost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Absolutní rychlost (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Tempová rychlost (T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Speciální tempo (S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Tempová vytrvalost (běh AN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Tempová vytrvalost (T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Obecná vytrvalost (O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Regenerační běh (R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Speciální vytrvalost(TR,ST,T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7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2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7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2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5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2" dur="5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7" dur="500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2" dur="500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Princip určení aerobního a anaerobního prah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Object 3"/>
          <p:cNvGraphicFramePr/>
          <p:nvPr/>
        </p:nvGraphicFramePr>
        <p:xfrm>
          <a:off x="324000" y="1484280"/>
          <a:ext cx="8569080" cy="511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484280"/>
                    <a:ext cx="8569080" cy="511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2T07:53:17Z</dcterms:created>
  <dc:creator>Michálek</dc:creator>
  <dc:description/>
  <dc:language>en-US</dc:language>
  <cp:lastModifiedBy>Josef Michálek</cp:lastModifiedBy>
  <dcterms:modified xsi:type="dcterms:W3CDTF">2007-09-26T16:31:47Z</dcterms:modified>
  <cp:revision>30</cp:revision>
  <dc:subject/>
  <dc:title>Běhy na střední a dlouhé tratě</dc:title>
</cp:coreProperties>
</file>