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7B5-3539-458B-B3C3-9826BDBB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CE6-03D5-4AA5-905B-2892F085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E5D-F5F6-4621-99E8-8EA63CB4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4AA-97BD-4E0B-9919-6A67C67C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5F2-EEEA-4386-A969-FD48C9CA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48B-31E0-48BE-AF02-9821C43C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412-B1F5-468E-9A69-AC187076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17A3-F240-40FA-9950-CF5E9C2F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8760"/>
            <a:ext cx="82281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03D-FF03-4F40-8D46-91B6869F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8EE-4B3A-4DE7-B708-0542FD31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176-6D3F-4FBF-925F-834C5C0C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6EC-B356-4BD5-A76E-D4AB41F3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50960" y="4929120"/>
            <a:ext cx="1440" cy="1800"/>
            <a:chOff x="750960" y="4929120"/>
            <a:chExt cx="1440" cy="1800"/>
          </a:xfrm>
        </p:grpSpPr>
        <p:sp>
          <p:nvSpPr>
            <p:cNvPr id="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2EC6BF-6263-442D-8CD1-026CE0B76A37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fld id="{80B46289-1F96-4AA7-9FDD-78096BDB6105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SKOK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018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cc3300"/>
                </a:solidFill>
                <a:latin typeface="Verdana"/>
              </a:rPr>
              <a:t>Histori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Materiál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dřevo,bambus,hliník,laminá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Vývoj výkon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right 402cm(191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ernberg – 500cm(19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bka- 600cm(1984),615cm-(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ášek,Jansa,Ptáček-580cm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36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ŽEN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alábová -320cm(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ártová -410cm(1995)SR,450cm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amáčková-HMS(2001),45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aďurová 475 cm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ová(460cm),Dragilová(4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sinbajevová-505cm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o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0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Didakt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ržen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ůze a běh s ty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pískového doskočiště – z vyvýšeného místa,chůze,běhu(vykývnutí,přítrh, obr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tyčkařského doskočiště s důrazem na zasunut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mitační cvičení na gymnastickém nář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kotouly,přemety,salta,vzklopky,veletoč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1900"/>
                            </p:stCondLst>
                            <p:childTnLst>
                              <p:par>
                                <p:cTn id="1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0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