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C99-F447-451C-86F4-C16534AC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9FA-4EAD-472E-826C-479CA984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11C-3231-436E-9EC5-427778CB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E86-F288-4C27-9314-82896EC2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BB7-4637-4AAC-8A37-9CC75B2C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CDC-17CC-49C0-BF32-5767F9F3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A9A-423A-4D25-9281-22DD669C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00B-40F7-487D-AD27-6B7152C8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BD1-561C-45FB-8488-421E69CD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186-95B2-4572-9FC6-05CD85FB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D36-7EEA-42F1-B36F-3DFCFF1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F9A-5246-45D5-8287-E2799FDE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341A-50D6-498E-B022-CE823755795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max.úroveň(ANP),střední 2-4,nízká 2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Josef Michálek</cp:lastModifiedBy>
  <dcterms:modified xsi:type="dcterms:W3CDTF">2007-09-26T16:31:47Z</dcterms:modified>
  <cp:revision>30</cp:revision>
  <dc:subject/>
  <dc:title>Běhy na střední a dlouhé tratě</dc:title>
</cp:coreProperties>
</file>