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4E1B-3C4B-4071-90C0-65BBDCAC5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538-FAF1-4943-86B3-27A49C9B7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C335-C871-4EB4-9233-D1FF19A94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9EA1-BEE7-4B83-B820-C3CDEE9E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0A38-05A6-443E-8E76-A1744AC32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20D4-7842-4418-957C-3477BB256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AC3C-8934-432B-8D0F-43E06BC2A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EFF3B-F5B4-4EAE-9551-451CA474D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DDF9-3CCD-4736-A965-F667F9125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8A6FB-AC07-4CED-99C8-748A0C4D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3A88-5F5D-4ECE-84DC-FB81DCF58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25A7-D33D-4D8B-98AA-764A43E4F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4F34C-3748-45CD-A9AF-0E2BE39DA616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ování jednotlivých anaerobních prah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1" name="Object 3"/>
          <p:cNvGraphicFramePr/>
          <p:nvPr/>
        </p:nvGraphicFramePr>
        <p:xfrm>
          <a:off x="179280" y="1413000"/>
          <a:ext cx="8785440" cy="53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85440" cy="53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Určení ventilačního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Object 3"/>
          <p:cNvGraphicFramePr/>
          <p:nvPr/>
        </p:nvGraphicFramePr>
        <p:xfrm>
          <a:off x="179280" y="1413000"/>
          <a:ext cx="8713800" cy="5254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13000"/>
                    <a:ext cx="8713800" cy="525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Určení ANP pomocí Conconiho test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Object 3"/>
          <p:cNvGraphicFramePr/>
          <p:nvPr/>
        </p:nvGraphicFramePr>
        <p:xfrm>
          <a:off x="179280" y="1484280"/>
          <a:ext cx="8713800" cy="518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484280"/>
                    <a:ext cx="8713800" cy="518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1 Charakteristika skupin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57200" y="1628640"/>
          <a:ext cx="8229600" cy="4502160"/>
        </p:xfrm>
        <a:graphic>
          <a:graphicData uri="http://schemas.openxmlformats.org/drawingml/2006/table">
            <a:tbl>
              <a:tblPr/>
              <a:tblGrid>
                <a:gridCol w="1371600"/>
                <a:gridCol w="1087560"/>
                <a:gridCol w="1368360"/>
                <a:gridCol w="1871640"/>
                <a:gridCol w="1008000"/>
                <a:gridCol w="1522440"/>
              </a:tblGrid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mé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k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áv.t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k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VO</a:t>
                      </a:r>
                      <a:r>
                        <a:rPr b="0" lang="cs-CZ" sz="2000" spc="-1" strike="noStrike" baseline="-25000">
                          <a:solidFill>
                            <a:srgbClr val="000099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o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07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49,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5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56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:47,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:57,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7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56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:22,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2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9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1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6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O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0,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3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20,1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4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O84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:09,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89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Tab.2 Výsledky laboratorního vyšetření na bicyklovém ergometr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Object 3"/>
          <p:cNvGraphicFramePr/>
          <p:nvPr/>
        </p:nvGraphicFramePr>
        <p:xfrm>
          <a:off x="108000" y="1413000"/>
          <a:ext cx="8856720" cy="525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413000"/>
                    <a:ext cx="8856720" cy="52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Arial"/>
              </a:rPr>
              <a:t>Tab. 3 Conconiho test na atletické dráze</a:t>
            </a: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57200" y="1600200"/>
          <a:ext cx="8435880" cy="4637160"/>
        </p:xfrm>
        <a:graphic>
          <a:graphicData uri="http://schemas.openxmlformats.org/drawingml/2006/table">
            <a:tbl>
              <a:tblPr/>
              <a:tblGrid>
                <a:gridCol w="969840"/>
                <a:gridCol w="1403640"/>
                <a:gridCol w="1001520"/>
                <a:gridCol w="1685880"/>
                <a:gridCol w="1687680"/>
                <a:gridCol w="1687320"/>
              </a:tblGrid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ø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R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AN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 (km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 (min)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4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.C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6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.N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6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31,4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F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2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4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3,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M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:16,6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9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P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:17,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.H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:32,7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K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:50,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Tab.4 Běh na úrovni AN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3"/>
          <p:cNvSpPr/>
          <p:nvPr/>
        </p:nvSpPr>
        <p:spPr>
          <a:xfrm>
            <a:off x="0" y="1241280"/>
            <a:ext cx="9144000" cy="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50920" y="1052640"/>
          <a:ext cx="8569080" cy="5538600"/>
        </p:xfrm>
        <a:graphic>
          <a:graphicData uri="http://schemas.openxmlformats.org/drawingml/2006/table">
            <a:tbl>
              <a:tblPr/>
              <a:tblGrid>
                <a:gridCol w="1063440"/>
                <a:gridCol w="1065240"/>
                <a:gridCol w="1063800"/>
                <a:gridCol w="1063440"/>
                <a:gridCol w="1067040"/>
                <a:gridCol w="1112760"/>
                <a:gridCol w="1066680"/>
                <a:gridCol w="1066680"/>
              </a:tblGrid>
              <a:tr h="78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mé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ásmo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ěr H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Č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mi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ráh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ychl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km/h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ozdí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ům.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mol/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. O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. C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2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80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. N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3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F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0-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,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. H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4,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0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-8,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M.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,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4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1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J. P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5-7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,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6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. H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-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1,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,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5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. K. (l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-8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,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1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99"/>
                          </a:solidFill>
                          <a:latin typeface="Times New Roman"/>
                          <a:ea typeface="Times New Roman"/>
                        </a:rPr>
                        <a:t>-2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Metody rozvoje běžecké vytrvalos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Ne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uvislé – max.úroveň(ANP),střední 2-4,nízká 2m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pňovan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řídavé – fartle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Přerušované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pakova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valov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élka úseku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chlost úse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ba odpočink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čet opak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harakter odpočin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4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9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0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ff0000"/>
                </a:solidFill>
                <a:latin typeface="Arial"/>
              </a:rPr>
              <a:t>Trénink jednotlivých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611280" y="692280"/>
            <a:ext cx="784692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1258920" y="2492280"/>
            <a:ext cx="6513480" cy="31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8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 500m muži,ženy,mláde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5 000m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10 000m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maraton 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3 000m př.muži,ž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Dovalil,J.:Malá encyklopedie sportovního trénin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Fišer,L.:Mílaři a vytrval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Hamár,D.:Všetko o beh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Kučera,V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Liška,J.:Běhy na střední a dlouhé trat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3" dur="indefinite" restart="never" nodeType="tmRoot">
          <p:childTnLst>
            <p:seq>
              <p:cTn id="474" dur="indefinite" nodeType="mainSeq">
                <p:childTnLst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4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9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4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9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4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Běhy na střední a dlouhé trat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1.Systém atletické přípra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2.Struktura atletického výko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3.Historie a vývoj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4.Rozdělení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5.Technika běhu a faktory ovlivňující výkon v   bězích na střední a dlouhé trat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6.Speciální běžecké schop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7.Metody rozvoje běžecké vytrvalos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8.Trénink jednotlivých běžeckých discipl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9.Litera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val 2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4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5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8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10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11"/>
          <p:cNvSpPr/>
          <p:nvPr/>
        </p:nvSpPr>
        <p:spPr>
          <a:xfrm>
            <a:off x="457200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2"/>
          <p:cNvSpPr/>
          <p:nvPr/>
        </p:nvSpPr>
        <p:spPr>
          <a:xfrm>
            <a:off x="2991600" y="3716280"/>
            <a:ext cx="143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RE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3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4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6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17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18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Oval 3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6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7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8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10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5998680" y="2997360"/>
            <a:ext cx="2602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cko-funk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3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4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5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16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7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8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00"/>
                            </p:stCondLst>
                            <p:childTnLst>
                              <p:par>
                                <p:cTn id="14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Rozdělení běžeckých disciplí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Na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 dráze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hladk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kážk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štafetov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333399"/>
                </a:solidFill>
                <a:latin typeface="Arial"/>
              </a:rPr>
              <a:t>Mimo dráhu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silnič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spolní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Historie vývoje běžeckých disciplí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64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Starodobé a novodobé OH, Maratónský bě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Významné atletické osobn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Nurmi,Harbig,Hagg,Zátopek,Iharos,Kuc,Chromi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lark,Eliot,Snell,Jazy,Bedford,Cram,Ovett,Co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uantorena,Virén,Bikila,Keino,Auita,Kipket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l Guerrouj,Gebrselassie,Bekele,Jedličk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atochvílová,Sabova,Formanová,Mutaová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lmesová,Dibabaová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Arial"/>
              </a:rPr>
              <a:t>Běžecké ško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finská,německá,švédská,česká,východoevropsk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nglická,novozélandská,americká,nástup běžců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fri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1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1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00"/>
                                        <p:tgtEl>
                                          <p:spTgt spid="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1" dur="500"/>
                                        <p:tgtEl>
                                          <p:spTgt spid="8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6" dur="500"/>
                                        <p:tgtEl>
                                          <p:spTgt spid="8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cs-CZ" sz="4000" spc="-1" strike="noStrike">
                <a:solidFill>
                  <a:srgbClr val="cc3300"/>
                </a:solidFill>
                <a:latin typeface="Arial"/>
              </a:rPr>
              <a:t>Faktory ovlivňující výkony ve vytrvalostních bězí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nd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vroze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   anatomicko-morfologické  - ektomorf,složení svalových vláken tmavá,pomal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yziologické(funkční)- kardiovaskulární systém, hypertrofovaný srdeční sval,zvětšený objem srdce ,průsvit aorty a věnčitých tepen,nízká srdeční frekvence,vysoký max. srdeční výko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celkovým obrazem je VO2 max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 (charakter,temperament,schopnosti,soc.ro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333399"/>
                </a:solidFill>
                <a:latin typeface="Arial"/>
              </a:rPr>
              <a:t>Exogenní faktory</a:t>
            </a: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  (převážně získané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e realizují ve složkách přípravy:  fyz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akt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olog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8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3" dur="500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8" dur="500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3" dur="500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8" dur="500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3" dur="500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8" dur="500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cc3300"/>
                </a:solidFill>
                <a:latin typeface="Arial"/>
              </a:rPr>
              <a:t>Speciální běžecké schopnost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Absolutní rychlost (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rychlost (T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tempo (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běh AN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Tempová vytrvalost (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Obecná vytrvalost (O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Regenerační běh (R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Arial"/>
              </a:rPr>
              <a:t>Speciální vytrvalost(TR,ST,TV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2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7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2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2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incip určení aerobního a anaerobního prah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Object 3"/>
          <p:cNvGraphicFramePr/>
          <p:nvPr/>
        </p:nvGraphicFramePr>
        <p:xfrm>
          <a:off x="324000" y="1484280"/>
          <a:ext cx="8569080" cy="511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484280"/>
                    <a:ext cx="8569080" cy="51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2T07:53:17Z</dcterms:created>
  <dc:creator>Michálek</dc:creator>
  <dc:description/>
  <dc:language>en-US</dc:language>
  <cp:lastModifiedBy>Josef Michálek</cp:lastModifiedBy>
  <dcterms:modified xsi:type="dcterms:W3CDTF">2007-09-26T16:31:47Z</dcterms:modified>
  <cp:revision>30</cp:revision>
  <dc:subject/>
  <dc:title>Běhy na střední a dlouhé tratě</dc:title>
</cp:coreProperties>
</file>