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3D40-A6BC-4B23-9A57-CEF4CE017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CD9F-90BC-4057-89DA-87CA23E4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53D4F-3B3C-4985-B38E-601DED91F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28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1360" y="159984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28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1360" y="3965760"/>
            <a:ext cx="264924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D85E-B364-4FBD-BC9D-08466D119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04D6-D03F-4194-8113-0D906CE0F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974C-9219-4737-81E7-A078A8A69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41FA-9C00-48CC-8395-2F7A996C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3C3D-75CC-43AC-AA5C-C5C6E8D0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158760"/>
            <a:ext cx="822816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82DC-7A2C-4964-8744-B82AC8A8A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60FF-F2C4-4AC5-ABD4-A4CCC5DA2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3520" y="396576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74C-11D0-4674-80C7-8FCCEF71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3520" y="1599840"/>
            <a:ext cx="401508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5760"/>
            <a:ext cx="822816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343080" indent="0">
              <a:lnSpc>
                <a:spcPct val="101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9D661-676E-4632-B58C-381B165D5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50960" y="4929120"/>
            <a:ext cx="1440" cy="1800"/>
            <a:chOff x="750960" y="4929120"/>
            <a:chExt cx="1440" cy="1800"/>
          </a:xfrm>
        </p:grpSpPr>
        <p:sp>
          <p:nvSpPr>
            <p:cNvPr id="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5000" bIns="-450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158760"/>
            <a:ext cx="8228160" cy="125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7000"/>
          </a:bodyPr>
          <a:p>
            <a:pPr marL="332640" indent="0">
              <a:lnSpc>
                <a:spcPct val="101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332640" indent="-332640">
              <a:lnSpc>
                <a:spcPct val="101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19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228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cs-CZ" sz="18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1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AE830C55-A57F-477C-BD6C-743C2FEDE0E4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fld id="{A1985FA8-DBC5-4AB7-921C-3DF1E2241935}" type="slidenum">
              <a:rPr b="0" lang="cs-CZ" sz="18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3300"/>
                </a:solidFill>
                <a:latin typeface="Arial"/>
              </a:rPr>
              <a:t>SKOK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568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01800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600" spc="-1" strike="noStrike">
                <a:solidFill>
                  <a:srgbClr val="cc3300"/>
                </a:solidFill>
                <a:latin typeface="Verdana"/>
              </a:rPr>
              <a:t>Histori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Materiál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(dřevo,bambus,hliník,laminá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9900"/>
                </a:solidFill>
                <a:latin typeface="Verdana"/>
              </a:rPr>
              <a:t>Vývoj výkonnosti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Wright 402cm(1912)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Sternberg – 500cm(196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ubka- 600cm(1984),615cm-(1994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7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Tomášek,Jansa,Ptáček-580cm(200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dur="indefinite" fill="hold">
                      <p:stCondLst>
                        <p:cond delay="indefinite"/>
                      </p:stCondLst>
                      <p:childTnLst>
                        <p:par>
                          <p:cTn id="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dur="indefinite" fill="hold">
                      <p:stCondLst>
                        <p:cond delay="indefinite"/>
                      </p:stCondLst>
                      <p:childTnLst>
                        <p:par>
                          <p:cTn id="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fill="hold">
                      <p:stCondLst>
                        <p:cond delay="indefinite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fill="hold">
                      <p:stCondLst>
                        <p:cond delay="indefinite"/>
                      </p:stCondLst>
                      <p:childTnLst>
                        <p:par>
                          <p:cTn id="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dur="indefinite" fill="hold">
                      <p:stCondLst>
                        <p:cond delay="0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81360" bIns="45000" anchor="t">
            <a:noAutofit/>
          </a:bodyPr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9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0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ŽENY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Kalábová -320cm(199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ártová -410cm(1995)SR,450cm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Hamáčková-HMS(2001),456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Baďurová 475 cm (2007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Georgeová(460cm),Dragilová(48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6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Isinbajevová-505cm (2008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dur="indefinite" fill="hold">
                      <p:stCondLst>
                        <p:cond delay="0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2000" fill="hold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dur="indefinite" fill="hold">
                      <p:stCondLst>
                        <p:cond delay="indefinite"/>
                      </p:stCondLst>
                      <p:childTnLst>
                        <p:par>
                          <p:cTn id="5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dur="indefinite" fill="hold">
                      <p:stCondLst>
                        <p:cond delay="indefinite"/>
                      </p:stCondLst>
                      <p:childTnLst>
                        <p:par>
                          <p:cTn id="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dur="indefinite" fill="hold">
                      <p:stCondLst>
                        <p:cond delay="indefinite"/>
                      </p:stCondLst>
                      <p:childTnLst>
                        <p:par>
                          <p:cTn id="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dur="indefinite" fill="hold">
                      <p:stCondLst>
                        <p:cond delay="indefinite"/>
                      </p:stCondLst>
                      <p:childTnLst>
                        <p:par>
                          <p:cTn id="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3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Zasunutí tyče a odraz-tlak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do tyče spodní rukou v momentě odr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4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Let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-zvrat-vis střemhlav-obrat při narovnávání tyče-vzlet-přechod lať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5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op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dur="indefinite" fill="hold">
                      <p:stCondLst>
                        <p:cond delay="0"/>
                      </p:stCondLst>
                      <p:childTnLst>
                        <p:par>
                          <p:cTn id="1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Didakt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Držen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Chůze a běh s tyč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pískového doskočiště – z vyvýšeného místa,chůze,běhu(vykývnutí,přítrh, obr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Skoky do tyčkařského doskočiště s důrazem na zasunutí tyč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Imitační cvičení na gymnastickém nářad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  </a:t>
            </a:r>
            <a:r>
              <a:rPr b="0" lang="cs-CZ" sz="2400" spc="-1" strike="noStrike">
                <a:solidFill>
                  <a:srgbClr val="ffffff"/>
                </a:solidFill>
                <a:latin typeface="Verdana"/>
              </a:rPr>
              <a:t>(kotouly,přemety,salta,vzklopky,veletoče apod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1000"/>
              </a:lnSpc>
              <a:spcBef>
                <a:spcPts val="638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dur="indefinite" fill="hold">
                      <p:stCondLst>
                        <p:cond delay="0"/>
                      </p:stCondLst>
                      <p:childTnLst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dur="indefinite" fill="hold">
                            <p:stCondLst>
                              <p:cond delay="1900"/>
                            </p:stCondLst>
                            <p:childTnLst>
                              <p:par>
                                <p:cTn id="144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dur="indefinite" fill="hold">
                      <p:stCondLst>
                        <p:cond delay="indefinite"/>
                      </p:stCondLst>
                      <p:childTnLst>
                        <p:par>
                          <p:cTn id="1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dur="indefinite" fill="hold">
                      <p:stCondLst>
                        <p:cond delay="indefinite"/>
                      </p:stCondLst>
                      <p:childTnLst>
                        <p:par>
                          <p:cTn id="1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dur="indefinite" fill="hold">
                      <p:stCondLst>
                        <p:cond delay="indefinite"/>
                      </p:stCondLst>
                      <p:childTnLst>
                        <p:par>
                          <p:cTn id="16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2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30567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28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dur="indefinite" fill="hold">
                      <p:stCondLst>
                        <p:cond delay="0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dur="indefinite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-603360"/>
            <a:ext cx="9325080" cy="828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83880" bIns="450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ffff99"/>
                </a:solidFill>
                <a:latin typeface="Arial"/>
              </a:rPr>
              <a:t>Technika skoku o tyči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1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Držení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 tyče-spodní ruka nadhmatem,horní podhma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101000"/>
              </a:lnSpc>
              <a:spcBef>
                <a:spcPts val="638"/>
              </a:spcBef>
              <a:buSzPct val="114134"/>
              <a:buBlip>
                <a:blip r:embed="rId2"/>
              </a:buBlip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ff"/>
                </a:solidFill>
                <a:latin typeface="Verdana"/>
              </a:rPr>
              <a:t>Rozběh</a:t>
            </a:r>
            <a:r>
              <a:rPr b="0" lang="cs-CZ" sz="3200" spc="-1" strike="noStrike">
                <a:solidFill>
                  <a:srgbClr val="ffffff"/>
                </a:solidFill>
                <a:latin typeface="Verdana"/>
              </a:rPr>
              <a:t>-stupňování rychlosti,v posledních dvou krocích zahajujeme zasouvání tyč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u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dur="indefinite" fill="hold">
                      <p:stCondLst>
                        <p:cond delay="0"/>
                      </p:stCondLst>
                      <p:childTnLst>
                        <p:par>
                          <p:cTn id="10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