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16B6-DBE1-4FBD-8119-BE5F12A14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2DC9-7878-4784-BC01-4D831AC57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8282-A28E-4EE9-BBE8-4631E6AD1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57FC-D295-499A-9163-B7A143381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7851-09EF-4848-930F-C19E53E3D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C016-32CF-4097-85D4-68CB7B20E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CA60-FFB0-4891-A16C-DEEA43BE4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E6B0-C68D-4EBF-9107-EF6DF6182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158760"/>
            <a:ext cx="822816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6E6C-DE78-45A8-AAE6-32E2BF67A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C43A-E4F3-4067-B917-9BF1CEE2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AFFF-A96B-4C53-95C8-DAE6EAE2D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AF1C-26CA-4E06-9084-F64B5EDF6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50960" y="4929120"/>
            <a:ext cx="1440" cy="1800"/>
            <a:chOff x="750960" y="4929120"/>
            <a:chExt cx="1440" cy="1800"/>
          </a:xfrm>
        </p:grpSpPr>
        <p:sp>
          <p:nvSpPr>
            <p:cNvPr id="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marL="332640" indent="0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332640" indent="-332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332640" indent="-332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332640" indent="-332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332640" indent="-332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332640" indent="-332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332640" indent="-332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AE9C7A2-7A0F-4CE7-844E-7A4DCED347C8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fld id="{D24D7782-2E89-4FE2-9082-4E053D5F5962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3880" bIns="45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3300"/>
                </a:solidFill>
                <a:latin typeface="Arial"/>
              </a:rPr>
              <a:t>SKOK O TYČI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5680" bIns="45000" anchor="t">
            <a:noAutofit/>
          </a:bodyPr>
          <a:p>
            <a:pPr marL="343080" indent="-341640">
              <a:lnSpc>
                <a:spcPct val="91000"/>
              </a:lnSpc>
              <a:spcBef>
                <a:spcPts val="638"/>
              </a:spcBef>
              <a:buSzPct val="1018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600" spc="-1" strike="noStrike">
                <a:solidFill>
                  <a:srgbClr val="cc3300"/>
                </a:solidFill>
                <a:latin typeface="Verdana"/>
              </a:rPr>
              <a:t>Histori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Verdana"/>
              </a:rPr>
              <a:t>Materiál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(dřevo,bambus,hliník,laminá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Verdana"/>
              </a:rPr>
              <a:t>Vývoj výkonnosti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Wright 402cm(1912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Sternberg – 500cm(196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6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Bubka- 600cm(1984),615cm-(199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7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Tomášek,Jansa,Ptáček-580cm(200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dur="indefinite" fill="hold">
                      <p:stCondLst>
                        <p:cond delay="indefinite"/>
                      </p:stCondLst>
                      <p:childTnLst>
                        <p:par>
                          <p:cTn id="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dur="indefinite" fill="hold">
                      <p:stCondLst>
                        <p:cond delay="indefinite"/>
                      </p:stCondLst>
                      <p:childTnLst>
                        <p:par>
                          <p:cTn id="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dur="indefinite" fill="hold">
                      <p:stCondLst>
                        <p:cond delay="indefinite"/>
                      </p:stCondLst>
                      <p:childTnLst>
                        <p:par>
                          <p:cTn id="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3880" bIns="45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Technika skoku o tyči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Verdana"/>
              </a:rPr>
              <a:t>Držení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tyče-spodní ruka nadhmatem,horní podhma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Verdana"/>
              </a:rPr>
              <a:t>Rozběh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-stupňování rychlosti,v posledních dvou krocích zahajujeme zasouvání tyč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Verdana"/>
              </a:rPr>
              <a:t>Zasunutí tyče a odraz-tlak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do tyče spodní rukou v momentě odraz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dur="indefinite" fill="hold">
                      <p:stCondLst>
                        <p:cond delay="0"/>
                      </p:stCondLst>
                      <p:childTnLst>
                        <p:par>
                          <p:cTn id="1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3880" bIns="45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Technika skoku o tyči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1360" bIns="45000" anchor="t">
            <a:noAutofit/>
          </a:bodyPr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Verdana"/>
              </a:rPr>
              <a:t>Držení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tyče-spodní ruka nadhmatem,horní podhma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Verdana"/>
              </a:rPr>
              <a:t>Rozběh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-stupňování rychlosti,v posledních dvou krocích zahajujeme zasouvání tyč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Verdana"/>
              </a:rPr>
              <a:t>Zasunutí tyče a odraz-tlak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do tyče spodní rukou v momentě odraz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Verdana"/>
              </a:rPr>
              <a:t>Let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-zvrat-vis střemhlav-obrat při narovnávání tyče-vzlet-přechod lať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dur="indefinite" fill="hold">
                      <p:stCondLst>
                        <p:cond delay="0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3880" bIns="45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ŽENY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Kalábová -320cm(199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Bártová -410cm(1995)SR,450cmČ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Hamáčková-HMS(2001),456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Baďurová 475 cm (200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Georgeová(460cm),Dragilová(48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6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Isinbajevová-505cm (200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dur="indefinite" fill="hold">
                      <p:stCondLst>
                        <p:cond delay="0"/>
                      </p:stCondLst>
                      <p:childTnLst>
                        <p:par>
                          <p:cTn id="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dur="indefinite" fill="hold">
                      <p:stCondLst>
                        <p:cond delay="indefinite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dur="indefinite" fill="hold">
                      <p:stCondLst>
                        <p:cond delay="indefinite"/>
                      </p:stCondLst>
                      <p:childTnLst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3880" bIns="45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Technika skoku o tyči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1000"/>
              </a:lnSpc>
              <a:spcBef>
                <a:spcPts val="638"/>
              </a:spcBef>
              <a:buSzPct val="130567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ff"/>
                </a:solidFill>
                <a:latin typeface="Verdana"/>
              </a:rPr>
              <a:t>Držení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tyče-spodní ruka nadhmatem,horní podhma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30567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ff"/>
                </a:solidFill>
                <a:latin typeface="Verdana"/>
              </a:rPr>
              <a:t>Rozběh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-stupňování rychlosti,v posledních dvou krocích zahajujeme zasouvání tyč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30567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ff"/>
                </a:solidFill>
                <a:latin typeface="Verdana"/>
              </a:rPr>
              <a:t>Zasunutí tyče a odraz-tlak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do tyče spodní rukou v momentě odraz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30567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ff"/>
                </a:solidFill>
                <a:latin typeface="Verdana"/>
              </a:rPr>
              <a:t>Let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-zvrat-vis střemhlav-obrat při narovnávání tyče-vzlet-přechod lať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30567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ff"/>
                </a:solidFill>
                <a:latin typeface="Verdana"/>
              </a:rPr>
              <a:t>Dop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dur="indefinite" fill="hold">
                      <p:stCondLst>
                        <p:cond delay="0"/>
                      </p:stCondLst>
                      <p:childTnLst>
                        <p:par>
                          <p:cTn id="1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3880" bIns="45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Didaktika skoku o tyči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Držení tyč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Chůze a běh s tyč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Skoky do pískového doskočiště – z vyvýšeného místa,chůze,běhu(vykývnutí,přítrh, obr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Skoky do tyčkařského doskočiště s důrazem na zasunutí tyč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Imitační cvičení na gymnastickém nářa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(kotouly,přemety,salta,vzklopky,veletoče apod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dur="indefinite" fill="hold">
                      <p:stCondLst>
                        <p:cond delay="0"/>
                      </p:stCondLst>
                      <p:childTnLst>
                        <p:par>
                          <p:cTn id="1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 fill="hold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dur="indefinite" fill="hold">
                            <p:stCondLst>
                              <p:cond delay="1900"/>
                            </p:stCondLst>
                            <p:childTnLst>
                              <p:par>
                                <p:cTn id="144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dur="indefinite" fill="hold">
                      <p:stCondLst>
                        <p:cond delay="indefinite"/>
                      </p:stCondLst>
                      <p:childTnLst>
                        <p:par>
                          <p:cTn id="1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dur="indefinite" fill="hold">
                      <p:stCondLst>
                        <p:cond delay="indefinite"/>
                      </p:stCondLst>
                      <p:childTnLst>
                        <p:par>
                          <p:cTn id="1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dur="indefinite" fill="hold">
                      <p:stCondLst>
                        <p:cond delay="indefinite"/>
                      </p:stCondLst>
                      <p:childTnLst>
                        <p:par>
                          <p:cTn id="1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dur="indefinite" fill="hold">
                      <p:stCondLst>
                        <p:cond delay="indefinite"/>
                      </p:stCondLst>
                      <p:childTnLst>
                        <p:par>
                          <p:cTn id="1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3880" bIns="45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Technika skoku o tyči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1000"/>
              </a:lnSpc>
              <a:spcBef>
                <a:spcPts val="638"/>
              </a:spcBef>
              <a:buSzPct val="130567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ff"/>
                </a:solidFill>
                <a:latin typeface="Verdana"/>
              </a:rPr>
              <a:t>Držení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tyče-spodní ruka nadhmatem,horní podhma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dur="indefinite" fill="hold">
                      <p:stCondLst>
                        <p:cond delay="0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-603360"/>
            <a:ext cx="9325080" cy="828216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-603360"/>
            <a:ext cx="9325080" cy="828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3880" bIns="45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Technika skoku o tyči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Verdana"/>
              </a:rPr>
              <a:t>Držení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tyče-spodní ruka nadhmatem,horní podhma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Verdana"/>
              </a:rPr>
              <a:t>Rozběh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-stupňování rychlosti,v posledních dvou krocích zahajujeme zasouvání tyč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dur="indefinite" fill="hold">
                      <p:stCondLst>
                        <p:cond delay="0"/>
                      </p:stCondLst>
                      <p:childTnLst>
                        <p:par>
                          <p:cTn id="1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