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A53-292D-41CF-A393-C97C2299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84E-932A-457D-8CDA-E3C9AFE1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0CF-EC2B-4AB9-9641-719922DE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C10-1E8A-4D5C-981B-DF1B9F04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981-2AF1-4290-ABA0-6EE68831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BA7-8183-4203-AECF-C8BAC5BA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E7F-B3D5-406D-B637-FD59F971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55C-19F9-4E79-85F5-649328EE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8760"/>
            <a:ext cx="82281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B20-325B-44A0-9DDD-99BF3C08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D29-9309-4C20-ADF7-CE3CBF59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BAF-039E-4679-98F2-8D06ECA3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0D7-60AF-4F9F-A30E-12327CF7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0960" y="4929120"/>
            <a:ext cx="1440" cy="1800"/>
            <a:chOff x="750960" y="4929120"/>
            <a:chExt cx="1440" cy="1800"/>
          </a:xfrm>
        </p:grpSpPr>
        <p:sp>
          <p:nvSpPr>
            <p:cNvPr id="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9064E3-F1C4-45B4-AD0F-C9EB8984FDA4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fld id="{EA7121C2-42E6-4F02-87D7-F599BAB447C4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SKOK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018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cc3300"/>
                </a:solidFill>
                <a:latin typeface="Verdana"/>
              </a:rPr>
              <a:t>Histori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Materiál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dřevo,bambus,hliník,lamin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Vývoj výkon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right 402cm(191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ernberg – 500cm(19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bka- 600cm(1984),615cm-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ášek,Jansa,Ptáček-580cm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ŽEN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alábová -320cm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ártová -410cm(1995)SR,450cm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amáčková-HMS(2001),45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ďurová 475 cm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ová(460cm),Dragilová(4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sinbajevová-505c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o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idakt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ržen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ůze a běh s ty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pískového doskočiště – z vyvýšeného místa,chůze,běhu(vykývnutí,přítrh, ob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tyčkařského doskočiště s důrazem na zasunut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mitační cvičení na gymnastickém ná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kotouly,přemety,salta,vzklopky,veletoč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