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3.png" ContentType="image/png"/>
  <Override PartName="/ppt/media/image30.png" ContentType="image/png"/>
  <Override PartName="/ppt/media/image28.png" ContentType="image/png"/>
  <Override PartName="/ppt/media/image13.jpeg" ContentType="image/jpeg"/>
  <Override PartName="/ppt/media/image44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707-D3AE-47C4-A7FB-443B7DE0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B24-7107-41CB-9FE5-307A65F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1AC-D4F1-42D2-A517-A52E03CA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643-C36D-4096-B763-20612491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650-8C4E-4B2C-A141-4A860F64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531-9923-462B-8DBD-EE3B554C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9B1-6463-45D4-968D-09D504E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12D-282D-49AA-9432-59BC582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CC8-0D96-4C04-9E47-01FE70E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F6B-581C-4D16-808E-3B7C699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4C3-B458-4D38-A28D-0761594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3A3-5C31-4C0E-A6A9-7786E59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86B-DB96-42F7-AEE1-B2802860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565200" y="571680"/>
            <a:ext cx="7981920" cy="1440"/>
          </a:xfrm>
          <a:prstGeom prst="line">
            <a:avLst/>
          </a:prstGeom>
          <a:ln w="31680">
            <a:solidFill>
              <a:srgbClr val="ff9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"/>
          <p:cNvSpPr/>
          <p:nvPr/>
        </p:nvSpPr>
        <p:spPr>
          <a:xfrm rot="5400000">
            <a:off x="8353440" y="663480"/>
            <a:ext cx="223920" cy="192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"/>
          <p:cNvSpPr/>
          <p:nvPr/>
        </p:nvSpPr>
        <p:spPr>
          <a:xfrm rot="5400000">
            <a:off x="8084520" y="663480"/>
            <a:ext cx="223920" cy="1918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 rot="5400000">
            <a:off x="7819920" y="663480"/>
            <a:ext cx="223920" cy="192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65200" y="1511280"/>
            <a:ext cx="8005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DIOVASCULAR CONTROL DURING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rcRect l="0" t="2499" r="0" b="0"/>
          <a:stretch/>
        </p:blipFill>
        <p:spPr>
          <a:xfrm>
            <a:off x="2193840" y="3060720"/>
            <a:ext cx="2084400" cy="304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8" name="Picture 16" descr=""/>
          <p:cNvPicPr/>
          <p:nvPr/>
        </p:nvPicPr>
        <p:blipFill>
          <a:blip r:embed="rId3"/>
          <a:srcRect l="1735" t="1605" r="3019" b="4002"/>
          <a:stretch/>
        </p:blipFill>
        <p:spPr>
          <a:xfrm>
            <a:off x="4667400" y="3057480"/>
            <a:ext cx="2431800" cy="30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" name="Picture 55" descr="Projekty FSpS MU"/>
          <p:cNvPicPr/>
          <p:nvPr/>
        </p:nvPicPr>
        <p:blipFill>
          <a:blip r:embed="rId4"/>
          <a:stretch/>
        </p:blipFill>
        <p:spPr>
          <a:xfrm>
            <a:off x="0" y="0"/>
            <a:ext cx="33544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Stroke Volume and Cardiac Outpu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09480" y="1504800"/>
            <a:ext cx="8305920" cy="3075840"/>
            <a:chOff x="609480" y="1504800"/>
            <a:chExt cx="8305920" cy="3075840"/>
          </a:xfrm>
        </p:grpSpPr>
        <p:sp>
          <p:nvSpPr>
            <p:cNvPr id="93" name="Text Box 5"/>
            <p:cNvSpPr/>
            <p:nvPr/>
          </p:nvSpPr>
          <p:spPr>
            <a:xfrm>
              <a:off x="609480" y="150480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Stroke Volume (S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609480" y="250200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-diastolic volume (EDV)—volume of blood in ventricle before contr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609480" y="333036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-systolic volume (ESV)—volume of blood in ventricle after contr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609480" y="415764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V = EDV – ES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609480" y="200664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ume of blood pumped per contr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609480" y="4502160"/>
            <a:ext cx="8305920" cy="1691280"/>
            <a:chOff x="609480" y="4502160"/>
            <a:chExt cx="8305920" cy="1691280"/>
          </a:xfrm>
        </p:grpSpPr>
        <p:sp>
          <p:nvSpPr>
            <p:cNvPr id="99" name="Text Box 11"/>
            <p:cNvSpPr/>
            <p:nvPr/>
          </p:nvSpPr>
          <p:spPr>
            <a:xfrm>
              <a:off x="609480" y="527544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tal volume of blood pumped by the ventricle 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609480" y="478008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ardiac Output (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3156120" y="4502160"/>
              <a:ext cx="1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"/>
            <p:cNvSpPr/>
            <p:nvPr/>
          </p:nvSpPr>
          <p:spPr>
            <a:xfrm>
              <a:off x="609480" y="577044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 = H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1000080" y="5492880"/>
              <a:ext cx="1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kenovat0011"/>
          <p:cNvPicPr/>
          <p:nvPr/>
        </p:nvPicPr>
        <p:blipFill>
          <a:blip r:embed="rId1"/>
          <a:stretch/>
        </p:blipFill>
        <p:spPr>
          <a:xfrm>
            <a:off x="517680" y="509760"/>
            <a:ext cx="7797600" cy="6348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23840" y="142920"/>
            <a:ext cx="5543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BLOOD DISTRIB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ontents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76120" y="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Blood Press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09480" y="15559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ic blood pressure (SBP) is the highest pressure and diastolic blood pressure (DBP) is the lowes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9480" y="24051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rterial pressure (MAP)—average pressure exerted by the blood as it travels through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3233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= DBP + [0.33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BP – DBP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BPcuff"/>
          <p:cNvPicPr/>
          <p:nvPr/>
        </p:nvPicPr>
        <p:blipFill>
          <a:blip r:embed="rId2"/>
          <a:stretch/>
        </p:blipFill>
        <p:spPr>
          <a:xfrm>
            <a:off x="6229440" y="4229280"/>
            <a:ext cx="2741400" cy="2462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30280" y="414324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t Blood Pressure is about 120/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33520" y="495612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tension: BP = more than 140/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3520" y="5518080"/>
            <a:ext cx="830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ension: BP = less than 90/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arameters Affected by Tra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09480" y="21337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9480" y="26290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9480" y="312264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09480" y="361800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9480" y="411336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09480" y="460836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1" descr="Heartexternal"/>
          <p:cNvPicPr/>
          <p:nvPr/>
        </p:nvPicPr>
        <p:blipFill>
          <a:blip r:embed="rId2"/>
          <a:stretch/>
        </p:blipFill>
        <p:spPr>
          <a:xfrm>
            <a:off x="7086600" y="3962520"/>
            <a:ext cx="18921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276120" y="260280"/>
            <a:ext cx="88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rdiovascular Response to Acute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09480" y="42037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flow and blood pressur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09480" y="46864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sult in allowing the body to efficiently meet the increased demands placed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09480" y="14479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rate (HR) increases as exercise intensity increases up to maximal hear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Boxer"/>
          <p:cNvPicPr/>
          <p:nvPr/>
        </p:nvPicPr>
        <p:blipFill>
          <a:blip r:embed="rId2"/>
          <a:stretch/>
        </p:blipFill>
        <p:spPr>
          <a:xfrm>
            <a:off x="8182080" y="3962520"/>
            <a:ext cx="79524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3"/>
          <p:cNvGrpSpPr/>
          <p:nvPr/>
        </p:nvGrpSpPr>
        <p:grpSpPr>
          <a:xfrm>
            <a:off x="609480" y="1968480"/>
            <a:ext cx="8305920" cy="1418400"/>
            <a:chOff x="609480" y="1968480"/>
            <a:chExt cx="8305920" cy="1418400"/>
          </a:xfrm>
        </p:grpSpPr>
        <p:sp>
          <p:nvSpPr>
            <p:cNvPr id="132" name="Text Box 8"/>
            <p:cNvSpPr/>
            <p:nvPr/>
          </p:nvSpPr>
          <p:spPr>
            <a:xfrm>
              <a:off x="7562880" y="1968480"/>
              <a:ext cx="1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609480" y="2260440"/>
              <a:ext cx="8305920" cy="11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oke volume (SV) increases up to 40% to 60% V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 in untrained individuals and up to maximal levels in trained individu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609480" y="3390840"/>
            <a:ext cx="8305920" cy="752040"/>
            <a:chOff x="609480" y="3390840"/>
            <a:chExt cx="8305920" cy="752040"/>
          </a:xfrm>
        </p:grpSpPr>
        <p:sp>
          <p:nvSpPr>
            <p:cNvPr id="135" name="Text Box 11"/>
            <p:cNvSpPr/>
            <p:nvPr/>
          </p:nvSpPr>
          <p:spPr>
            <a:xfrm>
              <a:off x="609480" y="339084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s in HR and SV during exercise cause cardiac output (Q) to incr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2038320" y="3441600"/>
              <a:ext cx="1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Resting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s 60 to 80 beats/min; can range from 28 to above 100 beats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09480" y="24811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s to decrease with age and with increased cardiovascular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09480" y="3314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ffected by environmental conditions such as altitude and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Stethoscope"/>
          <p:cNvPicPr/>
          <p:nvPr/>
        </p:nvPicPr>
        <p:blipFill>
          <a:blip r:embed="rId2"/>
          <a:stretch/>
        </p:blipFill>
        <p:spPr>
          <a:xfrm>
            <a:off x="6219720" y="5486400"/>
            <a:ext cx="2741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Maximum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est heart rate value one can achieve in an all-out effort to the point of exha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480" y="24811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s constant day to day and changes slightly from year to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09480" y="3314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Rmax = 220 – age in year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ax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8 – (0.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Crosscountryskier"/>
          <p:cNvPicPr/>
          <p:nvPr/>
        </p:nvPicPr>
        <p:blipFill>
          <a:blip r:embed="rId2"/>
          <a:stretch/>
        </p:blipFill>
        <p:spPr>
          <a:xfrm>
            <a:off x="6512040" y="4113360"/>
            <a:ext cx="26319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HEART RATE AND INTENS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835280" y="1193760"/>
            <a:ext cx="53593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HEART RATE AND TRA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1681200" y="1211400"/>
            <a:ext cx="570528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Resting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with endurance training likely due to more blood returning to heart and changes in autonomic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9480" y="246060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entary individuals can decrease RHR by 1 beat/min per week during initial training, but several recent studies have shown small changes of less than 3 beats/min with up to 20 wk of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9480" y="39466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trained endurance athletes may have resting heart rates of 30 to 40 beats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EKGreadout"/>
          <p:cNvPicPr/>
          <p:nvPr/>
        </p:nvPicPr>
        <p:blipFill>
          <a:blip r:embed="rId2"/>
          <a:stretch/>
        </p:blipFill>
        <p:spPr>
          <a:xfrm>
            <a:off x="5781600" y="5334120"/>
            <a:ext cx="3198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Major Cardiovascular Fun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 (e.g., oxygen and nutri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9480" y="21337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al (e.g., carbon dioxide and waste produ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26305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(e.g., horm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09480" y="312264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(e.g., body temperature, 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9480" y="361800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(e.g., infection—immu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Cardiovascular"/>
          <p:cNvPicPr/>
          <p:nvPr/>
        </p:nvPicPr>
        <p:blipFill>
          <a:blip r:embed="rId2"/>
          <a:stretch/>
        </p:blipFill>
        <p:spPr>
          <a:xfrm>
            <a:off x="7162920" y="3962520"/>
            <a:ext cx="18097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Heart Rate During Exerci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609480" y="1504800"/>
            <a:ext cx="8305920" cy="2411640"/>
            <a:chOff x="609480" y="1504800"/>
            <a:chExt cx="8305920" cy="2411640"/>
          </a:xfrm>
        </p:grpSpPr>
        <p:sp>
          <p:nvSpPr>
            <p:cNvPr id="164" name="Text Box 5"/>
            <p:cNvSpPr/>
            <p:nvPr/>
          </p:nvSpPr>
          <p:spPr>
            <a:xfrm>
              <a:off x="609480" y="150480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Submaxi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609480" y="200664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reases proportionately with the amount of training comple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609480" y="2835360"/>
              <a:ext cx="83059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y decrease by 10 to 30 beats/min after 6 month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moderate training at any given rate of work, with the decrease being greater at higher rates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8"/>
          <p:cNvGrpSpPr/>
          <p:nvPr/>
        </p:nvGrpSpPr>
        <p:grpSpPr>
          <a:xfrm>
            <a:off x="609480" y="4149720"/>
            <a:ext cx="8305920" cy="1740960"/>
            <a:chOff x="609480" y="4149720"/>
            <a:chExt cx="8305920" cy="1740960"/>
          </a:xfrm>
        </p:grpSpPr>
        <p:sp>
          <p:nvSpPr>
            <p:cNvPr id="168" name="Text Box 9"/>
            <p:cNvSpPr/>
            <p:nvPr/>
          </p:nvSpPr>
          <p:spPr>
            <a:xfrm>
              <a:off x="609480" y="414972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Maxi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609480" y="464184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mains unchanged or decreases slight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609480" y="513864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decrease might allow for optimal stroke volume to maximize cardiac 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Heart Rate Recovery Peri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after exercise that it takes your heart to return to its rest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09480" y="24573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raining, heart rate returns to resting level more quickly after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09480" y="32860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used as an index of cardiorespiratory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480" y="4275000"/>
            <a:ext cx="624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not be used to compare individuals to one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Stopwatch"/>
          <p:cNvPicPr/>
          <p:nvPr/>
        </p:nvPicPr>
        <p:blipFill>
          <a:blip r:embed="rId2"/>
          <a:stretch/>
        </p:blipFill>
        <p:spPr>
          <a:xfrm>
            <a:off x="6705720" y="3943440"/>
            <a:ext cx="2249280" cy="2741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609480" y="378000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uch as altitude or heat can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HEART RATE RECOVERY AND TRA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908000" y="1185840"/>
            <a:ext cx="52786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Stroke Volu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nt of cardiorespiratory endurance capacity at maximal rates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09480" y="24652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with increasing rates of work up to intensities of 40% to 60% of max or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09480" y="3287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inue to increase up through maximal exercise intensity, generally in highly trained ath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Jumpingfence"/>
          <p:cNvPicPr/>
          <p:nvPr/>
        </p:nvPicPr>
        <p:blipFill>
          <a:blip r:embed="rId2"/>
          <a:stretch/>
        </p:blipFill>
        <p:spPr>
          <a:xfrm>
            <a:off x="6248520" y="4114800"/>
            <a:ext cx="2741400" cy="2589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609480" y="411624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of changes in SV depends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body during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80880" y="533520"/>
            <a:ext cx="8305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STROKE VOLUME AND INTENS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860480" y="1206360"/>
            <a:ext cx="53593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STROKE VOLUME AND TRA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714680" y="1623960"/>
            <a:ext cx="5715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ables 2 tif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646200" y="231840"/>
            <a:ext cx="51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roke Volumes (SV) for Different States of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23960" y="2508120"/>
            <a:ext cx="8291520" cy="2104200"/>
            <a:chOff x="723960" y="2508120"/>
            <a:chExt cx="8291520" cy="2104200"/>
          </a:xfrm>
        </p:grpSpPr>
        <p:sp>
          <p:nvSpPr>
            <p:cNvPr id="198" name="Text Box 5"/>
            <p:cNvSpPr/>
            <p:nvPr/>
          </p:nvSpPr>
          <p:spPr>
            <a:xfrm>
              <a:off x="728640" y="3040200"/>
              <a:ext cx="82868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ctr" pos="4137120"/>
                  <a:tab algn="ctr" pos="66769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train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-7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-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ctr" pos="4137120"/>
                  <a:tab algn="ctr" pos="66769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in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-9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-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ctr" pos="4137120"/>
                  <a:tab algn="ctr" pos="66769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ighly train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1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-2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738360" y="300816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723960" y="2508120"/>
              <a:ext cx="828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indent="3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ctr" pos="4137120"/>
                  <a:tab algn="ctr" pos="66769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bjec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Vrest (ml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Vmax (m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168120" y="1930320"/>
            <a:ext cx="3961080" cy="3894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4368960" y="1917720"/>
            <a:ext cx="4584600" cy="389556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8"/>
          <p:cNvGrpSpPr/>
          <p:nvPr/>
        </p:nvGrpSpPr>
        <p:grpSpPr>
          <a:xfrm>
            <a:off x="380880" y="254160"/>
            <a:ext cx="8763120" cy="1380960"/>
            <a:chOff x="380880" y="254160"/>
            <a:chExt cx="8763120" cy="1380960"/>
          </a:xfrm>
        </p:grpSpPr>
        <p:sp>
          <p:nvSpPr>
            <p:cNvPr id="205" name="Text Box 3"/>
            <p:cNvSpPr/>
            <p:nvPr/>
          </p:nvSpPr>
          <p:spPr>
            <a:xfrm>
              <a:off x="380880" y="609480"/>
              <a:ext cx="876312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CHANGES IN Q AND SV WITH INCREASING RATES OF WORK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3327480" y="254160"/>
              <a:ext cx="3682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ac Outpu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value is approximately 5.0 L/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09480" y="21463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directly with increasing exercise intensity to maximal values of between 20 to 40 L/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9480" y="29782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increase varies with body size and endurance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609480" y="3819600"/>
            <a:ext cx="8305920" cy="1081080"/>
            <a:chOff x="609480" y="3819600"/>
            <a:chExt cx="8305920" cy="1081080"/>
          </a:xfrm>
        </p:grpSpPr>
        <p:sp>
          <p:nvSpPr>
            <p:cNvPr id="213" name="Text Box 8"/>
            <p:cNvSpPr/>
            <p:nvPr/>
          </p:nvSpPr>
          <p:spPr>
            <a:xfrm>
              <a:off x="609480" y="3819600"/>
              <a:ext cx="83059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n exercise intensity exceeds 40% to 60%, further increases in Q are more a result of increases in HR than SV since SV tends to plateau at higher work ra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2682720" y="3857760"/>
              <a:ext cx="1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Picture 10" descr="Wrestlers"/>
          <p:cNvPicPr/>
          <p:nvPr/>
        </p:nvPicPr>
        <p:blipFill>
          <a:blip r:embed="rId2"/>
          <a:stretch/>
        </p:blipFill>
        <p:spPr>
          <a:xfrm>
            <a:off x="6248520" y="5257800"/>
            <a:ext cx="27414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AC OUTPUT AND INTENS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1762200" y="1449360"/>
            <a:ext cx="5543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ovascular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mp (the he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21337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channels (the blood vess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26305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uid medium (bl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AC OUTPUT AND TRA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1724040" y="1363680"/>
            <a:ext cx="56196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68120" y="1930320"/>
            <a:ext cx="3961080" cy="389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4368960" y="1917720"/>
            <a:ext cx="4584600" cy="38955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5"/>
          <p:cNvGrpSpPr/>
          <p:nvPr/>
        </p:nvGrpSpPr>
        <p:grpSpPr>
          <a:xfrm>
            <a:off x="380880" y="254160"/>
            <a:ext cx="8763120" cy="1380960"/>
            <a:chOff x="380880" y="254160"/>
            <a:chExt cx="8763120" cy="1380960"/>
          </a:xfrm>
        </p:grpSpPr>
        <p:sp>
          <p:nvSpPr>
            <p:cNvPr id="226" name="Text Box 6"/>
            <p:cNvSpPr/>
            <p:nvPr/>
          </p:nvSpPr>
          <p:spPr>
            <a:xfrm>
              <a:off x="380880" y="609480"/>
              <a:ext cx="876312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CHANGES IN Q AND SV WITH INCREASING RATES OF WORK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3327480" y="254160"/>
              <a:ext cx="3682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8"/>
          <p:cNvGrpSpPr/>
          <p:nvPr/>
        </p:nvGrpSpPr>
        <p:grpSpPr>
          <a:xfrm>
            <a:off x="380880" y="176040"/>
            <a:ext cx="8763120" cy="1912320"/>
            <a:chOff x="380880" y="176040"/>
            <a:chExt cx="8763120" cy="1912320"/>
          </a:xfrm>
        </p:grpSpPr>
        <p:sp>
          <p:nvSpPr>
            <p:cNvPr id="230" name="Text Box 5"/>
            <p:cNvSpPr/>
            <p:nvPr/>
          </p:nvSpPr>
          <p:spPr>
            <a:xfrm>
              <a:off x="380880" y="596880"/>
              <a:ext cx="876312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CHANGES IN HR, SV, AND Q </a:t>
              </a:r>
              <a:br>
                <a:rPr sz="3400"/>
              </a:b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WITH CHANGES IN POSITION </a:t>
              </a:r>
              <a:br>
                <a:rPr sz="3400"/>
              </a:b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AND EXERCISE INTENSITY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6134040" y="176040"/>
              <a:ext cx="152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Picture 9" descr=""/>
          <p:cNvPicPr/>
          <p:nvPr/>
        </p:nvPicPr>
        <p:blipFill>
          <a:blip r:embed="rId2"/>
          <a:stretch/>
        </p:blipFill>
        <p:spPr>
          <a:xfrm>
            <a:off x="244440" y="2746440"/>
            <a:ext cx="2778120" cy="2741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3228840" y="2746440"/>
            <a:ext cx="2778120" cy="2741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"/>
          <p:cNvPicPr/>
          <p:nvPr/>
        </p:nvPicPr>
        <p:blipFill>
          <a:blip r:embed="rId4"/>
          <a:stretch/>
        </p:blipFill>
        <p:spPr>
          <a:xfrm>
            <a:off x="6200640" y="2746440"/>
            <a:ext cx="2638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Blood Press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609480" y="1631880"/>
            <a:ext cx="8305920" cy="2085480"/>
            <a:chOff x="609480" y="1631880"/>
            <a:chExt cx="8305920" cy="2085480"/>
          </a:xfrm>
        </p:grpSpPr>
        <p:sp>
          <p:nvSpPr>
            <p:cNvPr id="238" name="Text Box 5"/>
            <p:cNvSpPr/>
            <p:nvPr/>
          </p:nvSpPr>
          <p:spPr>
            <a:xfrm>
              <a:off x="609480" y="163188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ardiovascular Endurance Exerc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609480" y="213372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olic BP increases in direct proportion to increased exercise inten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609480" y="2965320"/>
              <a:ext cx="8305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astolic BP changes little if any during endurance exercise, regardless of inten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8"/>
          <p:cNvGrpSpPr/>
          <p:nvPr/>
        </p:nvGrpSpPr>
        <p:grpSpPr>
          <a:xfrm>
            <a:off x="609480" y="3794040"/>
            <a:ext cx="8305920" cy="1417680"/>
            <a:chOff x="609480" y="3794040"/>
            <a:chExt cx="8305920" cy="1417680"/>
          </a:xfrm>
        </p:grpSpPr>
        <p:sp>
          <p:nvSpPr>
            <p:cNvPr id="242" name="Text Box 9"/>
            <p:cNvSpPr/>
            <p:nvPr/>
          </p:nvSpPr>
          <p:spPr>
            <a:xfrm>
              <a:off x="609480" y="379404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esistance Exerc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609480" y="4295880"/>
              <a:ext cx="8305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ggerates BP responses to as high as 480/350 mmH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1"/>
            <p:cNvSpPr/>
            <p:nvPr/>
          </p:nvSpPr>
          <p:spPr>
            <a:xfrm>
              <a:off x="609480" y="4791240"/>
              <a:ext cx="83059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0040" indent="-2300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BLOOD PRESSURE RESPON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1754280" y="1184400"/>
            <a:ext cx="55641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ovascular Adaptations to Tra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ventricle size and wall thickness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09480" y="211932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, submaximal, and maximal stroke volume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09480" y="26146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heart rate stays the same or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09480" y="311004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output is better distributed to active muscles and maximal cardiac output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609480" y="392904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volume increases, as does red ce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, but to a lesser 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Soccergirls"/>
          <p:cNvPicPr/>
          <p:nvPr/>
        </p:nvPicPr>
        <p:blipFill>
          <a:blip r:embed="rId2"/>
          <a:stretch/>
        </p:blipFill>
        <p:spPr>
          <a:xfrm>
            <a:off x="6238800" y="4343400"/>
            <a:ext cx="2741760" cy="23590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609480" y="4748040"/>
            <a:ext cx="5943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blood pressure does n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r decreases slightly, while blood pressure during submaximal exercis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Pulse"/>
          <p:cNvPicPr/>
          <p:nvPr/>
        </p:nvPicPr>
        <p:blipFill>
          <a:blip r:embed="rId1"/>
          <a:stretch/>
        </p:blipFill>
        <p:spPr>
          <a:xfrm>
            <a:off x="3319560" y="2695680"/>
            <a:ext cx="5495760" cy="2624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eart-rate-monitor"/>
          <p:cNvPicPr/>
          <p:nvPr/>
        </p:nvPicPr>
        <p:blipFill>
          <a:blip r:embed="rId2"/>
          <a:stretch/>
        </p:blipFill>
        <p:spPr>
          <a:xfrm>
            <a:off x="295200" y="4524480"/>
            <a:ext cx="270504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Measuring Heart Rate"/>
          <p:cNvPicPr/>
          <p:nvPr/>
        </p:nvPicPr>
        <p:blipFill>
          <a:blip r:embed="rId3"/>
          <a:stretch/>
        </p:blipFill>
        <p:spPr>
          <a:xfrm>
            <a:off x="2862360" y="271440"/>
            <a:ext cx="2466720" cy="2009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Measuring Heart Rate"/>
          <p:cNvPicPr/>
          <p:nvPr/>
        </p:nvPicPr>
        <p:blipFill>
          <a:blip r:embed="rId4"/>
          <a:stretch/>
        </p:blipFill>
        <p:spPr>
          <a:xfrm>
            <a:off x="185760" y="200160"/>
            <a:ext cx="2657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bloodpressuremeasurement"/>
          <p:cNvPicPr/>
          <p:nvPr/>
        </p:nvPicPr>
        <p:blipFill>
          <a:blip r:embed="rId1"/>
          <a:stretch/>
        </p:blipFill>
        <p:spPr>
          <a:xfrm>
            <a:off x="828720" y="1440"/>
            <a:ext cx="7477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MeasuringBloodPress_1"/>
          <p:cNvPicPr/>
          <p:nvPr/>
        </p:nvPicPr>
        <p:blipFill>
          <a:blip r:embed="rId1"/>
          <a:stretch/>
        </p:blipFill>
        <p:spPr>
          <a:xfrm>
            <a:off x="0" y="150480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Obrázek 1" descr=""/>
          <p:cNvPicPr/>
          <p:nvPr/>
        </p:nvPicPr>
        <p:blipFill>
          <a:blip r:embed="rId1"/>
          <a:stretch/>
        </p:blipFill>
        <p:spPr>
          <a:xfrm>
            <a:off x="1523880" y="669960"/>
            <a:ext cx="6134400" cy="1174680"/>
          </a:xfrm>
          <a:prstGeom prst="rect">
            <a:avLst/>
          </a:prstGeom>
          <a:ln w="0">
            <a:noFill/>
          </a:ln>
        </p:spPr>
      </p:pic>
      <p:sp>
        <p:nvSpPr>
          <p:cNvPr id="264" name="TextovéPole 2"/>
          <p:cNvSpPr/>
          <p:nvPr/>
        </p:nvSpPr>
        <p:spPr>
          <a:xfrm>
            <a:off x="1914480" y="32097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hank you for your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ovéPole 3"/>
          <p:cNvSpPr/>
          <p:nvPr/>
        </p:nvSpPr>
        <p:spPr>
          <a:xfrm>
            <a:off x="619200" y="5486400"/>
            <a:ext cx="79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040"/>
                </a:solidFill>
                <a:latin typeface="Arial"/>
                <a:ea typeface="Arial"/>
              </a:rPr>
              <a:t>Projekt: Zvyšování jazykových kompetencí pracovníků FSpS MU </a:t>
            </a:r>
            <a:br>
              <a:rPr sz="1800"/>
            </a:br>
            <a:r>
              <a:rPr b="0" lang="cs-CZ" sz="1800" spc="-1" strike="noStrike">
                <a:solidFill>
                  <a:srgbClr val="404040"/>
                </a:solidFill>
                <a:latin typeface="Arial"/>
                <a:ea typeface="Arial"/>
              </a:rPr>
              <a:t>a inovace výuky v oblasti kinantropologie, reg. č.: CZ.1.07/2.2.00/15.01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80880" y="533520"/>
            <a:ext cx="876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HEA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933480" y="1206360"/>
            <a:ext cx="7277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llust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80880" y="533520"/>
            <a:ext cx="7086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ORONARY CIRCU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1287360" y="1158840"/>
            <a:ext cx="65674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Key Poi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52280" y="352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666880" y="203832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atria receive blood into the heart; the two ventricles send blood from the heart to the rest of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666880" y="3191040"/>
            <a:ext cx="624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 ventricle has a thicker myocardium due to hypertrophy resulting from the resistance against which it must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666880" y="1096920"/>
            <a:ext cx="6477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ructure and Function of the Cardiovascula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09480" y="1600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heart rates in adults tend to be between 60 and 85 beats/min. However, extended endurance training can lower resting heart rate to 35 beats/min or less. This lower heart rate is thought to be due to decreased intrinsic heart rate and increased parasympathetic st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76120" y="260280"/>
            <a:ext cx="841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Did You Know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Heartwaves"/>
          <p:cNvPicPr/>
          <p:nvPr/>
        </p:nvPicPr>
        <p:blipFill>
          <a:blip r:embed="rId2"/>
          <a:stretch/>
        </p:blipFill>
        <p:spPr>
          <a:xfrm>
            <a:off x="6477120" y="4278240"/>
            <a:ext cx="2493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ac Arrhythm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9480" y="163188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d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resting heart rate below 60 beats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09480" y="2133720"/>
            <a:ext cx="830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ach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resting heart rate above 100 beats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09480" y="26290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emature ventricular contractions (PVCs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like skipped or extra b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09480" y="345744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ntricular tach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three or more consecutive PVCs that can lead to ventricular fibrillation in which contraction of the ventricular tissue is un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Defibrillator"/>
          <p:cNvPicPr/>
          <p:nvPr/>
        </p:nvPicPr>
        <p:blipFill>
          <a:blip r:embed="rId2"/>
          <a:stretch/>
        </p:blipFill>
        <p:spPr>
          <a:xfrm>
            <a:off x="5734080" y="5181480"/>
            <a:ext cx="319896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ont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76120" y="260280"/>
            <a:ext cx="8867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Cardiac Cy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163188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that occur between two consecutive heartbeats (systole to syst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24573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stole—relaxation phase during which the chambers fill with bloo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% of cycle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09480" y="328932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ole—contraction phase during which the chambers expel bloo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% of cycle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19:18:48Z</dcterms:created>
  <dc:creator>The Staff</dc:creator>
  <dc:description/>
  <dc:language>en-US</dc:language>
  <cp:lastModifiedBy>zálešáková</cp:lastModifiedBy>
  <cp:lastPrinted>2003-11-06T16:43:32Z</cp:lastPrinted>
  <dcterms:modified xsi:type="dcterms:W3CDTF">2012-10-30T13:40:28Z</dcterms:modified>
  <cp:revision>52</cp:revision>
  <dc:subject/>
  <dc:title>No Slide Title</dc:title>
</cp:coreProperties>
</file>