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wmf" ContentType="image/x-wmf"/>
  <Override PartName="/ppt/media/image2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8F9-1010-4BC8-B6A6-4599DDDE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826-62A7-4E1B-B88B-77A6912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53E-0161-47CB-9F5E-58959F68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074-5F3A-47A3-B111-38F96035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7DA-6D15-4F24-B950-6B203D6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7EE-6201-423B-A04A-34050C2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8BB-B4EA-4E4E-97F7-543CA47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685-1506-4833-A04E-E8A8936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50A-41D3-41BF-AC1D-D445C2A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9C3-2578-4386-8D96-A787B9C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F96-EF49-4E46-9F74-7D00835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BDF-A151-41D1-A8F3-74F1A60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C1C-A04B-41C8-A6AD-F5954D54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565200" y="571680"/>
            <a:ext cx="7981920" cy="1440"/>
          </a:xfrm>
          <a:prstGeom prst="line">
            <a:avLst/>
          </a:prstGeom>
          <a:ln w="31680">
            <a:solidFill>
              <a:srgbClr val="ff9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"/>
          <p:cNvSpPr/>
          <p:nvPr/>
        </p:nvSpPr>
        <p:spPr>
          <a:xfrm rot="5400000">
            <a:off x="835344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 rot="5400000">
            <a:off x="8084520" y="663480"/>
            <a:ext cx="223920" cy="1918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 rot="5400000">
            <a:off x="781992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55480" y="1538280"/>
            <a:ext cx="80060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ND HOW THE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2"/>
          <a:stretch/>
        </p:blipFill>
        <p:spPr>
          <a:xfrm>
            <a:off x="5229360" y="3325680"/>
            <a:ext cx="2717640" cy="227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8" name="Picture 16" descr="skenovat0002"/>
          <p:cNvPicPr/>
          <p:nvPr/>
        </p:nvPicPr>
        <p:blipFill>
          <a:blip r:embed="rId3"/>
          <a:stretch/>
        </p:blipFill>
        <p:spPr>
          <a:xfrm>
            <a:off x="1278000" y="3278160"/>
            <a:ext cx="3438360" cy="235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5" descr="Projekty FSpS MU"/>
          <p:cNvPicPr/>
          <p:nvPr/>
        </p:nvPicPr>
        <p:blipFill>
          <a:blip r:embed="rId4"/>
          <a:stretch/>
        </p:blipFill>
        <p:spPr>
          <a:xfrm>
            <a:off x="0" y="0"/>
            <a:ext cx="3290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666880" y="1436760"/>
            <a:ext cx="6477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are the contractile elemets of skeletal muscle, with several hundred to several thousand composing a single mus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666880" y="3743280"/>
            <a:ext cx="6477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sarkomere is composed of filaments of two proteins, myosin and actin, which are responsible for muscle con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52840" y="1001880"/>
            <a:ext cx="624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yofibril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666880" y="4932360"/>
            <a:ext cx="647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n is a thick filament with a globular head at one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666880" y="5761080"/>
            <a:ext cx="6477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actin filament – composed of actin, tropomyosin, and troponin – is attached to a Z di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666880" y="2870280"/>
            <a:ext cx="647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yofibrils are made up of sarcomeres, the smallest functional units of a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09480" y="15177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 motor neuron, with signals from the brain or spi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d, releases the neurotransmitter acetylcholine (Ach)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uromuscular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746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Ch crosses the junction and binds to receptors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colem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3610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is initiates an action potential, providing sufficient 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Excitation/Contraction Coupl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09480" y="41180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action potential travels along the sarcolemma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T tubules to the SR releasing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609480" y="4917960"/>
            <a:ext cx="8305920" cy="1575720"/>
            <a:chOff x="609480" y="4917960"/>
            <a:chExt cx="8305920" cy="1575720"/>
          </a:xfrm>
        </p:grpSpPr>
        <p:sp>
          <p:nvSpPr>
            <p:cNvPr id="99" name="Text Box 9"/>
            <p:cNvSpPr/>
            <p:nvPr/>
          </p:nvSpPr>
          <p:spPr>
            <a:xfrm>
              <a:off x="609480" y="4917960"/>
              <a:ext cx="83059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The C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inds to troponin on the actin filament, and th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ponin pulls tropomyosin off the active sites, allow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yosin heads to attach to the actin fila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700200" y="6033960"/>
              <a:ext cx="62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9480" y="15177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Once a strong binding state is extablished with actin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sin head tilts, pulling the actin filament (pow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k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09480" y="274644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The myosin head binds to ATP, and ATPase found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d splits ATP into ADP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easing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362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Muscle action ends when calcium is actively pumped 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sarcoplasm back into the sarcoplasmic reticul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Excitation/Contraction Coupl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80880" y="533520"/>
            <a:ext cx="8534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EVENTS LEADING TO MUSCLE 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7" descr=""/>
          <p:cNvPicPr/>
          <p:nvPr/>
        </p:nvPicPr>
        <p:blipFill>
          <a:blip r:embed="rId2"/>
          <a:srcRect l="0" t="0" r="4607" b="2751"/>
          <a:stretch/>
        </p:blipFill>
        <p:spPr>
          <a:xfrm>
            <a:off x="1143000" y="1143000"/>
            <a:ext cx="6934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880" y="533520"/>
            <a:ext cx="8458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CONTRACTING MUSCLE FIB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6" descr=""/>
          <p:cNvPicPr/>
          <p:nvPr/>
        </p:nvPicPr>
        <p:blipFill>
          <a:blip r:embed="rId2"/>
          <a:srcRect l="0" t="0" r="0" b="24400"/>
          <a:stretch/>
        </p:blipFill>
        <p:spPr>
          <a:xfrm>
            <a:off x="2163600" y="1220760"/>
            <a:ext cx="5712120" cy="1589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3"/>
          <a:srcRect l="0" t="0" r="0" b="20287"/>
          <a:stretch/>
        </p:blipFill>
        <p:spPr>
          <a:xfrm>
            <a:off x="1844640" y="3027240"/>
            <a:ext cx="5634000" cy="14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4"/>
          <a:srcRect l="0" t="0" r="0" b="20751"/>
          <a:stretch/>
        </p:blipFill>
        <p:spPr>
          <a:xfrm>
            <a:off x="1393920" y="4700520"/>
            <a:ext cx="5635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kenovat0010"/>
          <p:cNvPicPr/>
          <p:nvPr/>
        </p:nvPicPr>
        <p:blipFill>
          <a:blip r:embed="rId1"/>
          <a:stretch/>
        </p:blipFill>
        <p:spPr>
          <a:xfrm>
            <a:off x="30240" y="-700200"/>
            <a:ext cx="9113760" cy="117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skenovat0010"/>
          <p:cNvPicPr/>
          <p:nvPr/>
        </p:nvPicPr>
        <p:blipFill>
          <a:blip r:embed="rId2"/>
          <a:stretch/>
        </p:blipFill>
        <p:spPr>
          <a:xfrm>
            <a:off x="-1450800" y="-10142640"/>
            <a:ext cx="13185720" cy="170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666880" y="164772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cle action is initiated by a nerve impu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666880" y="1096920"/>
            <a:ext cx="6248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Muscle Fiber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0"/>
          <p:cNvGrpSpPr/>
          <p:nvPr/>
        </p:nvGrpSpPr>
        <p:grpSpPr>
          <a:xfrm>
            <a:off x="2666880" y="4286160"/>
            <a:ext cx="6248520" cy="1945800"/>
            <a:chOff x="2666880" y="4286160"/>
            <a:chExt cx="6248520" cy="1945800"/>
          </a:xfrm>
        </p:grpSpPr>
        <p:sp>
          <p:nvSpPr>
            <p:cNvPr id="122" name="Text Box 7"/>
            <p:cNvSpPr/>
            <p:nvPr/>
          </p:nvSpPr>
          <p:spPr>
            <a:xfrm>
              <a:off x="2666880" y="4286160"/>
              <a:ext cx="624852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on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 bind with troponin, which lifts the tropomyosin molecules off the active sites on the actin filament. These open sites allow the myosin heads to bind to the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2666880" y="577224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2666880" y="2476440"/>
            <a:ext cx="6248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nerve release Ach, which allows sodium to enter and depolarized, an action potential occurs which releases sto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666880" y="164772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ce myosin binds with actin, the myosin head tills and pulls the actin filament so they slide across each 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658960" y="311796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cle action ends when calcium is pumped out of the sarcoplasm to the sarcoplasmic reticulum for sto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66880" y="1096920"/>
            <a:ext cx="6248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Muscle Fiber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631960" y="4665600"/>
            <a:ext cx="6248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nergy for muscle action is provided when thy myosin head binds to the ATP. ATPase on the myosin head splits the ATP into a usable energy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09480" y="193824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gh aerobic (oxidative) capacity and fatigue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27716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w anaerobic (glycolytic) capacity and motor unit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36003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w contractile speed (110ms to reach peak tension) and myosin ATP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Slow-Twitch (ST)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09480" y="45147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–180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bers per motor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Skier"/>
          <p:cNvPicPr/>
          <p:nvPr/>
        </p:nvPicPr>
        <p:blipFill>
          <a:blip r:embed="rId2"/>
          <a:stretch/>
        </p:blipFill>
        <p:spPr>
          <a:xfrm>
            <a:off x="6248520" y="5172120"/>
            <a:ext cx="27414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601640" y="1352520"/>
            <a:ext cx="6543720" cy="4875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68440" y="403200"/>
            <a:ext cx="73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601640" y="1477800"/>
            <a:ext cx="64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arn the bacis components of skeletal muscle, muscle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601640" y="2428920"/>
            <a:ext cx="65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cover how muscle functions during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601640" y="3328920"/>
            <a:ext cx="65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nsider the differences in fibr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600200" y="4676760"/>
            <a:ext cx="65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ostika svalových vlá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09480" y="20527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rate aerobic (oxidative) capacity and fatigue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09480" y="287820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gh anaerobic (glycolytic) capacity and motor unit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09480" y="3706920"/>
            <a:ext cx="82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 contractile speed (50 ms to reach peak 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76120" y="260280"/>
            <a:ext cx="84106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Fast-Twitch (FT</a:t>
            </a:r>
            <a:r>
              <a:rPr b="1" lang="en-US" sz="3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)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09480" y="4608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–800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bers per motor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9" descr="Hurdler"/>
          <p:cNvPicPr/>
          <p:nvPr/>
        </p:nvPicPr>
        <p:blipFill>
          <a:blip r:embed="rId2"/>
          <a:stretch/>
        </p:blipFill>
        <p:spPr>
          <a:xfrm>
            <a:off x="7010280" y="4038480"/>
            <a:ext cx="19656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609480" y="19954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w aerobic (oxidative) capacity and fatigue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480" y="24969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gh anaerobic (glycolytic) capacity and motor unit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480" y="3325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 contractile speed (50 ms to reach peak 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76120" y="260280"/>
            <a:ext cx="84106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Fast-Twitch (FT</a:t>
            </a:r>
            <a:r>
              <a:rPr b="1" lang="en-US" sz="3400" spc="-1" strike="noStrike" baseline="-25000">
                <a:solidFill>
                  <a:srgbClr val="3333cc"/>
                </a:solidFill>
                <a:latin typeface="Arial"/>
              </a:rPr>
              <a:t>b</a:t>
            </a: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/FT</a:t>
            </a:r>
            <a:r>
              <a:rPr b="1" lang="cs-CZ" sz="3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)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09480" y="4240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–800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bers per motor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Hitter"/>
          <p:cNvPicPr/>
          <p:nvPr/>
        </p:nvPicPr>
        <p:blipFill>
          <a:blip r:embed="rId2"/>
          <a:stretch/>
        </p:blipFill>
        <p:spPr>
          <a:xfrm>
            <a:off x="6324480" y="3962520"/>
            <a:ext cx="26416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276120" y="260280"/>
            <a:ext cx="861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Characteristic of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143080" y="330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453760" y="1357200"/>
            <a:ext cx="209952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low-Twitch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626000" y="1365120"/>
            <a:ext cx="21765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ast-twitch (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853320" y="1366920"/>
            <a:ext cx="22906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ast-Twitch (FT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31640" y="2563920"/>
          <a:ext cx="8479080" cy="3619440"/>
        </p:xfrm>
        <a:graphic>
          <a:graphicData uri="http://schemas.openxmlformats.org/drawingml/2006/table">
            <a:tbl>
              <a:tblPr/>
              <a:tblGrid>
                <a:gridCol w="2213280"/>
                <a:gridCol w="2082600"/>
                <a:gridCol w="2133720"/>
                <a:gridCol w="2049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le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ile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tigue res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ycogen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tochondrials 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ilars 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ty of ATP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ycolytic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SLOW- AND FAST-TWITCH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rcRect l="1134" t="693" r="1113" b="668"/>
          <a:stretch/>
        </p:blipFill>
        <p:spPr>
          <a:xfrm>
            <a:off x="1670040" y="1373040"/>
            <a:ext cx="579744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3"/>
          <p:cNvGraphicFramePr/>
          <p:nvPr/>
        </p:nvGraphicFramePr>
        <p:xfrm>
          <a:off x="1279440" y="6480"/>
          <a:ext cx="7864560" cy="68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6480"/>
                    <a:ext cx="786456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4"/>
          <p:cNvSpPr/>
          <p:nvPr/>
        </p:nvSpPr>
        <p:spPr>
          <a:xfrm>
            <a:off x="1339200" y="633240"/>
            <a:ext cx="1524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3440" y="5389560"/>
            <a:ext cx="27212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RATHON RU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51560" y="5002200"/>
            <a:ext cx="269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TANCE RU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491840" y="4668840"/>
            <a:ext cx="1383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C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81400" y="2830680"/>
            <a:ext cx="13982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459320" y="150840"/>
            <a:ext cx="1309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G/F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954760" y="141120"/>
            <a:ext cx="144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09480" y="1530360"/>
            <a:ext cx="853452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►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cle biop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netic resonance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MR (one-repetition maximum) and subsequent exrecise with 8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RM) is a functional test of the maximum weight that can be lifted just one ti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8 rep. predominance FG/F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-12 rep. 50%: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2 rep. predominance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cso test (jump 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DIAGNOSTIC OF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09480" y="153036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needle is inserted into muscle to take a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09480" y="20318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 mounted, frozen, thinly sliced, and examined under a microsc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09480" y="28605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study of muscle fibers and the effects of acute exercise and exercise training on fiber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Muscle Biops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rcRect l="1134" t="3331" r="1113" b="1669"/>
          <a:stretch/>
        </p:blipFill>
        <p:spPr>
          <a:xfrm>
            <a:off x="1039680" y="3962520"/>
            <a:ext cx="3760920" cy="243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3"/>
          <a:srcRect l="23354" t="1956" r="1113" b="1956"/>
          <a:stretch/>
        </p:blipFill>
        <p:spPr>
          <a:xfrm>
            <a:off x="5181480" y="3962520"/>
            <a:ext cx="2857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164772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al muscles contain both ST and FT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666880" y="247644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 in FT fibers acts faster providing energy for muscle action more quickly than ATPase in ST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666880" y="109692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low- and Fast-Twitch Muscle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2666880" y="3627360"/>
            <a:ext cx="6248520" cy="1613880"/>
            <a:chOff x="2666880" y="3627360"/>
            <a:chExt cx="6248520" cy="1613880"/>
          </a:xfrm>
        </p:grpSpPr>
        <p:sp>
          <p:nvSpPr>
            <p:cNvPr id="187" name="Text Box 8"/>
            <p:cNvSpPr/>
            <p:nvPr/>
          </p:nvSpPr>
          <p:spPr>
            <a:xfrm>
              <a:off x="2666880" y="478152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666880" y="362736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 fibers have a more highly developed sarcoplasmic reticulum enhancing calcium delive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666880" y="1647720"/>
            <a:ext cx="6248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units supplying FT fibers are larger (e.g., more fibers per motor neuron) than those supplying ST fibers; thus, FT motor units can recruit more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66880" y="312912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fibers have high aerobic endurance and are suited to low-intensity enduranc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666880" y="1096920"/>
            <a:ext cx="6477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low- and Fast-Twitch Muscle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666880" y="428940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 fibers are better for anaerobic or explosiv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638280" y="1600200"/>
            <a:ext cx="82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gonist</a:t>
            </a:r>
            <a:r>
              <a:rPr b="1" i="1" lang="cs-CZ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ime movers, responsible for th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Functional Classification of Musc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38280" y="2108160"/>
            <a:ext cx="827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ntagonist</a:t>
            </a:r>
            <a:r>
              <a:rPr b="1" i="1" lang="cs-CZ" sz="2400" spc="-1" strike="noStrike">
                <a:solidFill>
                  <a:srgbClr val="3333cc"/>
                </a:solidFill>
                <a:latin typeface="Arial"/>
              </a:rPr>
              <a:t>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oppose the agonists to prevent overstretching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38280" y="2940120"/>
            <a:ext cx="827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ynergist</a:t>
            </a:r>
            <a:r>
              <a:rPr b="1" i="1" lang="cs-CZ" sz="2400" spc="-1" strike="noStrike">
                <a:solidFill>
                  <a:srgbClr val="3333cc"/>
                </a:solidFill>
                <a:latin typeface="Arial"/>
              </a:rPr>
              <a:t>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assist the agonists and sometimes fine-tune the direction of th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Dancer"/>
          <p:cNvPicPr/>
          <p:nvPr/>
        </p:nvPicPr>
        <p:blipFill>
          <a:blip r:embed="rId2"/>
          <a:stretch/>
        </p:blipFill>
        <p:spPr>
          <a:xfrm>
            <a:off x="6705720" y="3962520"/>
            <a:ext cx="2293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80880" y="53352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SKELETAL MUSCLE STRU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rcRect l="0" t="2599" r="0" b="0"/>
          <a:stretch/>
        </p:blipFill>
        <p:spPr>
          <a:xfrm>
            <a:off x="2397240" y="1130400"/>
            <a:ext cx="5475240" cy="533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20640Bv"/>
          <p:cNvPicPr/>
          <p:nvPr/>
        </p:nvPicPr>
        <p:blipFill>
          <a:blip r:embed="rId3"/>
          <a:stretch/>
        </p:blipFill>
        <p:spPr>
          <a:xfrm>
            <a:off x="318960" y="3220920"/>
            <a:ext cx="2590920" cy="3238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380880" y="533520"/>
            <a:ext cx="8534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TYPES OF MUSCLE 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2"/>
          <a:stretch/>
        </p:blipFill>
        <p:spPr>
          <a:xfrm>
            <a:off x="1219320" y="1220760"/>
            <a:ext cx="66070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mber of motor units activ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09480" y="213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e of muscle fi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T or 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9480" y="26416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c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actors Influencing Force Gene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09480" y="31496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itial musc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09480" y="36831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int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09480" y="4229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ed of muscle action (shortening or length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0" descr="Handstandman"/>
          <p:cNvPicPr/>
          <p:nvPr/>
        </p:nvPicPr>
        <p:blipFill>
          <a:blip r:embed="rId2"/>
          <a:stretch/>
        </p:blipFill>
        <p:spPr>
          <a:xfrm>
            <a:off x="8077320" y="3962520"/>
            <a:ext cx="9144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ometry menas testing of muscles stren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09480" y="21337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enght is defined as a peak force of torque development during a maximum voluntary contraction under a given set of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68120" y="260280"/>
            <a:ext cx="897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DYNAMOMETRY – muscle strenght tes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09480" y="31496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 the International System of Units (SI) units for force and torque are the Newton (N) and the Newton meter (N.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0" descr="Handstandman"/>
          <p:cNvPicPr/>
          <p:nvPr/>
        </p:nvPicPr>
        <p:blipFill>
          <a:blip r:embed="rId2"/>
          <a:stretch/>
        </p:blipFill>
        <p:spPr>
          <a:xfrm>
            <a:off x="8077320" y="3962520"/>
            <a:ext cx="9144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ometric strenght is usually measured as the peak force produced by a maximum voluntary isometric con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92200" y="463392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dynamometric measurements shoul be made at standardised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38120" y="260280"/>
            <a:ext cx="870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ISOMETRIC DYNAMO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09480" y="31496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ometers convert the deformation produced by tension or pressure into srenght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7" descr="Handstandman"/>
          <p:cNvPicPr/>
          <p:nvPr/>
        </p:nvPicPr>
        <p:blipFill>
          <a:blip r:embed="rId2"/>
          <a:stretch/>
        </p:blipFill>
        <p:spPr>
          <a:xfrm>
            <a:off x="8077320" y="3962520"/>
            <a:ext cx="9144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brázek 1" descr=""/>
          <p:cNvPicPr/>
          <p:nvPr/>
        </p:nvPicPr>
        <p:blipFill>
          <a:blip r:embed="rId1"/>
          <a:stretch/>
        </p:blipFill>
        <p:spPr>
          <a:xfrm>
            <a:off x="1585800" y="399960"/>
            <a:ext cx="6135840" cy="1173240"/>
          </a:xfrm>
          <a:prstGeom prst="rect">
            <a:avLst/>
          </a:prstGeom>
          <a:ln w="0">
            <a:noFill/>
          </a:ln>
        </p:spPr>
      </p:pic>
      <p:sp>
        <p:nvSpPr>
          <p:cNvPr id="226" name="TextovéPole 2"/>
          <p:cNvSpPr/>
          <p:nvPr/>
        </p:nvSpPr>
        <p:spPr>
          <a:xfrm>
            <a:off x="2039760" y="259704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hank you for your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ovéPole 3"/>
          <p:cNvSpPr/>
          <p:nvPr/>
        </p:nvSpPr>
        <p:spPr>
          <a:xfrm>
            <a:off x="819000" y="5614920"/>
            <a:ext cx="77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040"/>
                </a:solidFill>
                <a:latin typeface="Arial"/>
                <a:ea typeface="Arial"/>
              </a:rPr>
              <a:t>Projekt: Zvyšování jazykových kompetencí pracovníků FSpS MU </a:t>
            </a:r>
            <a:br>
              <a:rPr sz="1800"/>
            </a:br>
            <a:r>
              <a:rPr b="0" lang="cs-CZ" sz="1800" spc="-1" strike="noStrike">
                <a:solidFill>
                  <a:srgbClr val="404040"/>
                </a:solidFill>
                <a:latin typeface="Arial"/>
                <a:ea typeface="Arial"/>
              </a:rPr>
              <a:t>a inovace výuky v oblasti kinantropologie, reg. č.: CZ.1.07/2.2.00/15.01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80880" y="53352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MUSCLE FIB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rcRect l="0" t="2967" r="0" b="0"/>
          <a:stretch/>
        </p:blipFill>
        <p:spPr>
          <a:xfrm>
            <a:off x="1066680" y="1295280"/>
            <a:ext cx="701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666880" y="181764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individual muscle cell is called a muscle 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666880" y="2521080"/>
            <a:ext cx="647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muscle fiber is enclosed by a plasma membrane called the sarco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666880" y="1266840"/>
            <a:ext cx="6248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Muscle F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666880" y="339408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cytoplasm of muscle fiber is called the sarcopla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666880" y="430704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thin the sarcoplasm, the T tubules allow transport of substances throught the muscle fi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666880" y="546876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sarcoplasmic reticulum stores calc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80880" y="533520"/>
            <a:ext cx="8382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ARRANGEMENT OF FILA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rcRect l="0" t="1518" r="0" b="0"/>
          <a:stretch/>
        </p:blipFill>
        <p:spPr>
          <a:xfrm>
            <a:off x="890640" y="1219320"/>
            <a:ext cx="7362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80880" y="476280"/>
            <a:ext cx="87631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ARRANGEMENT OF FILAMENTS IN A 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058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80880" y="533520"/>
            <a:ext cx="8534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ACTIN FILA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838080" y="1895400"/>
            <a:ext cx="7648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80880" y="533520"/>
            <a:ext cx="2854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3333cc"/>
                </a:solidFill>
                <a:latin typeface="Arial"/>
              </a:rPr>
              <a:t>MOTOR UN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578400" y="776160"/>
            <a:ext cx="29415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18:25:40Z</dcterms:created>
  <dc:creator>The Staff</dc:creator>
  <dc:description/>
  <dc:language>en-US</dc:language>
  <cp:lastModifiedBy>zálešáková</cp:lastModifiedBy>
  <cp:lastPrinted>2003-11-06T16:19:04Z</cp:lastPrinted>
  <dcterms:modified xsi:type="dcterms:W3CDTF">2012-10-30T13:47:02Z</dcterms:modified>
  <cp:revision>72</cp:revision>
  <dc:subject/>
  <dc:title>No Slide Title</dc:title>
</cp:coreProperties>
</file>