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12.png" ContentType="image/png"/>
  <Override PartName="/ppt/media/image6.png" ContentType="image/png"/>
  <Override PartName="/ppt/media/image23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2.png" ContentType="image/png"/>
  <Override PartName="/ppt/media/image24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26.wmf" ContentType="image/x-wmf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E48A-12F7-4CE7-98AD-E677E796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3D50-0007-49D7-B716-365BC811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B28C-C28A-491C-96EC-B65C0D17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A3CD-6E9A-46ED-B4D9-8E290A76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3F69-77BF-447B-8F7A-BFE6EE27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AFDD-494E-4E1F-A38B-E10C6E34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CD64-2CD5-464F-93BB-E345889C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1004-D2AA-430F-B87B-C77C672E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3D3E-05E0-4ADC-9252-C717AE63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4E2-6C52-4E6C-B648-3CCBF05A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7ACD-6776-4ADB-9CA6-A19DF40F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4F3C-430F-4571-B82D-5CDDD771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B6D3-336E-4EA1-877B-DB825B900D8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2"/>
          <p:cNvSpPr/>
          <p:nvPr/>
        </p:nvSpPr>
        <p:spPr>
          <a:xfrm>
            <a:off x="555480" y="1538280"/>
            <a:ext cx="800604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ESTIM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ODY 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3" descr=""/>
          <p:cNvPicPr/>
          <p:nvPr/>
        </p:nvPicPr>
        <p:blipFill>
          <a:blip r:embed="rId2"/>
          <a:stretch/>
        </p:blipFill>
        <p:spPr>
          <a:xfrm>
            <a:off x="1476360" y="3068640"/>
            <a:ext cx="2590920" cy="2963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somatotyp"/>
          <p:cNvPicPr/>
          <p:nvPr/>
        </p:nvPicPr>
        <p:blipFill>
          <a:blip r:embed="rId3"/>
          <a:stretch/>
        </p:blipFill>
        <p:spPr>
          <a:xfrm>
            <a:off x="5364000" y="2997360"/>
            <a:ext cx="2667240" cy="2997000"/>
          </a:xfrm>
          <a:prstGeom prst="rect">
            <a:avLst/>
          </a:prstGeom>
          <a:ln w="0">
            <a:noFill/>
          </a:ln>
        </p:spPr>
      </p:pic>
      <p:sp>
        <p:nvSpPr>
          <p:cNvPr id="47" name="Line 8"/>
          <p:cNvSpPr/>
          <p:nvPr/>
        </p:nvSpPr>
        <p:spPr>
          <a:xfrm>
            <a:off x="565200" y="571680"/>
            <a:ext cx="7981920" cy="1440"/>
          </a:xfrm>
          <a:prstGeom prst="line">
            <a:avLst/>
          </a:prstGeom>
          <a:ln w="31680">
            <a:solidFill>
              <a:srgbClr val="ff94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 rot="5400000">
            <a:off x="8353440" y="663480"/>
            <a:ext cx="223920" cy="192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 rot="5400000">
            <a:off x="8084520" y="663480"/>
            <a:ext cx="223920" cy="1918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 rot="5400000">
            <a:off x="7819920" y="663480"/>
            <a:ext cx="223920" cy="1922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5" descr="Projekty FSpS MU"/>
          <p:cNvPicPr/>
          <p:nvPr/>
        </p:nvPicPr>
        <p:blipFill>
          <a:blip r:embed="rId4"/>
          <a:stretch/>
        </p:blipFill>
        <p:spPr>
          <a:xfrm>
            <a:off x="0" y="0"/>
            <a:ext cx="32907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skenovat0012"/>
          <p:cNvPicPr/>
          <p:nvPr/>
        </p:nvPicPr>
        <p:blipFill>
          <a:blip r:embed="rId1"/>
          <a:stretch/>
        </p:blipFill>
        <p:spPr>
          <a:xfrm>
            <a:off x="1258920" y="0"/>
            <a:ext cx="66196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252720" y="115920"/>
            <a:ext cx="27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OMEN mean CZ 60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2" descr="BodyType"/>
          <p:cNvPicPr/>
          <p:nvPr/>
        </p:nvPicPr>
        <p:blipFill>
          <a:blip r:embed="rId1"/>
          <a:stretch/>
        </p:blipFill>
        <p:spPr>
          <a:xfrm>
            <a:off x="914400" y="1257480"/>
            <a:ext cx="6629400" cy="5508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msoFC171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skenovat0005"/>
          <p:cNvPicPr/>
          <p:nvPr/>
        </p:nvPicPr>
        <p:blipFill>
          <a:blip r:embed="rId1"/>
          <a:stretch/>
        </p:blipFill>
        <p:spPr>
          <a:xfrm>
            <a:off x="1403280" y="0"/>
            <a:ext cx="625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Body Composition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atiegka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keletal mass (b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at body mass (f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uscle mass (musc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fig_06_01"/>
          <p:cNvPicPr/>
          <p:nvPr/>
        </p:nvPicPr>
        <p:blipFill>
          <a:blip r:embed="rId1"/>
          <a:stretch/>
        </p:blipFill>
        <p:spPr>
          <a:xfrm>
            <a:off x="1476360" y="0"/>
            <a:ext cx="597528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READ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99"/>
                </a:solidFill>
                <a:latin typeface="Arial"/>
              </a:rPr>
              <a:t>biepicondylar hume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99"/>
                </a:solidFill>
                <a:latin typeface="Arial"/>
              </a:rPr>
              <a:t>bistyloid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99"/>
                </a:solidFill>
                <a:latin typeface="Arial"/>
              </a:rPr>
              <a:t>biepicondylar fem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99"/>
                </a:solidFill>
                <a:latin typeface="Arial"/>
              </a:rPr>
              <a:t>bimalle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356000" y="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2195640" y="3429000"/>
            <a:ext cx="2571480" cy="3429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4"/>
          <a:stretch/>
        </p:blipFill>
        <p:spPr>
          <a:xfrm>
            <a:off x="6572160" y="3429000"/>
            <a:ext cx="2571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GIR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99"/>
                </a:solidFill>
                <a:latin typeface="Arial"/>
              </a:rPr>
              <a:t>relax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99"/>
                </a:solidFill>
                <a:latin typeface="Arial"/>
              </a:rPr>
              <a:t>flexed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99"/>
                </a:solidFill>
                <a:latin typeface="Arial"/>
              </a:rPr>
              <a:t>forearm g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99"/>
                </a:solidFill>
                <a:latin typeface="Arial"/>
              </a:rPr>
              <a:t>thigh g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99"/>
                </a:solidFill>
                <a:latin typeface="Arial"/>
              </a:rPr>
              <a:t>calf g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25840" cy="3500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4427640" y="0"/>
            <a:ext cx="2625480" cy="3500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3"/>
          <a:stretch/>
        </p:blipFill>
        <p:spPr>
          <a:xfrm>
            <a:off x="2340000" y="3500280"/>
            <a:ext cx="2517840" cy="3357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4"/>
          <a:stretch/>
        </p:blipFill>
        <p:spPr>
          <a:xfrm>
            <a:off x="6626160" y="3500280"/>
            <a:ext cx="25178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KINFOLD 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ic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ubsca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s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d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uprasp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8000" y="2276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ic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re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d-t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dial ca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80880" y="3808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Body Compos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80880" y="9144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s to the relative amounts of the different compounds  in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57200" y="19051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 Study Body Compos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838080" y="2590920"/>
            <a:ext cx="792504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ff66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weight vs. Over fat vs. Obe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ff66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k for various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ff66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 change from an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ff66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job requirements involve body composition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ff66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hletic/sports prow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ict0022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102" name="Oval 7"/>
          <p:cNvSpPr/>
          <p:nvPr/>
        </p:nvSpPr>
        <p:spPr>
          <a:xfrm>
            <a:off x="7451640" y="1484280"/>
            <a:ext cx="289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8"/>
          <p:cNvSpPr/>
          <p:nvPr/>
        </p:nvSpPr>
        <p:spPr>
          <a:xfrm>
            <a:off x="3635280" y="1773360"/>
            <a:ext cx="28908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1332000" y="2852640"/>
            <a:ext cx="28872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1332000" y="2492280"/>
            <a:ext cx="28872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1"/>
          <p:cNvSpPr/>
          <p:nvPr/>
        </p:nvSpPr>
        <p:spPr>
          <a:xfrm>
            <a:off x="1258920" y="2060640"/>
            <a:ext cx="28872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2"/>
          <p:cNvSpPr/>
          <p:nvPr/>
        </p:nvSpPr>
        <p:spPr>
          <a:xfrm>
            <a:off x="7451640" y="981000"/>
            <a:ext cx="289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2700360" y="3500280"/>
            <a:ext cx="289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4"/>
          <p:cNvSpPr/>
          <p:nvPr/>
        </p:nvSpPr>
        <p:spPr>
          <a:xfrm>
            <a:off x="6012000" y="4581360"/>
            <a:ext cx="28872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5"/>
          <p:cNvSpPr/>
          <p:nvPr/>
        </p:nvSpPr>
        <p:spPr>
          <a:xfrm>
            <a:off x="2843280" y="3573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>
            <a:off x="2771640" y="364500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>
            <a:off x="3708360" y="191628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3780000" y="1844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3924360" y="2565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2"/>
          <p:cNvSpPr/>
          <p:nvPr/>
        </p:nvSpPr>
        <p:spPr>
          <a:xfrm>
            <a:off x="3780000" y="2492280"/>
            <a:ext cx="28872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3851280" y="263700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4"/>
          <p:cNvSpPr/>
          <p:nvPr/>
        </p:nvSpPr>
        <p:spPr>
          <a:xfrm>
            <a:off x="6084720" y="472428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5"/>
          <p:cNvSpPr/>
          <p:nvPr/>
        </p:nvSpPr>
        <p:spPr>
          <a:xfrm>
            <a:off x="6156360" y="4653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keletal mass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7%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uscle mass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6%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at body mass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4%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her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3%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Zástupný symbol pro obsah 3" descr="body-composition-5-components-of-physical-fitness.jpg"/>
          <p:cNvPicPr/>
          <p:nvPr/>
        </p:nvPicPr>
        <p:blipFill>
          <a:blip r:embed="rId1"/>
          <a:stretch/>
        </p:blipFill>
        <p:spPr>
          <a:xfrm>
            <a:off x="-7920" y="907920"/>
            <a:ext cx="9117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BIOELETRIC IMPEDANCE ANALYSIS (BI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2017440"/>
            <a:ext cx="8631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V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m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ody s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-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BIOELETRIC IMPEDANCE ANALYSIS (BI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31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Body fat scales use the Bioelectrical Impedance Analysis (BIA) techniq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his method measures body composition by sending a low, safe electrical current through the bod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he current passes freely through the fluids contained in muscle tissue, but encounters difficulty/resistance when it passes through fat tiss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his resistance of the fat tissue to the current is termed 'bioelectrical impedance', and is accurately measured by body fat sc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When set against a person's height, gender and weight, the scales can then compute their body fat percentag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744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MATOTYPING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he Heat-Carter Somatotype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MAT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1798560"/>
          <a:ext cx="6697800" cy="517680"/>
        </p:xfrm>
        <a:graphic>
          <a:graphicData uri="http://schemas.openxmlformats.org/drawingml/2006/table">
            <a:tbl>
              <a:tblPr/>
              <a:tblGrid>
                <a:gridCol w="669780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9"/>
          <p:cNvSpPr/>
          <p:nvPr/>
        </p:nvSpPr>
        <p:spPr>
          <a:xfrm>
            <a:off x="0" y="23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2276640"/>
          <a:ext cx="8785440" cy="3600360"/>
        </p:xfrm>
        <a:graphic>
          <a:graphicData uri="http://schemas.openxmlformats.org/drawingml/2006/table">
            <a:tbl>
              <a:tblPr/>
              <a:tblGrid>
                <a:gridCol w="1871640"/>
                <a:gridCol w="6913800"/>
              </a:tblGrid>
              <a:tr h="119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ENDOMORP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describes the relative degree of adiposity of body (fat mas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MESOMORP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describes the realtive muscle-skeletal development of the body (apparent robustness - muscle, b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ECTOMORP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describes the relative slenderness of the body (fragilitx of the lim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somatotyp"/>
          <p:cNvPicPr/>
          <p:nvPr/>
        </p:nvPicPr>
        <p:blipFill>
          <a:blip r:embed="rId1"/>
          <a:stretch/>
        </p:blipFill>
        <p:spPr>
          <a:xfrm>
            <a:off x="1547640" y="0"/>
            <a:ext cx="610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Somatotype categori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2276640"/>
          <a:ext cx="9144000" cy="4176720"/>
        </p:xfrm>
        <a:graphic>
          <a:graphicData uri="http://schemas.openxmlformats.org/drawingml/2006/table">
            <a:tbl>
              <a:tblPr/>
              <a:tblGrid>
                <a:gridCol w="4427640"/>
                <a:gridCol w="4716360"/>
              </a:tblGrid>
              <a:tr h="134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Balance endomorph (balance mesomorph, balance ectomorp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 component predominantes, 2 and 3 are balanc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Mesomorphic endomoph (ectomorphic endomorph, endomorphic mesomorph, atd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 component predominantes, 2. is upper than 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endomorph - mesomorph (endomorph - ectomorph, ectomorph - mesomorp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 component is below 3, 2. and 3. are balanc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Central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ll components are 3,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Rectangle 20"/>
          <p:cNvSpPr/>
          <p:nvPr/>
        </p:nvSpPr>
        <p:spPr>
          <a:xfrm>
            <a:off x="1307880" y="53492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971640" y="49320"/>
            <a:ext cx="727236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026"/>
          <p:cNvSpPr/>
          <p:nvPr/>
        </p:nvSpPr>
        <p:spPr>
          <a:xfrm>
            <a:off x="900000" y="476280"/>
            <a:ext cx="699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cc0066"/>
                </a:solidFill>
                <a:latin typeface="Times New Roman"/>
              </a:rPr>
              <a:t>ODY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 M</a:t>
            </a:r>
            <a:r>
              <a:rPr b="0" lang="cs-CZ" sz="3200" spc="-1" strike="noStrike">
                <a:solidFill>
                  <a:srgbClr val="cc0066"/>
                </a:solidFill>
                <a:latin typeface="Times New Roman"/>
              </a:rPr>
              <a:t>ASS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 I</a:t>
            </a:r>
            <a:r>
              <a:rPr b="0" lang="cs-CZ" sz="3200" spc="-1" strike="noStrike">
                <a:solidFill>
                  <a:srgbClr val="cc0066"/>
                </a:solidFill>
                <a:latin typeface="Times New Roman"/>
              </a:rPr>
              <a:t>NDEX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 (BM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28"/>
          <p:cNvSpPr/>
          <p:nvPr/>
        </p:nvSpPr>
        <p:spPr>
          <a:xfrm>
            <a:off x="533520" y="10666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tio of mass to heigh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29"/>
          <p:cNvSpPr/>
          <p:nvPr/>
        </p:nvSpPr>
        <p:spPr>
          <a:xfrm>
            <a:off x="1219320" y="19051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BM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body ma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kg) /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ody he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)</a:t>
            </a:r>
            <a:r>
              <a:rPr b="0" lang="en-US" sz="2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0"/>
          <p:cNvSpPr/>
          <p:nvPr/>
        </p:nvSpPr>
        <p:spPr>
          <a:xfrm>
            <a:off x="457200" y="2438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31"/>
          <p:cNvSpPr/>
          <p:nvPr/>
        </p:nvSpPr>
        <p:spPr>
          <a:xfrm>
            <a:off x="1219320" y="29718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BM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8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kg) /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1.7</a:t>
            </a:r>
            <a:r>
              <a:rPr b="0" lang="en-US" sz="24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) = </a:t>
            </a: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27.6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32"/>
          <p:cNvSpPr/>
          <p:nvPr/>
        </p:nvSpPr>
        <p:spPr>
          <a:xfrm>
            <a:off x="533520" y="3581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MI &lt; 20.0 is considered under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33"/>
          <p:cNvSpPr/>
          <p:nvPr/>
        </p:nvSpPr>
        <p:spPr>
          <a:xfrm>
            <a:off x="457200" y="44197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MI &gt; 30 is associated with greater prevalence of mortality from heart disease, cancer, and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692360" y="0"/>
            <a:ext cx="6350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skenovat0001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801800" y="-15840"/>
            <a:ext cx="7342200" cy="6873840"/>
          </a:xfrm>
          <a:prstGeom prst="rect">
            <a:avLst/>
          </a:prstGeom>
          <a:ln w="0">
            <a:noFill/>
          </a:ln>
        </p:spPr>
      </p:pic>
      <p:sp>
        <p:nvSpPr>
          <p:cNvPr id="139" name="Line 3"/>
          <p:cNvSpPr/>
          <p:nvPr/>
        </p:nvSpPr>
        <p:spPr>
          <a:xfrm flipH="1">
            <a:off x="3995280" y="3068640"/>
            <a:ext cx="48243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 flipV="1">
            <a:off x="5940360" y="1267920"/>
            <a:ext cx="0" cy="53276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5796000" y="292428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51640" y="836640"/>
            <a:ext cx="155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Příklad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Endo 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Mezo 5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Ekto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6372360" y="1989000"/>
            <a:ext cx="86364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1478160" y="6400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8791920" y="26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skenovat0007"/>
          <p:cNvPicPr/>
          <p:nvPr/>
        </p:nvPicPr>
        <p:blipFill>
          <a:blip r:embed="rId1"/>
          <a:stretch/>
        </p:blipFill>
        <p:spPr>
          <a:xfrm>
            <a:off x="4067280" y="-171360"/>
            <a:ext cx="5533920" cy="7029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skenovat0006"/>
          <p:cNvPicPr/>
          <p:nvPr/>
        </p:nvPicPr>
        <p:blipFill>
          <a:blip r:embed="rId2"/>
          <a:stretch/>
        </p:blipFill>
        <p:spPr>
          <a:xfrm>
            <a:off x="-252360" y="0"/>
            <a:ext cx="527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Obrázek 1" descr=""/>
          <p:cNvPicPr/>
          <p:nvPr/>
        </p:nvPicPr>
        <p:blipFill>
          <a:blip r:embed="rId1"/>
          <a:stretch/>
        </p:blipFill>
        <p:spPr>
          <a:xfrm>
            <a:off x="1504800" y="692280"/>
            <a:ext cx="6134400" cy="1174680"/>
          </a:xfrm>
          <a:prstGeom prst="rect">
            <a:avLst/>
          </a:prstGeom>
          <a:ln w="0">
            <a:noFill/>
          </a:ln>
        </p:spPr>
      </p:pic>
      <p:sp>
        <p:nvSpPr>
          <p:cNvPr id="149" name="TextovéPole 3"/>
          <p:cNvSpPr/>
          <p:nvPr/>
        </p:nvSpPr>
        <p:spPr>
          <a:xfrm>
            <a:off x="1979640" y="3240000"/>
            <a:ext cx="630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hank you for your att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ovéPole 4"/>
          <p:cNvSpPr/>
          <p:nvPr/>
        </p:nvSpPr>
        <p:spPr>
          <a:xfrm>
            <a:off x="765000" y="5635800"/>
            <a:ext cx="799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040"/>
                </a:solidFill>
                <a:latin typeface="Arial"/>
              </a:rPr>
              <a:t>Projekt: Zvyšování jazykových kompetencí pracovníků FSpS MU </a:t>
            </a:r>
            <a:br>
              <a:rPr sz="1800"/>
            </a:br>
            <a:r>
              <a:rPr b="0" lang="cs-CZ" sz="1800" spc="-1" strike="noStrike">
                <a:solidFill>
                  <a:srgbClr val="404040"/>
                </a:solidFill>
                <a:latin typeface="Arial"/>
              </a:rPr>
              <a:t>a inovace výuky v oblasti kinantropologie, reg. č.: CZ.1.07/2.2.00/15.01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1116000" y="139680"/>
            <a:ext cx="655164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lementary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6920" y="1484280"/>
            <a:ext cx="583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99"/>
                </a:solidFill>
                <a:latin typeface="Arial"/>
              </a:rPr>
              <a:t>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99"/>
                </a:solidFill>
                <a:latin typeface="Arial"/>
              </a:rPr>
              <a:t>BOD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99"/>
                </a:solidFill>
                <a:latin typeface="Arial"/>
              </a:rPr>
              <a:t>BODY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43" descr=""/>
          <p:cNvPicPr/>
          <p:nvPr/>
        </p:nvPicPr>
        <p:blipFill>
          <a:blip r:embed="rId1"/>
          <a:stretch/>
        </p:blipFill>
        <p:spPr>
          <a:xfrm>
            <a:off x="5651640" y="191628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44"/>
          <p:cNvSpPr/>
          <p:nvPr/>
        </p:nvSpPr>
        <p:spPr>
          <a:xfrm>
            <a:off x="1823760" y="5050440"/>
            <a:ext cx="6002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dy surface S (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- DuBo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 = W </a:t>
            </a:r>
            <a:r>
              <a:rPr b="0" lang="cs-CZ" sz="3600" spc="-1" strike="noStrike" baseline="30000">
                <a:solidFill>
                  <a:srgbClr val="000000"/>
                </a:solidFill>
                <a:latin typeface="Arial"/>
              </a:rPr>
              <a:t>0,425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· L </a:t>
            </a:r>
            <a:r>
              <a:rPr b="0" lang="cs-CZ" sz="3600" spc="-1" strike="noStrike" baseline="30000">
                <a:solidFill>
                  <a:srgbClr val="000000"/>
                </a:solidFill>
                <a:latin typeface="Arial"/>
              </a:rPr>
              <a:t>0,725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· 0,007184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 – body mass (kg); L - height (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skenovat0009"/>
          <p:cNvPicPr/>
          <p:nvPr/>
        </p:nvPicPr>
        <p:blipFill>
          <a:blip r:embed="rId1"/>
          <a:stretch/>
        </p:blipFill>
        <p:spPr>
          <a:xfrm>
            <a:off x="1476360" y="0"/>
            <a:ext cx="66801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53080" y="115920"/>
            <a:ext cx="25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N mean CZ 17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skenovat0010"/>
          <p:cNvPicPr/>
          <p:nvPr/>
        </p:nvPicPr>
        <p:blipFill>
          <a:blip r:embed="rId1"/>
          <a:stretch/>
        </p:blipFill>
        <p:spPr>
          <a:xfrm>
            <a:off x="1042920" y="-38160"/>
            <a:ext cx="7058160" cy="68961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252720" y="115920"/>
            <a:ext cx="28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OMEN mean CZ 16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skenovat0011"/>
          <p:cNvPicPr/>
          <p:nvPr/>
        </p:nvPicPr>
        <p:blipFill>
          <a:blip r:embed="rId1"/>
          <a:stretch/>
        </p:blipFill>
        <p:spPr>
          <a:xfrm>
            <a:off x="1692360" y="0"/>
            <a:ext cx="631656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253440" y="11592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N mean CZ 75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12:18:46Z</dcterms:created>
  <dc:creator>Martina Novotná</dc:creator>
  <dc:description/>
  <dc:language>en-US</dc:language>
  <cp:lastModifiedBy>zálešáková</cp:lastModifiedBy>
  <dcterms:modified xsi:type="dcterms:W3CDTF">2012-10-30T13:37:57Z</dcterms:modified>
  <cp:revision>19</cp:revision>
  <dc:subject/>
  <dc:title>Martina Novotná</dc:title>
</cp:coreProperties>
</file>