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9765-8769-47BF-A34E-0FB83627CD1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897B-C374-4693-BEF6-1E5AB04B57A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395A-EA50-46DF-A381-49C8A4E13B3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 dospělých tento trojpoměr odpovídá:  na  1 g bílkovin a 1 g tuků připadnou 4 g sacharid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B357-FE76-49A9-A94F-C16C149BAC2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Člověk přijímá energii ve formě energie chemické, která je uložena v makronutrientech stravy. Při jejich štěpení se mění chemická energie na energii biologickou  a tato energie  ukládá ve formě  rychle použitelných makroergních vazeb typu ATP. Nadbytečná a zásobní energie se ukládá  do tukové tkán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A443-96AD-4CE5-B2CE-ED88E67EEB8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ýživa se společně s fyzickou aktivitou a genetickými dispozicemi podílí  na výsledním stavu výživového stavu jedi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dividuální výbě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huť závislá na genetických dispozicích a senzorických vlastnostech str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lad a fyziologické potřeby organismu (onemocnění, teplota okolí, fyzickáaktivi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moční naladění osobnosti, psychická a fyzická ún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ýchova: stravovací zvyklosti, náboženství, tra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sažené vzdělání, úroveň znalostí mezio výživou a a zdraví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ivotní styl jedi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jmy, zlozvyky (kuřáctví, drogy, alk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klama, televiz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stupnost potra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inan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tomnost potravin na daném tr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imitovaná náročností přípravy jí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rčena pracovními a sociálními podmínk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bídka ve veřejném stravová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vyvážená strava  s neodpovídající fyzickou aktivitou vede k narušení  výživového stavu a k rozvoji civilizačních chorob, které ovlivňují mortalitu celé populace a také reprodukci popu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3B7E-7890-42AA-B034-3D602E97120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B9D3-6512-41CD-85C5-C573D043E00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mic Sans MS"/>
              </a:rPr>
              <a:t>Kalor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mic Sans MS"/>
              </a:rPr>
              <a:t>Standardní jednotka pro tepelnou energi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mic Sans MS"/>
              </a:rPr>
              <a:t>Množství tepelné energie potřebné ke zvýšení teploty 1 g vody o 1 stupeň, z 15 na 16 st.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mic Sans MS"/>
              </a:rPr>
              <a:t>Kalorie (kilokalorie, kcal = 1000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omic Sans MS"/>
              </a:rPr>
              <a:t>(Joule</a:t>
            </a:r>
            <a:r>
              <a:rPr b="0" lang="cs-CZ" sz="12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1200" spc="-1" strike="noStrike">
                <a:solidFill>
                  <a:srgbClr val="ccccff"/>
                </a:solidFill>
                <a:latin typeface="Comic Sans MS"/>
              </a:rPr>
              <a:t>J</a:t>
            </a:r>
            <a:r>
              <a:rPr b="0" lang="cs-CZ" sz="1200" spc="-1" strike="noStrike">
                <a:solidFill>
                  <a:srgbClr val="000000"/>
                </a:solidFill>
                <a:latin typeface="Comic Sans MS"/>
              </a:rPr>
              <a:t>    (kJ - kilojo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cs-CZ" sz="1200" spc="-1" strike="noStrike">
                <a:solidFill>
                  <a:srgbClr val="000000"/>
                </a:solidFill>
                <a:latin typeface="Comic Sans MS"/>
              </a:rPr>
              <a:t>- stanovena na základě skutečného energetické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243-733C-4E40-BA18-B5AA0A76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A2B-6FC9-4649-B0B3-D620B72A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978-032E-4512-9B76-47681A83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937-B055-41AE-BB8B-C7AA5F4E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DB80-30B1-420F-BA04-C57ADA31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18B6-34B3-4208-9B28-0CCD317F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619E-BE1D-4C76-B460-7A470960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3806-40E2-41DB-B00A-4C90A299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BDC6-01DB-4B19-ADA7-D8C888B9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286E-AA73-4A82-884B-32A0CE7D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6900-ED1B-49EB-B48F-5AC3B099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568-5E51-4145-8303-9FC87C9F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0282-C50F-4361-9C30-94809B07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62B5-0640-4DBC-8660-DA104F34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3ED0-2D2E-46AE-918F-8BFB9122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74FF-D0F9-46C1-9EE4-9E4329A2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AD74-2F2B-4D45-9681-691A4CDA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1E4-802B-4EA2-A781-098D9739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1A5-1662-43D1-B5C8-1885E899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B22-2194-44F4-8503-46EE5EE7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C58-DE1F-4DC2-9FE7-B2219978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341-4514-4FE3-BD15-6E4D301A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A68-F9E4-4D9F-8D16-C2EED351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C4E-C97C-4FE2-A45A-BCAECA73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F429-B432-45CA-A85C-4D9B10AC787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7114-BD8A-48C6-BE75-89E64C51BF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3F1D-5846-49D5-8CC4-7691603CED81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FF50-A049-4C8A-AC30-740C328F9F9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02D3-3578-4613-A1C5-71D803587EF8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A8CD-8E94-4EE9-9E93-09C1387F02D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eec94"/>
                </a:solidFill>
                <a:latin typeface="Comic Sans MS"/>
              </a:rPr>
              <a:t>Fyziologie výživ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rázek trávicí ústro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Zástupný symbol pro číslo snímku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2AE3-3BA4-4040-A23A-368679C19AD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Comic Sans MS"/>
              </a:rPr>
              <a:t>Doporučený trojpoměr základních živi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33520" y="1371600"/>
          <a:ext cx="8229600" cy="4713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cccc00"/>
                          </a:solidFill>
                          <a:latin typeface="Comic Sans MS"/>
                        </a:rPr>
                        <a:t>% CE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cccc00"/>
                          </a:solidFill>
                          <a:latin typeface="Comic Sans MS"/>
                        </a:rPr>
                        <a:t>Děti do ½ rok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cccc00"/>
                          </a:solidFill>
                          <a:latin typeface="Comic Sans MS"/>
                        </a:rPr>
                        <a:t>Děti do 3 le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cccc00"/>
                          </a:solidFill>
                          <a:latin typeface="Comic Sans MS"/>
                        </a:rPr>
                        <a:t>Dospělí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ílkovin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 -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 - 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 - 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k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 – 5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 – 4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 – 3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kry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 – 5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8 – 5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 – 6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D287-CB23-439D-ABB4-2500DE25877F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Zástupný symbol pro číslo snímku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5038-2DBD-4519-9A0F-09E5C9879FC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eec94"/>
                </a:solidFill>
                <a:latin typeface="Comic Sans MS"/>
              </a:rPr>
              <a:t>Základní funkce trávicího systému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cc00"/>
                </a:solidFill>
                <a:latin typeface="Comic Sans MS"/>
              </a:rPr>
              <a:t>Trávení</a:t>
            </a: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mechanické a chemické zpracování potra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cc00"/>
                </a:solidFill>
                <a:latin typeface="Comic Sans MS"/>
              </a:rPr>
              <a:t>Vstřebávání</a:t>
            </a: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resorpce a transport rozložených živin do krevního a mízního oběh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670D-8BB6-4F64-9997-4F4C3B077ECF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Zástupný symbol pro číslo snímku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BB3C-4524-4733-9793-93EF9E8B5A6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eec94"/>
                </a:solidFill>
                <a:latin typeface="Comic Sans MS"/>
              </a:rPr>
              <a:t>Základní funkce trávicího systému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cc00"/>
                </a:solidFill>
                <a:latin typeface="Comic Sans MS"/>
              </a:rPr>
              <a:t>Metabolism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proces výměny látek a energi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přeměna živin po trávení a vstřebávání v organism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základní podmínka  pro zachování existence organism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Podmínka - přísun látek ze zevního prostředí, ze kterých  je možno uvolnit potřebnou energii a budovat organismus. Přívod látek musí být v rovnováze s jejich výdejem. Proto se na metabolismu podílí kromě soustavy trávicí také soustava cévní, dýchací a močová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ffff"/>
                </a:solidFill>
                <a:uFillTx/>
                <a:latin typeface="Comic Sans MS"/>
              </a:rPr>
              <a:t>metabolické pochody</a:t>
            </a:r>
            <a:r>
              <a:rPr b="0" lang="cs-CZ" sz="16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eec94"/>
                </a:solidFill>
                <a:latin typeface="Comic Sans MS"/>
              </a:rPr>
              <a:t>ANABOLICKÉ</a:t>
            </a:r>
            <a:r>
              <a:rPr b="0" lang="cs-CZ" sz="1400" spc="-1" strike="noStrike">
                <a:solidFill>
                  <a:srgbClr val="ffffff"/>
                </a:solidFill>
                <a:latin typeface="Comic Sans MS"/>
              </a:rPr>
              <a:t>  - biosyntéza-vznik nových sl.,  vytváří se energ. zásoby, je třeba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eec94"/>
                </a:solidFill>
                <a:latin typeface="Comic Sans MS"/>
              </a:rPr>
              <a:t>KATABOLICKÉ</a:t>
            </a:r>
            <a:r>
              <a:rPr b="0" lang="cs-CZ" sz="1400" spc="-1" strike="noStrike">
                <a:solidFill>
                  <a:srgbClr val="feec94"/>
                </a:solidFill>
                <a:latin typeface="Comic Sans MS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Comic Sans MS"/>
              </a:rPr>
              <a:t>– rozkladné,  oxidativní procesy, které uvolňují ze sloučenin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eec94"/>
                </a:solidFill>
                <a:latin typeface="Comic Sans MS"/>
              </a:rPr>
              <a:t>AMFIBOLICKÉ </a:t>
            </a:r>
            <a:r>
              <a:rPr b="0" lang="cs-CZ" sz="1400" spc="-1" strike="noStrike">
                <a:solidFill>
                  <a:srgbClr val="ffffff"/>
                </a:solidFill>
                <a:latin typeface="Comic Sans MS"/>
              </a:rPr>
              <a:t>- „křižovatka“, setkávají se a. i k. děje (citrátový cyklu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cc00"/>
                </a:solidFill>
                <a:latin typeface="Comic Sans MS"/>
              </a:rPr>
              <a:t>Energie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je oxidací uvolněna z živ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z chem. energie živin vzniká energie biologická využitelná v or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Organismus má možnost získat energii rozštěpením vysoce energetických makroergních vazeb některých organických lát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Zástupný symbol pro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1B9C-A3C4-437F-9602-33E4A2F2F080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Zástupný symbol pro číslo snímku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900D-1AFB-404D-9C78-4AE1988CB08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Comic Sans MS"/>
              </a:rPr>
              <a:t>Přeměna energi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>
            <a:alphaModFix amt="90000"/>
          </a:blip>
          <a:stretch/>
        </p:blipFill>
        <p:spPr>
          <a:xfrm>
            <a:off x="457200" y="1413000"/>
            <a:ext cx="82296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Zástupný symbol pro číslo snímku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DCF0-CF39-4F3A-B998-0666B783C66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Comic Sans MS"/>
              </a:rPr>
              <a:t>Fyziologie výživ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00"/>
                </a:solidFill>
                <a:latin typeface="Comic Sans MS"/>
              </a:rPr>
              <a:t>Výživa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Významný faktor životního stylu – ovlivňuje zdrav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Pokrývá potřebu energie jedi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Spojena s emocemi, pocity uspokoj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Proces, během kterého organismus využívá potrav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Zahrnuje trávení, vstřebávání, transport, metabolismus a  skladování živ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00"/>
                </a:solidFill>
                <a:latin typeface="Comic Sans MS"/>
              </a:rPr>
              <a:t>Význam výži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Udržování života  (životní funk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Zdrav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Rů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Reproduk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Funkce orgán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Tvorba energ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Zástupný symbol pro číslo snímku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6F6A-5A3C-41AF-8AE5-637C6DCD5F2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eec94"/>
                </a:solidFill>
                <a:latin typeface="Comic Sans MS"/>
              </a:rPr>
              <a:t>Vzájemné interakce mezi výživou, geny a nutričním stavem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50920" y="2349360"/>
            <a:ext cx="208908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Geny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vnější prostřed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mic Sans MS"/>
              </a:rPr>
              <a:t>(př. Fyzická aktivi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2050920" y="4581360"/>
            <a:ext cx="208944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Nutriční sta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3564000" y="2349360"/>
            <a:ext cx="208908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Výž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6588000" y="3068640"/>
            <a:ext cx="223200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Individuální výbě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516720" y="1268280"/>
            <a:ext cx="223200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Dostupnost potrav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8"/>
          <p:cNvSpPr/>
          <p:nvPr/>
        </p:nvSpPr>
        <p:spPr>
          <a:xfrm flipH="1">
            <a:off x="5651280" y="1773360"/>
            <a:ext cx="865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5651280" y="2852640"/>
            <a:ext cx="93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 flipH="1">
            <a:off x="3132000" y="3284640"/>
            <a:ext cx="1511280" cy="129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1258920" y="3284640"/>
            <a:ext cx="1441440" cy="129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2340000" y="2781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Zástupný symbol pro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Zástupný symbol pro číslo snímku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5D13-ECAA-416C-8094-3F51FE4AB13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Comic Sans MS"/>
              </a:rPr>
              <a:t>Energetická rovnováh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99"/>
                </a:solidFill>
                <a:latin typeface="Comic Sans MS"/>
              </a:rPr>
              <a:t>1. zákon termodynamiky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 – energie se ani netvoří a při své přeměně z jedné formy na druhou ani nezanik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99"/>
                </a:solidFill>
                <a:latin typeface="Comic Sans MS"/>
              </a:rPr>
              <a:t>Energetická rovnováha mezi kalorickým příjmem a výdejem ener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Kalorický příjem nižší než výdej = </a:t>
            </a:r>
            <a:r>
              <a:rPr b="0" lang="cs-CZ" sz="2800" spc="-1" strike="noStrike">
                <a:solidFill>
                  <a:srgbClr val="003399"/>
                </a:solidFill>
                <a:latin typeface="Comic Sans MS"/>
              </a:rPr>
              <a:t>negativní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3399"/>
                </a:solidFill>
                <a:latin typeface="Comic Sans MS"/>
              </a:rPr>
              <a:t>rovnováha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 (spotřeba záso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Kalorický příjem je vyšší než výdej  = </a:t>
            </a:r>
            <a:r>
              <a:rPr b="0" lang="cs-CZ" sz="2800" spc="-1" strike="noStrike">
                <a:solidFill>
                  <a:srgbClr val="003399"/>
                </a:solidFill>
                <a:latin typeface="Comic Sans MS"/>
              </a:rPr>
              <a:t>pozitivní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3399"/>
                </a:solidFill>
                <a:latin typeface="Comic Sans MS"/>
              </a:rPr>
              <a:t>rovnováha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 (ukládání energi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Zástupný symbol pro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Zástupný symbol pro číslo snímku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8527-DCD8-4EAF-81DD-335F0C64817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Comic Sans MS"/>
              </a:rPr>
              <a:t>Příjem potrav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00"/>
                </a:solidFill>
                <a:latin typeface="Comic Sans MS"/>
              </a:rPr>
              <a:t>Řízen s velkou přesn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Tělesná hmotnost je určena rovnováhou mezi energetickým příjmem a výdejem – relativně konstantní  v průběhu delšího časového obdob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Příjem – regulace jednotlivými jíd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Výdej - 24 hod. cyklu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Činnost řízená  - </a:t>
            </a:r>
            <a:r>
              <a:rPr b="0" lang="cs-CZ" sz="2800" spc="-1" strike="noStrike">
                <a:solidFill>
                  <a:srgbClr val="cccc00"/>
                </a:solidFill>
                <a:latin typeface="Comic Sans MS"/>
              </a:rPr>
              <a:t>hypotalamická cen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Centrum sytosti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→ odmítání potrav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mic Sans MS"/>
              </a:rPr>
              <a:t>Centrum hladu  </a:t>
            </a:r>
            <a:r>
              <a:rPr b="0" lang="cs-CZ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→ příjem potravy  (poškození centra → anorexi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entrum hladu je trvale aktivní, přechodně je jeho činnost tlumena centrem sytosti  po požití strav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symbol pro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0696-C803-4C10-8A2E-3FD569FD71AC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Zástupný symbol pro číslo snímku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13ED-A154-4A9C-B40A-E12C0489A1C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Comic Sans MS"/>
              </a:rPr>
              <a:t>Příjem potrav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00"/>
                </a:solidFill>
                <a:latin typeface="Comic Sans MS"/>
              </a:rPr>
              <a:t>Stimulace souborem fyziologických informací: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Hladové kontrakce žaludku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aktivace centra pro příjem potravy X distenze žaludku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aktivace pocitu syt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Chladové podněty  (teplo – ztráta chuti k jídl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Teplota krve protékající mozkem –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↓ příjem potrav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Hladina glykémie  - ↓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stimulace příjmu potrav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mpulzy z vyšších oddílů CNS – modifikace potravního chování, zvyklostí, hladu, časového rozvrhu apo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ormony GIT  a jiné (CCK, kalcitonin - 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↓ chuť k jídlu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00"/>
                </a:solidFill>
                <a:latin typeface="Comic Sans MS"/>
              </a:rPr>
              <a:t>Hlad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 – subjektivní pocit s objektivním podklad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Zástupný symbol pro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Zástupný symbol pro číslo snímku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A5A3-4296-4796-81DE-10A19F9F421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Comic Sans MS"/>
              </a:rPr>
              <a:t>Příjem tekutin</a:t>
            </a: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Centrum pro řízení tekut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cs-CZ" sz="2800" spc="-1" strike="noStrike">
                <a:solidFill>
                  <a:srgbClr val="cccc00"/>
                </a:solidFill>
                <a:latin typeface="Comic Sans MS"/>
              </a:rPr>
              <a:t>Hypotalam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Řízení pocitu žízně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Osmolalita plasmy 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žíže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Objem 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Suchost hltanu (produkce slin do D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číslo snímku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CBEB-80B7-407B-A5A4-C79F9C53004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Comic Sans MS"/>
              </a:rPr>
              <a:t>Základní složky výživy</a:t>
            </a: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cc00"/>
                </a:solidFill>
                <a:latin typeface="Comic Sans MS"/>
              </a:rPr>
              <a:t>Makronutrien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mic Sans MS"/>
              </a:rPr>
              <a:t>Sachari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mic Sans MS"/>
              </a:rPr>
              <a:t>Bílkovi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mic Sans MS"/>
              </a:rPr>
              <a:t>Tu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cc00"/>
                </a:solidFill>
                <a:latin typeface="Comic Sans MS"/>
              </a:rPr>
              <a:t>Mikronutrien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mic Sans MS"/>
              </a:rPr>
              <a:t>Vitami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mic Sans MS"/>
              </a:rPr>
              <a:t>Minerá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cc00"/>
                </a:solidFill>
                <a:latin typeface="Comic Sans MS"/>
              </a:rPr>
              <a:t>Vo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Zástupný symbol pro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Zástupný symbol pro číslo snímku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4F50-AC8B-41BF-8B67-C76B624C05C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Comic Sans MS"/>
              </a:rPr>
              <a:t>Fyziologická energetická hodnota </a:t>
            </a:r>
            <a:br>
              <a:rPr sz="3200"/>
            </a:br>
            <a:r>
              <a:rPr b="1" lang="cs-CZ" sz="3200" spc="-1" strike="noStrike">
                <a:solidFill>
                  <a:srgbClr val="feec94"/>
                </a:solidFill>
                <a:latin typeface="Comic Sans MS"/>
              </a:rPr>
              <a:t>živin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248000"/>
                <a:gridCol w="2122560"/>
                <a:gridCol w="1859040"/>
              </a:tblGrid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ccc00"/>
                          </a:solidFill>
                          <a:latin typeface="Comic Sans MS"/>
                        </a:rPr>
                        <a:t>Fyziologická energetická hodnot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ccc00"/>
                          </a:solidFill>
                          <a:latin typeface="Comic Sans MS"/>
                        </a:rPr>
                        <a:t>živin (1 gra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ccc00"/>
                          </a:solidFill>
                          <a:latin typeface="Comic Sans MS"/>
                        </a:rPr>
                        <a:t>k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ccc00"/>
                          </a:solidFill>
                          <a:latin typeface="Comic Sans MS"/>
                        </a:rPr>
                        <a:t>k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k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7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ílkovi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7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 Hrnčiříková</cp:lastModifiedBy>
  <dcterms:modified xsi:type="dcterms:W3CDTF">2011-03-27T18:52:23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9</vt:r8>
  </property>
  <property fmtid="{D5CDD505-2E9C-101B-9397-08002B2CF9AE}" pid="3" name="Version">
    <vt:r8>3</vt:r8>
  </property>
</Properties>
</file>