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621E-4F7E-42B4-A45D-A7D36886EC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čátek trávení cukrů – ústa – slinná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myláza štěpí škroby na dextriny, maltotriózu, maltózu, toto štěpení pokračuje přes jícen  chvíli v žaludku, než se začne secernovat kyselá žaludeční šťáva, jejíž nízké pH inaktivuje  slinnou amylá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duodenu, kam se vylučuje pankreatická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myláza  - dextriny na disacharidy, které jsou v tenkém střevě štěpeny specifickými disacharidázami střevní šťávy  na monosachari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haróza (sacharózou) = glukóza a fruktó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któza (laktázou) = galaktózu  a glukó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óza (maltázou) =  glukóza a glukó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duché cukry jsou aktivně vstřebávány do enterocytů – sekundární aktivní kotransport s Na+  a po gradiendu vydávána pomocí nosiče (usnadněná difúze) z buněk do portální krve. U fruktózy by prokázán pouze pasivní transport a je vstřebávána rychleji než ostatní monosachari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duché cukry mohou být resorbovány do portální krve a dopraveny do jater  a dále do tkání kde představují zdroj energie, nebo se uloží v játrech jako zásobní energie (glykogen). Nadbytečný příjem cukru se uloží  v podobě tu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exóza -  - monosacharid obsahující 6 atomů uhlí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stoupení v potravinách  - nerovnoměrné , nejýznamnějšíé škrob a sacharóza, v menší míře laktó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C83-5361-47D3-9D2A-A435A413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F5F-D826-4CA1-840E-FDD8877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F5-6C1F-46E9-A6D3-04E41A36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042-BD3C-477F-9EF5-294512EB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C74-6C8B-42EF-9A88-9916AEAB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9131-B3BB-45FD-97AD-6EDDFFE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635E-DC73-4466-93C3-BED8A9B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71E-A854-4E05-ACF4-B39CD31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635-B6BD-4A01-B3B7-C33B396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0A3-0D60-4C07-A1AC-F989F67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0772-A582-4136-869E-C42A03C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DE1-3367-4637-A512-9FFBE1C7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7C16-B473-4B33-8661-650F97C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AB37-5566-4886-8FA0-B48400D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5307-2AA0-4A22-8817-BEE748E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5CA1-0FE9-451E-9635-667AA82C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DFD-D9AE-42C5-9F71-EB41DB20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3D8-B7FD-4408-B3D6-BC2EDB7B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62B-8E21-491B-931F-00EDA376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ABF-625C-43A8-BE16-F97B02F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7F0-9661-4896-897E-5ACAC3D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7C1-EC3B-413B-AE85-9D6890B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5D2-743C-4A62-B8E1-997A04B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828-228E-42C0-BFE1-A0053DA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250E-2FEE-4F46-9731-EBDBB32ED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E83-E09F-4C18-97AB-FACC20536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portujeme.sk/image/200407171647_cestoviny.jpg&amp;imgrefurl=http://sportujeme.sk/view.php%3Fcisloclanku%3D2003081401&amp;h=255&amp;w=283&amp;sz=18&amp;tbnid=hzNjyxLTvdRI3M:&amp;tbnh=99&amp;tbnw=110&amp;hl=en&amp;start=2&amp;prev=/images%3Fq%3Dsacharidy,%2Bcukry%2B%26svnum%3D10%26hl%3Den%26lr%3Dlang_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oook.cz/reklamy/stills/korunni-cukr-advent.jpg&amp;imgrefurl=http://www.oook.cz/reklamy/&amp;h=296&amp;w=392&amp;sz=27&amp;tbnid=ERq2njtaGUCGnM:&amp;tbnh=90&amp;tbnw=120&amp;hl=en&amp;start=2&amp;prev=/images%3Fq%3Dcukr%26svnum%3D10%26hl%3Den%26lr%3Dlang_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ivana.friva.net/rs/image/200507081511_cukrenka.jpg&amp;imgrefurl=http://ivana.friva.net/rs/view.php%3Fcisloclanku%3D2005070803&amp;h=561&amp;w=686&amp;sz=22&amp;tbnid=cSA8yLU2trtNZM:&amp;tbnh=112&amp;tbnw=137&amp;hl=en&amp;start=1&amp;prev=/images%3Fq%3Dcukr%26svnum%3D10%26hl%3Den%26lr%3Dlang_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dfklub.cz/fotos/gallery/200410/9801.jpg&amp;imgrefurl=http://www.dfklub.cz/gallery/opinion.php%3Fid%3D9801&amp;h=650&amp;w=650&amp;sz=124&amp;tbnid=uNf3wrqZQje0uM:&amp;tbnh=135&amp;tbnw=135&amp;hl=en&amp;start=28&amp;prev=/images%3Fq%3Dcukr%26start%3D20%26svnum%3D10%26hl%3Den%26lr%3Dlang_en%26sa%3DN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Latin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Comic Sans MS"/>
              </a:rPr>
              <a:t>Sacharidy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860640"/>
            <a:ext cx="2303640" cy="207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221000"/>
            <a:ext cx="2654280" cy="1992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333360"/>
            <a:ext cx="2386080" cy="1949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1280" y="33336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Význam vlákniny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Rozpustn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Částečné rozštěpení v tenkém střevě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gely → zpomalení pasáže v horní části GIT → zvýšení viskozity střevního obsahu → ↓ přístup trávicích  šťáv k substrátům, vazba miner. látek → ↓ vstřebávání živin a žluč. kyselin, zpomalení rychlosti resorpce glu, prebiotik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Nerozpust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bsah stolice (zředění a vazba toxických látek), zkrácení transitního času → omezení resorpce toxických látek, ↓ vstřebávání některých živ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ermentace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MK s krátkým řetězcem (acetát, propionát, butyrát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zdroje  energie pro kolonocyty (80%), snížení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Preventivně x zácpě, polypy a nádory t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střeva, žl. kamen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snižuje cholesterol v kr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35636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Trávení škrob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Dutina ú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škrob – </a:t>
            </a: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slinná </a:t>
            </a:r>
            <a:r>
              <a:rPr b="0" lang="el-GR" sz="24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-amyláza (ptyal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ptim. pH 6,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Žalud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tlumení aktivity ptyali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Trávení škrob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65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enké stře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Enzymy slinivky břišní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         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pankreatická </a:t>
            </a:r>
            <a:r>
              <a:rPr b="0" lang="el-GR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-amyláz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ydrolýza 1,4 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vaz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maltóza, maltotrióza, polymery glu,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limitní dextriny (8 gl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Sliznice tenkého střeva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oligosacharidáz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evní strana kartáčového le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α</a:t>
            </a:r>
            <a:r>
              <a:rPr b="0" lang="cs-CZ" sz="18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-limitní dextrináza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limitní dextr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ukoamyláza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maltóza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g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maltotrióza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g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polymery glu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g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72000"/>
          </a:blip>
          <a:stretch/>
        </p:blipFill>
        <p:spPr>
          <a:xfrm>
            <a:off x="5105520" y="0"/>
            <a:ext cx="40384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Trávení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disacharidů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Tenké stře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Sliznice tenkého střeva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</a:t>
            </a:r>
            <a:r>
              <a:rPr b="0" lang="cs-CZ" sz="16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disacharidáz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Laktóza </a:t>
            </a:r>
            <a:r>
              <a:rPr b="0" lang="cs-CZ" sz="1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→ </a:t>
            </a:r>
            <a:r>
              <a:rPr b="0" i="1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laktáza </a:t>
            </a:r>
            <a:r>
              <a:rPr b="0" lang="en-US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 a 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Maltóza </a:t>
            </a:r>
            <a:r>
              <a:rPr b="0" lang="cs-CZ" sz="1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→ </a:t>
            </a:r>
            <a:r>
              <a:rPr b="0" i="1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maltáza </a:t>
            </a:r>
            <a:r>
              <a:rPr b="0" lang="en-US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 a gl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Sacharóza </a:t>
            </a:r>
            <a:r>
              <a:rPr b="0" lang="cs-CZ" sz="1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→ </a:t>
            </a:r>
            <a:r>
              <a:rPr b="0" i="1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sacharáza </a:t>
            </a:r>
            <a:r>
              <a:rPr b="0" lang="en-US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eec94"/>
                </a:solidFill>
                <a:latin typeface="Comic Sans M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 a fr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dostatek disacharidáz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růjem, nadýmání, flatu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výšené množství osmoticky aktivních  molekul oligosacharidů</a:t>
            </a:r>
            <a:r>
              <a:rPr b="1" i="1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tvorba plynů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ktáza – aktivita klesá s věke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tolerance laktáz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uchy digesce i resorpce při záněte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alphaModFix amt="72000"/>
          </a:blip>
          <a:stretch/>
        </p:blipFill>
        <p:spPr>
          <a:xfrm>
            <a:off x="4067280" y="260280"/>
            <a:ext cx="377964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Trávení oligosacharidů</a:t>
            </a: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cc00"/>
                </a:solidFill>
                <a:latin typeface="Comic Sans MS"/>
              </a:rPr>
              <a:t>Stachyóza, vebaskó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Zastoupeny v luštěni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Člověk neprodukuje enzymy schopné štěpit oligosachar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tlusté střev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tvorba plynů, průj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Oligosacharidy – rozpustné ve vodě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↓ 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bsahu = několik hod. máčení luštěnin ve vodě, klíč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Vstřebávání sacharid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Rychlé – stěnou tenkého střeva </a:t>
            </a:r>
            <a:r>
              <a:rPr b="0" lang="en-US" sz="2000" spc="-1" strike="noStrike">
                <a:solidFill>
                  <a:srgbClr val="cccc00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i="1" lang="cs-CZ" sz="2000" spc="-1" strike="noStrike">
                <a:solidFill>
                  <a:srgbClr val="cccc00"/>
                </a:solidFill>
                <a:latin typeface="Comic Sans MS"/>
              </a:rPr>
              <a:t>v. port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Resorpce – dřív než se zbytky stravy dostanou do terminálního il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Max. rychlost 120 g/ho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Místo vstřebávání – duodenum a proximální jejun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omic Sans MS"/>
              </a:rPr>
              <a:t>Vliv  Na</a:t>
            </a:r>
            <a:r>
              <a:rPr b="0" lang="cs-CZ" sz="2000" spc="-1" strike="noStrike" u="sng" baseline="30000">
                <a:solidFill>
                  <a:srgbClr val="ffffff"/>
                </a:solidFill>
                <a:uFillTx/>
                <a:latin typeface="Comic Sans MS"/>
              </a:rPr>
              <a:t>+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Comic Sans MS"/>
              </a:rPr>
              <a:t> na transport sacharidů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Na</a:t>
            </a:r>
            <a:r>
              <a:rPr b="0" lang="cs-CZ" sz="1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na slizničním povrchu bb.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usnadnění vstupu glu do bb.      a naop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polečný kontran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Na</a:t>
            </a:r>
            <a:r>
              <a:rPr b="0" lang="cs-CZ" sz="1800" spc="-1" strike="noStrike" baseline="30000">
                <a:solidFill>
                  <a:srgbClr val="ffffff"/>
                </a:solidFill>
                <a:latin typeface="Comic Sans MS"/>
              </a:rPr>
              <a:t>+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cs-CZ" sz="1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transport dle koncentračního spádu  + glu   = </a:t>
            </a:r>
            <a:r>
              <a:rPr b="0" lang="cs-CZ" sz="1800" spc="-1" strike="noStrike">
                <a:solidFill>
                  <a:srgbClr val="cccc00"/>
                </a:solidFill>
                <a:latin typeface="Comic Sans MS"/>
              </a:rPr>
              <a:t>sekundárně aktivní transport do ICT, usnadněná či prostá difúze  do 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mic Sans MS"/>
              </a:rPr>
              <a:t>Gal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- stejný mechanism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mic Sans MS"/>
              </a:rPr>
              <a:t>Fru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– absorpce nezávislá na Na</a:t>
            </a:r>
            <a:r>
              <a:rPr b="0" lang="cs-CZ" sz="1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- pomalejší resorp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- usnadněná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- část fru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glu (slizniční bb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alphaModFix amt="78000"/>
          </a:blip>
          <a:stretch/>
        </p:blipFill>
        <p:spPr>
          <a:xfrm rot="21475800">
            <a:off x="-690480" y="-171000"/>
            <a:ext cx="101487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Comic Sans MS"/>
              </a:rPr>
              <a:t>Přehled trávení - sacharid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5040360"/>
          </a:xfrm>
          <a:prstGeom prst="rect">
            <a:avLst/>
          </a:prstGeom>
          <a:ln w="57240">
            <a:solidFill>
              <a:srgbClr val="feec9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Metabolismus sacharidů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Monosacharidy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portální oběh → já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krok v metabolismu glu,fru, gal – fosfory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laktóza → gal-1-P→ glu-1-P (→ glukó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díl na  syntéze glykogenu, reverzibilní reak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l - tvorba glykolipidů, mukoproetinů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ruktóza → fru-6-P → fru-1,6-diP →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→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ru-1-P → dihydroxyaceton a glyceraldehyd → metabol. dráhy gl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kóza, syntéza glykogenu a TA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átra - vysoká schopnost syntézy TA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Využití fosfátů hexó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Štěpení jako energetického substrátu v tkán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řeměna na glykogen (játra, kosterní svalst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řeměna na MK a triacylglyceroly (TAG) (játra, tuková tkáň) – energetická rezer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inoritní část - metabolizace v pentózovém cyklu, syntéza glykoproteinů, glykolipid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Osnov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ýzn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ělení a klas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lákn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áv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střeb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tabolismus sachari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Metabolismus glukóz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cc00"/>
                </a:solidFill>
                <a:latin typeface="Comic Sans MS"/>
              </a:rPr>
              <a:t>Glykolýz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dbourávání glu za anaerobních podmínek na pyruvát či lakt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sk energie 2 ATP/ 1 mol g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es zahrnující několik kroků – viz 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probíhá v mitochondriích, ale v cytoplasm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át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cetyl-CoA (nevratná reak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lakt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lan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rote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yklus kyseliny citrónov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Acetyl-Co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tu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Krebsův cyk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Krebsův cyklus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– oxidace cukrů, tuků i některých AM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Krebsův cyklu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Acetyl-Co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CO</a:t>
            </a:r>
            <a:r>
              <a:rPr b="0" lang="cs-CZ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, vodu a energ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Aerobní oxidace – 38 mol ATP/1 mol g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Průběh – mitochond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Vyžaduje přísun O</a:t>
            </a:r>
            <a:r>
              <a:rPr b="0" lang="cs-CZ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Nefunguje za anaerobních podmínek 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Metabolismus glykog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ykogenez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vorba zásobního glykogenu z glu-1-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Kdy? – při nadbytku glukóz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ložení –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játra (100 g), svaly (300 - 400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Glykogen –zadržuje vo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ykogenolýza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ozpad glykogen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Kdy? – při nedostatku g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drenalin  (aktivace fosforyláz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Fyziologický význam glukóz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Glu - nejrychlejší zdroje ener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cc00"/>
                </a:solidFill>
                <a:latin typeface="Comic Sans MS"/>
              </a:rPr>
              <a:t>Nezbytná pro ery a mozek, nerv. b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Min. potřeba 150 g/24 ho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150 g/24 hod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ukoneogeneze, ketogeneze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energie z MK, vznik ketolátek, pokud produkce předčí utilizaci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ketóza- narušení acidobazické rovnováhy, prevence min. 50 – 100 g sach./d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l. glukózy v krvi – </a:t>
            </a: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ykémie (3,9 – 6,1 mmol/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aterní glukostat – játra udržují konstantní hl. g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Hypoglykémie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kagon, adrenali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bilizace tvorby glu (glykogenolý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Glu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nelze vytvořit z tuků, pouze z malého množství glycero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Hormonální regul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Inzul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Produkovaný B-buňkami Langerhansových ostrůvků pankreat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Stimulační účinek na utilizaci g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Regulátor sekrece – hl. glykémie (g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l. gly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↑ inzulinu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↑ utilizaci glu do bb.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normalizace hl. g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 stimulován také fru, AMK (Arg), glukagon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Glukag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Produkovaný A-buňkami Langerhansových ostrůvků pankrea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Aktivuje jaterní fosforylázu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glykogenolýz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hl. g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Kortikoidy, katecholaminy, hormony štítné žlázy, růstový horm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277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Comic Sans MS"/>
              </a:rPr>
              <a:t>Zisk glukózy za fyziologických podmínek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Přísun z vnějšího prostředí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– jednoduché či složené sachari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Ze zásob – </a:t>
            </a: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glykogen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Glukoneogeneze 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– z AM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Kdy ? -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ladovění, nízký příjem sacharidů, DM, s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lze i naopak  - transaminace produktů metabolismu glu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AM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Faktory určující hladinu glukóz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mic Sans MS"/>
              </a:rPr>
              <a:t>Rovnováha mezi množstvím glu vstupující do krve a množství které krev opoušt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Příjem sacharidů z potr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Rychlost vstupu glu do sval. bb., bb. tukové tkáně a jiných orgán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5% glu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glyk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0 – 40 % glu → tuk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okud jsou naplněny zásoby glykogen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bytek → metabolizace ve svalech a jiných tká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aterní glykogen za hladovění → glukó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életrvající hladovění → vyčerpání glykogenu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glukoneogene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Homeostáza sacharidů při námaz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V klidu  a po náma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spotřeba MK kosterním svalstv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spotřeba glu – moze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</a:rPr>
              <a:t>Fyzická námaha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glykogenolýz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hl. gly, postupné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nižování při náma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glukoneogeneze,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↓ hl. inzulinu,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hl. glukagonu a adrenali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00"/>
                </a:solidFill>
                <a:latin typeface="Comic Sans MS"/>
                <a:ea typeface="Times New Roman"/>
              </a:rPr>
              <a:t>Po fyzické námaze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glukoneogeneze, pokles výdeje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glu z jater (pro doplnění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jaterního glykoge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↑ hl. inzulinu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podpora ukládání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glykog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Sachari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Sacharid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(z </a:t>
            </a:r>
            <a:r>
              <a:rPr b="0" lang="cs-CZ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lat.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Comic Sans MS"/>
              </a:rPr>
              <a:t>saccharum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i="1" lang="cs-CZ" sz="2400" spc="-1" strike="noStrike">
                <a:solidFill>
                  <a:srgbClr val="ffffff"/>
                </a:solidFill>
                <a:latin typeface="Comic Sans MS"/>
              </a:rPr>
              <a:t>cukr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Též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glycid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, nepřesně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cukr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, zastarale a chybně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uhlovodan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nebo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karbohydrát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Organická látka patřící do skupiny polyhydroxyderivátů -  aldehydů nebo ketonů Nízkomolekulární sacharidy jsou rozpustné ve vodě a mají více či méně sladkou chu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Makromolekulární polysacharidy jsou většinou bez chuti a jsou ve vodě jen omezeně rozpustné (škrob, agar) nebo zcela nerozpustné (celulo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Sacharidy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Jsou sloučeniny uhlíku, vodíku a kyslíku, lišící se strukturou a velikostí moleku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Zákl. stavební jednotka  - monosachari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Vazba glykosidická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Zdroj energie pro činnost svalů a moz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00"/>
                </a:solidFill>
                <a:latin typeface="Comic Sans MS"/>
              </a:rPr>
              <a:t>Primární zdroj energie při intenzivním trénin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U rostlin vznikají asimilací vzdušného CO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za přítomnosti vody a denního světla - </a:t>
            </a:r>
            <a:r>
              <a:rPr b="0" lang="cs-CZ" sz="2000" spc="-1" strike="noStrike">
                <a:solidFill>
                  <a:srgbClr val="feec94"/>
                </a:solidFill>
                <a:latin typeface="Comic Sans MS"/>
              </a:rPr>
              <a:t>fotosyntéz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Denní příjem 50 - 60% z celkového energ. příj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Množství energie v 1g = </a:t>
            </a: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4 kcal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17 k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Zásobní glykogen (jaterní a svalov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Dělení a klasifikace sacharidů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Jednoduché sacharid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Monosacharidy 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1 x 6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Disacharidy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2 x 6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Složené  (komplexní)  sachar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Polysacharidy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10 a více 6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Jednoduché cukr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Comic Sans MS"/>
              </a:rPr>
              <a:t>Monosacharidy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Výskyt: </a:t>
            </a:r>
            <a:r>
              <a:rPr b="0" lang="cs-CZ" sz="2800" spc="-1" strike="noStrike">
                <a:solidFill>
                  <a:srgbClr val="feec94"/>
                </a:solidFill>
                <a:latin typeface="Comic Sans MS"/>
              </a:rPr>
              <a:t>ovoce(10 – 12%), med (35%G, 35%F), zelenina, džus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Comic Sans MS"/>
              </a:rPr>
              <a:t>Sladká chu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Glukóza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(hroznový, škrobový cukr, dextróz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Nejrychlejší zdroj ener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Nezbytná pro mozek a ery (150 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Fruktóza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(ovocný cukr, levuló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Galaktóza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(součást mléčného cukr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0560" y="3229560"/>
            <a:ext cx="10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079640" cy="53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Schéma molekuly glukosy "/>
          <p:cNvPicPr/>
          <p:nvPr/>
        </p:nvPicPr>
        <p:blipFill>
          <a:blip r:embed="rId2"/>
          <a:stretch/>
        </p:blipFill>
        <p:spPr>
          <a:xfrm>
            <a:off x="7380360" y="3933720"/>
            <a:ext cx="1523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Jednoduché cuk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isachari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Maltóz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sladový cukr) – 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klíčky obilovin a sla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glukóza + glukó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Sacharóz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řepný, třtinový cukr) – 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řepa cukrová, cukrová třtina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javorový sir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spotřeba 100 – 120 g/os.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denní příjem max. 1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glukóza + fruktó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Laktóz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mléčný cukr) – </a:t>
            </a:r>
            <a:r>
              <a:rPr b="0" lang="en-US" sz="1800" spc="-1" strike="noStrike">
                <a:solidFill>
                  <a:srgbClr val="feec94"/>
                </a:solidFill>
                <a:latin typeface="Comic Sans MS"/>
              </a:rPr>
              <a:t>mléko a mléčné produk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spotřeba 10 – 30 g/os.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glukóza + galaktó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Složené cuk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Comic Sans MS"/>
              </a:rPr>
              <a:t>Polysachar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Stravitelné (amylóza + amylopek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Složené z jednotek g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Škrob – rostlinn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Glykogen  - živočišn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Hl. zdroje v potravě: </a:t>
            </a:r>
            <a:r>
              <a:rPr b="0" lang="cs-CZ" sz="2000" spc="-1" strike="noStrike">
                <a:solidFill>
                  <a:srgbClr val="feec94"/>
                </a:solidFill>
                <a:latin typeface="Comic Sans MS"/>
              </a:rPr>
              <a:t>obiloviny a jejich výrobky (mouka, chléb, rýže, těstoviny, kukuřice, oves..), brambory, luštěniny, zelen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Složené cukr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mic Sans MS"/>
              </a:rPr>
              <a:t>Polysachari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Nestravitelné (vláknin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Částečná až úplná rezistence vúči hydrolýze trávicími šťáv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S výjimkou rozpustné vlákniny, prochází nezměněné tenkým střev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Fermentace enzymy mikroflóry tlustého střeva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M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 g vlákniny = 3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omic Sans MS"/>
              </a:rPr>
              <a:t>DDD 25 – 30g poměr R:N 1: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mic Sans MS"/>
              </a:rPr>
              <a:t>Děl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omic Sans MS"/>
              </a:rPr>
              <a:t>Rozpustná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– pektiny, inulin, fruktooligosacharidy, slizy, gumy, hemicelulózy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cs-CZ" sz="1800" spc="-1" strike="noStrike">
                <a:solidFill>
                  <a:srgbClr val="feec94"/>
                </a:solidFill>
                <a:latin typeface="Comic Sans MS"/>
              </a:rPr>
              <a:t>ovoce, oves, slad, luštěniny, bramb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omic Sans MS"/>
              </a:rPr>
              <a:t>Nerozpustná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– celulóza. Lignin, hemicelulózy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cs-CZ" sz="1800" spc="-1" strike="noStrike">
                <a:solidFill>
                  <a:srgbClr val="feec94"/>
                </a:solidFill>
                <a:latin typeface="Comic Sans MS"/>
              </a:rPr>
              <a:t>zelenina, otruby, celozrnné výrob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17:17Z</dcterms:created>
  <dc:creator>mandelova</dc:creator>
  <dc:description/>
  <dc:language>en-US</dc:language>
  <cp:lastModifiedBy>mandelova</cp:lastModifiedBy>
  <dcterms:modified xsi:type="dcterms:W3CDTF">2006-03-08T14:23:46Z</dcterms:modified>
  <cp:revision>13</cp:revision>
  <dc:subject/>
  <dc:title>Sacharidy </dc:title>
</cp:coreProperties>
</file>