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0651-F0A8-4A0F-B1C2-F305579E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1E4-E15C-4F58-8488-2B78780D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E0B-AB2A-4914-9529-3285E08F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C5E-7C43-4839-A073-899CF831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5779-A349-44F8-BD76-A207E707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E5C1-F514-473C-8028-56C9FD16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0A7C-3099-4C6F-979A-425086C8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802F-9299-4C8E-8D56-01F1666B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C8E5-3A95-425E-8807-1EE95312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D750-3AD4-4B7B-89B6-24B42067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3D1C-5906-43A3-AC90-2E275457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851-BABC-4CD3-AE1D-785E68D4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43B2-E66E-4591-A81B-6A599AF3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5FC6-523C-4BFA-B582-1FC8B1CD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4253-7201-4925-8C83-B9450B2D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6F16-3756-4B25-959A-22BEBA3B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F5FC-A8CF-4D3E-AF4E-614A8F13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1CD2-C207-41C4-9C85-8004BFE0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59C-F51D-46F7-86F3-E884F97E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E69-8E28-48FF-BC4E-9B2117E4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9C6-7A2B-4F56-ACB0-3EF480BD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B63-B3A9-40DB-80FA-EA0430DC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50B-A6BF-45FA-BFD4-4AD62D0A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BB6-65F4-4682-8C56-9BE70136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9C95-37A1-4360-8A26-20099A0079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9E05-25FB-4352-82EB-99500AC6E7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parametrické pořadové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tingenční tabul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 dobré sho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visí spolu skutečnost, že se rodiče respondenta rozvedli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rozvo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vydařenost manželství (rodice), tak jej vnímali respondenti u svých rodičů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visí spolu skutečnost, že se rodiče respondenta rozvedli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rozvo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 a vydařenost respondentova vlastního manželství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funkc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manželství podnikatelů méně vydařená? a co manželství učitelek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ý je vztah mezi hodnocením vydařeností manželství rodičů a hodnocením dětství respondent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parametrické testy najdeme v menu pod </a:t>
            </a:r>
            <a:br>
              <a:rPr sz="3000"/>
            </a:b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alyze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Nonparametric Tes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de si vybereme podle typu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doles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rovnejte, zda se liší školní prospěch chlapců a dívek, měřený proměnno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gr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tázka zněla „Jaké známky jsi měl na posledním vysvědčení?“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měnná má 7 kategorií od 1= převážně jedničky až po 7= převážně čtyřky a pětk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ingenční tabul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tingenční tabulky spočítáme příkazem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alyze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-&gt;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Crosst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u nich zadáme tlačítkem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Statistics…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hi-squar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čekávané četnosti nebo relativní četnosti atd. zadáme tlačítkem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ells…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adoles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3 položky v dotazníku zjišťují výskyt chování pokládaného za nežádoucí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měnná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mok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je odpověď na otázku „Už jsi někdy kouřil/a cigarety?“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měnná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ea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„Už jsi někdy podváděl/a při písemce?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měnná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ea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„Ukradl/a jsi někdy peníze nebo nějakou věc?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liší se výskyt některého z těchto nežádoucích projevů u chlapců a dívek? (proměnná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a u studentů různých typů škol? (proměnná 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school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vot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y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rozdíl mezi muži a ženami v tom, koho volili v prezidentských volbách? (proměnné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pres9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/ vote for clinton, bush, pero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yl rozdíl mezi voliči různého věku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geca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vzdělání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egre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nom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ord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to míry spočítáme spolu s kontingenčními tabulkami - Crosstab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položky men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alyz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escriptive Statistics </a:t>
            </a:r>
            <a:r>
              <a:rPr b="0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rosstab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 zadání proměnných klikneme n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tatistics…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zvolíme příslušné koeficient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polu souvisí model rodinných kompetencí (proměnná model) a vydařenost manželství (rodice), tak jej vnímali respondenti u svých rodičů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jsou zvlášť pro muže a ženy - liší se vztah těchto proměnných u mužů a ž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5-03T18:49:02Z</dcterms:modified>
  <cp:revision>266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