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11A-A381-4A3B-9D25-F3D94648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17C-EDC0-487F-93D2-5733A215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EFC-C4D3-401E-8DA3-B5114B7D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C23-61B2-4951-BC2C-0A76CB0A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9DF7-1E50-4844-AD7B-D6BE7E0C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442-9EA3-43E0-B79F-C63AA4CD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E41D-3571-4845-AD7F-4B425D0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3ADA-BD78-4D9E-88AF-DDC0BAC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6115-A9C4-46D6-9F6A-A68A136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5A08-6B95-426E-A7F6-19ACA76E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2C0-DBB0-492A-90F6-E306A98A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802-E514-44DD-8B95-E45F069E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0D1-1FE9-4957-9389-A25BA2F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6224-D39A-4680-8FCF-2CF797F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1B2-D093-46CB-84AF-5BBC6972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B6F7-915B-4E96-A9CC-06C770DA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A0D7-11C6-4925-A69D-122BEF71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6F1-54F3-4F86-94E0-0BF1B620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F2D-7330-4032-B702-035523EC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1BC-41DE-4E61-B89B-49EDCB5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297-4F55-4E95-92C7-F28A0CAD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D24-AE2C-4812-B59D-E86019E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AEC-A9CA-412E-904B-7B7C9B5C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C37-252B-4B8C-871B-B874BDE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2BE7-F5BE-431A-BDDD-18AE74C448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059C-45F7-4AFD-AF49-13A135992A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podsouboru (Random Sample of Cas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áhodný výběr podsoubo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můžeme nechat vybrat náhodný vzorek případů z datového souboru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de zvolím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andom Sample of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ová chyba průměr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(výběrovou) chybu průměru můžeme vypočítat např. pomocí příkaz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zatrhnem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.E.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olb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Option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Výběrová chyba průměru - příklad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průměr, směrodatnou odchylku a standardní chybu průměru pro věk prvního sňatku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agewed - Age When First Marrie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berte náhodný vzorek o velikosti 10% původního souboru a spočítejte totéž, co v prvním příklad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stupně vyberte vzorky o velikosti 15%, 25%, 40%, 50%, 75% a 90% původního souboru a sledujte, jak se mění průměr v dané proměnné a standardní chyba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y spolehlivosti pro odhad průměru je v SPSS možno vypočítat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plo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 men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Analyze-Descriptive Statistic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příkaz počítá také statistiky pro podsoubory osob vymezené nějakou proměnnou (např. pohlaví responden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Intervaly spolehlivosti pro průmě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y (datový soubo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GSS93subs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věk v době prvního sňatku (pro celý soubor a pro muže a ženy zvlášť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0% a 99% intervaly spolehlivosti pro věk v době prvního sňat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čet hodin strávených denně sledováním televize (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tvhours - Hours Per Day Watching TV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y spolehlivosti pro podí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očítejte 95% interval spolehlivosti pro podíl osob, kter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ouhlasí s trestem smrti za vražd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cappun - Favor or Oppose Death Penalty for Murde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i myslí, že marihuana by neměla být legalizována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grass - Should Marijuana Be Made Lega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ládají svůj život za vzrušují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life - Is Life Exciting or Dull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snášejí heavy metal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hvymetal - Heavy Metal Music, Dislike Very Mu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04:24Z</dcterms:modified>
  <cp:revision>256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