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4EC-1C9F-488C-988C-9E6A5AF6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329-6514-42C3-9886-55833F38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316-8246-4680-BC62-87149A35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A68-5202-4A06-B610-498FDA79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0147-67C2-4BB8-89ED-14D03A27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5A79-5FCE-4579-A57C-EC1EE305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B5B1-4A28-4C06-978E-45E0BEC3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3563-7000-49ED-9652-A594244D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9521-B4B2-4470-B114-BA684252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565C-4B86-4DED-866E-5E2F2A55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2AA8-CF82-480C-9617-725B18EA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856-1924-4D1B-AA34-D3E61A50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B8AB-90FC-48DE-9168-5BA4D1AE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EA6A-360C-4322-A5BA-D1134E29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3BDD-E7FF-4D25-A955-B5CAEA63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A56A-ED6E-4CBA-8367-75BD9CE4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0D20-0D1B-495D-8CE7-0DC0C968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5939-8BB8-4D9B-9BBB-01763EA9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A812-D683-47D2-91C2-A318AE2E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20B-3889-41A9-9343-7C275259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293-6246-44EE-8241-F966B7B6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90BA-BC98-42CD-9017-C50B8771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043-3C11-49CF-8A57-6714EE11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8EE-5FA8-4BD4-ACDF-ECD20719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4BDB-EDAE-4F02-8481-B05D5B25C5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AA41-AF0D-46D3-96D0-81051626AB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eskriptivní statisti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rovnávání průmě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tahy mezi proměn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ztahy mezi proměnný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učitel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ý je vztah mezi délkou praxe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prax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prožívanou zátěží při práci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meist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ý je vztah mezi psychickou odolností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h_skor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prožívanou zátěží při práci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meist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eskriptivní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pište rozdělení hodnot proměnné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idak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vyjadřující počet bodů v didaktickém testu.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 byste řekli o žákovi, který získal 65 bodů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eskriptivní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adolesc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é typy škol navštěvovali zkoumaní adolescenti (proměnná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schoo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? Zobrazte i grafick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é pořadí přisuzovali adolescenti ve svém hodnotovém žebříčku hodnotě "být užitečný společnosti" (proměnná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value4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? Proměnná je ordinální, rozsah hodnot 1-7, kde 1 je vysoce významná hodnota a 7 nevýznamná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eskriptivní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o je nejčastějším předmětem hádek mezi adolescenty a jejich rodiči?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ight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ight1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rovnávání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Employee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 kolik průměrně je rozdíl ve výši nástupního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albegi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současného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alar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platu? je rozdíl statisticky významný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muži a ženy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gend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ve výši nástupního platu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albegi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 v počtu let formálního vzdělání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edu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rovnávání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jaký vliv má na výši platu současně pohlaví zaměstnance a případná příslušnost k minoritě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minori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ztahy mezi proměnný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ý je vztah mezi pohlavím zaměstnance a jeho pracovním zařazením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jobca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ztahy mezi proměnný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adolesc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adolescenti z různých typů škol (school) ve své preferenci hodnoty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mít uspokojující práci (value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adolescenti z různých typů škol v položce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už jsi někdy něco ukradl? (steal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ztahy mezi proměnný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chlapci a dívky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e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v tom, jak jejich rodiče kontrolují, kam jdou večer ven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monit0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 Klimusová</cp:lastModifiedBy>
  <dcterms:modified xsi:type="dcterms:W3CDTF">2003-05-19T06:22:05Z</dcterms:modified>
  <cp:revision>299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