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1C1-A631-4D62-8B94-2987D4A5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24A-E4EC-440F-9FE6-BBC92F32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8C5-38E9-4228-99DF-F75E147A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60F-E787-42C8-B876-7033F3DA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4115-4CB0-46E5-8CE0-C0953B7D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22AA-348D-404A-A905-6178FB89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1FA-AF0B-4B0D-AAFD-A4B6EA44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3F4-AC5B-4C3E-B95D-46878DDA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7A97-B4A5-4949-B40F-ACC7F76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2607-35DE-4626-B8AA-57AE0645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B1E-CF71-4249-95E5-BEC4AEC7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D0F-9D8C-4C68-B2CB-C8BF08C5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C43E-A295-42B5-8A48-4584BB5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F10-39D6-4B60-8A2E-FDBA491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553-B7BE-4C6A-8615-5E4F486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6AE6-3B3C-417C-A5D3-D8B1D51E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0A14-1DEF-4168-8358-E00A96F4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1C4-4448-4B90-9557-B4B5EFC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1C3-6445-4A63-8016-08AD5F67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9A3-7EFB-4F95-BECE-E4B6FF7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AB5-DD6E-49AF-8639-6F8E515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BFF-A7C9-4138-8152-071A3DD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3BE-1219-48CF-9E74-88F4958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15A-6D43-4EEC-A186-DBA3388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E49D-E9F7-4A39-97F0-3E6611C0FF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AE27-96B1-4851-A144-B1AA55B1C4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mploye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 které proměnné dokážeme nejlépe předpovědět současný pl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acovníka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měnná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ala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ko nezávislé proměnné zadejte předchozí zkušenosti pracovníka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vex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vzděl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, délku zaměstnání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jobti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příslušnost k minoritě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inorit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pl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o grafické zobrazení vztahu dvou kardinálních proměnných použijeme 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plot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stup je 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catter…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Simpl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ahom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okud rozlišujeme závislou a nezávislou proměnnou, nezávislá se obvykle zadává jako osa X a závislá jako osa Y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earsonův koeficient spočítáme korelace přes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late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Bivari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pro pořadová data spočítáme Spearmanův koeficient korelace (zatrhneme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Spearma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inteligence měřená testem ait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školní výsledky, tj. počet bodů v didaktických testech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ouvisí spolu inteligence a postoj ke škole a učení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osto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učitel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délka prax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ax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neuropsychická zátěž při prác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eist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á psychická odolnost (celkové hardiness skore –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h.skor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extraver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xtrave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korelace ze třetího příkladu bez outlier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á číslo 57 (v souboru je 44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straníte ho pomocí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elect cases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f condition is satisfied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islo ~= 57</a:t>
            </a:r>
            <a:br>
              <a:rPr sz="2600"/>
            </a:b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(korelace se zvýší z 0.307 na 0.37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dnoduchou i mnohonásobnou lineární regresi zadáme z 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Linear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o políčka Dependent zadáme závislou proměnno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(s)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 zadáme nezávislou proměnnou (či proměnné - pro mnohonásobnou regres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volíme metodu, jak mají nezávislé proměnné vstupovat do analýzy standardně je nastavená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– všechny najednou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ále můžeme zadat grafy (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Plots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, nechat uložit spočítané hodnoty (např. predikované hodnoty, reziduály apod. - </a:t>
            </a:r>
            <a:r>
              <a:rPr b="0" i="1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Save</a:t>
            </a:r>
            <a:r>
              <a:rPr b="0" lang="cs-CZ" sz="30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jaký je vztah mezi úrovní obecných rozumových schopností (měřeno testem inteligence AIT) a výsledkem v didaktických testech. (spočítejte jednoduchou regresní analýz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stěte, které proměnné také ovlivňují výsledek didaktických testů - inteligence, postoj k učení, dobré a špatné chování ve ško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1:03:38Z</dcterms:modified>
  <cp:revision>257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