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BE4-AF91-4B29-B0EF-0823FB81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696-E905-4325-8438-9C3212BB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535-430A-4EFD-BA84-CC6351D1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70B-E978-4FDE-A554-2DCD50E0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48C2-9460-498D-9D24-6CDF1172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FC98-BCCD-4209-AC5B-F5CBE3B8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EDCE-F7D5-41D4-A651-5E9F5E4B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84FC-78FD-40AC-89B4-DE998271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2B67-7EF2-4A44-881F-4BF44705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5924-D9C2-4065-A1E6-0AC0454D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42D8-CDF9-4D21-A315-44ADAA45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93E-5034-42FC-8E5D-3BF8DAD4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2093-4B9C-4757-80B7-67B97B56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E09C-32E7-45CC-9C71-864FA0A4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5FBB-6B73-4582-9B78-3AEF986A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BD1B-FB10-4F2E-972C-C6BF78FC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0BCA-A24E-448D-9365-D54F9DC1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3254-4462-4E61-87B5-423F172D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89D-95C9-4AEE-80A4-861246DB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73F-4CC4-46A2-B0C3-2362007D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CAE-429D-46B6-B46C-331FB837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70C-5861-4140-B2A8-07C8F0CA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E90-5D14-4323-BF7C-2CA6B0C9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B19-30E5-44DA-8B34-55CC4171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BD4F-3DC3-46FB-9062-6298B1A9BB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A173-F872-41AF-9D6C-963DC1B437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y četností (Frequenci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 a var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pisné statistiky (Descriptiv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abulky četnos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y četností vytváříme příkazem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requenci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ožka menu ANALYZ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requenc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abulky četnos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vybereme ze seznamu zobrazeného vlev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rovněž nechat zobrazit grafy (jeho typ zvolíme kliknutím na Char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spočítat statistiky (Statistic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běr podsouboru případ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 výběru podsouboru případů, vymezených určitou kategorií proměnné, slouží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elect Cas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oložka men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chceme pouze spočítat výsledky zvlášť pro každou kategorii určité proměnné, použijeme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plit Fil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tamtéž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 (Frequencie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bylo složení souboru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adolescen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(pohlaví, věk, typ školy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pište, k jakému náboženství se respondenti hlásí, jakou udávájí míru religiozity a frekvence návštěvy kostela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relig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howrelig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urchgo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lik sourozenců adolescenti nejčastěji mají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ib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a kolik přátel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rndnum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Kolik % adolescentů má max. 5 přáte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terý z nežádoucích projevů je u adolescentů nejčastější - krádeže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ea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, kouření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mok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 nebo podvádění při písemkách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ea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Jak je tomu u dívek a chlapců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chování adolescentů je pro jejich rodiče nejméně přijatelné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fl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fl1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nejčastějším předmětem hádek mezi adolescenty a jejich rodiči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ght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ght12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nejčastějším předmětem kontroly adolescentů ze strany rodičů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onit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onit10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cripti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intervalové a poměrové proměnné můžeme využít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scriptiv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ožka menu ANALYZ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vybereme ze seznamu zobrazeného vlevo a konkrétní statistiky jsou pod položk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ptions...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Employe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lik mužů a žen? V kterém oddělení je nejvíce pracovníků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mají vzdělání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ý je průměrný plat? průměrný nástupní pla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 kterém oddělení jsou nejvyšší plat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rozdíly mezi platy mužů a žen?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3-16T07:08:34Z</dcterms:modified>
  <cp:revision>254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