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686-3162-48A5-8C22-B81EC63D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D67-1BA5-4C4E-AC4F-347B45B5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982-3522-403E-904D-166D7EC3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02A-065E-4108-B6DB-6BF4AABF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263B-8B99-4AB4-A8FB-E8296E2F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5E0A-BEB2-4E58-8AAC-EB616BCE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09CF-B0E2-4699-8331-1E9E33FF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D16F-FDFF-4142-A556-E25F6C71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44AD-5667-48D3-B005-BB3C4E19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ABEB-6F08-4465-9C71-C98FFD64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65ED-B249-495A-913A-171F920D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A0E-DD13-4762-B5F1-0F9E0808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D9B6-1F11-413C-99B4-27BB915F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1059-BC66-4399-8F13-34B7C14B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DB9C-FBBF-4731-A091-AEA6C467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603F-A237-4346-8BAC-1802A07E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87D9-7D8C-4996-B312-CA409DFC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54B-7F10-48F3-BDAE-C2669722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2BF-F4A7-46EF-8C22-599BA7D1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489-CEA0-49E1-812E-5DCD910D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EB8-E056-47B5-9A2A-BE042B23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692-EC0B-4471-8608-98D77F3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99C-555A-48A9-A3F9-40B1220B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FCF-AC09-46ED-A1A8-4111E88F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4F76-EE46-44F4-BF07-6B15DEC072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AC02-F037-400D-A339-CD33AFBF0C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cedura Explore, krabicové grafy, graf stonek a li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anipulace s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novou proměnnou, která rozdělí soubor podle výsledků v didaktickém testu na dvě polovi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popisné statistiky všech proměnných, zobrazte 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rdinální proměnné použijte proceduru Expl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očítejte popisné statistiky všech proměnných, zobrazte 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rdinální proměnné použijte proceduru Expl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sledky v didaktickém testu zobrazte zvlášť pro žáky z měst, velkoměst a vesnic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brácení polože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některé položky bývají formulovány v opačném směru než zbytek škály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jich hodnoty je třeba překódovat (např. u 5 bodové škály se bude 1 rovnat 5, 2 bude 4 atd. až 5 bude 1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orec pro obrácení škál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ová hodnota = nejvyšší hodnota +1 – stará hod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e možno provést pomocí příkazů COMPUTE nebo RE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počet celkových skórů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inou součtem hodnot několika proměnných (příp. průměr atp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azu COMPUTE se zadá příslušný vzorec,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pro součet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elk = p1 + p2 + p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rovnou funkce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br>
              <a:rPr sz="3000"/>
            </a:b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elk = sum (p1 TO p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ransformace d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loučení hodnot proměnný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např. ze 7 bodové škály chceme udělat 3 bodovou; nebo z věku zadaného v letech vytvořit 3 věkové skupi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az RE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z proměnné OBEC novou proměnnou, která rozdělí žáky na žáky z měst (včetně velkoměst) a vesn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tvořte novou proměnnou, která bude rozdílem mezi počtem pozitivních a negativních projevů žáků ve ško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rozdíl porovnejte u žáků z městských a vesnických škol (pomocí Explor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05T22:24:10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