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ADA-AC1C-4D43-9BB8-0FAD0182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E81-BE7C-4088-BEF2-E1D752E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18B-3508-484C-9400-ABD91E01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AEF-6029-42BC-9B7A-9A453F73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1C83-1DF8-4BAB-8382-87D0ABA9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B3E8-40F5-4341-8B61-83E4935A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83BD-C300-4703-8540-BB7BC203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9909-B0B0-4884-A517-D014922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6DC-1C4D-4BC0-9196-74F60917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015-051A-47FD-BAE6-E7F3491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91BC-8E95-4D2D-A3DE-796F18C6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045-64D7-4E15-BDC5-E63D2155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0BE-6C3B-40B2-A32E-537BBFC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A999-BE67-41E1-85A1-8E713472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F7F2-B59D-4AF0-9090-A6671D3C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EA02-058C-4BC8-A345-C8C6D80C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A54C-C2CD-407A-A31D-5E2A06EF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F05-DC30-44AB-A132-0933F9C5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39F-3AED-4E9E-91B6-93F2588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77F-CC60-435C-9AF8-4D24BF1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307-27C9-46D5-BE23-2F07A5A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11D-C7AC-4A4A-B7B8-505AE746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D4A-76D9-44C8-9C43-B78476D1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E7D-28AA-4A79-9B6A-7115E2EF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F75-BF2D-48BA-A751-2E2D133D81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973-5902-4D07-9A16-5537B0ECAA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ne-way ANO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u rozptylu s jedním faktorem je možno zadat v Compare Means   One-Way 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skriptivní statistiky, grafy a testy homogenity rozptylů se zadávají v O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ní v Post H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2492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ano, který typ obce se průkazně liší od které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statní typy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zadávají přes Analyze 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eneral Linear Mode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GL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Univariate se zadává faktoriální ANOVA (a 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ultivariate se zadává 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epeated Measures se zadává analýza pro 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OVA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žáci z velkoměst, měst a vesnic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b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a žáci s běžnými osnovami a s osnovami Obecná škola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 průměrném počtu bodů na didaktické testy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okně se zadává počet opakování měření (number of level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ásledujícím okně se přiřadí proměnné z jednotlivých měření a případné další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sahuje data ze 4 následných měření – počet chyb v testu paměti (proměnné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trial1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ž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trial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ované osoby byly rozděleny na dvě skupiny – s vysokou úzkostí a nízkou úzkostí 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xie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počet chyb v testu mezi jednotlivými měřeními sníž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a se v počtu chyb lišili úzkostní a neúzkos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zda se u těchto dvou skupin lišil průběh testování (snižování chyb v následných měření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dolesc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ěte, zda se dívky a chlapci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liší ve svých hodnotových preferencích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ž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value7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14:56Z</dcterms:created>
  <dc:creator>Helena Klimusová</dc:creator>
  <dc:description/>
  <dc:language>en-US</dc:language>
  <cp:lastModifiedBy>Helena</cp:lastModifiedBy>
  <dcterms:modified xsi:type="dcterms:W3CDTF">2004-04-27T05:27:53Z</dcterms:modified>
  <cp:revision>12</cp:revision>
  <dc:subject/>
  <dc:title>Snímek 1</dc:title>
</cp:coreProperties>
</file>