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0D9-D7AA-4521-BA0E-EF72668E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DE4-6F3E-4D13-AEF8-03DFC180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223-4FA5-4EE2-8D6D-1184B15A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8EF-28B3-469C-AD6F-5668020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F730-67FC-46B6-93C6-85D388E9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F40-4575-46D4-96EF-EE8154E1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015B-073F-41FC-A887-E22F794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3F8-2072-4D95-A0BD-7F4BD75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A65-95CC-42E7-80AF-5EE1D43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78E-80A3-4811-95A6-1BBAC33C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C4B3-DD31-43A3-AB4A-8CFE548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54E-066D-4174-9E14-0263C0C8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6E57-DA4F-4937-80AB-D36F532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B526-834A-4962-9A5A-14C0603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531E-7B46-4A00-B4BB-32BDE1D2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985-D00E-4604-B77D-AB7CD08B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4F6-6FA7-401F-B926-40FF94CF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E56-B2D5-44BF-B5B6-CA58602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3B5-592A-4E08-A581-90E85C39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452-EAA7-4930-B2AF-892E678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7BC-EFDF-4CF7-A0D5-55FC2C1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9DA-169C-4DBD-A7F2-B4ADF3D7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5E8-4ADA-4C64-A3C5-68D5FC0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84B-2DD2-4810-AEED-22C00F6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F3E6-EBF7-4A8F-AB17-91F70DB7EA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2495-4FD9-4487-9FDF-899FA2B608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výběrový t-te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ednovýběrový t-test testuje, zda se průměr konkrétní proměnné liší od zadané hodnoty (např. průměr populac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norma…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One-Sample T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a hodnotu (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Test Value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můžeme případně zadat konfidenční interval (je přednastaven na 95%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596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výběrový t-t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qvys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V populaci je průměrný IQ skór 100 bodů. Zjistěte, zda se průměrný počet bodů u zkoumaného vzorku liší statisticky významně od populac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ředpokládejme, že průměrná výška mužů v celé populaci je 179,5 cm. Spočítejte, zda se průměrná výška ve výběrovém souboru liší statisticky významně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stuje rozdíly mezi průměry dvou skupin případ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Independent-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dáme testovanou proměnnou (Test Variable) a proměnnou r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ělující soubor na podskupiny (Grouping Variab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!j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 nutno skupiny dále vymezit hodnotami proměnné (Define Group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ne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Verdana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inteligenční test AIT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ait_celk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jistěte, zda je statisticky významný rozdíl mezi průměrným počtem bodů na didaktické test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didak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 mezi žáky programu Obecná škola a žáky základní školy (proměnná </a:t>
            </a:r>
            <a:r>
              <a:rPr b="0" i="1" lang="en-GB" sz="2600" spc="-1" strike="noStrike">
                <a:solidFill>
                  <a:srgbClr val="000000"/>
                </a:solidFill>
                <a:latin typeface="Verdana"/>
              </a:rPr>
              <a:t>skupina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to t-test se používá k porovnání průměrů dvou proměnných u jedné skupiny osob, např. měření před a po působení nějaké proměnné. Jiná možnost je porovnávat skutečné páry osob v určité proměnné (pak musí být tyto proměnné v datech jako jeden případ – pá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říkaz vyvoláme z menu přes Analyze Compare Means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aired-</a:t>
            </a: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amples T Test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80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-test pro závislé výbě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říkla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 datovém souboru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anx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najdete údaje o úzkostnosti pacientů před terapií a po terapii. Kromě toho, byly pokaždé použity dva dotazníky: v jednom dotazníku posuzovali svou anxietu sami (anx_sub) a ve druhém byli posuzováni nezávislým odborníkem (anx_obj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jistěte, zda se úroveň úzkosti po terapii změnila a zda je rozdíl statisticky významný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GSS93 Sub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průměrný počet dětí v tomto souboru amerických respondentů od evropského průměru 1,79 dítěte (pozn. fiktivní hodnota)?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měnná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ild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alší příklady na procvič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1991 U.S. General Social Surve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uži a ženy v míře prestiže jejich povo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restg8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ší se matky a otcové respondentů v počtu let formálního vzdělání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ma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liší se respondenti a jejich manželky/manželé? (proměnné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spedu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9T09:17:10Z</dcterms:modified>
  <cp:revision>270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