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261-31FA-4D50-8059-23D955A6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037-34D3-4211-8174-6B9F24EC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E55-76B5-417C-BB6C-5452BB05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0EC-FE69-4E24-B75A-BA63421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AE50-7149-47EC-9E17-160AFF81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7C7C-1824-4B5A-9BA8-8A2AFDA6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871-8616-46C9-BD8A-F2FD34F7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8C33-A127-4728-AAEA-C20FD38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2D8-E48C-43EF-A0EA-A14A44A0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5D54-A410-4759-99B0-7FA5BEE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D9DC-539E-4BDB-8C78-2D6C8FE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AF5-50FA-4103-89EA-08C628B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8928-7129-47BB-923B-30465CA9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D1C3-11C0-4832-8907-8F6378C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C56-456C-4C06-B8E0-B453A77B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7E62-A03D-4772-B1C3-E293AD9A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A7C3-D020-4B90-B28B-761E68CF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9B8-EA59-4062-83AD-E836041F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75D-ABA5-478D-A549-3153911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762-02DC-4579-AE42-5509F39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037-0870-40F7-9CA0-A99B4FD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DEA-3B5F-45F9-ADA2-306EA09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8F7-1F1C-4881-B1A9-83F71BA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F78-2F86-4445-A67D-2C4F7CC6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7C1-0641-4EB1-A5B3-09ED784BE9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4D8-9F13-45AD-AB1D-165BFF978A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(Frequenc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a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isné statistiky (Descripti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y četností vytváříme příkazem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requenci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requenc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abulky četnos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rovněž nechat zobrazit grafy (jeho typ zvolíme kliknutím na Char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spočítat statistiky (Statist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běr podsouboru případ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 výběru podsouboru případů, vymezených určitou kategorií proměnné, slouží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elect Cas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ložka men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pouze spočítat výsledky zvlášť pro každou kategorii určité proměnné, použijeme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lit Fi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amtéž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 (Frequenci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bylo složení soubor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olescen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ohlaví, věk, typ školy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pište, k jakému náboženství se respondenti hlásí, jakou udávájí míru religiozity a frekvence návštěvy kostela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relig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howrelig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urchgo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lik sourozenců adolescenti nejčastěji maj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ib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a kolik přátel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rndnu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Kolik % adolescentů má max. 5 přát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terý z nežádoucích projevů je u adolescentů nejčastější - krádeže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ea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, kouření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mok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 nebo podvádění při písemkách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hea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? Jak je tomu u dívek a chlapců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ké chování adolescentů je pro jejich rodiče nejméně přijatelné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arfl1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hádek mezi adolescenty a jejich rodiči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ght12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o je nejčastějším předmětem kontroly adolescentů ze strany rodičů? 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monit10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Descrip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intervalové a poměrové proměnné můžeme využít příkaz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scriptive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ožka menu ANALYZ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 Statistics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Descrip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měnné vybereme ze seznamu zobrazeného vlevo a konkrétní statistiky jsou pod položk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ptions...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lik mužů a žen? V kterém oddělení je nejvíce pracovníků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mají vzdělání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ý je průměrný plat? průměrný nástupní pl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 kterém oddělení jsou nejvyšší pla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rozdíly mezi platy mužů a žen?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3-16T23:27:05Z</dcterms:modified>
  <cp:revision>25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