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D4BD-0DCB-4C37-B424-5463065EC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96AA-F1B1-4D5F-809B-6333062C3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7864-E2FF-421E-B1E0-AF2CC3332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DEEB-8B97-409F-9B33-C9C88D466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7DFB8-8436-4A8F-9388-9553726AB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7CCF5-3B76-4313-98DB-121B958DF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98198-B59D-49B9-9B0C-991BD0EF2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6571A-CD25-4AAD-BFF4-EBBF2BD55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680EA-69A3-48ED-875C-CEBC6CA5E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D28A5-176B-4894-8AB6-4FA1C5CAE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E7A93-86F3-4CD1-A093-C224E5B8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29F7-31C9-4162-948A-2F72D2254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30E49-159F-4F6C-904A-B2AD8E28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2AF9D-1ECE-4E81-9B65-5EEA73B6E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DD758-9195-4F98-9D87-D404B984E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A74BD-54AC-4674-999F-2836AF0A2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2CA84-3136-479B-B53F-1E4F1A2EB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6214-151A-49A0-9F0B-A7CF9F7E4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17C4-CF33-4EF7-8459-09DDD8E65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1F86-EE00-4556-B5E3-774F2BBA3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C917-4B05-4CF3-8397-483546750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80A1-AE23-44D8-BC22-D38D3946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A88A-0236-40D8-9831-4A1831BF1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2E1B-B099-4BA4-A923-A6C2DA3E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D5C18-2E61-4AEB-9D0B-22D0FF0985E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536DA-5A68-4A5F-A6B3-C9BB84264DD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prava dat před analýzo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uspořádání d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kontrola přesnosti d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ytvoření struktury databáz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kládání dat do PC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ransformace d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Vytvořte strukturu databáze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, obsahující tyto proměnné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číslo osob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méno osob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ěk (v letech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hlaví </a:t>
            </a:r>
            <a:br>
              <a:rPr sz="3000"/>
            </a:b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(0 = muž, 1 = žena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odinný stav </a:t>
            </a:r>
            <a:br>
              <a:rPr sz="3000"/>
            </a:b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(0 = svobodný, 1 = ženatý/vdaná, 2 = rozvedený, 3 =vdovec/vdova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říjem (Kč/měsíc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čet dět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odpověď na položku 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Většinou jsem se sebou spokojen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odpověď na položku 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Občas si připadám jako bezcenný člověk</a:t>
            </a:r>
            <a:br>
              <a:rPr sz="2600"/>
            </a:b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odpověď na položku 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Mám sám sebe rád</a:t>
            </a:r>
            <a:br>
              <a:rPr sz="2600"/>
            </a:b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(1 = vůbec nesouhlasím, 2 = spíše nesouhlasím, 3 = něco mezi,  4 = spíše souhlasím, 5 = zcela souhlasím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Data uložte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do souboru pod názvem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estee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Zadejte fiktivní data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5 – 10 osob: u jedné z osob budou některé údaje chybět (např. neuvedla příjem a odpověď na položku 8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Zkontrolujte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, zda rozsah hodnot proměnných u zadaných dat odpovídá předpokládanému rozsah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Vytvořte novou proměnnou – celkové sebehodnocení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, která bude průměrem z položek 8 – 10</a:t>
            </a:r>
            <a:br>
              <a:rPr sz="3000"/>
            </a:b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(! Ještě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ředtím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je třeba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obrátit položku 9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, která je formulována v opačném směru než ostatní dvě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000000"/>
                </a:solidFill>
                <a:uFillTx/>
                <a:latin typeface="Verdana"/>
              </a:rPr>
              <a:t>Vytvořte novou proměnnou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, která rozdělí soubor na dvě skupiny – </a:t>
            </a:r>
            <a:r>
              <a:rPr b="0" lang="cs-CZ" sz="2600" spc="-1" strike="noStrike" u="sng">
                <a:solidFill>
                  <a:srgbClr val="000000"/>
                </a:solidFill>
                <a:uFillTx/>
                <a:latin typeface="Verdana"/>
              </a:rPr>
              <a:t>bezdětné osoby a osoby s alespoň jedním dítětem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(zachovejte i hodnoty původní proměnné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000000"/>
                </a:solidFill>
                <a:uFillTx/>
                <a:latin typeface="Verdana"/>
              </a:rPr>
              <a:t>Vytvořte novou proměnnou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, která rozdělí soubor na </a:t>
            </a:r>
            <a:r>
              <a:rPr b="0" lang="cs-CZ" sz="2600" spc="-1" strike="noStrike" u="sng">
                <a:solidFill>
                  <a:srgbClr val="000000"/>
                </a:solidFill>
                <a:uFillTx/>
                <a:latin typeface="Verdana"/>
              </a:rPr>
              <a:t>tři příjmové skupiny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– osoby s příjmem pod 10 tis. Kč, 10 tis. – 20 tis. Kč a nad 20 tis. Kč (zachovejte i hodnoty původní proměnné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u všech proměnných (včetně nově vytvořených) určete,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na jaké úrovni měření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jsou měřen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5T18:17:40Z</dcterms:created>
  <dc:creator>Helena Klimusová</dc:creator>
  <dc:description/>
  <dc:language>en-US</dc:language>
  <cp:lastModifiedBy>Helena</cp:lastModifiedBy>
  <dcterms:modified xsi:type="dcterms:W3CDTF">2004-03-02T06:37:30Z</dcterms:modified>
  <cp:revision>213</cp:revision>
  <dc:subject/>
  <dc:title>adrenalin expri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